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957-E40C-4718-88ED-413CAA47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D62-365C-458D-B19D-98BB17A2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DAF-BF11-472D-93BE-946CE361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8A1-5CAC-454B-9A36-E798A6C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B0F-0C72-499B-8472-CBBBB93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869-3B4B-4540-A6FB-BD431AC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603-B15C-456C-939C-6A9284D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312-0F7E-440B-8A57-F06C8C8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404-9494-413F-82D4-BCCE8AAC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0C0-683A-470A-B4E5-4FB0CF29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555-51FB-4C7A-B38C-9E710F9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1CB-7D8B-43CA-A6CC-0E3CF8D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4859-3F5A-4C8E-9322-8EBA9362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870280" y="5632560"/>
            <a:ext cx="3157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2754360" y="5546880"/>
            <a:ext cx="57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597040" y="5445000"/>
            <a:ext cx="8953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"/>
          <p:cNvSpPr/>
          <p:nvPr/>
        </p:nvSpPr>
        <p:spPr>
          <a:xfrm>
            <a:off x="3205080" y="-169920"/>
            <a:ext cx="716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8"/>
          <p:cNvSpPr/>
          <p:nvPr/>
        </p:nvSpPr>
        <p:spPr>
          <a:xfrm>
            <a:off x="2916360" y="-530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3"/>
          <p:cNvSpPr/>
          <p:nvPr/>
        </p:nvSpPr>
        <p:spPr>
          <a:xfrm>
            <a:off x="3276720" y="-503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38"/>
          <p:cNvSpPr/>
          <p:nvPr/>
        </p:nvSpPr>
        <p:spPr>
          <a:xfrm>
            <a:off x="3446640" y="5776920"/>
            <a:ext cx="3157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9"/>
          <p:cNvSpPr/>
          <p:nvPr/>
        </p:nvSpPr>
        <p:spPr>
          <a:xfrm>
            <a:off x="3330720" y="5691240"/>
            <a:ext cx="576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0"/>
          <p:cNvSpPr/>
          <p:nvPr/>
        </p:nvSpPr>
        <p:spPr>
          <a:xfrm>
            <a:off x="3173400" y="5589720"/>
            <a:ext cx="8953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1"/>
          <p:cNvSpPr/>
          <p:nvPr/>
        </p:nvSpPr>
        <p:spPr>
          <a:xfrm>
            <a:off x="4052880" y="5473800"/>
            <a:ext cx="31608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2"/>
          <p:cNvSpPr/>
          <p:nvPr/>
        </p:nvSpPr>
        <p:spPr>
          <a:xfrm>
            <a:off x="3936960" y="5388120"/>
            <a:ext cx="57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3"/>
          <p:cNvSpPr/>
          <p:nvPr/>
        </p:nvSpPr>
        <p:spPr>
          <a:xfrm>
            <a:off x="3780000" y="5286240"/>
            <a:ext cx="8953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104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1000" y="90972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雨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31 L 0.01198 0.8966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51445E-007 L 0.03541 0.8652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16185E-006 L 0.09462 0.86012 E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EA6-5425-4BBA-A9E6-DD826E6448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2:27:44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5:5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