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399-A064-4149-87CF-2F885EC7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A60-7BCA-4E01-AB5D-01F50D50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E599-0F32-4CB3-87C2-FAB83574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BDB-E415-4D1B-BFF2-C7DBB1AA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2D7B-95A9-4E31-BA42-9681D556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D305-8A37-4F67-9A50-4EFF2909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C157-9799-4BF5-A1B0-4071BB0A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CC84-C68A-4ED2-92C6-5B0E60F8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F723-D737-4223-9DB8-F02F01B6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E9CA-25C9-4D88-9B48-BC27D4EC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F8DC-AEF3-4C5F-AD07-B34C1869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7B51-F3A7-4BC8-A81C-EF19E184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4704-DF8F-4D8D-A4F7-7F050B79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4489-9D9A-4C01-86D6-FA01924A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8B77-2E75-45A9-95BB-1B6C9B4E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37C6-3E21-4753-B0C0-93532268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C82D-42FE-4B50-A126-4806C1C7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46E-2A4D-4E61-9EA2-B6FF1CCB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B6FE8-CF53-414A-B312-A0F12F16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B7EAB-4779-42E5-8C51-1EF407BB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ED79C-D0CB-4370-A22B-A47A0627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C69-F70D-4BF9-B4B8-E1806B77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C4CE4-6C17-4859-B69B-5FF28FA0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B7B7C-55E6-4DA3-A75C-3EBD1A80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BF9EE-5031-424B-9112-B4B7B1A4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90CF-01F4-4528-8C64-FE5FC5E6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CE7BF-45BA-41C2-BD97-B4D64E94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C7287-2867-49DA-9AB1-CB6508FA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EBBF0-21D0-4CA3-8AF5-2F1307FE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A73DA-5E8F-403B-B362-55E8739F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5F49E-2223-4229-A5EF-92A0EF44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204-76AD-47BB-9ACD-DDE6E7F5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4F03-22A1-4C76-BD51-8BC18041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61A-31C9-4B4D-BAED-7E6183DB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0CC-4F1B-4562-9571-EFB60267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BD1-2406-4466-8D9C-59332F9B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S_Keytopuzzle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35280" y="1600200"/>
            <a:ext cx="69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be0e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9345-2749-4B00-8748-EB6FEB904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LP_Keytopuzzle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07640" y="1628640"/>
            <a:ext cx="692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4068-F79F-4961-BF4F-0C074133E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LT_Keytopuzzle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835280" y="1600200"/>
            <a:ext cx="69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be0e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2EB2-6001-4FD2-BE45-6C35A3B270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1"/>
          <p:cNvSpPr/>
          <p:nvPr/>
        </p:nvSpPr>
        <p:spPr>
          <a:xfrm>
            <a:off x="2145960" y="4762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钥匙完整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9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692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6:36:0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25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