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390B-3745-4581-A8FE-990CE24FA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1E3-992D-440E-93CE-70B75C18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B2843-9C35-40BD-89B7-E18B7ABE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6D7B51-E88A-45A3-9FB9-190393C20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AC8F7-7CA4-4823-ADB4-105D1DC59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C381EA-D421-48DD-94E5-9ED7BDE8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5FC634-E5B7-430C-A5BE-A976CB052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F1DD3-9CE6-40E2-8CD8-48542FF64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DD0B5D-549F-4831-8EB1-5190493D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5CEE7A-1BC9-4766-99E5-CE89D4AAE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042407-8831-4120-BD2E-A69D21492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384CFE-F304-4250-811D-EC859E027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5026-CB6F-42A7-8BE7-98FB6FB90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CF818A-5ABD-4859-B9C3-805EB0EC2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0E4138-8335-441C-B6AB-8F10F00A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62CA2-0B12-46B3-871D-E2AE6693D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4C668E-0891-49BE-B831-3236A777C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B6002C-043F-4BB7-AF6C-CF918E9A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77AD07-0F81-4C58-AA2A-E5580AA5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43EDB2-94BF-4CC2-8A80-D22FF1A62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9359BA-3E1F-4BC4-B06C-E89191B05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9BEA04-4833-4B66-A874-52575FC22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3DAED7-FC7C-4885-953B-AC04809DE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EC03-EA71-4CAA-82D5-ABE16985C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82370-35C7-4A3A-B00E-C8FD54420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BB6D24-13DE-4AAB-989B-8E862DB87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3BC35-05B3-4EC9-9468-5719C7B13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482DBB-E044-4612-B567-6B9B116F7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11AE8D-C877-4817-BC30-A123C8F22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8F9855-BEF9-4FDF-ABA8-6DDAB8CF7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BB5F5A-892E-4A07-A357-5F5E14233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0DDC19-37AA-4106-ABB9-09366C44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9B3341-64AD-4F1F-B2EE-F2725B5C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365286-6D65-4BCA-A485-7D3B9DE35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CB75E-5B34-4E70-81BC-79E66911D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D5F785-81B3-42EA-8A64-DF5D534F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704FE98-FB80-4986-A9E2-C908BB9AB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44C4C-88B5-4A50-95E6-444B33C6DC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D923C7-7CC0-48B1-A014-8815A4F3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BBBE17-BFFF-4831-9BF0-5B78613A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5A0C9D-D9D8-4400-95B7-27B38C38B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82E160-68E6-452E-BBDE-C9E01921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BFD524-262C-4A3F-8E47-F71DF0509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FCD700-EFB0-433A-8E1A-F8651B352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E20432-AFA5-47AD-AC88-E312E308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E52F6-AA37-4CBE-93D5-44C6D0094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9CE33F-5E7F-4396-98D9-C41562D4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4E320-5EE6-490E-A2A1-A7D7A9C3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C27F6B-24B3-4FA8-9983-2E69D84E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80227D-2282-4826-9F13-20BBC6BB1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0A46AB-AD70-4E28-90EA-979900E5D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1CAF1A-74BB-4475-A59F-3D5C9448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CE0C6C-3BD0-4B79-9516-EA08D0CA2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784F98-12F4-4D2F-8936-1EC4BDB4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AD8277-35FB-421C-AEFC-AE0574FBC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7C9D68-BDDE-419F-AE89-9E2E622F5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4D780-7AE1-4EA0-A4F5-95BC3A425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1FE1AB-BE5E-496B-B41A-39664612C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AD096A-0E61-450A-ADD8-F8D2004C9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EF44F0-9B12-42D9-BD87-541D3FE99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63CB0-A51C-4597-A8DA-7C0E813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11A151-5EEF-4403-AFFF-C5C584EA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5D3CF4-3134-44BF-A18E-4D9CF06DD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FE23B8B-2964-4575-9230-D09F6A8A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0D4BDE-F6FA-4737-A9DE-528AE4064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9AE179A-2F29-4086-9FFD-B44E75B39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F8F68D7-1B05-46B2-9637-EA414184F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46B76-B08D-4DE0-8CF8-ED7781D3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8DA60E-DCB8-48EC-AAEC-354618D10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4987BE-5464-4501-B746-B0202947A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768B13-B38A-4B40-B656-A0C6537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6E375BF-1609-4081-8A54-BE35337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C0FA06-0419-433C-8AF9-AA28F2E16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B0ACA7B-68B4-4A24-9CED-E015C4429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FD15B-EF58-41FE-A1A4-05CB544F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ABEE47-3261-49B3-BAA4-CC81336D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AA72C9-10DE-40AE-917D-EF9864DEB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5392-D884-43BE-A6ED-EC973EA89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10008-E7B8-4C61-990F-B0FFCE1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492EB-8857-448D-AB8F-C45D44172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EBBD-C176-43F0-B02D-FDC3BC30A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32200-2515-4FE9-83EE-7ACA52A7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1840C-7CDC-4CB4-9433-3F82767DF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F0E12-780F-46A7-BBD1-A6E33D944F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1DD2-5081-49A4-B327-CDEF2B304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069C-1E2C-493C-9855-7F2F8D5CA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14CC1-96AB-4173-BD12-6E1D24D74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4D8DC-A13E-4EEF-A147-9DF3DCFF1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C72776-FE7B-4E45-BFDC-98BDB080D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231AA1-DA29-4477-A31A-990B1039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A014-125D-426C-9A34-A421C749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E18B0-E803-43E2-9EC6-86614F624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3D22F4-C257-429A-95D8-B176D0BFD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9D4B-1947-4774-A0EE-048B0646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7E74-C713-4AE6-A90B-430AD1F3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60251D-0308-48E3-BDAE-CF6E3A17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5B5C6-1327-4497-9D13-9491359BC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BAE26F-C5A0-481D-8C37-E4AE5D80D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424D9-165C-4B10-8753-6D59F16A8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CA0ACF-8C44-4FBE-A721-A2FFE04AD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19A51-F690-439F-B804-CE63B497C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1EE99D-0B89-43F0-AE1A-390DF73E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C00E-A90B-431C-8EF5-89ED31AF3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F0526-812C-493F-B23D-AFB0CCADA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C0B03-1490-41EC-AD9D-43A092449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98B2F9-AB12-4AB9-8276-DA44C61EC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02475-6305-4D2D-BDCA-E04FC9525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47FA3-5D92-4094-B9B1-5F9789C8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DDD94-F9CB-40C9-BA2E-58E0C6C1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7A3EC9-D91D-4392-8D6F-15470C96A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BCEFAB-D39D-4B68-9F95-08FDF200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D020C-C83B-4B35-8B4E-E40CAB7D4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C7A783-BFB2-468B-BD05-1424478F1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1950-A0B7-4576-9AA5-886A7257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17FAA6-6732-42AB-A260-8AD8C5D3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1F20DC-4E33-42E7-A9A9-95982E18A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3DBAF2-F044-420F-8B0F-29080C68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90AA38-A2BC-4B6F-988E-31A5D837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65951-D06C-43AB-92F3-997963DD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7FE90-A128-4A40-A30D-45F0F23F2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6312B-FEE7-43EA-B0FC-282BA2D5A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E0DBE-9F5A-4881-BA5A-4C54BFE5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E5FAA-9E7D-4702-B403-93342390D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21B663-D746-4C54-B580-DCE9A5743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1BFC-6AF7-42CC-826A-0E820F26A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2DA1B9-2BBE-48E7-8047-81CC1B360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3F02DC-7611-41C9-B28C-8296B5A6E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E0D1F0-5081-40AA-A616-DB0E1D77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9B51C-D58E-414F-9D12-CBA70FD79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BD6A21-0C74-4158-A63A-9BF93C892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CC15A2-620E-46FA-9885-9D08EED93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0B4260-3733-4893-9E78-6AC98057C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36FBC0-8A8C-4837-8D63-88D49969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B9B511-5EB1-4053-89D6-25B8E5FC2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6F2A2E-4329-488A-9389-DC9BED3AF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E861-98E7-4CAA-B847-C1780CED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F55B72-7F1C-4D76-BD24-844565BD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2F3F59-AFC2-492F-BAB2-73FFE0932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79948-B617-46F8-A69B-9A458F719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94C652-071D-4744-82B5-79A38E819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67AB0B-FB0B-4C92-BBB5-1C2D0A723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E4358A-970B-4F99-8AC6-48D0FF1C4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9A178F-1871-4A82-B0B0-EF1F5BE9F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48C218-61F4-4B1E-9D10-24CC817D2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84DA34-44EA-4CA7-885A-A53175C5C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F2B0BD-D2CE-4AAE-8552-8BDE5CD05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0E55-45DD-4D10-88C1-DA1A6EFF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4426F-BB68-403B-B9E9-0DFA4B1D1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5AB754-9908-45E1-9AB6-3452D3E0B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460B40-8A6E-4C32-A57A-16D2589B0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14125C-FD7C-4503-A769-B1DF368BD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D2A4B-A272-44C1-A65D-2026D9BF4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BED2D0-D9A7-4A26-BAC8-AD4645832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DAAD3-6D0E-4D38-A084-CEFDD5A34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CEFA02-BDEA-4443-8C5A-210B9D6CF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87F7F3-C6D6-4DDF-9192-FE0691EF7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A66AB-46C8-4CCC-B53A-4F92320FD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AAE6-59FB-4521-929F-1880137C5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266760" y="132840"/>
            <a:ext cx="7345440" cy="303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EC622B-4906-41C8-8CDC-01305D75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3DAB77-D43A-463E-8A9E-5FBDD6B36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99FBC7-7F57-4283-A903-03D1FE7B0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43915-050F-4968-ACD9-21B57ED89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0040" y="35722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95A478-15E1-4B50-AC4D-082A1580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17080" y="1208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004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717080" y="35722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8A93F-61A9-453C-90A2-90D386ACDC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8248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64920" y="1208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004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8248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64920" y="35722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2380E7-D3E3-4AE7-8267-5A8B50284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4FA1D0-7D6E-461D-88F6-7BCE46C07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E8A59F-3EB7-44B2-8A6B-F486013F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59C2BA-ABBC-4787-B106-20BEEA5E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32000" y="6308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CAA7F-9BCE-4415-861A-67815CC3F0AF}" type="slidenum">
              <a:rPr b="0" lang="zh-CN" sz="1200" spc="-1" strike="noStrike">
                <a:solidFill>
                  <a:srgbClr val="8a8a8a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2246-1F73-4E13-AC2F-F1B817D128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120B3-AE41-4AC3-8671-B388157B4C2F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48EC5-BA2B-4FA0-858A-3D0689B3D36B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8729A-8559-4CC1-821E-FF65968C14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62D5E-92CD-4D12-A2D8-0A66DA2AA3C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0040" y="12081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c0c0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Click to edit the outline text format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1" marL="743040" indent="-28584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con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2" marL="11430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Third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3" marL="16002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our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4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Fif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5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ix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  <a:p>
            <a:pPr lvl="6" marL="2057400" indent="-228600">
              <a:spcBef>
                <a:spcPts val="499"/>
              </a:spcBef>
              <a:buClr>
                <a:srgbClr val="0c0c0c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c0c0c"/>
                </a:solidFill>
                <a:latin typeface="黑体"/>
              </a:rPr>
              <a:t>Seventh Outline Level</a:t>
            </a:r>
            <a:endParaRPr b="0" lang="en-US" sz="2000" spc="-1" strike="noStrike">
              <a:solidFill>
                <a:srgbClr val="0c0c0c"/>
              </a:solidFill>
              <a:latin typeface="黑体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a8a8a"/>
                </a:solidFill>
                <a:latin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7A903-624B-440F-82A6-FC8D85B8FADF}" type="slidenum">
              <a:rPr b="0" lang="zh-CN" sz="1200" spc="-1" strike="noStrike">
                <a:solidFill>
                  <a:srgbClr val="8a8a8a"/>
                </a:solidFill>
                <a:latin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2423A-6F6B-40A6-AA9D-93AF8CD8D3A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EE583-A157-4EF3-BC38-EACD30BB3E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7C2B-A254-498F-B16E-B54B254892F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7CFF3-B558-4D41-9079-FB011863203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30372-1608-4928-9836-B5DEF9B4D78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3EA1A-41BE-436C-8384-075E1CC3A6F0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EA52-ADFA-46D9-B283-324B8FEFE15A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矩形 1"/>
          <p:cNvSpPr/>
          <p:nvPr/>
        </p:nvSpPr>
        <p:spPr>
          <a:xfrm>
            <a:off x="2925000" y="704880"/>
            <a:ext cx="406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烟草叶</a:t>
            </a: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PPT</a:t>
            </a:r>
            <a:r>
              <a:rPr b="0" lang="zh-CN" sz="4000" spc="-1" strike="noStrike">
                <a:solidFill>
                  <a:srgbClr val="0c0c0c"/>
                </a:solidFill>
                <a:latin typeface="Tahoma"/>
              </a:rPr>
              <a:t>模板免费下载</a:t>
            </a:r>
            <a:endParaRPr b="0" lang="en-US" sz="4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75" name="矩形 3"/>
          <p:cNvSpPr/>
          <p:nvPr/>
        </p:nvSpPr>
        <p:spPr>
          <a:xfrm>
            <a:off x="102240" y="6453360"/>
            <a:ext cx="320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ttp://www.eeppt.com</a:t>
            </a:r>
            <a:endParaRPr b="0" lang="en-US" sz="16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857840" y="1557360"/>
            <a:ext cx="3962160" cy="82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fcfc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2d050"/>
                </a:solidFill>
                <a:latin typeface="微软雅黑"/>
                <a:ea typeface="微软雅黑"/>
              </a:rPr>
              <a:t>谢谢观看！</a:t>
            </a:r>
            <a:endParaRPr b="0" lang="en-US" sz="48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57160" y="1571400"/>
            <a:ext cx="7715520" cy="34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Clr>
                <a:srgbClr val="008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单击此处添加文本</a:t>
            </a:r>
            <a:endParaRPr b="0" lang="en-US" sz="2400" spc="-1" strike="noStrike">
              <a:solidFill>
                <a:srgbClr val="0c0c0c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579" name="AutoShape 3"/>
          <p:cNvSpPr/>
          <p:nvPr/>
        </p:nvSpPr>
        <p:spPr>
          <a:xfrm>
            <a:off x="6523200" y="3433680"/>
            <a:ext cx="1620720" cy="2738520"/>
          </a:xfrm>
          <a:custGeom>
            <a:avLst/>
            <a:gdLst>
              <a:gd name="textAreaLeft" fmla="*/ 65160 w 1620720"/>
              <a:gd name="textAreaRight" fmla="*/ 1555560 w 162072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94">
                <a:moveTo>
                  <a:pt x="2969" y="0"/>
                </a:moveTo>
                <a:arcTo wR="2969" hR="2969" stAng="16200000" swAng="-5400000"/>
                <a:lnTo>
                  <a:pt x="0" y="33525"/>
                </a:lnTo>
                <a:arcTo wR="2969" hR="2969" stAng="10800000" swAng="-5400000"/>
                <a:lnTo>
                  <a:pt x="18631" y="3649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836960" y="3433680"/>
            <a:ext cx="1611360" cy="2738520"/>
          </a:xfrm>
          <a:custGeom>
            <a:avLst/>
            <a:gdLst>
              <a:gd name="textAreaLeft" fmla="*/ 64800 w 1611360"/>
              <a:gd name="textAreaRight" fmla="*/ 1546560 w 1611360"/>
              <a:gd name="textAreaTop" fmla="*/ 64800 h 2738520"/>
              <a:gd name="textAreaBottom" fmla="*/ 2673720 h 2738520"/>
            </a:gdLst>
            <a:ahLst/>
            <a:rect l="textAreaLeft" t="textAreaTop" r="textAreaRight" b="textAreaBottom"/>
            <a:pathLst>
              <a:path w="21600" h="36706">
                <a:moveTo>
                  <a:pt x="2969" y="0"/>
                </a:moveTo>
                <a:arcTo wR="2969" hR="2969" stAng="16200000" swAng="-5400000"/>
                <a:lnTo>
                  <a:pt x="0" y="33737"/>
                </a:lnTo>
                <a:arcTo wR="2969" hR="2969" stAng="10800000" swAng="-5400000"/>
                <a:lnTo>
                  <a:pt x="18631" y="3670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1" name="AutoShape 5"/>
          <p:cNvSpPr/>
          <p:nvPr/>
        </p:nvSpPr>
        <p:spPr>
          <a:xfrm>
            <a:off x="3195720" y="3433680"/>
            <a:ext cx="1563480" cy="2738520"/>
          </a:xfrm>
          <a:custGeom>
            <a:avLst/>
            <a:gdLst>
              <a:gd name="textAreaLeft" fmla="*/ 62640 w 1563480"/>
              <a:gd name="textAreaRight" fmla="*/ 1500840 w 1563480"/>
              <a:gd name="textAreaTop" fmla="*/ 62640 h 2738520"/>
              <a:gd name="textAreaBottom" fmla="*/ 2675880 h 2738520"/>
            </a:gdLst>
            <a:ahLst/>
            <a:rect l="textAreaLeft" t="textAreaTop" r="textAreaRight" b="textAreaBottom"/>
            <a:pathLst>
              <a:path w="21600" h="37830">
                <a:moveTo>
                  <a:pt x="2969" y="0"/>
                </a:moveTo>
                <a:arcTo wR="2969" hR="2969" stAng="16200000" swAng="-5400000"/>
                <a:lnTo>
                  <a:pt x="0" y="34861"/>
                </a:lnTo>
                <a:arcTo wR="2969" hR="2969" stAng="10800000" swAng="-5400000"/>
                <a:lnTo>
                  <a:pt x="18631" y="37830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2" name="AutoShape 6"/>
          <p:cNvSpPr/>
          <p:nvPr/>
        </p:nvSpPr>
        <p:spPr>
          <a:xfrm>
            <a:off x="1488960" y="3433680"/>
            <a:ext cx="1621080" cy="2738520"/>
          </a:xfrm>
          <a:custGeom>
            <a:avLst/>
            <a:gdLst>
              <a:gd name="textAreaLeft" fmla="*/ 65160 w 1621080"/>
              <a:gd name="textAreaRight" fmla="*/ 1555920 w 1621080"/>
              <a:gd name="textAreaTop" fmla="*/ 65160 h 2738520"/>
              <a:gd name="textAreaBottom" fmla="*/ 2673360 h 2738520"/>
            </a:gdLst>
            <a:ahLst/>
            <a:rect l="textAreaLeft" t="textAreaTop" r="textAreaRight" b="textAreaBottom"/>
            <a:pathLst>
              <a:path w="21600" h="36486">
                <a:moveTo>
                  <a:pt x="2969" y="0"/>
                </a:moveTo>
                <a:arcTo wR="2969" hR="2969" stAng="16200000" swAng="-5400000"/>
                <a:lnTo>
                  <a:pt x="0" y="33517"/>
                </a:lnTo>
                <a:arcTo wR="2969" hR="2969" stAng="10800000" swAng="-5400000"/>
                <a:lnTo>
                  <a:pt x="18631" y="36486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72af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583" name="Rectangle 8"/>
          <p:cNvSpPr/>
          <p:nvPr/>
        </p:nvSpPr>
        <p:spPr>
          <a:xfrm rot="3418800">
            <a:off x="1757520" y="2070720"/>
            <a:ext cx="874800" cy="9716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84" name="Group 8"/>
          <p:cNvGrpSpPr/>
          <p:nvPr/>
        </p:nvGrpSpPr>
        <p:grpSpPr>
          <a:xfrm>
            <a:off x="2674800" y="2244600"/>
            <a:ext cx="900000" cy="125280"/>
            <a:chOff x="2674800" y="2244600"/>
            <a:chExt cx="900000" cy="125280"/>
          </a:xfrm>
        </p:grpSpPr>
        <p:sp>
          <p:nvSpPr>
            <p:cNvPr id="585" name="Oval 10"/>
            <p:cNvSpPr/>
            <p:nvPr/>
          </p:nvSpPr>
          <p:spPr>
            <a:xfrm>
              <a:off x="2674800" y="2244600"/>
              <a:ext cx="15156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6" name="Rectangle 11"/>
            <p:cNvSpPr/>
            <p:nvPr/>
          </p:nvSpPr>
          <p:spPr>
            <a:xfrm>
              <a:off x="2760840" y="2245320"/>
              <a:ext cx="74628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7" name="Oval 12"/>
            <p:cNvSpPr/>
            <p:nvPr/>
          </p:nvSpPr>
          <p:spPr>
            <a:xfrm>
              <a:off x="3438360" y="2246040"/>
              <a:ext cx="13644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88" name="Oval 13"/>
            <p:cNvSpPr/>
            <p:nvPr/>
          </p:nvSpPr>
          <p:spPr>
            <a:xfrm>
              <a:off x="3511080" y="2285640"/>
              <a:ext cx="3816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589" name="Rectangle 14"/>
          <p:cNvSpPr/>
          <p:nvPr/>
        </p:nvSpPr>
        <p:spPr>
          <a:xfrm rot="3418800">
            <a:off x="3422880" y="2008800"/>
            <a:ext cx="874800" cy="971640"/>
          </a:xfrm>
          <a:prstGeom prst="rect">
            <a:avLst/>
          </a:prstGeom>
          <a:solidFill>
            <a:srgbClr val="00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90" name="Group 14"/>
          <p:cNvGrpSpPr/>
          <p:nvPr/>
        </p:nvGrpSpPr>
        <p:grpSpPr>
          <a:xfrm>
            <a:off x="4340160" y="2244600"/>
            <a:ext cx="899640" cy="125280"/>
            <a:chOff x="4340160" y="2244600"/>
            <a:chExt cx="899640" cy="125280"/>
          </a:xfrm>
        </p:grpSpPr>
        <p:sp>
          <p:nvSpPr>
            <p:cNvPr id="591" name="Oval 16"/>
            <p:cNvSpPr/>
            <p:nvPr/>
          </p:nvSpPr>
          <p:spPr>
            <a:xfrm>
              <a:off x="4340160" y="2244600"/>
              <a:ext cx="15156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2" name="Rectangle 17"/>
            <p:cNvSpPr/>
            <p:nvPr/>
          </p:nvSpPr>
          <p:spPr>
            <a:xfrm>
              <a:off x="4426200" y="2245320"/>
              <a:ext cx="74592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3" name="Oval 18"/>
            <p:cNvSpPr/>
            <p:nvPr/>
          </p:nvSpPr>
          <p:spPr>
            <a:xfrm>
              <a:off x="5103360" y="2246040"/>
              <a:ext cx="13644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4" name="Oval 19"/>
            <p:cNvSpPr/>
            <p:nvPr/>
          </p:nvSpPr>
          <p:spPr>
            <a:xfrm>
              <a:off x="5176080" y="2285640"/>
              <a:ext cx="3816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595" name="Rectangle 20"/>
          <p:cNvSpPr/>
          <p:nvPr/>
        </p:nvSpPr>
        <p:spPr>
          <a:xfrm rot="3418800">
            <a:off x="5017680" y="2009520"/>
            <a:ext cx="874800" cy="969840"/>
          </a:xfrm>
          <a:prstGeom prst="rect">
            <a:avLst/>
          </a:prstGeom>
          <a:gradFill rotWithShape="0">
            <a:gsLst>
              <a:gs pos="0">
                <a:srgbClr val="009900"/>
              </a:gs>
              <a:gs pos="100000">
                <a:srgbClr val="004700"/>
              </a:gs>
            </a:gsLst>
            <a:lin ang="198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grpSp>
        <p:nvGrpSpPr>
          <p:cNvPr id="596" name="Group 20"/>
          <p:cNvGrpSpPr/>
          <p:nvPr/>
        </p:nvGrpSpPr>
        <p:grpSpPr>
          <a:xfrm>
            <a:off x="6018120" y="2244600"/>
            <a:ext cx="1180440" cy="125280"/>
            <a:chOff x="6018120" y="2244600"/>
            <a:chExt cx="1180440" cy="125280"/>
          </a:xfrm>
        </p:grpSpPr>
        <p:sp>
          <p:nvSpPr>
            <p:cNvPr id="597" name="Oval 22"/>
            <p:cNvSpPr/>
            <p:nvPr/>
          </p:nvSpPr>
          <p:spPr>
            <a:xfrm>
              <a:off x="6018120" y="2244600"/>
              <a:ext cx="199080" cy="12456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8" name="Rectangle 23"/>
            <p:cNvSpPr/>
            <p:nvPr/>
          </p:nvSpPr>
          <p:spPr>
            <a:xfrm>
              <a:off x="6131160" y="2245320"/>
              <a:ext cx="978840" cy="124560"/>
            </a:xfrm>
            <a:prstGeom prst="rect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599" name="Oval 24"/>
            <p:cNvSpPr/>
            <p:nvPr/>
          </p:nvSpPr>
          <p:spPr>
            <a:xfrm>
              <a:off x="7019640" y="2246040"/>
              <a:ext cx="178920" cy="1213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240" bIns="3924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  <p:sp>
          <p:nvSpPr>
            <p:cNvPr id="600" name="Oval 25"/>
            <p:cNvSpPr/>
            <p:nvPr/>
          </p:nvSpPr>
          <p:spPr>
            <a:xfrm>
              <a:off x="7115400" y="2285640"/>
              <a:ext cx="47880" cy="349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1960" bIns="-2196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c0c0c"/>
                </a:solidFill>
                <a:latin typeface="Tahoma"/>
              </a:endParaRPr>
            </a:p>
          </p:txBody>
        </p:sp>
      </p:grpSp>
      <p:sp>
        <p:nvSpPr>
          <p:cNvPr id="601" name="Rectangle 26"/>
          <p:cNvSpPr/>
          <p:nvPr/>
        </p:nvSpPr>
        <p:spPr>
          <a:xfrm rot="3418800">
            <a:off x="6683040" y="2009520"/>
            <a:ext cx="874800" cy="969840"/>
          </a:xfrm>
          <a:prstGeom prst="rect">
            <a:avLst/>
          </a:prstGeom>
          <a:solidFill>
            <a:srgbClr val="00541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2" name="Rectangle 27"/>
          <p:cNvSpPr/>
          <p:nvPr/>
        </p:nvSpPr>
        <p:spPr>
          <a:xfrm>
            <a:off x="1858320" y="23590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3" name="Rectangle 28"/>
          <p:cNvSpPr/>
          <p:nvPr/>
        </p:nvSpPr>
        <p:spPr>
          <a:xfrm>
            <a:off x="351504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4" name="Rectangle 29"/>
          <p:cNvSpPr/>
          <p:nvPr/>
        </p:nvSpPr>
        <p:spPr>
          <a:xfrm>
            <a:off x="512640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5" name="Rectangle 30"/>
          <p:cNvSpPr/>
          <p:nvPr/>
        </p:nvSpPr>
        <p:spPr>
          <a:xfrm>
            <a:off x="6807600" y="235908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18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6" name="Rectangle 31"/>
          <p:cNvSpPr/>
          <p:nvPr/>
        </p:nvSpPr>
        <p:spPr>
          <a:xfrm>
            <a:off x="18925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7" name="Rectangle 32"/>
          <p:cNvSpPr/>
          <p:nvPr/>
        </p:nvSpPr>
        <p:spPr>
          <a:xfrm>
            <a:off x="35863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8" name="Rectangle 33"/>
          <p:cNvSpPr/>
          <p:nvPr/>
        </p:nvSpPr>
        <p:spPr>
          <a:xfrm>
            <a:off x="524052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  <p:sp>
        <p:nvSpPr>
          <p:cNvPr id="609" name="Rectangle 34"/>
          <p:cNvSpPr/>
          <p:nvPr/>
        </p:nvSpPr>
        <p:spPr>
          <a:xfrm>
            <a:off x="6925680" y="365112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9da74"/>
                </a:solidFill>
                <a:latin typeface="Tahoma"/>
              </a:rPr>
              <a:t>TEXT</a:t>
            </a:r>
            <a:endParaRPr b="0" lang="en-US" sz="20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pSp>
        <p:nvGrpSpPr>
          <p:cNvPr id="611" name="Group 3"/>
          <p:cNvGrpSpPr/>
          <p:nvPr/>
        </p:nvGrpSpPr>
        <p:grpSpPr>
          <a:xfrm>
            <a:off x="2205000" y="1557360"/>
            <a:ext cx="5867280" cy="4371840"/>
            <a:chOff x="2205000" y="1557360"/>
            <a:chExt cx="5867280" cy="4371840"/>
          </a:xfrm>
        </p:grpSpPr>
        <p:grpSp>
          <p:nvGrpSpPr>
            <p:cNvPr id="612" name="Group 4"/>
            <p:cNvGrpSpPr/>
            <p:nvPr/>
          </p:nvGrpSpPr>
          <p:grpSpPr>
            <a:xfrm>
              <a:off x="2205000" y="1557360"/>
              <a:ext cx="5867280" cy="1301760"/>
              <a:chOff x="2205000" y="1557360"/>
              <a:chExt cx="5867280" cy="1301760"/>
            </a:xfrm>
          </p:grpSpPr>
          <p:sp>
            <p:nvSpPr>
              <p:cNvPr id="613" name="AutoShape 4"/>
              <p:cNvSpPr/>
              <p:nvPr/>
            </p:nvSpPr>
            <p:spPr>
              <a:xfrm>
                <a:off x="2205000" y="155736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3f3f3"/>
                  </a:gs>
                  <a:gs pos="50000">
                    <a:srgbClr val="dddddd"/>
                  </a:gs>
                  <a:gs pos="100000">
                    <a:srgbClr val="f3f3f3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14" name="Group 6"/>
              <p:cNvGrpSpPr/>
              <p:nvPr/>
            </p:nvGrpSpPr>
            <p:grpSpPr>
              <a:xfrm>
                <a:off x="2333160" y="1678680"/>
                <a:ext cx="1129320" cy="1063080"/>
                <a:chOff x="2333160" y="1678680"/>
                <a:chExt cx="1129320" cy="1063080"/>
              </a:xfrm>
            </p:grpSpPr>
            <p:sp>
              <p:nvSpPr>
                <p:cNvPr id="615" name="AutoShape 6"/>
                <p:cNvSpPr/>
                <p:nvPr/>
              </p:nvSpPr>
              <p:spPr>
                <a:xfrm>
                  <a:off x="2333160" y="167868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005414"/>
                    </a:gs>
                    <a:gs pos="100000">
                      <a:srgbClr val="003b0e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16" name="Freeform 7"/>
                <p:cNvSpPr/>
                <p:nvPr/>
              </p:nvSpPr>
              <p:spPr>
                <a:xfrm>
                  <a:off x="2405160" y="1744200"/>
                  <a:ext cx="563760" cy="53352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3520"/>
                    <a:gd name="textAreaBottom" fmla="*/ 533880 h 53352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5414">
                        <a:alpha val="0"/>
                      </a:srgbClr>
                    </a:gs>
                    <a:gs pos="50000">
                      <a:srgbClr val="74a27f"/>
                    </a:gs>
                    <a:gs pos="100000">
                      <a:srgbClr val="005414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17" name="Text Box 8"/>
                <p:cNvSpPr/>
                <p:nvPr/>
              </p:nvSpPr>
              <p:spPr>
                <a:xfrm>
                  <a:off x="2457720" y="19666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18" name="Text Box 9"/>
              <p:cNvSpPr/>
              <p:nvPr/>
            </p:nvSpPr>
            <p:spPr>
              <a:xfrm>
                <a:off x="3618720" y="175860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  <p:grpSp>
          <p:nvGrpSpPr>
            <p:cNvPr id="619" name="Group 11"/>
            <p:cNvGrpSpPr/>
            <p:nvPr/>
          </p:nvGrpSpPr>
          <p:grpSpPr>
            <a:xfrm>
              <a:off x="2205000" y="3087720"/>
              <a:ext cx="5867280" cy="1301760"/>
              <a:chOff x="2205000" y="3087720"/>
              <a:chExt cx="5867280" cy="1301760"/>
            </a:xfrm>
          </p:grpSpPr>
          <p:sp>
            <p:nvSpPr>
              <p:cNvPr id="620" name="AutoShape 11"/>
              <p:cNvSpPr/>
              <p:nvPr/>
            </p:nvSpPr>
            <p:spPr>
              <a:xfrm>
                <a:off x="2205000" y="308772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2f2f2"/>
                  </a:gs>
                  <a:gs pos="50000">
                    <a:srgbClr val="dddddd"/>
                  </a:gs>
                  <a:gs pos="100000">
                    <a:srgbClr val="f2f2f2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21" name="Group 13"/>
              <p:cNvGrpSpPr/>
              <p:nvPr/>
            </p:nvGrpSpPr>
            <p:grpSpPr>
              <a:xfrm>
                <a:off x="2333160" y="3209040"/>
                <a:ext cx="1129320" cy="1063080"/>
                <a:chOff x="2333160" y="3209040"/>
                <a:chExt cx="1129320" cy="1063080"/>
              </a:xfrm>
            </p:grpSpPr>
            <p:sp>
              <p:nvSpPr>
                <p:cNvPr id="622" name="AutoShape 13"/>
                <p:cNvSpPr/>
                <p:nvPr/>
              </p:nvSpPr>
              <p:spPr>
                <a:xfrm>
                  <a:off x="2333160" y="320904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46b546"/>
                    </a:gs>
                    <a:gs pos="100000">
                      <a:srgbClr val="009900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23" name="Freeform 14"/>
                <p:cNvSpPr/>
                <p:nvPr/>
              </p:nvSpPr>
              <p:spPr>
                <a:xfrm>
                  <a:off x="2405160" y="3276000"/>
                  <a:ext cx="563760" cy="53208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93d493"/>
                    </a:gs>
                    <a:gs pos="100000">
                      <a:srgbClr val="009900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24" name="Text Box 15"/>
                <p:cNvSpPr/>
                <p:nvPr/>
              </p:nvSpPr>
              <p:spPr>
                <a:xfrm>
                  <a:off x="2457720" y="349848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25" name="Text Box 16"/>
              <p:cNvSpPr/>
              <p:nvPr/>
            </p:nvSpPr>
            <p:spPr>
              <a:xfrm>
                <a:off x="3618720" y="326592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  <p:grpSp>
          <p:nvGrpSpPr>
            <p:cNvPr id="626" name="Group 18"/>
            <p:cNvGrpSpPr/>
            <p:nvPr/>
          </p:nvGrpSpPr>
          <p:grpSpPr>
            <a:xfrm>
              <a:off x="2205000" y="4627440"/>
              <a:ext cx="5867280" cy="1301760"/>
              <a:chOff x="2205000" y="4627440"/>
              <a:chExt cx="5867280" cy="1301760"/>
            </a:xfrm>
          </p:grpSpPr>
          <p:sp>
            <p:nvSpPr>
              <p:cNvPr id="627" name="AutoShape 18"/>
              <p:cNvSpPr/>
              <p:nvPr/>
            </p:nvSpPr>
            <p:spPr>
              <a:xfrm>
                <a:off x="2205000" y="4627440"/>
                <a:ext cx="5867280" cy="130176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eeeeee"/>
                  </a:gs>
                  <a:gs pos="50000">
                    <a:srgbClr val="dddddd"/>
                  </a:gs>
                  <a:gs pos="100000">
                    <a:srgbClr val="eeeeee"/>
                  </a:gs>
                </a:gsLst>
                <a:lin ang="189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  <p:grpSp>
            <p:nvGrpSpPr>
              <p:cNvPr id="628" name="Group 20"/>
              <p:cNvGrpSpPr/>
              <p:nvPr/>
            </p:nvGrpSpPr>
            <p:grpSpPr>
              <a:xfrm>
                <a:off x="2333160" y="4748760"/>
                <a:ext cx="1129320" cy="1063080"/>
                <a:chOff x="2333160" y="4748760"/>
                <a:chExt cx="1129320" cy="1063080"/>
              </a:xfrm>
            </p:grpSpPr>
            <p:sp>
              <p:nvSpPr>
                <p:cNvPr id="629" name="AutoShape 20"/>
                <p:cNvSpPr/>
                <p:nvPr/>
              </p:nvSpPr>
              <p:spPr>
                <a:xfrm>
                  <a:off x="2333160" y="4748760"/>
                  <a:ext cx="1129320" cy="1063080"/>
                </a:xfrm>
                <a:prstGeom prst="roundRect">
                  <a:avLst>
                    <a:gd name="adj" fmla="val 11921"/>
                  </a:avLst>
                </a:prstGeom>
                <a:gradFill rotWithShape="0">
                  <a:gsLst>
                    <a:gs pos="0">
                      <a:srgbClr val="a0e7a0"/>
                    </a:gs>
                    <a:gs pos="100000">
                      <a:srgbClr val="69d969"/>
                    </a:gs>
                  </a:gsLst>
                  <a:lin ang="5400000"/>
                </a:gradFill>
                <a:ln w="381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30" name="Freeform 21"/>
                <p:cNvSpPr/>
                <p:nvPr/>
              </p:nvSpPr>
              <p:spPr>
                <a:xfrm>
                  <a:off x="2405160" y="4815720"/>
                  <a:ext cx="563760" cy="532080"/>
                </a:xfrm>
                <a:custGeom>
                  <a:avLst/>
                  <a:gdLst>
                    <a:gd name="textAreaLeft" fmla="*/ 0 w 563760"/>
                    <a:gd name="textAreaRight" fmla="*/ 564120 w 563760"/>
                    <a:gd name="textAreaTop" fmla="*/ 0 h 532080"/>
                    <a:gd name="textAreaBottom" fmla="*/ 532440 h 532080"/>
                  </a:gdLst>
                  <a:ahLst/>
                  <a:rect l="textAreaLeft" t="textAreaTop" r="textAreaRight" b="textAreaBottom"/>
                  <a:pathLst>
                    <a:path w="596" h="598">
                      <a:moveTo>
                        <a:pt x="118" y="0"/>
                      </a:moveTo>
                      <a:cubicBezTo>
                        <a:pt x="53" y="0"/>
                        <a:pt x="0" y="53"/>
                        <a:pt x="0" y="118"/>
                      </a:cubicBezTo>
                      <a:lnTo>
                        <a:pt x="0" y="589"/>
                      </a:lnTo>
                      <a:cubicBezTo>
                        <a:pt x="27" y="598"/>
                        <a:pt x="12" y="309"/>
                        <a:pt x="161" y="174"/>
                      </a:cubicBezTo>
                      <a:cubicBezTo>
                        <a:pt x="310" y="39"/>
                        <a:pt x="596" y="29"/>
                        <a:pt x="589" y="0"/>
                      </a:cubicBezTo>
                      <a:lnTo>
                        <a:pt x="1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b6edb6"/>
                    </a:gs>
                    <a:gs pos="100000">
                      <a:srgbClr val="69d969">
                        <a:alpha val="0"/>
                      </a:srgbClr>
                    </a:gs>
                  </a:gsLst>
                  <a:lin ang="189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  <p:sp>
              <p:nvSpPr>
                <p:cNvPr id="631" name="Text Box 22"/>
                <p:cNvSpPr/>
                <p:nvPr/>
              </p:nvSpPr>
              <p:spPr>
                <a:xfrm>
                  <a:off x="2457720" y="5038200"/>
                  <a:ext cx="85284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ffff"/>
                      </a:solidFill>
                      <a:latin typeface="Arial"/>
                    </a:rPr>
                    <a:t>Title</a:t>
                  </a:r>
                  <a:endParaRPr b="0" lang="en-US" sz="2800" spc="-1" strike="noStrike">
                    <a:solidFill>
                      <a:srgbClr val="0c0c0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632" name="Text Box 23"/>
              <p:cNvSpPr/>
              <p:nvPr/>
            </p:nvSpPr>
            <p:spPr>
              <a:xfrm>
                <a:off x="3618720" y="4805640"/>
                <a:ext cx="4312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600" spc="-1" strike="noStrike">
                    <a:solidFill>
                      <a:srgbClr val="a9da74"/>
                    </a:solidFill>
                    <a:latin typeface="Tahoma"/>
                  </a:rPr>
                  <a:t>请输入文字</a:t>
                </a:r>
                <a:r>
                  <a:rPr b="0" lang="en-US" sz="1600" spc="-1" strike="noStrike">
                    <a:solidFill>
                      <a:srgbClr val="a9da74"/>
                    </a:solidFill>
                    <a:latin typeface="Tahoma"/>
                  </a:rPr>
                  <a:t>.</a:t>
                </a:r>
                <a:endParaRPr b="0" lang="en-US" sz="1600" spc="-1" strike="noStrike">
                  <a:solidFill>
                    <a:srgbClr val="0c0c0c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34" name="Object 5"/>
          <p:cNvGraphicFramePr/>
          <p:nvPr/>
        </p:nvGraphicFramePr>
        <p:xfrm>
          <a:off x="771480" y="1127160"/>
          <a:ext cx="8229600" cy="5587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1480" y="1127160"/>
                    <a:ext cx="822960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37" name="Object 5"/>
          <p:cNvGraphicFramePr/>
          <p:nvPr/>
        </p:nvGraphicFramePr>
        <p:xfrm>
          <a:off x="1724040" y="1469880"/>
          <a:ext cx="6848640" cy="500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8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24040" y="1469880"/>
                    <a:ext cx="6848640" cy="500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graphicFrame>
        <p:nvGraphicFramePr>
          <p:cNvPr id="640" name="Object 5"/>
          <p:cNvGraphicFramePr/>
          <p:nvPr/>
        </p:nvGraphicFramePr>
        <p:xfrm>
          <a:off x="1790640" y="1463760"/>
          <a:ext cx="6496200" cy="475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0640" y="1463760"/>
                    <a:ext cx="6496200" cy="475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66760" y="132840"/>
            <a:ext cx="734544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文本</a:t>
            </a:r>
            <a:endParaRPr b="1" lang="en-US" sz="2800" spc="-1" strike="noStrike">
              <a:solidFill>
                <a:srgbClr val="ffffff"/>
              </a:solidFill>
              <a:latin typeface="黑体"/>
            </a:endParaRPr>
          </a:p>
        </p:txBody>
      </p:sp>
      <p:sp>
        <p:nvSpPr>
          <p:cNvPr id="643" name="Rectangle 3"/>
          <p:cNvSpPr/>
          <p:nvPr/>
        </p:nvSpPr>
        <p:spPr>
          <a:xfrm>
            <a:off x="857160" y="1571760"/>
            <a:ext cx="771552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ts val="2900"/>
              </a:lnSpc>
              <a:spcBef>
                <a:spcPts val="601"/>
              </a:spcBef>
              <a:spcAft>
                <a:spcPts val="601"/>
              </a:spcAft>
              <a:buClr>
                <a:srgbClr val="0086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2d050"/>
                </a:solidFill>
                <a:latin typeface="微软雅黑"/>
                <a:ea typeface="微软雅黑"/>
              </a:rPr>
              <a:t>单击此处添加文本</a:t>
            </a:r>
            <a:endParaRPr b="0" lang="en-US" sz="24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活动策划方案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业制造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ye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会议报告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交通安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教育培训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卡通动漫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atong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体育运动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c0c0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16:21:0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4:22:5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  <property fmtid="{D5CDD505-2E9C-101B-9397-08002B2CF9AE}" pid="3" name="_TemplateID">
    <vt:lpwstr>TC011349382052</vt:lpwstr>
  </property>
</Properties>
</file>