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084E3-FCE7-41B3-90AE-3AD7E776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3FF35-A23B-4DE0-8A56-65FAFD5D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1F08B-7035-4EB8-A91A-A3ACE1BC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D1BBB-3E35-4E75-8677-4F4F667F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2444B-E717-4B4D-BE7F-B5B4E4AE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C5F05-452C-46B8-8136-9E97162A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89472-D0C9-4EA6-BEF8-064753FB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AD4A7-3D1D-469E-B5B9-16C8CB67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559C4-41D3-4DBC-A9E9-5A03F119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97807-C7D1-44D7-A742-12947B04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6D079-BEB9-4291-809C-BCEF97F5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151B7-F0E4-444F-9983-6128DD9A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B9D74-CDB5-4B6F-B817-C697EA76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D6030-8454-4814-9AD9-38B1EA23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F5024-C5CF-4F75-BF64-58DD9D09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0A4EB-3820-430A-AEF0-09FEB43D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4BFBF-1ED9-4F54-959B-4154E393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1AEAE-313D-46D9-A2DD-FC18C4DD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3D002-A8ED-49FD-B7B5-4BDB0DB4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B7014-1941-431F-9781-DCBB87CB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365BB-5EE8-4827-B67B-9BFABE24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15284-E7F4-414E-B1E4-28F532DE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87154-194B-4EB9-820B-4EB81A08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F8F07-390F-4EC7-BC33-FA001694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64809-47B0-4403-9AA3-72FBBC70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1BB2D-639D-4604-99C4-ACB55312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6D5CB-9BEE-4F8E-8E64-AE176FC2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BFEF0-F261-46B7-B2A5-C330ED4C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2886F-844D-4F32-9D78-F2BC71BD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95DBC-C9F0-49A8-A1A1-53EF8E40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4BE8-1156-455B-9FE8-7A142CFE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1BB5C-BED8-4FB4-9708-477DAD11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F0287-9142-4830-820D-EC80C54B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FFF77-3522-4612-B8FD-2BFD3A94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C7B2D-0EBE-4E27-9092-E10555EB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4992B-3C06-4737-8EA6-FA6E0744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AC070-2179-498F-AA90-1F7357E5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C739F-1242-4339-B605-6CB052EF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2EB4F-C2AF-4B77-B9DA-BD36E22C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989CA-9C9F-436D-BFAD-E690082E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F7FB3-D2A7-4192-9D9A-586E9CAE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E2B-A35D-4BDE-80B2-AAFA324E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95DD5-55F0-4511-BB93-F43B2B5C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E2C0B-D480-4FD0-9213-ACD1AFB9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9DDD7-7283-44A5-A6F7-0599151B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3D0B7-8D20-4179-8AD6-6455FAEB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BD91F-55A7-47F1-9A3C-7FF0E10C0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648E7-6289-4DDB-AC82-C8BBD48C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57B8E-7861-424D-91CA-9286E7AB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92C4A-C3F7-4482-9ED1-31476CD6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ED1D6-E896-4128-82B3-807443E8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4BA8E-407C-4D8A-9537-513676AB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14A1-1C98-4706-88C3-EBD9A1C8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1BD71-5239-42C6-AA4F-64DCCDDB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8E957-8F70-413A-B648-0A2F53AF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649EE-E3A1-417F-B108-CAC5A43F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42D1C-D5FF-4F87-B82E-5BC00FDA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B4118-71AE-4569-8EB8-48C440F5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0038E-FAF6-4FB3-A419-3C147E722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EE947-51B6-4555-9239-269F3243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A0C05-8C27-4BAA-8FD1-EEE8F5CC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BD436-3A52-488C-9DAD-A5394714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7901D-A6D4-42C2-B2A6-374E9642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0BDB-FC52-44D7-B2F2-530BE6C9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83F62-1AD5-4C07-ABE1-8175A6DA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F6271-B777-4495-9DC0-59E6F6CB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90A87-D6EB-4E5A-B626-8E9E9DE5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EDEF6-8EE2-4C85-B7CC-6108CE7F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9DBC6-2915-4875-807C-FAC10E0F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5DF61-FE6D-4D28-AC28-32A5DA3F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48EC2-D148-4FA0-AD6A-987AE706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D3771-885A-4B73-9CE4-2A531D4D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E87B7-DC28-4ED9-9640-CB0185BA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DC2D-BFA5-4036-80D7-FF60C790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5438-5E1D-47C8-B24F-9AE88917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BC91-C50E-4C4E-BB04-BCD7A866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05C8-E677-479F-9798-002483E5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BA27-F78A-4F1E-8D15-ECF484E9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A6EC-BDC2-4CB0-881A-98E7723C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688D-C5D9-442C-8957-F1CE2147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F3E4-3542-43C7-8B82-28231C6EA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CA66-541D-4D7B-8245-1C276ED9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D197-957A-4A78-AA6D-AD9AF297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6372-E613-4C0A-AC8B-117187F7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EBC3-D6E4-460A-A6F6-74E63CB4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429C-D600-40D2-AEA8-3EAC9BAA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1D6A-5599-4D4F-82B8-6C901695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BCE3-5A0A-4DCB-8538-41C19F81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03DC-B5D9-42A2-AC49-BD4941D5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99BE-9302-4815-92B4-A787F31B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A92D-E03C-4849-9591-10D29256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4B22-99BA-4201-869F-C3CFD0AD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C721-29F9-4186-A190-464B9DA0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32001-6E18-4CF8-BC47-B51F42D0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A13F4-076D-4896-91AB-78D7233D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5B261-A590-4FE4-B634-5DD1AADC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460B7-A620-49E2-9E08-5456591E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2EE56-3BC5-456B-AD02-40ED0C39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1E967-B40E-44AD-9097-A833B567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0B1F4-B33F-4B63-AD63-B32D208B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E273A-B0E2-4B08-8B0A-8DA7821D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6B697-DEF0-4701-BDEB-46D90D60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CFA01-DB5A-46E2-9698-7E45F07D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1FC96-EEC7-4B18-86A7-41F2D074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AFC20-AB32-451D-B7A5-E813E07F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0FB45-5783-440E-A7D9-F0EEA2EF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C7A6C-CA3B-4CCB-84CF-EDB2D4ED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1644E-7FBC-45B0-AB42-D12C3027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CAE0E-DAA0-4B58-970B-30F5C06F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26C6C-9323-41DE-8180-9B683E3C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5253D-8258-401D-97A9-D819D6E6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2177C-7626-4F22-9C73-5C47159D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00E60-66C7-43E0-A449-E05B2ACD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E912D-6D1A-40E8-AA09-1FDB6F42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57914-10D7-4F88-BE7E-16F0CEF6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651D1-259B-47C3-9296-1EF033D6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79758-C85F-48D5-923B-C1A789F2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3F65B-6941-446C-939B-A7DADA98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2E1DB-8C84-4B72-82E2-D185B7BD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F5E68-2C1C-40EA-99DC-1146FA9D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F5D41-E087-4501-81FB-5014C2C7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04F36-2974-43F1-AF99-C592C33C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08D8F-2690-416F-927B-59CE96BE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29EF9-416D-412D-A8E7-7C448C4F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B0963-758F-40C4-BBB6-9273F8F0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E8C2A-8D64-4A7A-83EC-FAB7F02C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209DD-3044-4ABB-8329-866DE44A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65532-2CE1-4B63-B99A-2C682DA3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A45A1-A176-4D06-8378-5A2543E5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14874-8B5F-4D2C-9AD1-50A72B2D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6A30E-2C50-43D6-8147-82442C26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79D88-1E9C-4AFC-B854-DCC16E7F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32CA5-D71B-4F9E-82F7-64AF170F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4D450-F699-44A1-80CB-11AFFD3A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BC235-1098-4DF1-A9A1-9026A662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53BFF-4F69-4E66-AF78-23F56903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5A0B7-13BF-4F0E-A7AC-AD1507B0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99F4B-F65E-4755-9FA9-C82C5579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92189-82FC-4002-A3C1-9494DD58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40440-59AD-4260-8A3D-4C6287CD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FC02D-FE26-460E-8795-AD22951E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DF062-DA66-4BF8-9ED8-703E2D8A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80D05-5ED2-4A2A-97C7-AC8B22F3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62BC2-8CA2-4696-865E-B7F8F1FA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ntiquaSSi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ntiquaSS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209680"/>
            <a:ext cx="7238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uaSS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tiquaSS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uaSS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tiquaSS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uaSS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tiquaSS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uaSS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tiquaSS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uaSS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tiquaSS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uaSS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tiquaSS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uaSS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tiquaSS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D977-A93B-4C19-B62F-1B36A2312113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C54F-9ABB-4043-A2C4-D40670FA5A1F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48A6-891E-4A81-80EC-994F2AA260F1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2E20-5238-4040-B2EA-759B9F07DDC3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6D7A-97C1-402D-A37E-41D6D84A20BE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A121-5A8D-445E-8370-89C0089683D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ntiquaSSi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ntiquaSS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90720" y="2209680"/>
            <a:ext cx="7238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uaSS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tiquaSS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uaSS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tiquaSS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uaSS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tiquaSS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uaSS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tiquaSS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uaSS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tiquaSS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uaSS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tiquaSS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uaSS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tiquaSS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80B7-5358-47B0-9D07-F5A51C24EA83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CEEE-B334-4620-AE8E-4CB9855E2D8D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71DF-5BC9-40E6-A114-E7661F01E690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9350-C574-4936-9E0F-D7F98FC3E9E4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8EED-6CA4-421C-93D5-573F4E86CBD1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C676-CC8D-48D9-B055-85DC32832897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矩形 1"/>
          <p:cNvSpPr/>
          <p:nvPr/>
        </p:nvSpPr>
        <p:spPr>
          <a:xfrm>
            <a:off x="2473560" y="3645000"/>
            <a:ext cx="434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音乐说课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矩形 5"/>
          <p:cNvSpPr/>
          <p:nvPr/>
        </p:nvSpPr>
        <p:spPr>
          <a:xfrm>
            <a:off x="297000" y="650412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ntiquaSSi"/>
                <a:ea typeface="宋体"/>
              </a:rPr>
              <a:t>Second Title Page</a:t>
            </a:r>
            <a:endParaRPr b="0" lang="en-US" sz="5400" spc="-1" strike="noStrike">
              <a:solidFill>
                <a:srgbClr val="ffffff"/>
              </a:solidFill>
              <a:latin typeface="AntiquaSS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238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eb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uaSSi"/>
                <a:ea typeface="宋体"/>
              </a:rPr>
              <a:t>Add Subtopics Here</a:t>
            </a:r>
            <a:endParaRPr b="0" lang="en-US" sz="3200" spc="-1" strike="noStrike">
              <a:solidFill>
                <a:srgbClr val="000000"/>
              </a:solidFill>
              <a:latin typeface="AntiquaSSi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music_notes_for_transition"/>
          <p:cNvPicPr/>
          <p:nvPr/>
        </p:nvPicPr>
        <p:blipFill>
          <a:blip r:embed="rId1"/>
          <a:stretch/>
        </p:blipFill>
        <p:spPr>
          <a:xfrm>
            <a:off x="0" y="-455760"/>
            <a:ext cx="7315200" cy="3049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Note_still"/>
          <p:cNvPicPr/>
          <p:nvPr/>
        </p:nvPicPr>
        <p:blipFill>
          <a:blip r:embed="rId1"/>
          <a:stretch/>
        </p:blipFill>
        <p:spPr>
          <a:xfrm>
            <a:off x="0" y="0"/>
            <a:ext cx="812808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3060720" y="6021360"/>
            <a:ext cx="5975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ea typeface="宋体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宋体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宋体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3:40:38Z</dcterms:created>
  <dc:creator/>
  <dc:description/>
  <cp:keywords>幻灯片之家 http:/www.eeppt.com</cp:keywords>
  <dc:language>en-US</dc:language>
  <cp:lastModifiedBy/>
  <dcterms:modified xsi:type="dcterms:W3CDTF">2015-07-20T05:56:5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