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.png" ContentType="image/png"/>
  <Override PartName="/ppt/media/image29.jpeg" ContentType="image/jpeg"/>
  <Override PartName="/ppt/media/image13.wmf" ContentType="image/x-wmf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6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6911975" cy="3743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59A-5E95-497F-8380-9BB942D8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62200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960" y="2164320"/>
            <a:ext cx="62200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A0A-73B9-4F30-8E81-E719A1A4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96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340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D12-E980-41D8-9E4E-1B15A618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9080" y="87300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2200" y="87300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960" y="216432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9080" y="216432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52200" y="216432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747-6875-4FBA-8484-06B1E37A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960" y="873000"/>
            <a:ext cx="622008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0EC-9A7F-430D-995D-03630D43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622008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E32-921D-4326-8DF8-C99B1334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4E7-ABF0-4166-B7F7-29E45D2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EDA-0B18-4861-B51F-B0CD53D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960" y="149040"/>
            <a:ext cx="622008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BF0-3CC3-4AE6-92BA-1AD268A1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96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093-59F8-4639-8B8D-00468B3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340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B68-CB2F-442F-8D55-742F913D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960" y="2164320"/>
            <a:ext cx="62200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A7D-BC6B-41AE-8180-63CC818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873000"/>
            <a:ext cx="622008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 fontScale="79000"/>
          </a:bodyPr>
          <a:p>
            <a:pPr marL="201600" indent="-201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69280" indent="2692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892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08560" indent="-2692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078200" indent="-53892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078200" indent="-53892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078200" indent="-53892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600" y="3470040"/>
            <a:ext cx="1613160" cy="1998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276E9906-812C-4DCA-94F7-EC2B15CFEF25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3470040"/>
            <a:ext cx="2187360" cy="1998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3470040"/>
            <a:ext cx="1613160" cy="1998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C9CAE98F-EA86-4C7C-8363-60A7865467F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media1.wma" TargetMode="External"/><Relationship Id="rId2" Type="http://schemas.microsoft.com/office/2007/relationships/media" Target="file:///tmp/home/.config/libreoffice/4/user/gallery/media1.wma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78840" y="1584360"/>
            <a:ext cx="3149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示：为保证最佳观看效果，请使用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08600" y="1919160"/>
            <a:ext cx="718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按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F5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键全屏欣赏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3384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-1330200" y="0"/>
            <a:ext cx="8240760" cy="4464000"/>
          </a:xfrm>
          <a:prstGeom prst="rect">
            <a:avLst/>
          </a:prstGeom>
          <a:ln w="0">
            <a:noFill/>
          </a:ln>
        </p:spPr>
      </p:pic>
      <p:sp>
        <p:nvSpPr>
          <p:cNvPr id="177" name="矩形 1"/>
          <p:cNvSpPr/>
          <p:nvPr/>
        </p:nvSpPr>
        <p:spPr>
          <a:xfrm>
            <a:off x="71280" y="2228760"/>
            <a:ext cx="439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创造力的人并没有创造什么，他们只是看到了一些东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3"/>
          <p:cNvSpPr/>
          <p:nvPr/>
        </p:nvSpPr>
        <p:spPr>
          <a:xfrm>
            <a:off x="-3527280" y="23464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"/>
          <p:cNvSpPr/>
          <p:nvPr/>
        </p:nvSpPr>
        <p:spPr>
          <a:xfrm>
            <a:off x="-3456000" y="2521080"/>
            <a:ext cx="12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"/>
          <p:cNvSpPr/>
          <p:nvPr/>
        </p:nvSpPr>
        <p:spPr>
          <a:xfrm>
            <a:off x="-2664000" y="21607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9146E-006 4.03732E-006 L -3.69146E-006 0.13528 E">
                                      <p:cBhvr>
                                        <p:cTn id="814" dur="68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16" dur="6600" fill="hold"/>
                                        <p:tgtEl>
                                          <p:spTgt spid="17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42647E-006 -2.71186E-006 L 0.06526 -0.10805 E">
                                      <p:cBhvr>
                                        <p:cTn id="818" dur="12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820" dur="1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822" dur="3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824" dur="4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-17640" y="-7920"/>
            <a:ext cx="6928200" cy="3754440"/>
          </a:xfrm>
          <a:prstGeom prst="rect">
            <a:avLst/>
          </a:prstGeom>
          <a:ln w="0">
            <a:noFill/>
          </a:ln>
        </p:spPr>
      </p:pic>
      <p:sp>
        <p:nvSpPr>
          <p:cNvPr id="182" name="矩形 1"/>
          <p:cNvSpPr/>
          <p:nvPr/>
        </p:nvSpPr>
        <p:spPr>
          <a:xfrm>
            <a:off x="3258720" y="2232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谓创造力，就是把事物联系在一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3"/>
          <p:cNvSpPr/>
          <p:nvPr/>
        </p:nvSpPr>
        <p:spPr>
          <a:xfrm flipV="1">
            <a:off x="1204920" y="4176360"/>
            <a:ext cx="2224080" cy="27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4"/>
          <p:cNvSpPr/>
          <p:nvPr/>
        </p:nvSpPr>
        <p:spPr>
          <a:xfrm flipV="1">
            <a:off x="1846440" y="4019400"/>
            <a:ext cx="941040" cy="1236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6"/>
          <p:cNvSpPr/>
          <p:nvPr/>
        </p:nvSpPr>
        <p:spPr>
          <a:xfrm flipV="1">
            <a:off x="-1292400" y="2089080"/>
            <a:ext cx="1155960" cy="123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-4753080" y="1873080"/>
            <a:ext cx="3460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3"/>
          <p:cNvSpPr/>
          <p:nvPr/>
        </p:nvSpPr>
        <p:spPr>
          <a:xfrm>
            <a:off x="-3527280" y="23464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4"/>
          <p:cNvSpPr/>
          <p:nvPr/>
        </p:nvSpPr>
        <p:spPr>
          <a:xfrm>
            <a:off x="-3456000" y="2521080"/>
            <a:ext cx="12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5"/>
          <p:cNvSpPr/>
          <p:nvPr/>
        </p:nvSpPr>
        <p:spPr>
          <a:xfrm>
            <a:off x="-2664000" y="21607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9954E-006 -2.68024E-006 L 0.82186 -2.05131 E">
                                      <p:cBhvr>
                                        <p:cTn id="835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12213E-007 -1.66243E-006 L 0.81038 -2.18108 E">
                                      <p:cBhvr>
                                        <p:cTn id="837" dur="3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28834E-006 2.2335E-006 L 0.54569 -1.11464 E">
                                      <p:cBhvr>
                                        <p:cTn id="839" dur="4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29098E-006 4.4898E-006 L 2.53707 4.4898E-006 E">
                                      <p:cBhvr>
                                        <p:cTn id="841" dur="1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15794E-006 4.53774E-006 L -2.15794E-006 0.08948 E">
                                      <p:cBhvr>
                                        <p:cTn id="849" dur="59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xit" presetID="10">
                                  <p:stCondLst>
                                    <p:cond delay="7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851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854" dur="1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856" dur="3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5E-006 -4.91525E-006 L 1.78723 -4.91525E-006 E">
                                      <p:cBhvr>
                                        <p:cTn id="858" dur="4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2"/>
          <p:cNvSpPr/>
          <p:nvPr/>
        </p:nvSpPr>
        <p:spPr>
          <a:xfrm>
            <a:off x="1719720" y="30463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多时候人们不明白自己需要什么，直到你把产品摆在他面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3"/>
          <p:cNvSpPr/>
          <p:nvPr/>
        </p:nvSpPr>
        <p:spPr>
          <a:xfrm flipV="1">
            <a:off x="287280" y="3911400"/>
            <a:ext cx="2224080" cy="27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"/>
          <p:cNvSpPr/>
          <p:nvPr/>
        </p:nvSpPr>
        <p:spPr>
          <a:xfrm flipH="1" flipV="1">
            <a:off x="6982920" y="3960720"/>
            <a:ext cx="172908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7"/>
          <p:cNvSpPr/>
          <p:nvPr/>
        </p:nvSpPr>
        <p:spPr>
          <a:xfrm flipV="1">
            <a:off x="1943280" y="3935520"/>
            <a:ext cx="585720" cy="247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1"/>
          <p:cNvSpPr/>
          <p:nvPr/>
        </p:nvSpPr>
        <p:spPr>
          <a:xfrm>
            <a:off x="-3311640" y="208908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5702E-006 -4.51777E-006 L 0.82117 -2.0478 E">
                                      <p:cBhvr>
                                        <p:cTn id="864" dur="1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4156 -0.17259 L -1.06199 -1.7077 E">
                                      <p:cBhvr>
                                        <p:cTn id="866" dur="1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4155 -0.17259 L 0.13476 -1.68486 E">
                                      <p:cBhvr>
                                        <p:cTn id="868" dur="1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11 0.03817 L 1.90542 0.01908 E">
                                      <p:cBhvr>
                                        <p:cTn id="870" dur="1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1589E-007 1.37405E-006 L -4.31589E-007 -0.16624 E">
                                      <p:cBhvr>
                                        <p:cTn id="878" dur="71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0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83" dur="75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97" name="矩形 1"/>
          <p:cNvSpPr/>
          <p:nvPr/>
        </p:nvSpPr>
        <p:spPr>
          <a:xfrm>
            <a:off x="1728720" y="1625760"/>
            <a:ext cx="3454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简单比复杂更难，你必须付出巨大努力去化繁为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-17640" y="1584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4"/>
          <p:cNvSpPr/>
          <p:nvPr/>
        </p:nvSpPr>
        <p:spPr>
          <a:xfrm>
            <a:off x="1512720" y="576360"/>
            <a:ext cx="388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比复杂更难，你必须付出巨大努力去化繁为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6"/>
          <p:cNvSpPr/>
          <p:nvPr/>
        </p:nvSpPr>
        <p:spPr>
          <a:xfrm flipV="1">
            <a:off x="1728720" y="2808360"/>
            <a:ext cx="14292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7"/>
          <p:cNvSpPr/>
          <p:nvPr/>
        </p:nvSpPr>
        <p:spPr>
          <a:xfrm flipV="1">
            <a:off x="1889280" y="242532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9"/>
          <p:cNvSpPr/>
          <p:nvPr/>
        </p:nvSpPr>
        <p:spPr>
          <a:xfrm flipV="1">
            <a:off x="2249640" y="1079640"/>
            <a:ext cx="17928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2"/>
          <p:cNvSpPr/>
          <p:nvPr/>
        </p:nvSpPr>
        <p:spPr>
          <a:xfrm>
            <a:off x="2502000" y="1079640"/>
            <a:ext cx="2035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5"/>
          <p:cNvSpPr/>
          <p:nvPr/>
        </p:nvSpPr>
        <p:spPr>
          <a:xfrm>
            <a:off x="4535640" y="1079640"/>
            <a:ext cx="14436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7"/>
          <p:cNvSpPr/>
          <p:nvPr/>
        </p:nvSpPr>
        <p:spPr>
          <a:xfrm>
            <a:off x="4680000" y="3457440"/>
            <a:ext cx="21600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0"/>
          <p:cNvSpPr/>
          <p:nvPr/>
        </p:nvSpPr>
        <p:spPr>
          <a:xfrm flipV="1">
            <a:off x="-3527280" y="2673000"/>
            <a:ext cx="2871720" cy="230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22"/>
          <p:cNvSpPr/>
          <p:nvPr/>
        </p:nvSpPr>
        <p:spPr>
          <a:xfrm flipH="1" flipV="1">
            <a:off x="6244920" y="4392360"/>
            <a:ext cx="122868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24"/>
          <p:cNvSpPr/>
          <p:nvPr/>
        </p:nvSpPr>
        <p:spPr>
          <a:xfrm flipH="1" flipV="1">
            <a:off x="7457760" y="2795400"/>
            <a:ext cx="122868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25"/>
          <p:cNvSpPr/>
          <p:nvPr/>
        </p:nvSpPr>
        <p:spPr>
          <a:xfrm flipV="1">
            <a:off x="-503280" y="3882600"/>
            <a:ext cx="1284480" cy="267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26"/>
          <p:cNvSpPr/>
          <p:nvPr/>
        </p:nvSpPr>
        <p:spPr>
          <a:xfrm flipH="1" flipV="1">
            <a:off x="8894880" y="4006440"/>
            <a:ext cx="1226880" cy="21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17" dur="74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8">
                                  <p:stCondLst>
                                    <p:cond delay="1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xit" presetID="42">
                                  <p:stCondLst>
                                    <p:cond delay="6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18159 -0.044 L 1.00551 -1.7132 E">
                                      <p:cBhvr>
                                        <p:cTn id="928" dur="1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path" presetID="63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2213 -0.05767 L -0.6692 -1.94275 E">
                                      <p:cBhvr>
                                        <p:cTn id="930" dur="1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12213 -0.05767 L -0.6692 -1.94275 E">
                                      <p:cBhvr>
                                        <p:cTn id="932" dur="1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18159 -0.04399 L 0.70914 -1.92767 E">
                                      <p:cBhvr>
                                        <p:cTn id="934" dur="1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12213 -0.05767 L -0.6692 -1.94275 E">
                                      <p:cBhvr>
                                        <p:cTn id="936" dur="1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12" name="矩形 2"/>
          <p:cNvSpPr/>
          <p:nvPr/>
        </p:nvSpPr>
        <p:spPr>
          <a:xfrm>
            <a:off x="2305080" y="863640"/>
            <a:ext cx="388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但最终你会发现这一切都是值得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8"/>
          <p:cNvSpPr/>
          <p:nvPr/>
        </p:nvSpPr>
        <p:spPr>
          <a:xfrm>
            <a:off x="-3451320" y="97956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9"/>
          <p:cNvSpPr/>
          <p:nvPr/>
        </p:nvSpPr>
        <p:spPr>
          <a:xfrm>
            <a:off x="-3456000" y="11541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0"/>
          <p:cNvSpPr/>
          <p:nvPr/>
        </p:nvSpPr>
        <p:spPr>
          <a:xfrm>
            <a:off x="-1295280" y="720720"/>
            <a:ext cx="122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1"/>
          <p:cNvSpPr/>
          <p:nvPr/>
        </p:nvSpPr>
        <p:spPr>
          <a:xfrm>
            <a:off x="115236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2"/>
          <p:cNvSpPr/>
          <p:nvPr/>
        </p:nvSpPr>
        <p:spPr>
          <a:xfrm>
            <a:off x="1511280" y="389268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3"/>
          <p:cNvSpPr/>
          <p:nvPr/>
        </p:nvSpPr>
        <p:spPr>
          <a:xfrm>
            <a:off x="1800360" y="42069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942" dur="1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944" dur="3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946" dur="4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52" dur="78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957" dur="3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path" presetID="64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8.7236E-007 -2.31552E-006 L 8.7236E-007 -2.34775 E">
                                      <p:cBhvr>
                                        <p:cTn id="959" dur="2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path" presetID="64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961" dur="1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20" name="矩形 2"/>
          <p:cNvSpPr/>
          <p:nvPr/>
        </p:nvSpPr>
        <p:spPr>
          <a:xfrm>
            <a:off x="2305080" y="2573280"/>
            <a:ext cx="4174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一辈子无法做太多事情，你必须找到所爱的东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"/>
          <p:cNvSpPr/>
          <p:nvPr/>
        </p:nvSpPr>
        <p:spPr>
          <a:xfrm flipH="1" flipV="1">
            <a:off x="647640" y="2376000"/>
            <a:ext cx="720720" cy="14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4"/>
          <p:cNvSpPr/>
          <p:nvPr/>
        </p:nvSpPr>
        <p:spPr>
          <a:xfrm flipV="1">
            <a:off x="1889280" y="242532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6"/>
          <p:cNvSpPr/>
          <p:nvPr/>
        </p:nvSpPr>
        <p:spPr>
          <a:xfrm flipV="1">
            <a:off x="647640" y="1512720"/>
            <a:ext cx="115272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7"/>
          <p:cNvSpPr/>
          <p:nvPr/>
        </p:nvSpPr>
        <p:spPr>
          <a:xfrm>
            <a:off x="1854360" y="1512720"/>
            <a:ext cx="593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8"/>
          <p:cNvSpPr/>
          <p:nvPr/>
        </p:nvSpPr>
        <p:spPr>
          <a:xfrm>
            <a:off x="2448000" y="1843200"/>
            <a:ext cx="720720" cy="146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2"/>
          <p:cNvSpPr/>
          <p:nvPr/>
        </p:nvSpPr>
        <p:spPr>
          <a:xfrm>
            <a:off x="3240000" y="3384720"/>
            <a:ext cx="36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5"/>
          <p:cNvSpPr/>
          <p:nvPr/>
        </p:nvSpPr>
        <p:spPr>
          <a:xfrm>
            <a:off x="7775640" y="3097080"/>
            <a:ext cx="12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6"/>
          <p:cNvSpPr/>
          <p:nvPr/>
        </p:nvSpPr>
        <p:spPr>
          <a:xfrm>
            <a:off x="8136000" y="2403360"/>
            <a:ext cx="1152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7"/>
          <p:cNvSpPr/>
          <p:nvPr/>
        </p:nvSpPr>
        <p:spPr>
          <a:xfrm>
            <a:off x="8424720" y="27194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D05-3A90-4FBA-B277-5D9FC7DB8E96}" type="slidenum">
              <a:t>15</a:t>
            </a:fld>
          </a:p>
        </p:txBody>
      </p:sp>
    </p:spTree>
  </p:cSld>
  <p:transition spd="med" advTm="8000"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65193E-006 3.19728E-006 L -1.8872 3.19728E-006 E">
                                      <p:cBhvr>
                                        <p:cTn id="997" dur="3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74954E-006 -2.65306E-006 L -1.72283 0.01148 E">
                                      <p:cBhvr>
                                        <p:cTn id="999" dur="2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64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07551E-006 3.67347E-006 L -2.69912 -0.01488 E">
                                      <p:cBhvr>
                                        <p:cTn id="1001" dur="1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6" dur="74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xit" presetID="22" presetSubtype="8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31" name="矩形 2"/>
          <p:cNvSpPr/>
          <p:nvPr/>
        </p:nvSpPr>
        <p:spPr>
          <a:xfrm>
            <a:off x="71280" y="2876400"/>
            <a:ext cx="417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勇敢追随你的心声，它才知道你想成为的样子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6"/>
          <p:cNvSpPr/>
          <p:nvPr/>
        </p:nvSpPr>
        <p:spPr>
          <a:xfrm flipV="1">
            <a:off x="3384720" y="-2448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8"/>
          <p:cNvSpPr/>
          <p:nvPr/>
        </p:nvSpPr>
        <p:spPr>
          <a:xfrm>
            <a:off x="-720720" y="3168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9"/>
          <p:cNvSpPr/>
          <p:nvPr/>
        </p:nvSpPr>
        <p:spPr>
          <a:xfrm>
            <a:off x="6985080" y="273672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3"/>
          <p:cNvSpPr/>
          <p:nvPr/>
        </p:nvSpPr>
        <p:spPr>
          <a:xfrm>
            <a:off x="-3595680" y="306720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4"/>
          <p:cNvSpPr/>
          <p:nvPr/>
        </p:nvSpPr>
        <p:spPr>
          <a:xfrm>
            <a:off x="-3600360" y="3241800"/>
            <a:ext cx="122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5"/>
          <p:cNvSpPr/>
          <p:nvPr/>
        </p:nvSpPr>
        <p:spPr>
          <a:xfrm>
            <a:off x="-1440000" y="28083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015" dur="3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6924E-007 1.99321E-006 L 1.46924E-007 2.73155 E">
                                      <p:cBhvr>
                                        <p:cTn id="1017" dur="3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4706E-007 1.52542E-006 L -1.46967 1.52542E-006 E">
                                      <p:cBhvr>
                                        <p:cTn id="1019" dur="3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21" dur="74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28" dur="71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9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033" dur="1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1035" dur="3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037" dur="4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39" name="矩形 3"/>
          <p:cNvSpPr/>
          <p:nvPr/>
        </p:nvSpPr>
        <p:spPr>
          <a:xfrm>
            <a:off x="1368360" y="107964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被教条所限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"/>
          <p:cNvSpPr/>
          <p:nvPr/>
        </p:nvSpPr>
        <p:spPr>
          <a:xfrm>
            <a:off x="1727280" y="2530440"/>
            <a:ext cx="887400" cy="6192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4"/>
          <p:cNvSpPr/>
          <p:nvPr/>
        </p:nvSpPr>
        <p:spPr>
          <a:xfrm>
            <a:off x="-3451320" y="1195560"/>
            <a:ext cx="331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6"/>
          <p:cNvSpPr/>
          <p:nvPr/>
        </p:nvSpPr>
        <p:spPr>
          <a:xfrm>
            <a:off x="-3456000" y="1370160"/>
            <a:ext cx="1227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7"/>
          <p:cNvSpPr/>
          <p:nvPr/>
        </p:nvSpPr>
        <p:spPr>
          <a:xfrm>
            <a:off x="-1295280" y="93672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33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048" dur="1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4 -0.00043 L 1.65634 -0.00043 E">
                                      <p:cBhvr>
                                        <p:cTn id="1050" dur="3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052" dur="4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59343 -1.86599E-007 L -3.76492E-006 -1.86599E-007 E">
                                      <p:cBhvr>
                                        <p:cTn id="1056" dur="2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58" dur="68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5" dur="63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45" name="矩形 1"/>
          <p:cNvSpPr/>
          <p:nvPr/>
        </p:nvSpPr>
        <p:spPr>
          <a:xfrm>
            <a:off x="3018960" y="1508040"/>
            <a:ext cx="87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为别人而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"/>
          <p:cNvSpPr/>
          <p:nvPr/>
        </p:nvSpPr>
        <p:spPr>
          <a:xfrm>
            <a:off x="-3451320" y="165744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"/>
          <p:cNvSpPr/>
          <p:nvPr/>
        </p:nvSpPr>
        <p:spPr>
          <a:xfrm flipV="1">
            <a:off x="-2228760" y="396036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6"/>
          <p:cNvSpPr/>
          <p:nvPr/>
        </p:nvSpPr>
        <p:spPr>
          <a:xfrm>
            <a:off x="-1795320" y="-1295280"/>
            <a:ext cx="1439640" cy="93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7"/>
          <p:cNvSpPr/>
          <p:nvPr/>
        </p:nvSpPr>
        <p:spPr>
          <a:xfrm flipV="1">
            <a:off x="-2847960" y="365724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8"/>
          <p:cNvSpPr/>
          <p:nvPr/>
        </p:nvSpPr>
        <p:spPr>
          <a:xfrm flipV="1">
            <a:off x="-3343320" y="352872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0"/>
          <p:cNvSpPr/>
          <p:nvPr/>
        </p:nvSpPr>
        <p:spPr>
          <a:xfrm>
            <a:off x="-1076400" y="-1295280"/>
            <a:ext cx="1440000" cy="93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1"/>
          <p:cNvSpPr/>
          <p:nvPr/>
        </p:nvSpPr>
        <p:spPr>
          <a:xfrm>
            <a:off x="-1440000" y="-790560"/>
            <a:ext cx="1440000" cy="939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44169E-006 -1.35364E-006 L 1.74013 -1.35364E-006 E">
                                      <p:cBhvr>
                                        <p:cTn id="1071" dur="1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229 0.00973 L 1.62075 -1.19924 E">
                                      <p:cBhvr>
                                        <p:cTn id="1073" dur="3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075" dur="4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08632E-006 0.01438 L 1.61846 -1.19458 E">
                                      <p:cBhvr>
                                        <p:cTn id="1077" dur="3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07438E-006 -3.77327E-006 L 1.61846 -1.20896 E">
                                      <p:cBhvr>
                                        <p:cTn id="1079" dur="3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081" dur="4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083" dur="4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45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0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3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54" name="矩形 1"/>
          <p:cNvSpPr/>
          <p:nvPr/>
        </p:nvSpPr>
        <p:spPr>
          <a:xfrm>
            <a:off x="4775400" y="2587680"/>
            <a:ext cx="34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你的内心和直觉，其他一切都是次要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"/>
          <p:cNvSpPr/>
          <p:nvPr/>
        </p:nvSpPr>
        <p:spPr>
          <a:xfrm>
            <a:off x="-3451320" y="27781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4"/>
          <p:cNvSpPr/>
          <p:nvPr/>
        </p:nvSpPr>
        <p:spPr>
          <a:xfrm>
            <a:off x="-3456000" y="2952720"/>
            <a:ext cx="122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6"/>
          <p:cNvSpPr/>
          <p:nvPr/>
        </p:nvSpPr>
        <p:spPr>
          <a:xfrm>
            <a:off x="-1295280" y="2517840"/>
            <a:ext cx="1226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7"/>
          <p:cNvSpPr/>
          <p:nvPr/>
        </p:nvSpPr>
        <p:spPr>
          <a:xfrm>
            <a:off x="-1795320" y="-1295280"/>
            <a:ext cx="1439640" cy="93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8"/>
          <p:cNvSpPr/>
          <p:nvPr/>
        </p:nvSpPr>
        <p:spPr>
          <a:xfrm flipV="1">
            <a:off x="-2847960" y="365724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46 -0.011 L 1.73967 -0.011 E">
                                      <p:cBhvr>
                                        <p:cTn id="1099" dur="1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4 -0.00043 L 1.65634 -0.00043 E">
                                      <p:cBhvr>
                                        <p:cTn id="1101" dur="3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103" dur="4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109" dur="4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08632E-006 0.01438 L 1.61846 -1.19458 E">
                                      <p:cBhvr>
                                        <p:cTn id="1111" dur="3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113" dur="79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156120" y="38894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x201i\Desktop\图片2.png"/>
          <p:cNvPicPr/>
          <p:nvPr/>
        </p:nvPicPr>
        <p:blipFill>
          <a:blip r:embed="rId4"/>
          <a:stretch/>
        </p:blipFill>
        <p:spPr>
          <a:xfrm>
            <a:off x="1130400" y="1374840"/>
            <a:ext cx="466236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3" dur="200" fill="hold"/>
                                        <p:tgtEl>
                                          <p:spTgt spid="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5" dur="3300" fill="hold"/>
                                        <p:tgtEl>
                                          <p:spTgt spid="4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45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1516320" y="284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袖和跟风者的区别在于创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3"/>
          <p:cNvSpPr/>
          <p:nvPr/>
        </p:nvSpPr>
        <p:spPr>
          <a:xfrm>
            <a:off x="1943280" y="417672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"/>
          <p:cNvSpPr/>
          <p:nvPr/>
        </p:nvSpPr>
        <p:spPr>
          <a:xfrm>
            <a:off x="2303640" y="389268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6"/>
          <p:cNvSpPr/>
          <p:nvPr/>
        </p:nvSpPr>
        <p:spPr>
          <a:xfrm>
            <a:off x="2592360" y="42069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7"/>
          <p:cNvSpPr/>
          <p:nvPr/>
        </p:nvSpPr>
        <p:spPr>
          <a:xfrm>
            <a:off x="4535640" y="414648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8"/>
          <p:cNvSpPr/>
          <p:nvPr/>
        </p:nvSpPr>
        <p:spPr>
          <a:xfrm>
            <a:off x="4896000" y="386244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518472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10"/>
          <p:cNvSpPr/>
          <p:nvPr/>
        </p:nvSpPr>
        <p:spPr>
          <a:xfrm>
            <a:off x="-720720" y="3168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1"/>
          <p:cNvSpPr/>
          <p:nvPr/>
        </p:nvSpPr>
        <p:spPr>
          <a:xfrm>
            <a:off x="-3595680" y="306720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12"/>
          <p:cNvSpPr/>
          <p:nvPr/>
        </p:nvSpPr>
        <p:spPr>
          <a:xfrm>
            <a:off x="-3600360" y="3241800"/>
            <a:ext cx="122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3"/>
          <p:cNvSpPr/>
          <p:nvPr/>
        </p:nvSpPr>
        <p:spPr>
          <a:xfrm>
            <a:off x="-1440000" y="28083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122" dur="3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5702E-006 1.26904E-006 L -1.15702E-006 -1.49789 E">
                                      <p:cBhvr>
                                        <p:cTn id="1124" dur="2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126" dur="1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133" dur="3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5702E-006 1.26904E-006 L -1.15702E-006 -1.49789 E">
                                      <p:cBhvr>
                                        <p:cTn id="1135" dur="2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path" presetID="64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137" dur="1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02572E-006 -4.74576E-006 L 0.02549 -4.74576E-006 E">
                                      <p:cBhvr>
                                        <p:cTn id="1139" dur="63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141" dur="73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146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148" dur="1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1150" dur="3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152" dur="4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73" name="矩形 2"/>
          <p:cNvSpPr/>
          <p:nvPr/>
        </p:nvSpPr>
        <p:spPr>
          <a:xfrm>
            <a:off x="2196000" y="576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不只是外形，设计是令它怎样运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"/>
          <p:cNvSpPr/>
          <p:nvPr/>
        </p:nvSpPr>
        <p:spPr>
          <a:xfrm>
            <a:off x="2952720" y="-28728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6"/>
          <p:cNvSpPr/>
          <p:nvPr/>
        </p:nvSpPr>
        <p:spPr>
          <a:xfrm flipH="1">
            <a:off x="1726920" y="576360"/>
            <a:ext cx="2592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-936720" y="7905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9"/>
          <p:cNvSpPr/>
          <p:nvPr/>
        </p:nvSpPr>
        <p:spPr>
          <a:xfrm>
            <a:off x="-3595680" y="68904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0"/>
          <p:cNvSpPr/>
          <p:nvPr/>
        </p:nvSpPr>
        <p:spPr>
          <a:xfrm>
            <a:off x="-3600360" y="863640"/>
            <a:ext cx="122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1"/>
          <p:cNvSpPr/>
          <p:nvPr/>
        </p:nvSpPr>
        <p:spPr>
          <a:xfrm>
            <a:off x="-1440000" y="43020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2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6" dur="2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ntr" presetID="5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6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178" dur="3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180" dur="1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1182" dur="3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184" dur="4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86" dur="69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3"/>
          <p:cNvSpPr/>
          <p:nvPr/>
        </p:nvSpPr>
        <p:spPr>
          <a:xfrm>
            <a:off x="2910600" y="9255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自己成为完美的标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4"/>
          <p:cNvSpPr/>
          <p:nvPr/>
        </p:nvSpPr>
        <p:spPr>
          <a:xfrm>
            <a:off x="-720720" y="12222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6"/>
          <p:cNvSpPr/>
          <p:nvPr/>
        </p:nvSpPr>
        <p:spPr>
          <a:xfrm>
            <a:off x="-3595680" y="1120680"/>
            <a:ext cx="331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7"/>
          <p:cNvSpPr/>
          <p:nvPr/>
        </p:nvSpPr>
        <p:spPr>
          <a:xfrm>
            <a:off x="-3600360" y="12970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8"/>
          <p:cNvSpPr/>
          <p:nvPr/>
        </p:nvSpPr>
        <p:spPr>
          <a:xfrm>
            <a:off x="-1440000" y="861840"/>
            <a:ext cx="1227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9"/>
          <p:cNvSpPr/>
          <p:nvPr/>
        </p:nvSpPr>
        <p:spPr>
          <a:xfrm>
            <a:off x="1871640" y="-142920"/>
            <a:ext cx="136836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1"/>
          <p:cNvSpPr/>
          <p:nvPr/>
        </p:nvSpPr>
        <p:spPr>
          <a:xfrm>
            <a:off x="3240000" y="925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4"/>
          <p:cNvSpPr/>
          <p:nvPr/>
        </p:nvSpPr>
        <p:spPr>
          <a:xfrm flipV="1">
            <a:off x="3743280" y="-71640"/>
            <a:ext cx="129708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6"/>
          <p:cNvSpPr/>
          <p:nvPr/>
        </p:nvSpPr>
        <p:spPr>
          <a:xfrm flipV="1">
            <a:off x="-212760" y="1221840"/>
            <a:ext cx="34196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8"/>
          <p:cNvSpPr/>
          <p:nvPr/>
        </p:nvSpPr>
        <p:spPr>
          <a:xfrm>
            <a:off x="3206880" y="12222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1"/>
          <p:cNvSpPr/>
          <p:nvPr/>
        </p:nvSpPr>
        <p:spPr>
          <a:xfrm>
            <a:off x="3854520" y="1224000"/>
            <a:ext cx="305604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2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6231 -0.03765 L 1.2865 -0.03765 E">
                                      <p:cBhvr>
                                        <p:cTn id="1204" dur="3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206" dur="1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48026E-006 2.88136E-006 L 1.66208 2.88136E-006 E">
                                      <p:cBhvr>
                                        <p:cTn id="1208" dur="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210" dur="4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path" presetID="35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58056E-006 3.479E-007 L -0.10457 3.479E-007 E">
                                      <p:cBhvr>
                                        <p:cTn id="1212" dur="56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xit" presetID="2" presetSubtype="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2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2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xit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93" name="矩形 2"/>
          <p:cNvSpPr/>
          <p:nvPr/>
        </p:nvSpPr>
        <p:spPr>
          <a:xfrm>
            <a:off x="2123640" y="4539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卓越的代名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"/>
          <p:cNvSpPr/>
          <p:nvPr/>
        </p:nvSpPr>
        <p:spPr>
          <a:xfrm>
            <a:off x="-936720" y="7905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4"/>
          <p:cNvSpPr/>
          <p:nvPr/>
        </p:nvSpPr>
        <p:spPr>
          <a:xfrm>
            <a:off x="-3595680" y="68904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6"/>
          <p:cNvSpPr/>
          <p:nvPr/>
        </p:nvSpPr>
        <p:spPr>
          <a:xfrm>
            <a:off x="-1440000" y="43020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7"/>
          <p:cNvSpPr/>
          <p:nvPr/>
        </p:nvSpPr>
        <p:spPr>
          <a:xfrm>
            <a:off x="5904000" y="414648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"/>
          <p:cNvSpPr/>
          <p:nvPr/>
        </p:nvSpPr>
        <p:spPr>
          <a:xfrm>
            <a:off x="6264360" y="386244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9"/>
          <p:cNvSpPr/>
          <p:nvPr/>
        </p:nvSpPr>
        <p:spPr>
          <a:xfrm>
            <a:off x="655308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252" dur="3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254" dur="1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256" dur="4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258" dur="3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path" presetID="64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1.15702E-006 1.26904E-006 L -1.15702E-006 -1.49789 E">
                                      <p:cBhvr>
                                        <p:cTn id="1260" dur="2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path" presetID="64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262" dur="1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autoRev="1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1.54412E-006 -8.47458E-007 L 0.12684 -8.47458E-007 E">
                                      <p:cBhvr>
                                        <p:cTn id="1267" dur="335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69" dur="67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01" name="矩形 2"/>
          <p:cNvSpPr/>
          <p:nvPr/>
        </p:nvSpPr>
        <p:spPr>
          <a:xfrm>
            <a:off x="1316880" y="73188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中最重要的决定不是你做什么，而是你不做什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"/>
          <p:cNvSpPr/>
          <p:nvPr/>
        </p:nvSpPr>
        <p:spPr>
          <a:xfrm>
            <a:off x="-17640" y="-1006560"/>
            <a:ext cx="61308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6"/>
          <p:cNvSpPr/>
          <p:nvPr/>
        </p:nvSpPr>
        <p:spPr>
          <a:xfrm>
            <a:off x="-565200" y="-706320"/>
            <a:ext cx="612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7"/>
          <p:cNvSpPr/>
          <p:nvPr/>
        </p:nvSpPr>
        <p:spPr>
          <a:xfrm>
            <a:off x="-888840" y="-217440"/>
            <a:ext cx="61416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8"/>
          <p:cNvSpPr/>
          <p:nvPr/>
        </p:nvSpPr>
        <p:spPr>
          <a:xfrm>
            <a:off x="-888840" y="546120"/>
            <a:ext cx="6141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-873000" y="1440000"/>
            <a:ext cx="61416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936720" y="-995400"/>
            <a:ext cx="612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1865160" y="-927000"/>
            <a:ext cx="6145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752560" y="-865080"/>
            <a:ext cx="61452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-936720" y="1008000"/>
            <a:ext cx="576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-3595680" y="9079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5"/>
          <p:cNvSpPr/>
          <p:nvPr/>
        </p:nvSpPr>
        <p:spPr>
          <a:xfrm>
            <a:off x="-1440000" y="647640"/>
            <a:ext cx="1227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6"/>
          <p:cNvSpPr/>
          <p:nvPr/>
        </p:nvSpPr>
        <p:spPr>
          <a:xfrm>
            <a:off x="-939960" y="1079640"/>
            <a:ext cx="576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7"/>
          <p:cNvSpPr/>
          <p:nvPr/>
        </p:nvSpPr>
        <p:spPr>
          <a:xfrm>
            <a:off x="-3600360" y="979560"/>
            <a:ext cx="33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8"/>
          <p:cNvSpPr/>
          <p:nvPr/>
        </p:nvSpPr>
        <p:spPr>
          <a:xfrm>
            <a:off x="-1444680" y="720720"/>
            <a:ext cx="122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35294E-008 4.53582E-006 L 0.77137 1.62484 E">
                                      <p:cBhvr>
                                        <p:cTn id="1278" dur="2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5E-006 3.26833E-006 L 0.90418 1.9292 E">
                                      <p:cBhvr>
                                        <p:cTn id="1280" dur="2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6471E-006 -4.7944E-006 L 0.72794 1.5265 E">
                                      <p:cBhvr>
                                        <p:cTn id="1282" dur="2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70588E-006 1.52542E-006 L 0.71393 1.50932 E">
                                      <p:cBhvr>
                                        <p:cTn id="1284" dur="2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4412E-006 1.93302E-006 L 0.66268 1.42899 E">
                                      <p:cBhvr>
                                        <p:cTn id="1286" dur="2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7.35294E-007 -1.8652E-006 L 0.6574 1.41374 E">
                                      <p:cBhvr>
                                        <p:cTn id="1288" dur="2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7.35294E-007 -1.82281E-006 L 0.51126 1.11361 E">
                                      <p:cBhvr>
                                        <p:cTn id="1290" dur="2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25E-006 -2.27215E-006 L 0.38419 0.8173 E">
                                      <p:cBhvr>
                                        <p:cTn id="1292" dur="2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294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296" dur="1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298" dur="4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302" dur="74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304" dur="3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306" dur="1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308" dur="4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10">
                                  <p:stCondLst>
                                    <p:cond delay="7300"/>
                                  </p:stCondLst>
                                  <p:iterate type="lt">
                                    <p:tmAbs val="0.200000002980232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10" dur="2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17" name="矩形 3"/>
          <p:cNvSpPr/>
          <p:nvPr/>
        </p:nvSpPr>
        <p:spPr>
          <a:xfrm>
            <a:off x="1984320" y="731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你可以当一个海盗，为何要加入海军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4"/>
          <p:cNvSpPr/>
          <p:nvPr/>
        </p:nvSpPr>
        <p:spPr>
          <a:xfrm>
            <a:off x="3672000" y="414648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6"/>
          <p:cNvSpPr/>
          <p:nvPr/>
        </p:nvSpPr>
        <p:spPr>
          <a:xfrm>
            <a:off x="6912000" y="10605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7"/>
          <p:cNvSpPr/>
          <p:nvPr/>
        </p:nvSpPr>
        <p:spPr>
          <a:xfrm>
            <a:off x="604836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8"/>
          <p:cNvSpPr/>
          <p:nvPr/>
        </p:nvSpPr>
        <p:spPr>
          <a:xfrm>
            <a:off x="-1440000" y="647640"/>
            <a:ext cx="1227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9"/>
          <p:cNvSpPr/>
          <p:nvPr/>
        </p:nvSpPr>
        <p:spPr>
          <a:xfrm>
            <a:off x="-3600360" y="979560"/>
            <a:ext cx="33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0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22" dur="78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24" dur="2250" fill="hold"/>
                                        <p:tgtEl>
                                          <p:spTgt spid="31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6" dur="4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329" dur="3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path" presetID="64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87293E-006 -3.60544E-006 L -1.31561 -0.01403 E">
                                      <p:cBhvr>
                                        <p:cTn id="1331" dur="2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333" dur="1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335" dur="4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337" dur="1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24" name="矩形 2"/>
          <p:cNvSpPr/>
          <p:nvPr/>
        </p:nvSpPr>
        <p:spPr>
          <a:xfrm>
            <a:off x="2205000" y="10080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那些疯狂、特立独行、想法与众不同的家伙们致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887400" y="129528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许他们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些人看来是疯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786240" y="15732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却是我眼中的天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6"/>
          <p:cNvSpPr/>
          <p:nvPr/>
        </p:nvSpPr>
        <p:spPr>
          <a:xfrm>
            <a:off x="422280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7"/>
          <p:cNvSpPr/>
          <p:nvPr/>
        </p:nvSpPr>
        <p:spPr>
          <a:xfrm>
            <a:off x="7272360" y="936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9"/>
          <p:cNvSpPr/>
          <p:nvPr/>
        </p:nvSpPr>
        <p:spPr>
          <a:xfrm>
            <a:off x="503280" y="417672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0"/>
          <p:cNvSpPr/>
          <p:nvPr/>
        </p:nvSpPr>
        <p:spPr>
          <a:xfrm>
            <a:off x="7128000" y="1944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47059E-007 -2.37288E-006 L 1.47059E-007 -2.20678 E">
                                      <p:cBhvr>
                                        <p:cTn id="1343" dur="3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19559E-006 1.49279E-006 L -1.59321 -0.01188 E">
                                      <p:cBhvr>
                                        <p:cTn id="1345" dur="3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47059E-007 -2.37288E-006 L 1.47059E-007 -2.20678 E">
                                      <p:cBhvr>
                                        <p:cTn id="1347" dur="3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19559E-006 1.49279E-006 L -1.59321 -0.01188 E">
                                      <p:cBhvr>
                                        <p:cTn id="1349" dur="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41">
                                  <p:stCondLst>
                                    <p:cond delay="7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6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3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ntr" presetID="41">
                                  <p:stCondLst>
                                    <p:cond delay="12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0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72" dur="72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32" name="矩形 2"/>
          <p:cNvSpPr/>
          <p:nvPr/>
        </p:nvSpPr>
        <p:spPr>
          <a:xfrm>
            <a:off x="4519440" y="109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知若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3"/>
          <p:cNvSpPr/>
          <p:nvPr/>
        </p:nvSpPr>
        <p:spPr>
          <a:xfrm>
            <a:off x="2529000" y="0"/>
            <a:ext cx="961920" cy="3719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4"/>
          <p:cNvSpPr/>
          <p:nvPr/>
        </p:nvSpPr>
        <p:spPr>
          <a:xfrm>
            <a:off x="3841920" y="1438200"/>
            <a:ext cx="2339640" cy="25513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6"/>
          <p:cNvSpPr/>
          <p:nvPr/>
        </p:nvSpPr>
        <p:spPr>
          <a:xfrm>
            <a:off x="-1440000" y="1368360"/>
            <a:ext cx="122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7"/>
          <p:cNvSpPr/>
          <p:nvPr/>
        </p:nvSpPr>
        <p:spPr>
          <a:xfrm>
            <a:off x="-3600360" y="979560"/>
            <a:ext cx="33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0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0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6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99" dur="72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xit" presetID="2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7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09" dur="2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11" dur="3300" fill="hold"/>
                                        <p:tgtEl>
                                          <p:spTgt spid="33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413" dur="4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415" dur="1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38" name="矩形 2"/>
          <p:cNvSpPr/>
          <p:nvPr/>
        </p:nvSpPr>
        <p:spPr>
          <a:xfrm>
            <a:off x="5086080" y="2879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心若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3"/>
          <p:cNvSpPr/>
          <p:nvPr/>
        </p:nvSpPr>
        <p:spPr>
          <a:xfrm>
            <a:off x="1440000" y="4176720"/>
            <a:ext cx="71892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6"/>
          <p:cNvSpPr/>
          <p:nvPr/>
        </p:nvSpPr>
        <p:spPr>
          <a:xfrm>
            <a:off x="4959360" y="381636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7"/>
          <p:cNvSpPr/>
          <p:nvPr/>
        </p:nvSpPr>
        <p:spPr>
          <a:xfrm flipH="1">
            <a:off x="-792360" y="2797200"/>
            <a:ext cx="64908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9 4.22392E-006 L -0.05326 4.22392E-006 E">
                                      <p:cBhvr>
                                        <p:cTn id="1421" dur="52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3" dur="80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1.47059E-007 -3.09453E-007 L -0.46898 -1.03858 E">
                                      <p:cBhvr>
                                        <p:cTn id="1428" dur="2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8.08824E-007 -3.09453E-006 L -0.65533 -1.55744 E">
                                      <p:cBhvr>
                                        <p:cTn id="1430" dur="3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68136E-006 -1.45038E-006 L 0.73416 -1.78583 E">
                                      <p:cBhvr>
                                        <p:cTn id="1432" dur="2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43" name="矩形 2"/>
          <p:cNvSpPr/>
          <p:nvPr/>
        </p:nvSpPr>
        <p:spPr>
          <a:xfrm>
            <a:off x="2362320" y="947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这么做的唯一理由是，要让世界因苹果的存在而变得更美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3"/>
          <p:cNvSpPr/>
          <p:nvPr/>
        </p:nvSpPr>
        <p:spPr>
          <a:xfrm>
            <a:off x="7272360" y="936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"/>
          <p:cNvSpPr/>
          <p:nvPr/>
        </p:nvSpPr>
        <p:spPr>
          <a:xfrm>
            <a:off x="-1224000" y="1368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42" dur="69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4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47" dur="77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19559E-006 1.49279E-006 L -1.59321 -0.01188 E">
                                      <p:cBhvr>
                                        <p:cTn id="1449" dur="3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8421E-006 3.79019E-006 L 1.50988 3.79019E-006 E">
                                      <p:cBhvr>
                                        <p:cTn id="1451" dur="2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x201i\Desktop\1.png"/>
          <p:cNvPicPr/>
          <p:nvPr/>
        </p:nvPicPr>
        <p:blipFill>
          <a:blip r:embed="rId1"/>
          <a:srcRect l="22734" t="19306" r="22338" b="4957"/>
          <a:stretch/>
        </p:blipFill>
        <p:spPr>
          <a:xfrm>
            <a:off x="3716280" y="546120"/>
            <a:ext cx="2692440" cy="298296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1938960" y="2389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5400" spc="-1" strike="noStrike">
                <a:solidFill>
                  <a:srgbClr val="e36c09"/>
                </a:solidFill>
                <a:latin typeface="时尚中黑简体"/>
                <a:ea typeface="时尚中黑简体"/>
              </a:rPr>
              <a:t>夏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x201i\Desktop\图片3.png"/>
          <p:cNvPicPr/>
          <p:nvPr/>
        </p:nvPicPr>
        <p:blipFill>
          <a:blip r:embed="rId2"/>
          <a:stretch/>
        </p:blipFill>
        <p:spPr>
          <a:xfrm>
            <a:off x="71280" y="1800360"/>
            <a:ext cx="3237120" cy="96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1" dur="38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9.55882E-007 3.05085E-006 L 0.06365 0.00805 E">
                                      <p:cBhvr>
                                        <p:cTn id="45" dur="32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59" dur="2200" fill="hold"/>
                                        <p:tgtEl>
                                          <p:spTgt spid="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47" name="矩形 3"/>
          <p:cNvSpPr/>
          <p:nvPr/>
        </p:nvSpPr>
        <p:spPr>
          <a:xfrm>
            <a:off x="3414240" y="289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在我的人生中，我和苹果的生命线永远交织在一起，永不分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xit" presetID="22" presetSubtype="4">
                                  <p:stCondLst>
                                    <p:cond delay="7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2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65" dur="79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42232" t="21071" r="44984" b="50138"/>
          <a:stretch/>
        </p:blipFill>
        <p:spPr>
          <a:xfrm>
            <a:off x="2908440" y="1041480"/>
            <a:ext cx="8856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349" name="组合 2"/>
          <p:cNvGrpSpPr/>
          <p:nvPr/>
        </p:nvGrpSpPr>
        <p:grpSpPr>
          <a:xfrm>
            <a:off x="2838960" y="2016000"/>
            <a:ext cx="1323360" cy="246240"/>
            <a:chOff x="2838960" y="2016000"/>
            <a:chExt cx="1323360" cy="246240"/>
          </a:xfrm>
        </p:grpSpPr>
        <p:pic>
          <p:nvPicPr>
            <p:cNvPr id="350" name="Picture 4" descr="C:\Users\x201i\AppData\Local\Temp\0PE7NO{T4SD[)GHE3X~)8HS.jpg"/>
            <p:cNvPicPr/>
            <p:nvPr/>
          </p:nvPicPr>
          <p:blipFill>
            <a:blip r:embed="rId2"/>
            <a:srcRect l="0" t="0" r="0" b="50030"/>
            <a:stretch/>
          </p:blipFill>
          <p:spPr>
            <a:xfrm>
              <a:off x="3366720" y="2016000"/>
              <a:ext cx="795600" cy="2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7"/>
            <p:cNvSpPr/>
            <p:nvPr/>
          </p:nvSpPr>
          <p:spPr>
            <a:xfrm>
              <a:off x="2838960" y="20160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分素材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Box 9"/>
          <p:cNvSpPr/>
          <p:nvPr/>
        </p:nvSpPr>
        <p:spPr>
          <a:xfrm>
            <a:off x="3015360" y="20160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别鸣谢：</a:t>
            </a:r>
            <a:r>
              <a:rPr b="0" lang="zh-CN" sz="1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红策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2984400" y="20160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伟大的乔布斯致敬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2903400" y="201600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</a:t>
            </a:r>
            <a:r>
              <a:rPr b="0" lang="zh-CN" sz="1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深蓝色遐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0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xit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48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xit" presetID="17" presetSubtype="4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path" presetID="6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500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17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3880" y="102960"/>
            <a:ext cx="6204240" cy="31428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440" y="693720"/>
            <a:ext cx="6747120" cy="2849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8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7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508720" y="182520"/>
            <a:ext cx="1049400" cy="190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74F-3098-41EA-9D5C-3A8EE68077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3456000" y="0"/>
            <a:ext cx="3456000" cy="3745080"/>
          </a:xfrm>
          <a:prstGeom prst="rect">
            <a:avLst/>
          </a:prstGeom>
          <a:solidFill>
            <a:srgbClr val="e9c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0" y="0"/>
            <a:ext cx="3456000" cy="3745080"/>
          </a:xfrm>
          <a:prstGeom prst="rect">
            <a:avLst/>
          </a:prstGeom>
          <a:solidFill>
            <a:srgbClr val="195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23425" t="19180" r="23798" b="5354"/>
          <a:stretch/>
        </p:blipFill>
        <p:spPr>
          <a:xfrm>
            <a:off x="2006640" y="60336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5466960" y="2736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54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牛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x201i\Desktop\图片4.png"/>
          <p:cNvPicPr/>
          <p:nvPr/>
        </p:nvPicPr>
        <p:blipFill>
          <a:blip r:embed="rId2"/>
          <a:stretch/>
        </p:blipFill>
        <p:spPr>
          <a:xfrm>
            <a:off x="4103640" y="2174760"/>
            <a:ext cx="2925720" cy="8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6" dur="200" fill="hold"/>
                                        <p:tgtEl>
                                          <p:spTgt spid="5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" dur="300" fill="hold"/>
                                        <p:tgtEl>
                                          <p:spTgt spid="5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0" dur="200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82" dur="300" fill="hold"/>
                                        <p:tgtEl>
                                          <p:spTgt spid="5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2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5" dur="100" fill="hold"/>
                                        <p:tgtEl>
                                          <p:spTgt spid="5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7" dur="200" fill="hold"/>
                                        <p:tgtEl>
                                          <p:spTgt spid="5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9" dur="1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31" dur="300" fill="hold"/>
                                        <p:tgtEl>
                                          <p:spTgt spid="56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角三角形 13"/>
          <p:cNvSpPr/>
          <p:nvPr/>
        </p:nvSpPr>
        <p:spPr>
          <a:xfrm>
            <a:off x="-22320" y="0"/>
            <a:ext cx="3479760" cy="187308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角三角形 11"/>
          <p:cNvSpPr/>
          <p:nvPr/>
        </p:nvSpPr>
        <p:spPr>
          <a:xfrm flipH="1" flipV="1">
            <a:off x="-18360" y="-360"/>
            <a:ext cx="3467160" cy="187308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角三角形 8"/>
          <p:cNvSpPr/>
          <p:nvPr/>
        </p:nvSpPr>
        <p:spPr>
          <a:xfrm flipV="1">
            <a:off x="3444840" y="-720"/>
            <a:ext cx="3467160" cy="187308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7"/>
          <p:cNvSpPr/>
          <p:nvPr/>
        </p:nvSpPr>
        <p:spPr>
          <a:xfrm flipH="1">
            <a:off x="3444120" y="0"/>
            <a:ext cx="3467160" cy="187308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角三角形 6"/>
          <p:cNvSpPr/>
          <p:nvPr/>
        </p:nvSpPr>
        <p:spPr>
          <a:xfrm flipH="1" flipV="1">
            <a:off x="3456000" y="1873080"/>
            <a:ext cx="3456000" cy="187200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角三角形 10"/>
          <p:cNvSpPr/>
          <p:nvPr/>
        </p:nvSpPr>
        <p:spPr>
          <a:xfrm>
            <a:off x="3456000" y="1873080"/>
            <a:ext cx="3456000" cy="187200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角三角形 9"/>
          <p:cNvSpPr/>
          <p:nvPr/>
        </p:nvSpPr>
        <p:spPr>
          <a:xfrm flipH="1">
            <a:off x="-35640" y="1873080"/>
            <a:ext cx="3490920" cy="187200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5"/>
          <p:cNvSpPr/>
          <p:nvPr/>
        </p:nvSpPr>
        <p:spPr>
          <a:xfrm flipV="1">
            <a:off x="-17280" y="1872000"/>
            <a:ext cx="3467160" cy="187020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x201i\Desktop\图片5.png"/>
          <p:cNvPicPr/>
          <p:nvPr/>
        </p:nvPicPr>
        <p:blipFill>
          <a:blip r:embed="rId1"/>
          <a:stretch/>
        </p:blipFill>
        <p:spPr>
          <a:xfrm>
            <a:off x="1008000" y="2957400"/>
            <a:ext cx="485136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x201i\Desktop\第三个苹果.png"/>
          <p:cNvPicPr/>
          <p:nvPr/>
        </p:nvPicPr>
        <p:blipFill>
          <a:blip r:embed="rId2"/>
          <a:stretch/>
        </p:blipFill>
        <p:spPr>
          <a:xfrm flipH="1">
            <a:off x="2015640" y="504720"/>
            <a:ext cx="2716200" cy="24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63" dur="300" fill="hold"/>
                                        <p:tgtEl>
                                          <p:spTgt spid="66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65" dur="2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67" dur="300" fill="hold"/>
                                        <p:tgtEl>
                                          <p:spTgt spid="6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76360" y="3240"/>
            <a:ext cx="2078280" cy="374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x201i\Desktop\未标题-1.png"/>
          <p:cNvPicPr/>
          <p:nvPr/>
        </p:nvPicPr>
        <p:blipFill>
          <a:blip r:embed="rId2"/>
          <a:srcRect l="0" t="56885" r="21460" b="15373"/>
          <a:stretch/>
        </p:blipFill>
        <p:spPr>
          <a:xfrm>
            <a:off x="2592360" y="2570040"/>
            <a:ext cx="325440" cy="20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x201i\Desktop\未标题-1.png"/>
          <p:cNvPicPr/>
          <p:nvPr/>
        </p:nvPicPr>
        <p:blipFill>
          <a:blip r:embed="rId3"/>
          <a:stretch/>
        </p:blipFill>
        <p:spPr>
          <a:xfrm>
            <a:off x="792000" y="216000"/>
            <a:ext cx="324000" cy="18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x201i\Desktop\未标题-1.png"/>
          <p:cNvPicPr/>
          <p:nvPr/>
        </p:nvPicPr>
        <p:blipFill>
          <a:blip r:embed="rId4"/>
          <a:stretch/>
        </p:blipFill>
        <p:spPr>
          <a:xfrm>
            <a:off x="4102200" y="1584360"/>
            <a:ext cx="323640" cy="18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x201i\Desktop\未标题-1.png"/>
          <p:cNvPicPr/>
          <p:nvPr/>
        </p:nvPicPr>
        <p:blipFill>
          <a:blip r:embed="rId5"/>
          <a:stretch/>
        </p:blipFill>
        <p:spPr>
          <a:xfrm>
            <a:off x="5975280" y="2381400"/>
            <a:ext cx="324000" cy="18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x201i\Desktop\未标题-1.png"/>
          <p:cNvPicPr/>
          <p:nvPr/>
        </p:nvPicPr>
        <p:blipFill>
          <a:blip r:embed="rId6"/>
          <a:srcRect l="0" t="56885" r="21460" b="15373"/>
          <a:stretch/>
        </p:blipFill>
        <p:spPr>
          <a:xfrm>
            <a:off x="2409840" y="1297080"/>
            <a:ext cx="326880" cy="19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x201i\Desktop\未标题-1.png"/>
          <p:cNvPicPr/>
          <p:nvPr/>
        </p:nvPicPr>
        <p:blipFill>
          <a:blip r:embed="rId7"/>
          <a:stretch/>
        </p:blipFill>
        <p:spPr>
          <a:xfrm>
            <a:off x="5651640" y="720720"/>
            <a:ext cx="323640" cy="187200"/>
          </a:xfrm>
          <a:prstGeom prst="rect">
            <a:avLst/>
          </a:prstGeom>
          <a:ln w="0">
            <a:noFill/>
          </a:ln>
        </p:spPr>
      </p:pic>
      <p:sp>
        <p:nvSpPr>
          <p:cNvPr id="74" name="矩形 8"/>
          <p:cNvSpPr/>
          <p:nvPr/>
        </p:nvSpPr>
        <p:spPr>
          <a:xfrm>
            <a:off x="71280" y="3457440"/>
            <a:ext cx="30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5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史蒂芬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•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出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7240" y="3457440"/>
            <a:ext cx="296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7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乔布斯和沃兹涅克开发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4026240" y="3317760"/>
            <a:ext cx="248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7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Rob Janov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设计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\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沿用至今的徽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3817080" y="3324240"/>
            <a:ext cx="16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7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+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推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27160" y="3041640"/>
            <a:ext cx="26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I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216000" y="3035160"/>
            <a:ext cx="26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Lisa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数据库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829320" y="2879640"/>
            <a:ext cx="203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I+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3851640" y="28926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Macintosh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6"/>
          <p:cNvSpPr/>
          <p:nvPr/>
        </p:nvSpPr>
        <p:spPr>
          <a:xfrm>
            <a:off x="0" y="2676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XL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、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增强版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7"/>
          <p:cNvSpPr/>
          <p:nvPr/>
        </p:nvSpPr>
        <p:spPr>
          <a:xfrm>
            <a:off x="57240" y="2664000"/>
            <a:ext cx="28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末：苹果发布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intos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8"/>
          <p:cNvSpPr/>
          <p:nvPr/>
        </p:nvSpPr>
        <p:spPr>
          <a:xfrm>
            <a:off x="3930480" y="260352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gs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9"/>
          <p:cNvSpPr/>
          <p:nvPr/>
        </p:nvSpPr>
        <p:spPr>
          <a:xfrm>
            <a:off x="4116960" y="2603520"/>
            <a:ext cx="25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苹果十周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SE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和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II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推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0"/>
          <p:cNvSpPr/>
          <p:nvPr/>
        </p:nvSpPr>
        <p:spPr>
          <a:xfrm>
            <a:off x="-77760" y="22860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NeXT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电脑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120600" y="2286000"/>
            <a:ext cx="26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NeXTstep 1.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4074120" y="2316240"/>
            <a:ext cx="17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BM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与苹果结成联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3"/>
          <p:cNvSpPr/>
          <p:nvPr/>
        </p:nvSpPr>
        <p:spPr>
          <a:xfrm>
            <a:off x="3961080" y="2316240"/>
            <a:ext cx="19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NeXTstep3.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4"/>
          <p:cNvSpPr/>
          <p:nvPr/>
        </p:nvSpPr>
        <p:spPr>
          <a:xfrm>
            <a:off x="653760" y="200340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苹果发布第一款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5"/>
          <p:cNvSpPr/>
          <p:nvPr/>
        </p:nvSpPr>
        <p:spPr>
          <a:xfrm>
            <a:off x="20160" y="1992240"/>
            <a:ext cx="26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 Mac610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等系列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6"/>
          <p:cNvSpPr/>
          <p:nvPr/>
        </p:nvSpPr>
        <p:spPr>
          <a:xfrm>
            <a:off x="4118040" y="1943280"/>
            <a:ext cx="19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OS7.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7"/>
          <p:cNvSpPr/>
          <p:nvPr/>
        </p:nvSpPr>
        <p:spPr>
          <a:xfrm>
            <a:off x="4295880" y="1944720"/>
            <a:ext cx="20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最早的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兼容机入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8"/>
          <p:cNvSpPr/>
          <p:nvPr/>
        </p:nvSpPr>
        <p:spPr>
          <a:xfrm>
            <a:off x="180000" y="1584360"/>
            <a:ext cx="24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二十周年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intosh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421920" y="158580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日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OS 7.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4063680" y="1585800"/>
            <a:ext cx="216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史蒂芬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•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成为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1"/>
          <p:cNvSpPr/>
          <p:nvPr/>
        </p:nvSpPr>
        <p:spPr>
          <a:xfrm>
            <a:off x="3828240" y="15955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Mac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和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Book G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2"/>
          <p:cNvSpPr/>
          <p:nvPr/>
        </p:nvSpPr>
        <p:spPr>
          <a:xfrm>
            <a:off x="-198360" y="1303200"/>
            <a:ext cx="30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9 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Book G3 Lombard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3"/>
          <p:cNvSpPr/>
          <p:nvPr/>
        </p:nvSpPr>
        <p:spPr>
          <a:xfrm>
            <a:off x="719640" y="12970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OS 8.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x201i\Desktop\未标题-1.png"/>
          <p:cNvPicPr/>
          <p:nvPr/>
        </p:nvPicPr>
        <p:blipFill>
          <a:blip r:embed="rId8"/>
          <a:stretch/>
        </p:blipFill>
        <p:spPr>
          <a:xfrm>
            <a:off x="4387680" y="1247760"/>
            <a:ext cx="324000" cy="189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35"/>
          <p:cNvSpPr/>
          <p:nvPr/>
        </p:nvSpPr>
        <p:spPr>
          <a:xfrm>
            <a:off x="4334040" y="1249200"/>
            <a:ext cx="22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最新操作系统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OS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6"/>
          <p:cNvSpPr/>
          <p:nvPr/>
        </p:nvSpPr>
        <p:spPr>
          <a:xfrm>
            <a:off x="4230360" y="1243080"/>
            <a:ext cx="22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发布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OS X 1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x201i\Desktop\未标题-1.png"/>
          <p:cNvPicPr/>
          <p:nvPr/>
        </p:nvPicPr>
        <p:blipFill>
          <a:blip r:embed="rId9"/>
          <a:srcRect l="0" t="56885" r="21460" b="15373"/>
          <a:stretch/>
        </p:blipFill>
        <p:spPr>
          <a:xfrm>
            <a:off x="2354400" y="965160"/>
            <a:ext cx="325440" cy="200160"/>
          </a:xfrm>
          <a:prstGeom prst="rect">
            <a:avLst/>
          </a:prstGeom>
          <a:ln w="0">
            <a:noFill/>
          </a:ln>
        </p:spPr>
      </p:pic>
      <p:sp>
        <p:nvSpPr>
          <p:cNvPr id="104" name="矩形 38"/>
          <p:cNvSpPr/>
          <p:nvPr/>
        </p:nvSpPr>
        <p:spPr>
          <a:xfrm>
            <a:off x="400320" y="94788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新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Mac G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9"/>
          <p:cNvSpPr/>
          <p:nvPr/>
        </p:nvSpPr>
        <p:spPr>
          <a:xfrm>
            <a:off x="1007280" y="965160"/>
            <a:ext cx="175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新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Book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4546440" y="792000"/>
            <a:ext cx="19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推出第一台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6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位个人电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4402440" y="803160"/>
            <a:ext cx="15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推出第四代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721440" y="6350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推出第五代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od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播放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546480" y="639720"/>
            <a:ext cx="24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 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Mac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和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Book Pro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4460400" y="289080"/>
            <a:ext cx="24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发布了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hone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与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od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8"/>
          <p:cNvSpPr/>
          <p:nvPr/>
        </p:nvSpPr>
        <p:spPr>
          <a:xfrm>
            <a:off x="4462200" y="299880"/>
            <a:ext cx="18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发布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Book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9"/>
          <p:cNvSpPr/>
          <p:nvPr/>
        </p:nvSpPr>
        <p:spPr>
          <a:xfrm>
            <a:off x="271080" y="152280"/>
            <a:ext cx="19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推出升级版的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0"/>
          <p:cNvSpPr/>
          <p:nvPr/>
        </p:nvSpPr>
        <p:spPr>
          <a:xfrm>
            <a:off x="208080" y="155520"/>
            <a:ext cx="17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 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ad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正式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1"/>
          <p:cNvSpPr/>
          <p:nvPr/>
        </p:nvSpPr>
        <p:spPr>
          <a:xfrm>
            <a:off x="3376800" y="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: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平板电脑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a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2"/>
          <p:cNvSpPr/>
          <p:nvPr/>
        </p:nvSpPr>
        <p:spPr>
          <a:xfrm>
            <a:off x="3440880" y="0"/>
            <a:ext cx="18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: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史蒂夫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•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辞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0"/>
          <a:stretch/>
        </p:blipFill>
        <p:spPr>
          <a:xfrm>
            <a:off x="2787480" y="1255680"/>
            <a:ext cx="1325880" cy="1217520"/>
          </a:xfrm>
          <a:prstGeom prst="rect">
            <a:avLst/>
          </a:prstGeom>
          <a:ln w="0">
            <a:noFill/>
          </a:ln>
        </p:spPr>
      </p:pic>
      <p:sp>
        <p:nvSpPr>
          <p:cNvPr id="117" name="矩形 1"/>
          <p:cNvSpPr/>
          <p:nvPr/>
        </p:nvSpPr>
        <p:spPr>
          <a:xfrm>
            <a:off x="1185840" y="2448000"/>
            <a:ext cx="45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1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0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史蒂夫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（</a:t>
            </a: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Steve Jobs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）辞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58"/>
          <p:cNvGrpSpPr/>
          <p:nvPr/>
        </p:nvGrpSpPr>
        <p:grpSpPr>
          <a:xfrm>
            <a:off x="2952720" y="1252440"/>
            <a:ext cx="987480" cy="1219320"/>
            <a:chOff x="2952720" y="1252440"/>
            <a:chExt cx="987480" cy="1219320"/>
          </a:xfrm>
        </p:grpSpPr>
        <p:sp>
          <p:nvSpPr>
            <p:cNvPr id="119" name="Freeform 230"/>
            <p:cNvSpPr/>
            <p:nvPr/>
          </p:nvSpPr>
          <p:spPr>
            <a:xfrm>
              <a:off x="3451320" y="1252440"/>
              <a:ext cx="2523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31"/>
            <p:cNvSpPr/>
            <p:nvPr/>
          </p:nvSpPr>
          <p:spPr>
            <a:xfrm>
              <a:off x="2952720" y="1542960"/>
              <a:ext cx="987480" cy="9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51"/>
          <p:cNvSpPr/>
          <p:nvPr/>
        </p:nvSpPr>
        <p:spPr>
          <a:xfrm>
            <a:off x="3560760" y="1598760"/>
            <a:ext cx="719280" cy="69516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5"/>
          <p:cNvSpPr/>
          <p:nvPr/>
        </p:nvSpPr>
        <p:spPr>
          <a:xfrm>
            <a:off x="3478320" y="1595520"/>
            <a:ext cx="447480" cy="27612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9"/>
          <p:cNvSpPr/>
          <p:nvPr/>
        </p:nvSpPr>
        <p:spPr>
          <a:xfrm>
            <a:off x="2519280" y="1519200"/>
            <a:ext cx="887400" cy="52704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3254400" y="1549440"/>
            <a:ext cx="23760" cy="5076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15"/>
          <p:cNvSpPr/>
          <p:nvPr/>
        </p:nvSpPr>
        <p:spPr>
          <a:xfrm>
            <a:off x="3159000" y="1623960"/>
            <a:ext cx="117720" cy="5400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37"/>
          <p:cNvSpPr/>
          <p:nvPr/>
        </p:nvSpPr>
        <p:spPr>
          <a:xfrm>
            <a:off x="2878200" y="1981080"/>
            <a:ext cx="129960" cy="14616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55"/>
          <p:cNvSpPr/>
          <p:nvPr/>
        </p:nvSpPr>
        <p:spPr>
          <a:xfrm>
            <a:off x="2744640" y="2031840"/>
            <a:ext cx="109800" cy="12708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82"/>
          <p:cNvSpPr/>
          <p:nvPr/>
        </p:nvSpPr>
        <p:spPr>
          <a:xfrm>
            <a:off x="2948040" y="2128680"/>
            <a:ext cx="218880" cy="158760"/>
          </a:xfrm>
          <a:prstGeom prst="pie">
            <a:avLst/>
          </a:prstGeom>
          <a:solidFill>
            <a:srgbClr val="dcdddd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8"/>
          <p:cNvSpPr/>
          <p:nvPr/>
        </p:nvSpPr>
        <p:spPr>
          <a:xfrm>
            <a:off x="2550960" y="1434960"/>
            <a:ext cx="1805040" cy="346320"/>
          </a:xfrm>
          <a:prstGeom prst="pie">
            <a:avLst/>
          </a:prstGeom>
          <a:solidFill>
            <a:srgbClr val="e1e1e2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70"/>
          <p:cNvGrpSpPr/>
          <p:nvPr/>
        </p:nvGrpSpPr>
        <p:grpSpPr>
          <a:xfrm>
            <a:off x="3080880" y="1768320"/>
            <a:ext cx="768960" cy="339480"/>
            <a:chOff x="3080880" y="1768320"/>
            <a:chExt cx="768960" cy="339480"/>
          </a:xfrm>
        </p:grpSpPr>
        <p:sp>
          <p:nvSpPr>
            <p:cNvPr id="131" name="Rectangle 12"/>
            <p:cNvSpPr/>
            <p:nvPr/>
          </p:nvSpPr>
          <p:spPr>
            <a:xfrm>
              <a:off x="3080880" y="17683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3156120" y="176832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3214440" y="176832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306240" y="176832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3387600" y="176832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3525840" y="17683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>
              <a:off x="3570120" y="176832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3670200" y="1768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3769920" y="17683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319356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325152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331020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>
              <a:off x="336816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5"/>
            <p:cNvSpPr/>
            <p:nvPr/>
          </p:nvSpPr>
          <p:spPr>
            <a:xfrm>
              <a:off x="3432240" y="1985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6"/>
            <p:cNvSpPr/>
            <p:nvPr/>
          </p:nvSpPr>
          <p:spPr>
            <a:xfrm>
              <a:off x="347004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352872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358740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646080" y="19857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212"/>
          <p:cNvSpPr/>
          <p:nvPr/>
        </p:nvSpPr>
        <p:spPr>
          <a:xfrm>
            <a:off x="311652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3"/>
          <p:cNvSpPr/>
          <p:nvPr/>
        </p:nvSpPr>
        <p:spPr>
          <a:xfrm>
            <a:off x="321624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14"/>
          <p:cNvSpPr/>
          <p:nvPr/>
        </p:nvSpPr>
        <p:spPr>
          <a:xfrm>
            <a:off x="331632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5"/>
          <p:cNvSpPr/>
          <p:nvPr/>
        </p:nvSpPr>
        <p:spPr>
          <a:xfrm>
            <a:off x="3438000" y="2133720"/>
            <a:ext cx="28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6"/>
          <p:cNvSpPr/>
          <p:nvPr/>
        </p:nvSpPr>
        <p:spPr>
          <a:xfrm>
            <a:off x="351468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7"/>
          <p:cNvSpPr/>
          <p:nvPr/>
        </p:nvSpPr>
        <p:spPr>
          <a:xfrm>
            <a:off x="361476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8"/>
          <p:cNvSpPr/>
          <p:nvPr/>
        </p:nvSpPr>
        <p:spPr>
          <a:xfrm>
            <a:off x="371484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"/>
          <p:cNvSpPr/>
          <p:nvPr/>
        </p:nvSpPr>
        <p:spPr>
          <a:xfrm>
            <a:off x="1101600" y="1211400"/>
            <a:ext cx="4835520" cy="128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sh dir="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7353E-006 -2.12198E-006 L 0.17463 -2.12198E-006 E">
                                      <p:cBhvr>
                                        <p:cTn id="186" dur="14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1.65608E-006 L 0.44577 -1.65608E-006 E">
                                      <p:cBhvr>
                                        <p:cTn id="191" dur="14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7147E-006 2.74809E-006 L -0.2164 2.74809E-006 E">
                                      <p:cBhvr>
                                        <p:cTn id="196" dur="14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64706E-006 -3.42228E-006 L -0.41406 -3.42228E-006 E">
                                      <p:cBhvr>
                                        <p:cTn id="201" dur="14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2059E-006 4.23549E-009 L -0.12776 4.23549E-009 E">
                                      <p:cBhvr>
                                        <p:cTn id="206" dur="14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35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3.01471E-006 -3.42651E-006 L -0.09651 -3.42651E-006 E">
                                      <p:cBhvr>
                                        <p:cTn id="211" dur="108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8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6703E-006 0.00721 L 0.44582 0.00721 E">
                                      <p:cBhvr>
                                        <p:cTn id="219" dur="14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2.64706E-006 -3.42228E-006 L -0.41406 -3.42228E-006 E">
                                      <p:cBhvr>
                                        <p:cTn id="224" dur="121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3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32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240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3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53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261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2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7" presetSubtype="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path" presetID="64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74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7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64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282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2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7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3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95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7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03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2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3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64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16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7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64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24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2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7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37" dur="3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7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45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2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17" presetSubtype="4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path" presetID="64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58" dur="3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7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path" presetID="64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66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2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17" presetSubtype="4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79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7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87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2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17" presetSubtype="4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path" presetID="64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00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7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64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08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2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7" presetSubtype="4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21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7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29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2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xit" presetID="17" presetSubtype="4">
                                  <p:stCondLst>
                                    <p:cond delay="5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42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7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50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" dur="2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7" presetSubtype="4">
                                  <p:stCondLst>
                                    <p:cond delay="6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63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7" presetSubtype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7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" dur="2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7" presetSubtype="4">
                                  <p:stCondLst>
                                    <p:cond delay="6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path" presetID="64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84" dur="3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7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path" presetID="64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92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7" presetSubtype="4">
                                  <p:stCondLst>
                                    <p:cond delay="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05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7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1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7" presetSubtype="4">
                                  <p:stCondLst>
                                    <p:cond delay="7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path" presetID="64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2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7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path" presetID="64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34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2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xit" presetID="17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path" presetID="64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47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7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path" presetID="64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55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2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xit" presetID="17" presetSubtype="4">
                                  <p:stCondLst>
                                    <p:cond delay="8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64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68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7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64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76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xit" presetID="17" presetSubtype="4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path" presetID="64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89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7" presetSubtype="1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path" presetID="64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9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9" dur="2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xit" presetID="17" presetSubtype="4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3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path" presetID="64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610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7" presetSubtype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64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618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2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xit" presetID="17" presetSubtype="4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path" presetID="64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63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7" presetSubtype="1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path" presetID="64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639" dur="3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3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2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1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63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0" dur="3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10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path" presetID="35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7" dur="2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21" presetSubtype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1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1" presetSubtype="1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21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21" presetSubtype="1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21" presetSubtype="1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1" presetSubtype="1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1" presetSubtype="1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22" presetSubtype="8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14" presetSubtype="10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23" presetSubtype="32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23" presetSubtype="32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23" presetSubtype="3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3" presetSubtype="32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23" presetSubtype="32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23" presetSubtype="32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3" presetSubtype="32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21" presetSubtype="1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x201i\Desktop\图片6.jpg"/>
          <p:cNvPicPr/>
          <p:nvPr/>
        </p:nvPicPr>
        <p:blipFill>
          <a:blip r:embed="rId1"/>
          <a:stretch/>
        </p:blipFill>
        <p:spPr>
          <a:xfrm>
            <a:off x="0" y="-6480"/>
            <a:ext cx="8999640" cy="3751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197604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338120" y="136836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纪念</a:t>
            </a:r>
            <a:r>
              <a:rPr b="0" lang="zh-CN" sz="2000" spc="-1" strike="noStrike">
                <a:solidFill>
                  <a:srgbClr val="f7791c"/>
                </a:solidFill>
                <a:latin typeface="微软雅黑"/>
                <a:ea typeface="微软雅黑"/>
              </a:rPr>
              <a:t>乔布斯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逝世一周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647640" y="2232000"/>
            <a:ext cx="35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活着就是为了改变世界，难道还有其他原因吗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6"/>
          <p:cNvSpPr/>
          <p:nvPr/>
        </p:nvSpPr>
        <p:spPr>
          <a:xfrm>
            <a:off x="-3451320" y="14097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7"/>
          <p:cNvSpPr/>
          <p:nvPr/>
        </p:nvSpPr>
        <p:spPr>
          <a:xfrm>
            <a:off x="-3456000" y="1584360"/>
            <a:ext cx="12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2510640" y="857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f7791c"/>
                </a:solidFill>
                <a:latin typeface="华康俪金黑W8"/>
                <a:ea typeface="华康俪金黑W8"/>
              </a:rPr>
              <a:t>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154908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112212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68076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6"/>
          <p:cNvSpPr/>
          <p:nvPr/>
        </p:nvSpPr>
        <p:spPr>
          <a:xfrm>
            <a:off x="-1295280" y="115092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603360" y="2259000"/>
            <a:ext cx="71280" cy="246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8"/>
          <p:cNvSpPr/>
          <p:nvPr/>
        </p:nvSpPr>
        <p:spPr>
          <a:xfrm>
            <a:off x="2750760" y="2521080"/>
            <a:ext cx="1267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史蒂夫</a:t>
            </a:r>
            <a:r>
              <a:rPr b="0" lang="en-US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乔布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streamsound 0.mp3" descr=""/>
          <p:cNvPicPr/>
          <p:nvPr/>
        </p:nvPicPr>
        <p:blipFill>
          <a:blip r:embed="rId2"/>
          <a:stretch/>
        </p:blipFill>
        <p:spPr>
          <a:xfrm>
            <a:off x="65160" y="375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85294E-006 -2.28911E-007 L -0.27596 -2.28911E-007 E">
                                      <p:cBhvr>
                                        <p:cTn id="734" dur="46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736" dur="5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758" dur="1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760" dur="3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762" dur="4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10" repeatCount="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17881E-006 -4.40678E-006 L 0.52264 -4.40678E-006 E">
                                      <p:cBhvr>
                                        <p:cTn id="772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1"/>
          <p:cNvSpPr/>
          <p:nvPr/>
        </p:nvSpPr>
        <p:spPr>
          <a:xfrm>
            <a:off x="503280" y="1008000"/>
            <a:ext cx="388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住你终将死去，没有理由不去跟随自己的内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3"/>
          <p:cNvSpPr/>
          <p:nvPr/>
        </p:nvSpPr>
        <p:spPr>
          <a:xfrm>
            <a:off x="-3451320" y="119556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4"/>
          <p:cNvSpPr/>
          <p:nvPr/>
        </p:nvSpPr>
        <p:spPr>
          <a:xfrm>
            <a:off x="-3456000" y="13701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6"/>
          <p:cNvSpPr/>
          <p:nvPr/>
        </p:nvSpPr>
        <p:spPr>
          <a:xfrm>
            <a:off x="-1295280" y="936720"/>
            <a:ext cx="122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45484E-006 -2.93594E-006 L 0.11492 -2.93594E-006 E">
                                      <p:cBhvr>
                                        <p:cTn id="793" dur="56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95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798" dur="1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800" dur="3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802" dur="4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804" dur="8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1:0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35:25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