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32.png" ContentType="image/png"/>
  <Override PartName="/ppt/media/image24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4.png" ContentType="image/png"/>
  <Override PartName="/ppt/media/image1.gif" ContentType="image/gif"/>
  <Override PartName="/ppt/media/image27.png" ContentType="image/png"/>
  <Override PartName="/ppt/media/image3.png" ContentType="image/png"/>
  <Override PartName="/ppt/media/image26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C9C5-7286-4E18-9A28-24FECF72C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32B4-F4E4-4BBC-9FE6-EF2CC8C8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6C94-021E-4D06-A950-296255336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5357-8AEA-4234-9521-EE8695279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2262-CD45-48F6-8FE2-C3CBA1686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D546-EAA9-428B-A2C6-4726D428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1177-0A1A-47CE-A2B1-AB0BC4A1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8A5C-DE8C-42EF-B3F9-56F4FD83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4CFB-B25C-4C98-9B39-D1F2ED87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C565-EACC-4534-8EE4-AD6479A9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8205-C5F4-43FF-A1D9-8AE19408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5760-1D85-4DBE-84BF-535BD41C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3FC4-BCF0-4917-9FFC-ECFFE00E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777E-2BF3-4743-AEA3-3687B38E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6882-3013-48F5-A454-37F6CC98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D0F3-9445-4EA7-9055-D21386D57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1889-9274-4920-970C-65D28B03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7E98-F874-49C8-9243-2DB74790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40E4-F97F-45B7-93DF-A3D7FA4A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42E2-DBF5-4180-B0EF-8EBB634C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11D0-278A-4EA2-915A-0A57B91D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A3DC-9892-4137-A770-EC3625B7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CF92-10EA-459A-831A-4ABE5AD3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45C3-34D4-4E35-B4ED-30D7E3B0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37D8-92A3-46E5-97E0-28248655F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4AF7-F67E-42AB-BC72-8AB8C3C8609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"/>
          <p:cNvPicPr/>
          <p:nvPr/>
        </p:nvPicPr>
        <p:blipFill>
          <a:blip r:embed="rId1"/>
          <a:stretch/>
        </p:blipFill>
        <p:spPr>
          <a:xfrm>
            <a:off x="1752480" y="1828800"/>
            <a:ext cx="5729400" cy="43768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2325240" y="67320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永生的眼睛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203040" y="65041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838080" y="1447920"/>
            <a:ext cx="71629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父亲（     ）地说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——“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如果一个盲童能在我们的帮助下重见光明，并像温迪一样画出栩栩如生的马儿，那多么美妙！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父亲（     ）地说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——“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当你们得知是我的眼睛角膜起了作用，你们会为我自豪！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666880" y="14479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愉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2666880" y="3581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骄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10 (421)"/>
          <p:cNvPicPr/>
          <p:nvPr/>
        </p:nvPicPr>
        <p:blipFill>
          <a:blip r:embed="rId1"/>
          <a:stretch/>
        </p:blipFill>
        <p:spPr>
          <a:xfrm>
            <a:off x="640080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10 (546)"/>
          <p:cNvPicPr/>
          <p:nvPr/>
        </p:nvPicPr>
        <p:blipFill>
          <a:blip r:embed="rId2"/>
          <a:stretch/>
        </p:blipFill>
        <p:spPr>
          <a:xfrm>
            <a:off x="4114800" y="45720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a"/>
          <p:cNvPicPr/>
          <p:nvPr/>
        </p:nvPicPr>
        <p:blipFill>
          <a:blip r:embed="rId1"/>
          <a:stretch/>
        </p:blipFill>
        <p:spPr>
          <a:xfrm>
            <a:off x="1371600" y="990720"/>
            <a:ext cx="6629400" cy="49273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914400" y="1295280"/>
            <a:ext cx="74674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、 琳达把父亲的话告诉了温迪，温迪被外公的心愿深深打动了，此后，她也见证了外公捐献角膜的动人一幕。她对妈妈说了什么？温迪为谁感到骄傲呢？为什么？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1066680" y="3429000"/>
            <a:ext cx="69786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       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答：温迪说：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"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当然，你想过什么也看不见会有多么痛苦吗！我死后，也学外公将眼睛送给失明的人。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"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温迪就生活在这样一个充满着浓浓爱意的家庭里，耳濡目染，使她为母亲、为外公所做的一切感到骄傲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1219320" y="1682640"/>
            <a:ext cx="67816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、在这一刻，我真正领悟到了父亲留下的远非一副角膜！这话是什么意思？还有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1219320" y="3456720"/>
            <a:ext cx="69339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答：父亲所遗留的仍辉映在温迪的眼睛里，温迪为此感到骄傲！琳达也为有这样懂事的女儿感到骄傲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10 (1050)"/>
          <p:cNvPicPr/>
          <p:nvPr/>
        </p:nvPicPr>
        <p:blipFill>
          <a:blip r:embed="rId1"/>
          <a:stretch/>
        </p:blipFill>
        <p:spPr>
          <a:xfrm>
            <a:off x="1066680" y="502920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10 (962)"/>
          <p:cNvPicPr/>
          <p:nvPr/>
        </p:nvPicPr>
        <p:blipFill>
          <a:blip r:embed="rId2"/>
          <a:stretch/>
        </p:blipFill>
        <p:spPr>
          <a:xfrm rot="1810200">
            <a:off x="7314840" y="53316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10 (1306)"/>
          <p:cNvPicPr/>
          <p:nvPr/>
        </p:nvPicPr>
        <p:blipFill>
          <a:blip r:embed="rId3"/>
          <a:stretch/>
        </p:blipFill>
        <p:spPr>
          <a:xfrm>
            <a:off x="6477120" y="4876920"/>
            <a:ext cx="1447560" cy="1447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1219320" y="1828080"/>
            <a:ext cx="67816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、你认为这永生的仅仅是他们的眼睛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1219320" y="2999520"/>
            <a:ext cx="67262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答：这是爱的永生，是奉献精神的永生。他们这样做有助于别人，有助于人类，有助于世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10 (1239)"/>
          <p:cNvPicPr/>
          <p:nvPr/>
        </p:nvPicPr>
        <p:blipFill>
          <a:blip r:embed="rId1"/>
          <a:stretch/>
        </p:blipFill>
        <p:spPr>
          <a:xfrm>
            <a:off x="4038480" y="419112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2120040" y="129528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6699"/>
                </a:solidFill>
                <a:latin typeface="Arial"/>
                <a:ea typeface="华文彩云"/>
              </a:rPr>
              <a:t>我心飞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066680" y="2666880"/>
            <a:ext cx="70106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你读了这篇课文受到了什么启发？联系自己的生活实际谈一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illusticon258266s"/>
          <p:cNvPicPr/>
          <p:nvPr/>
        </p:nvPicPr>
        <p:blipFill>
          <a:blip r:embed="rId1"/>
          <a:stretch/>
        </p:blipFill>
        <p:spPr>
          <a:xfrm>
            <a:off x="5410080" y="99072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10 (910)"/>
          <p:cNvPicPr/>
          <p:nvPr/>
        </p:nvPicPr>
        <p:blipFill>
          <a:blip r:embed="rId2"/>
          <a:stretch/>
        </p:blipFill>
        <p:spPr>
          <a:xfrm>
            <a:off x="5257800" y="4267080"/>
            <a:ext cx="1625760" cy="16257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187280" y="128412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215674664"/>
          <p:cNvPicPr/>
          <p:nvPr/>
        </p:nvPicPr>
        <p:blipFill>
          <a:blip r:embed="rId1"/>
          <a:stretch/>
        </p:blipFill>
        <p:spPr>
          <a:xfrm>
            <a:off x="838080" y="1371600"/>
            <a:ext cx="3276720" cy="3429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4343400" y="1219320"/>
            <a:ext cx="421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同学们，照片上这个小女孩叫杨帆，就在不久前，小杨帆在青岛人民医院离开了我们，小杨帆的生命只有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岁半。这是她爸爸带着她在海洋纪念馆留的最后一张相。杨帆死后，她的父母替她把角膜捐给了两位盲人。小杨帆留下了光明，也留下了爱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1001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4" dur="194926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914400" y="990720"/>
            <a:ext cx="7315200" cy="25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，丛飞因病医治无效在深圳市人民医院去世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岁的丛飞生前立下遗嘱捐献眼角膜，以他最后的爱心之举，将光明永远馈赠社会、长留人间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作为一名著名歌手，丛飞商业演出频繁，本应该生活富裕。但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来倾其所有，累计捐款捐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多万元，资助失学儿童和残疾人超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，自己却一直过着清贫的生活，甚至不惜向生命借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1001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194926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F200604211045182160121482"/>
          <p:cNvPicPr/>
          <p:nvPr/>
        </p:nvPicPr>
        <p:blipFill>
          <a:blip r:embed="rId1"/>
          <a:stretch/>
        </p:blipFill>
        <p:spPr>
          <a:xfrm>
            <a:off x="4267080" y="2590920"/>
            <a:ext cx="3878280" cy="3120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bcd1d1f3d531421478dd5d40570a93e9"/>
          <p:cNvPicPr/>
          <p:nvPr/>
        </p:nvPicPr>
        <p:blipFill>
          <a:blip r:embed="rId2"/>
          <a:stretch/>
        </p:blipFill>
        <p:spPr>
          <a:xfrm>
            <a:off x="990720" y="1295280"/>
            <a:ext cx="3276360" cy="3013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219320" y="2286000"/>
            <a:ext cx="67816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资料一：据卫生部统计，我国目前约有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400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万因角膜病致盲的患者，其中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70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％可以通过角膜移植手术复明，但由于供体角膜匮乏，我国每年仅实施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3000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例角膜移植手术，数百万的患者还在黑暗中苦苦地等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5"/>
          <p:cNvGrpSpPr/>
          <p:nvPr/>
        </p:nvGrpSpPr>
        <p:grpSpPr>
          <a:xfrm>
            <a:off x="1371600" y="1066680"/>
            <a:ext cx="2209680" cy="990720"/>
            <a:chOff x="1371600" y="1066680"/>
            <a:chExt cx="2209680" cy="990720"/>
          </a:xfrm>
        </p:grpSpPr>
        <p:sp>
          <p:nvSpPr>
            <p:cNvPr id="159" name="AutoShape 3"/>
            <p:cNvSpPr/>
            <p:nvPr/>
          </p:nvSpPr>
          <p:spPr>
            <a:xfrm>
              <a:off x="1371600" y="1066680"/>
              <a:ext cx="1600200" cy="990720"/>
            </a:xfrm>
            <a:prstGeom prst="horizontalScrol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4"/>
            <p:cNvSpPr/>
            <p:nvPr/>
          </p:nvSpPr>
          <p:spPr>
            <a:xfrm>
              <a:off x="1600200" y="129528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资料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Picture 7" descr="10 (1241)"/>
          <p:cNvPicPr/>
          <p:nvPr/>
        </p:nvPicPr>
        <p:blipFill>
          <a:blip r:embed="rId1"/>
          <a:stretch/>
        </p:blipFill>
        <p:spPr>
          <a:xfrm>
            <a:off x="3200400" y="4724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10 (953)"/>
          <p:cNvPicPr/>
          <p:nvPr/>
        </p:nvPicPr>
        <p:blipFill>
          <a:blip r:embed="rId2"/>
          <a:stretch/>
        </p:blipFill>
        <p:spPr>
          <a:xfrm>
            <a:off x="5943600" y="533520"/>
            <a:ext cx="1625760" cy="1625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4"/>
          <p:cNvGrpSpPr/>
          <p:nvPr/>
        </p:nvGrpSpPr>
        <p:grpSpPr>
          <a:xfrm>
            <a:off x="3048120" y="609480"/>
            <a:ext cx="3200400" cy="990720"/>
            <a:chOff x="3048120" y="609480"/>
            <a:chExt cx="3200400" cy="990720"/>
          </a:xfrm>
        </p:grpSpPr>
        <p:pic>
          <p:nvPicPr>
            <p:cNvPr id="86" name="Picture 5" descr="large_3526k70"/>
            <p:cNvPicPr/>
            <p:nvPr/>
          </p:nvPicPr>
          <p:blipFill>
            <a:blip r:embed="rId1"/>
            <a:srcRect l="0" t="0" r="2008" b="4337"/>
            <a:stretch/>
          </p:blipFill>
          <p:spPr>
            <a:xfrm>
              <a:off x="3048120" y="609480"/>
              <a:ext cx="320040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6"/>
            <p:cNvSpPr/>
            <p:nvPr/>
          </p:nvSpPr>
          <p:spPr>
            <a:xfrm>
              <a:off x="3436920" y="609480"/>
              <a:ext cx="251172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0000"/>
                  </a:solidFill>
                  <a:latin typeface="Arial"/>
                  <a:ea typeface="华文隶书"/>
                </a:rPr>
                <a:t>教学目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Text Box 7"/>
          <p:cNvSpPr/>
          <p:nvPr/>
        </p:nvSpPr>
        <p:spPr>
          <a:xfrm>
            <a:off x="1523880" y="2133720"/>
            <a:ext cx="556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1143000" y="1905120"/>
            <a:ext cx="685800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认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个生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有感情地朗读课文，体会文章的思想感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读懂课文内容，培养关爱他人、帮助他人、无私奉献的优秀品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学习作者抓住人物的语言进行生动细致的描写，从而表现人物精神品质的写作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914400" y="1752480"/>
            <a:ext cx="70866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资料二：目前美国有超过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84000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多名患者登记等待器官移植，而且每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13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分钟就会有一个新的登记等待患者。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2004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年仅有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30%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的等待者获得了器官移植，而剩余的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70%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的等待者必须继续等待他们迫切需要的移植器官。不幸的是，每天有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16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个人会因为无法等到器官移植而丧失生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10 (982)"/>
          <p:cNvPicPr/>
          <p:nvPr/>
        </p:nvPicPr>
        <p:blipFill>
          <a:blip r:embed="rId1"/>
          <a:stretch/>
        </p:blipFill>
        <p:spPr>
          <a:xfrm>
            <a:off x="6934320" y="5335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10 (948)"/>
          <p:cNvPicPr/>
          <p:nvPr/>
        </p:nvPicPr>
        <p:blipFill>
          <a:blip r:embed="rId2"/>
          <a:stretch/>
        </p:blipFill>
        <p:spPr>
          <a:xfrm>
            <a:off x="4952880" y="51055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4"/>
          <p:cNvGrpSpPr/>
          <p:nvPr/>
        </p:nvGrpSpPr>
        <p:grpSpPr>
          <a:xfrm>
            <a:off x="2895480" y="685800"/>
            <a:ext cx="3200400" cy="990720"/>
            <a:chOff x="2895480" y="685800"/>
            <a:chExt cx="3200400" cy="990720"/>
          </a:xfrm>
        </p:grpSpPr>
        <p:pic>
          <p:nvPicPr>
            <p:cNvPr id="167" name="Picture 5" descr="large_3526k70"/>
            <p:cNvPicPr/>
            <p:nvPr/>
          </p:nvPicPr>
          <p:blipFill>
            <a:blip r:embed="rId1"/>
            <a:srcRect l="0" t="0" r="2008" b="4337"/>
            <a:stretch/>
          </p:blipFill>
          <p:spPr>
            <a:xfrm>
              <a:off x="2895480" y="685800"/>
              <a:ext cx="320040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6"/>
            <p:cNvSpPr/>
            <p:nvPr/>
          </p:nvSpPr>
          <p:spPr>
            <a:xfrm>
              <a:off x="3284280" y="685800"/>
              <a:ext cx="251172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0000"/>
                  </a:solidFill>
                  <a:latin typeface="Arial"/>
                  <a:ea typeface="华文隶书"/>
                </a:rPr>
                <a:t>课堂小结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 Box 8"/>
          <p:cNvSpPr/>
          <p:nvPr/>
        </p:nvSpPr>
        <p:spPr>
          <a:xfrm>
            <a:off x="990720" y="1752480"/>
            <a:ext cx="7391160" cy="26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永生的眼睛</a:t>
            </a: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是一篇非常感人的文章。刻画了“我”的父辈为了他人能够更好的生活，尽自己最大所能来帮助别人延续生命、生活得更美好的可贵品德，并借此来教育“我”和所有的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文章以“永生的眼睛”为题，富有深意。“眼睛”折射出的是人性的善良和美好，“永生”弘扬了关爱他人、无私奉献的崇高精神必将世代相传，永不泯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4"/>
          <p:cNvGrpSpPr/>
          <p:nvPr/>
        </p:nvGrpSpPr>
        <p:grpSpPr>
          <a:xfrm>
            <a:off x="2971800" y="914400"/>
            <a:ext cx="3200400" cy="990720"/>
            <a:chOff x="2971800" y="914400"/>
            <a:chExt cx="3200400" cy="990720"/>
          </a:xfrm>
        </p:grpSpPr>
        <p:pic>
          <p:nvPicPr>
            <p:cNvPr id="171" name="Picture 5" descr="large_3526k70"/>
            <p:cNvPicPr/>
            <p:nvPr/>
          </p:nvPicPr>
          <p:blipFill>
            <a:blip r:embed="rId1"/>
            <a:srcRect l="0" t="0" r="2008" b="4337"/>
            <a:stretch/>
          </p:blipFill>
          <p:spPr>
            <a:xfrm>
              <a:off x="2971800" y="914400"/>
              <a:ext cx="320040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6"/>
            <p:cNvSpPr/>
            <p:nvPr/>
          </p:nvSpPr>
          <p:spPr>
            <a:xfrm>
              <a:off x="3360600" y="914400"/>
              <a:ext cx="251172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0000"/>
                  </a:solidFill>
                  <a:latin typeface="Arial"/>
                  <a:ea typeface="华文隶书"/>
                </a:rPr>
                <a:t>巩固练习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Text Box 9"/>
          <p:cNvSpPr/>
          <p:nvPr/>
        </p:nvSpPr>
        <p:spPr>
          <a:xfrm>
            <a:off x="914400" y="2133720"/>
            <a:ext cx="739152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一、选择恰当的关联词语填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隶书"/>
              </a:rPr>
              <a:t>　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不但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而且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……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宁可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也不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　因为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所以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……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虽然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可是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        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永生的眼睛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一课（       ）使我感动，（      ）引起我许多的想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        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．父亲（      ）死去了，（      ）他那话语给我留下深刻的印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0" descr="10 (1051)"/>
          <p:cNvPicPr/>
          <p:nvPr/>
        </p:nvPicPr>
        <p:blipFill>
          <a:blip r:embed="rId2"/>
          <a:stretch/>
        </p:blipFill>
        <p:spPr>
          <a:xfrm>
            <a:off x="6172200" y="76212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7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838080" y="1600200"/>
            <a:ext cx="7315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        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．（      ）我们的捐献给了别人快乐，（     ）这种做法是很高尚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        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．（      ）牺牲自己的个人利益帮助别人，（      ）应当处处为自己的利益斤斤计较，这才是有意义的人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10 (1050)"/>
          <p:cNvPicPr/>
          <p:nvPr/>
        </p:nvPicPr>
        <p:blipFill>
          <a:blip r:embed="rId1"/>
          <a:stretch/>
        </p:blipFill>
        <p:spPr>
          <a:xfrm>
            <a:off x="3962520" y="4343400"/>
            <a:ext cx="1778040" cy="17780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10 (1055)"/>
          <p:cNvPicPr/>
          <p:nvPr/>
        </p:nvPicPr>
        <p:blipFill>
          <a:blip r:embed="rId2"/>
          <a:stretch/>
        </p:blipFill>
        <p:spPr>
          <a:xfrm>
            <a:off x="5943600" y="4572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7"/>
          <p:cNvSpPr/>
          <p:nvPr/>
        </p:nvSpPr>
        <p:spPr>
          <a:xfrm>
            <a:off x="1447920" y="1295280"/>
            <a:ext cx="716256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二、修改下边有毛病的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他愉快而高兴地告诉我，他去世后要捐赠所有完好的器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　　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遵从他的遗愿捐赠了他的眼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　　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10 (1001)"/>
          <p:cNvPicPr/>
          <p:nvPr/>
        </p:nvPicPr>
        <p:blipFill>
          <a:blip r:embed="rId1"/>
          <a:stretch/>
        </p:blipFill>
        <p:spPr>
          <a:xfrm>
            <a:off x="762120" y="38862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10 (949)"/>
          <p:cNvPicPr/>
          <p:nvPr/>
        </p:nvPicPr>
        <p:blipFill>
          <a:blip r:embed="rId2"/>
          <a:stretch/>
        </p:blipFill>
        <p:spPr>
          <a:xfrm>
            <a:off x="6781680" y="9144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1100160" y="612612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22"/>
          <p:cNvSpPr/>
          <p:nvPr/>
        </p:nvSpPr>
        <p:spPr>
          <a:xfrm>
            <a:off x="3821040" y="12574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5"/>
          <p:cNvGrpSpPr/>
          <p:nvPr/>
        </p:nvGrpSpPr>
        <p:grpSpPr>
          <a:xfrm>
            <a:off x="2971800" y="762120"/>
            <a:ext cx="3200400" cy="990360"/>
            <a:chOff x="2971800" y="762120"/>
            <a:chExt cx="3200400" cy="990360"/>
          </a:xfrm>
        </p:grpSpPr>
        <p:pic>
          <p:nvPicPr>
            <p:cNvPr id="92" name="Picture 6" descr="large_3526k70"/>
            <p:cNvPicPr/>
            <p:nvPr/>
          </p:nvPicPr>
          <p:blipFill>
            <a:blip r:embed="rId1"/>
            <a:srcRect l="0" t="0" r="2008" b="4337"/>
            <a:stretch/>
          </p:blipFill>
          <p:spPr>
            <a:xfrm>
              <a:off x="2971800" y="762120"/>
              <a:ext cx="320040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7"/>
            <p:cNvSpPr/>
            <p:nvPr/>
          </p:nvSpPr>
          <p:spPr>
            <a:xfrm>
              <a:off x="3360600" y="762120"/>
              <a:ext cx="251172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0000"/>
                  </a:solidFill>
                  <a:latin typeface="Arial"/>
                  <a:ea typeface="华文隶书"/>
                </a:rPr>
                <a:t>内容解析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9"/>
          <p:cNvSpPr/>
          <p:nvPr/>
        </p:nvSpPr>
        <p:spPr>
          <a:xfrm>
            <a:off x="1984320" y="31240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66"/>
                </a:solidFill>
                <a:latin typeface="Arial"/>
                <a:ea typeface="楷体_GB2312"/>
              </a:rPr>
              <a:t>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2143080" y="162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3965400" y="32004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66"/>
                </a:solidFill>
                <a:latin typeface="Arial"/>
                <a:ea typeface="楷体_GB2312"/>
              </a:rPr>
              <a:t>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1984320" y="4724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66"/>
                </a:solidFill>
                <a:latin typeface="Arial"/>
                <a:ea typeface="楷体_GB2312"/>
              </a:rPr>
              <a:t>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5794200" y="32004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66"/>
                </a:solidFill>
                <a:latin typeface="Arial"/>
                <a:ea typeface="楷体_GB2312"/>
              </a:rPr>
              <a:t>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4118040" y="4724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66"/>
                </a:solidFill>
                <a:latin typeface="Arial"/>
                <a:ea typeface="楷体_GB2312"/>
              </a:rPr>
              <a:t>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946840" y="46483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66"/>
                </a:solidFill>
                <a:latin typeface="Arial"/>
                <a:ea typeface="楷体_GB2312"/>
              </a:rPr>
              <a:t>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1895760" y="2590920"/>
            <a:ext cx="94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ju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3735360" y="251460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m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2124720" y="4191120"/>
            <a:ext cx="4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l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5487480" y="259092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ku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4105080" y="426708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z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5934600" y="4191120"/>
            <a:ext cx="7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lǒ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2" descr="10 (1051)"/>
          <p:cNvPicPr/>
          <p:nvPr/>
        </p:nvPicPr>
        <p:blipFill>
          <a:blip r:embed="rId2"/>
          <a:stretch/>
        </p:blipFill>
        <p:spPr>
          <a:xfrm>
            <a:off x="6324480" y="990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8" name="WordArt 23" descr=""/>
          <p:cNvPicPr/>
          <p:nvPr/>
        </p:nvPicPr>
        <p:blipFill>
          <a:blip r:embed="rId3"/>
          <a:stretch/>
        </p:blipFill>
        <p:spPr>
          <a:xfrm>
            <a:off x="609480" y="1779480"/>
            <a:ext cx="2054520" cy="15368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14040" y="121932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不顾一切　栩栩如生　热泪盈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与世长辞　重见天日　夺眶而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突如其来　不由自主　不假思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笼罩　  流淌　  呵护　 捐赠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遵从　  骄傲　  自豪　 角膜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给予　  恢复　  屡屡　 孤零零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疾病    盲童    酷爱   搂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281240" y="1371600"/>
            <a:ext cx="6629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、母亲去世后，父亲同意医院要去母亲的眼角膜，我的表现是什么？我为什么不同意父亲的做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219320" y="3200400"/>
            <a:ext cx="66294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  <a:ea typeface="华文楷体"/>
              </a:rPr>
              <a:t>     </a:t>
            </a:r>
            <a:r>
              <a:rPr b="1" lang="en-US" sz="2800" spc="-1" strike="noStrike">
                <a:solidFill>
                  <a:srgbClr val="9900cc"/>
                </a:solidFill>
                <a:latin typeface="华文楷体"/>
                <a:ea typeface="华文楷体"/>
              </a:rPr>
              <a:t>“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华文楷体"/>
              </a:rPr>
              <a:t>身体发肤，受之于父母</a:t>
            </a:r>
            <a:r>
              <a:rPr b="1" lang="zh-CN" sz="2800" spc="-1" strike="noStrike">
                <a:solidFill>
                  <a:srgbClr val="9900cc"/>
                </a:solidFill>
                <a:latin typeface="华文楷体"/>
                <a:ea typeface="华文楷体"/>
              </a:rPr>
              <a:t>”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华文楷体"/>
              </a:rPr>
              <a:t>，深爱着母亲的我无法接受捐赠母亲角膜的决定，使我忍不住冲着父亲哭喊，使我忍不住深深地责怪父亲，使我忍不住痛哭失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10 (900)"/>
          <p:cNvPicPr/>
          <p:nvPr/>
        </p:nvPicPr>
        <p:blipFill>
          <a:blip r:embed="rId1"/>
          <a:stretch/>
        </p:blipFill>
        <p:spPr>
          <a:xfrm>
            <a:off x="1676520" y="53341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914400" y="1923480"/>
            <a:ext cx="72388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、父亲曾说过：如果死后能有助于他人健康的恢复，那么死也是有意义的。父亲认为捐献自己的眼睛有什么意义？能从他的的那些话里感受到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914400" y="4057200"/>
            <a:ext cx="70102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  <a:ea typeface="华文楷体"/>
              </a:rPr>
              <a:t>       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华文楷体"/>
              </a:rPr>
              <a:t>答：可以让其他人获得光明，父亲患了肺气肿时曾经说过</a:t>
            </a:r>
            <a:r>
              <a:rPr b="1" lang="zh-CN" sz="2800" spc="-1" strike="noStrike">
                <a:solidFill>
                  <a:srgbClr val="9900cc"/>
                </a:solidFill>
                <a:latin typeface="华文楷体"/>
                <a:ea typeface="华文楷体"/>
              </a:rPr>
              <a:t>“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华文楷体"/>
              </a:rPr>
              <a:t>如果一个盲童能够借助我们的帮助重见光明，并像你女儿温迪一样画出栩栩如生的马儿，那有多美妙！</a:t>
            </a:r>
            <a:r>
              <a:rPr b="1" lang="zh-CN" sz="2800" spc="-1" strike="noStrike">
                <a:solidFill>
                  <a:srgbClr val="9900cc"/>
                </a:solidFill>
                <a:latin typeface="华文楷体"/>
                <a:ea typeface="华文楷体"/>
              </a:rPr>
              <a:t>”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华文楷体"/>
              </a:rPr>
              <a:t>温迪自幼酷爱画马，她的作品屡屡获奖，</a:t>
            </a:r>
            <a:r>
              <a:rPr b="1" lang="zh-CN" sz="2800" spc="-1" strike="noStrike">
                <a:solidFill>
                  <a:srgbClr val="9900cc"/>
                </a:solidFill>
                <a:latin typeface="华文楷体"/>
                <a:ea typeface="华文楷体"/>
              </a:rPr>
              <a:t>“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华文楷体"/>
              </a:rPr>
              <a:t>想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1143000" y="2526840"/>
            <a:ext cx="69343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华文楷体"/>
              </a:rPr>
              <a:t>看，另一对父母如果看到他们的女儿也像温迪一样，将会多么高兴。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  <a:ea typeface="华文楷体"/>
              </a:rPr>
              <a:t>"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华文楷体"/>
              </a:rPr>
              <a:t>父亲说，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  <a:ea typeface="华文楷体"/>
              </a:rPr>
              <a:t>"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华文楷体"/>
              </a:rPr>
              <a:t>当你们得知我的眼睛起了作用，你们将会多么自豪！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  <a:ea typeface="华文楷体"/>
              </a:rPr>
              <a:t>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ni_png_0120"/>
          <p:cNvPicPr/>
          <p:nvPr/>
        </p:nvPicPr>
        <p:blipFill>
          <a:blip r:embed="rId1"/>
          <a:stretch/>
        </p:blipFill>
        <p:spPr>
          <a:xfrm>
            <a:off x="6324480" y="457200"/>
            <a:ext cx="1397160" cy="1397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illusticon230905s"/>
          <p:cNvPicPr/>
          <p:nvPr/>
        </p:nvPicPr>
        <p:blipFill>
          <a:blip r:embed="rId2"/>
          <a:stretch/>
        </p:blipFill>
        <p:spPr>
          <a:xfrm>
            <a:off x="1066680" y="4724280"/>
            <a:ext cx="1505160" cy="1505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10 (1157)"/>
          <p:cNvPicPr/>
          <p:nvPr/>
        </p:nvPicPr>
        <p:blipFill>
          <a:blip r:embed="rId3"/>
          <a:stretch/>
        </p:blipFill>
        <p:spPr>
          <a:xfrm>
            <a:off x="5181480" y="44956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762120" y="1676520"/>
            <a:ext cx="76197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父亲曾（     ）地对我说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——“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一个人所能给予他人的最珍贵的东西，莫过于自己身体的一部分。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父亲（       ）地说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——“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如果我们死后的身体能有助于他人恢复健康，我们的死就是有意义的。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2895480" y="17524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平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2438280" y="36576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语重心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10 (224)"/>
          <p:cNvPicPr/>
          <p:nvPr/>
        </p:nvPicPr>
        <p:blipFill>
          <a:blip r:embed="rId1"/>
          <a:stretch/>
        </p:blipFill>
        <p:spPr>
          <a:xfrm>
            <a:off x="3657600" y="46483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10 (42)"/>
          <p:cNvPicPr/>
          <p:nvPr/>
        </p:nvPicPr>
        <p:blipFill>
          <a:blip r:embed="rId2"/>
          <a:stretch/>
        </p:blipFill>
        <p:spPr>
          <a:xfrm>
            <a:off x="6705720" y="60948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31T11:38:29Z</dcterms:created>
  <dc:creator/>
  <dc:description/>
  <cp:keywords>幻灯片之家 http:/www.eeppt.com</cp:keywords>
  <dc:language>en-US</dc:language>
  <cp:lastModifiedBy/>
  <dcterms:modified xsi:type="dcterms:W3CDTF">2015-07-20T06:01:3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Version">
    <vt:r8>1</vt:r8>
  </property>
</Properties>
</file>