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E20C-700D-4156-BE6A-A234D9BA6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12D1-B1AE-4646-8E0A-A0E690FB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0846-DD7B-4DAE-86C8-C571F1BA8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235D-3540-4184-9A74-4A58BEAA3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B596-E36C-43D9-B310-6CCAE859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971D-E35D-4C61-BDE0-298E1CDF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E220-5589-4407-9973-7EBF68D0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43CD-7E8C-48CC-AEEF-17666DD6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D7E3-57B5-488C-8050-28AF294E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2A7C-1270-40B1-A794-B5FA6283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C05F-51A2-4B8E-86FD-474E7E0C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8B1D-8601-45B5-A15F-5C4B198A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D2CE-7752-4053-B0EF-3F2CE2017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母亲的一双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WordArt 7" descr=""/>
          <p:cNvPicPr/>
          <p:nvPr/>
        </p:nvPicPr>
        <p:blipFill>
          <a:blip r:embed="rId2"/>
          <a:stretch/>
        </p:blipFill>
        <p:spPr>
          <a:xfrm>
            <a:off x="1036800" y="622440"/>
            <a:ext cx="7253280" cy="379080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9"/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29520 w 539640"/>
              <a:gd name="textAreaRight" fmla="*/ 510120 w 539640"/>
              <a:gd name="textAreaTop" fmla="*/ 29520 h 476280"/>
              <a:gd name="textAreaBottom" fmla="*/ 44676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121" y="1350"/>
                </a:lnTo>
                <a:lnTo>
                  <a:pt x="1350" y="135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121" y="20250"/>
                </a:lnTo>
                <a:lnTo>
                  <a:pt x="23121" y="135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3121" y="2025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4471" h="21600">
                <a:moveTo>
                  <a:pt x="5192" y="3756"/>
                </a:moveTo>
                <a:lnTo>
                  <a:pt x="19279" y="10800"/>
                </a:lnTo>
                <a:lnTo>
                  <a:pt x="5192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000" y="64832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无标题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4"/>
          <p:cNvSpPr/>
          <p:nvPr/>
        </p:nvSpPr>
        <p:spPr>
          <a:xfrm>
            <a:off x="179280" y="115920"/>
            <a:ext cx="1944720" cy="79992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定向批注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2484360" y="3789360"/>
            <a:ext cx="4032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755640" y="1773360"/>
            <a:ext cx="813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                             </a:t>
            </a:r>
            <a:r>
              <a:rPr b="1" lang="zh-CN" sz="3200" spc="-1" strike="noStrike">
                <a:solidFill>
                  <a:srgbClr val="00ffff"/>
                </a:solidFill>
                <a:latin typeface="Arial"/>
              </a:rPr>
              <a:t>（三）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ffff"/>
                </a:solidFill>
                <a:latin typeface="Arial"/>
              </a:rPr>
              <a:t>请仔细阅读课文，划出表达情感的语句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析：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ffff"/>
                </a:solidFill>
                <a:latin typeface="Arial"/>
              </a:rPr>
              <a:t>抒发了                                     的一种情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1908000" y="4292640"/>
            <a:ext cx="60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对不畏艰辛、艰苦创业、默默无闻、乐于奉献的社会主义建设者的热爱、敬仰和赞颂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7"/>
          <p:cNvSpPr/>
          <p:nvPr/>
        </p:nvSpPr>
        <p:spPr>
          <a:xfrm>
            <a:off x="3016440" y="1916280"/>
            <a:ext cx="261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国际劳动节表彰大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会张迎善答记者问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0" name="AutoShape 8"/>
          <p:cNvSpPr/>
          <p:nvPr/>
        </p:nvSpPr>
        <p:spPr>
          <a:xfrm>
            <a:off x="179280" y="115920"/>
            <a:ext cx="1944720" cy="79992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物采访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2057040" y="3849840"/>
            <a:ext cx="511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请所有男同学扮张迎善，所有女同学一人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做主持人，其余人做记者，结合对课文内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容的理解，记者提问</a:t>
            </a: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现场采访张迎善。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无标题15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8"/>
          <p:cNvSpPr/>
          <p:nvPr/>
        </p:nvSpPr>
        <p:spPr>
          <a:xfrm>
            <a:off x="179280" y="115920"/>
            <a:ext cx="1944720" cy="79992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后学习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2111400" y="2395440"/>
            <a:ext cx="5352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以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我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的人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为题，仿照本文写法，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写一篇文章，要求抓住人物最有特征的部分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运用多种表达方式，描写人物外貌，来塑造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人物的形象。字数不少于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400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字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17" name="lvshe.mid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215572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www.eeppt.com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7242-5BD8-4D07-B1A7-3C8FD0E16F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无标题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WordArt 7" descr=""/>
          <p:cNvPicPr/>
          <p:nvPr/>
        </p:nvPicPr>
        <p:blipFill>
          <a:blip r:embed="rId2"/>
          <a:stretch/>
        </p:blipFill>
        <p:spPr>
          <a:xfrm>
            <a:off x="2475000" y="2346480"/>
            <a:ext cx="4479840" cy="1427040"/>
          </a:xfrm>
          <a:prstGeom prst="rect">
            <a:avLst/>
          </a:prstGeom>
          <a:ln w="0">
            <a:noFill/>
          </a:ln>
        </p:spPr>
      </p:pic>
      <p:pic>
        <p:nvPicPr>
          <p:cNvPr id="125" name="beidahuang.mp3" descr=""/>
          <p:cNvPicPr/>
          <p:nvPr/>
        </p:nvPicPr>
        <p:blipFill>
          <a:blip r:embed="rId3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255337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9"/>
          <p:cNvSpPr/>
          <p:nvPr/>
        </p:nvSpPr>
        <p:spPr>
          <a:xfrm>
            <a:off x="3132000" y="170028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9" name="Picture 22" descr="无标题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lp2"/>
          <p:cNvPicPr/>
          <p:nvPr/>
        </p:nvPicPr>
        <p:blipFill>
          <a:blip r:embed="rId2"/>
          <a:stretch/>
        </p:blipFill>
        <p:spPr>
          <a:xfrm>
            <a:off x="0" y="0"/>
            <a:ext cx="1116000" cy="1076400"/>
          </a:xfrm>
          <a:prstGeom prst="rect">
            <a:avLst/>
          </a:prstGeom>
          <a:ln w="0">
            <a:noFill/>
          </a:ln>
        </p:spPr>
      </p:pic>
      <p:pic>
        <p:nvPicPr>
          <p:cNvPr id="51" name="beidahuang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3" name="Picture 18" descr="无标题４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4"/>
          <p:cNvSpPr/>
          <p:nvPr/>
        </p:nvSpPr>
        <p:spPr>
          <a:xfrm>
            <a:off x="3173040" y="2349360"/>
            <a:ext cx="347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能通畅朗读课文，概括文章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主要内容，圈点批注感受文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章表达的思想感情，学习抓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住特征刻画人物形象的写法。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" name="AutoShape 16"/>
          <p:cNvSpPr/>
          <p:nvPr/>
        </p:nvSpPr>
        <p:spPr>
          <a:xfrm>
            <a:off x="179280" y="115920"/>
            <a:ext cx="1944720" cy="79992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564840" y="189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8" name="Picture 4" descr="无标题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8"/>
          <p:cNvSpPr/>
          <p:nvPr/>
        </p:nvSpPr>
        <p:spPr>
          <a:xfrm>
            <a:off x="179280" y="115920"/>
            <a:ext cx="1944720" cy="79992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50920" y="189000"/>
            <a:ext cx="22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读完就说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2124000" y="234936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采用你喜欢的方式自读课文，读完后谈谈你初读课文的感受。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无标题88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7"/>
          <p:cNvSpPr/>
          <p:nvPr/>
        </p:nvSpPr>
        <p:spPr>
          <a:xfrm>
            <a:off x="179280" y="115920"/>
            <a:ext cx="1944720" cy="79992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定向批注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2432160" y="2035080"/>
            <a:ext cx="4455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                    </a:t>
            </a:r>
            <a:r>
              <a:rPr b="1" lang="zh-CN" sz="3200" spc="-1" strike="noStrike">
                <a:solidFill>
                  <a:srgbClr val="00ffff"/>
                </a:solidFill>
                <a:latin typeface="Arial"/>
              </a:rPr>
              <a:t>（一）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Arial"/>
              </a:rPr>
              <a:t>请仔细阅读课文，划出描写手的语句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归纳：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Arial"/>
              </a:rPr>
              <a:t>描绘了                                 的一双手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" name="Line 10"/>
          <p:cNvSpPr/>
          <p:nvPr/>
        </p:nvSpPr>
        <p:spPr>
          <a:xfrm>
            <a:off x="2556000" y="4005360"/>
            <a:ext cx="3384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"/>
          <p:cNvSpPr/>
          <p:nvPr/>
        </p:nvSpPr>
        <p:spPr>
          <a:xfrm>
            <a:off x="755640" y="1268280"/>
            <a:ext cx="360360" cy="4248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110520 h 4248360"/>
              <a:gd name="textAreaBottom" fmla="*/ 4137840 h 424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4669200" y="22860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明写各种各样的手，烘托一双手。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112320" y="3048120"/>
            <a:ext cx="606960" cy="5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天下第一奇手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2470320" y="1044720"/>
            <a:ext cx="5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简直是半截老松木；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2305440" y="1909800"/>
            <a:ext cx="42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、皮肤呈木色，纹络又粗又细，一道道黑土色；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2181960" y="2701800"/>
            <a:ext cx="38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掌面鼓皮样硬，一只手就向一根老甘蔗；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4308480" y="3565440"/>
            <a:ext cx="5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、左手大拇指没有指甲，手指各个关节都缠着线；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2490480" y="4435560"/>
            <a:ext cx="481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手大无比，真是我今生今世见到的天下第一号大手；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1936080" y="522756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、手坚硬耐搓。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5399640" y="57531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通过手想像，抒发感受，赞颂其人。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8537040" y="3060360"/>
            <a:ext cx="6069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这是一双创造绿色宝库的手。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0" name="AutoShape 19"/>
          <p:cNvSpPr/>
          <p:nvPr/>
        </p:nvSpPr>
        <p:spPr>
          <a:xfrm>
            <a:off x="8317080" y="1484280"/>
            <a:ext cx="287280" cy="4032360"/>
          </a:xfrm>
          <a:custGeom>
            <a:avLst/>
            <a:gdLst>
              <a:gd name="textAreaLeft" fmla="*/ 0 w 287280"/>
              <a:gd name="textAreaRight" fmla="*/ 103680 w 287280"/>
              <a:gd name="textAreaTop" fmla="*/ 105120 h 4032360"/>
              <a:gd name="textAreaBottom" fmla="*/ 3927240 h 403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1" name="AutoShape 21"/>
          <p:cNvSpPr/>
          <p:nvPr/>
        </p:nvSpPr>
        <p:spPr>
          <a:xfrm>
            <a:off x="179280" y="115920"/>
            <a:ext cx="1800360" cy="79992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一 双 手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11280" y="638172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ppt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755640" y="22716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今年开学初，他父亲来交学费，我看到他父亲的一双粗壮宽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青筋突现的手，满是老茧，抖抖索索的把钱交给了我，那印象实在太深了。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447280" y="3630600"/>
            <a:ext cx="21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——— 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一位农民的手。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755640" y="4208400"/>
            <a:ext cx="799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天都能见到那双手不停地写，手指原本纤长白皙，但一到冬天就逐渐变得红肿。手心处横着道道粗纹，粗糙且无光泽。面对这样一双手，谁能猜到她还不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？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478600" y="6093000"/>
            <a:ext cx="20340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———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一位老师的手。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" name="AutoShape 9"/>
          <p:cNvSpPr/>
          <p:nvPr/>
        </p:nvSpPr>
        <p:spPr>
          <a:xfrm>
            <a:off x="179280" y="115920"/>
            <a:ext cx="1944720" cy="79992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你来猜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3061080" y="1197000"/>
            <a:ext cx="252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阅读下列两段文字，根据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描写说说写的是谁的手？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无标题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4"/>
          <p:cNvSpPr/>
          <p:nvPr/>
        </p:nvSpPr>
        <p:spPr>
          <a:xfrm>
            <a:off x="179280" y="115920"/>
            <a:ext cx="1944720" cy="79992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定向批注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3" name="Line 5"/>
          <p:cNvSpPr/>
          <p:nvPr/>
        </p:nvSpPr>
        <p:spPr>
          <a:xfrm>
            <a:off x="2484360" y="3716280"/>
            <a:ext cx="4032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755640" y="1773360"/>
            <a:ext cx="813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                          </a:t>
            </a:r>
            <a:r>
              <a:rPr b="1" lang="zh-CN" sz="3200" spc="-1" strike="noStrike">
                <a:solidFill>
                  <a:srgbClr val="00ffff"/>
                </a:solidFill>
                <a:latin typeface="Arial"/>
              </a:rPr>
              <a:t>（二）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ffff"/>
                </a:solidFill>
                <a:latin typeface="Arial"/>
              </a:rPr>
              <a:t>请仔细阅读课文，划出人物言行的语句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概括：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ffff"/>
                </a:solidFill>
                <a:latin typeface="Arial"/>
              </a:rPr>
              <a:t>塑造了                                     的一个人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4546440" y="4292640"/>
            <a:ext cx="73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Arial"/>
              </a:rPr>
              <a:t>不畏艰辛、艰苦创业、默默无闻、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Arial"/>
              </a:rPr>
              <a:t>勤劳无私、乐于奉献、淳朴实在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77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770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观看视频写保护森林的公益广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无标题88"/>
          <p:cNvPicPr/>
          <p:nvPr/>
        </p:nvPicPr>
        <p:blipFill>
          <a:blip r:embed="rId1"/>
          <a:stretch/>
        </p:blipFill>
        <p:spPr>
          <a:xfrm>
            <a:off x="457200" y="2624040"/>
            <a:ext cx="4038480" cy="2476440"/>
          </a:xfrm>
          <a:prstGeom prst="rect">
            <a:avLst/>
          </a:prstGeom>
          <a:ln w="0">
            <a:noFill/>
          </a:ln>
        </p:spPr>
      </p:pic>
      <p:pic>
        <p:nvPicPr>
          <p:cNvPr id="98" name="77.MPG" descr="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10"/>
          <p:cNvSpPr/>
          <p:nvPr/>
        </p:nvSpPr>
        <p:spPr>
          <a:xfrm>
            <a:off x="179280" y="115920"/>
            <a:ext cx="1944720" cy="79992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欣赏拓展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Text Box 25"/>
          <p:cNvSpPr/>
          <p:nvPr/>
        </p:nvSpPr>
        <p:spPr>
          <a:xfrm>
            <a:off x="1720800" y="3716280"/>
            <a:ext cx="6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☆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01" name="风雨植树人.wmv" descr=""/>
          <p:cNvPicPr/>
          <p:nvPr/>
        </p:nvPicPr>
        <p:blipFill>
          <a:blip r:embed="rId3"/>
          <a:stretch/>
        </p:blipFill>
        <p:spPr>
          <a:xfrm>
            <a:off x="539640" y="1413000"/>
            <a:ext cx="828036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766804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8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3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6T01:45:2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41:38Z</dcterms:modified>
  <cp:revision>7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