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4F4-80B4-4CAA-80FF-98D8F876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0E3-2D84-4AAC-841C-CC17248B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A1C-407D-498E-945E-685558D6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D6D-713D-498C-A350-93DD3894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F94-37FF-4943-A2F3-19D5DE01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DCB-5AF7-45C5-947D-DD9DCD02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547-F56F-4DF7-B78D-F8B3BD4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C9B-6219-4EC2-872F-81AEC101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592-5261-4902-AA9A-7ECF6A7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7FE-0912-4031-8A01-0F2E3DC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25-B4F3-47A5-9659-7FE8324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68D-24A7-498C-8B70-42B2BAF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03D-631B-452E-AFB0-28C693943A7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D50-52E6-4A09-933F-D86E7A6B8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素材图片1\image151.jpg"/>
          <p:cNvPicPr/>
          <p:nvPr/>
        </p:nvPicPr>
        <p:blipFill>
          <a:blip r:embed="rId1"/>
          <a:stretch/>
        </p:blipFill>
        <p:spPr>
          <a:xfrm>
            <a:off x="-755640" y="-530280"/>
            <a:ext cx="10225080" cy="738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84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76720" y="-38736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疑问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图片1\image152.jpg"/>
          <p:cNvPicPr/>
          <p:nvPr/>
        </p:nvPicPr>
        <p:blipFill>
          <a:blip r:embed="rId1"/>
          <a:stretch/>
        </p:blipFill>
        <p:spPr>
          <a:xfrm>
            <a:off x="-539640" y="-243000"/>
            <a:ext cx="102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dministrator\Desktop\素材图片1\image154.jpg"/>
          <p:cNvPicPr/>
          <p:nvPr/>
        </p:nvPicPr>
        <p:blipFill>
          <a:blip r:embed="rId1"/>
          <a:stretch/>
        </p:blipFill>
        <p:spPr>
          <a:xfrm>
            <a:off x="-971640" y="-314280"/>
            <a:ext cx="1065528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dministrator\Desktop\素材图片1\image1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7B1-B434-4A1C-A7B4-B69C93AED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Administrator\Desktop\素材图片1\image1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4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