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5.jpeg" ContentType="image/jpeg"/>
  <Override PartName="/ppt/media/image1.jpeg" ContentType="image/jpeg"/>
  <Override PartName="/ppt/media/image2.jpeg" ContentType="image/jpeg"/>
  <Override PartName="/ppt/media/image1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491-0BA1-4A68-A1E0-D208FD42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82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0CD-C870-4FE3-9C0D-64D83251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836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114-5EE3-4940-A489-FFC25B09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320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936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5320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936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D88-1B56-4AC3-A424-30CD2E1A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6782-2D75-41B3-AEA8-409B3F7A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6C46-7C52-46CE-A406-312DCEDA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683C-AA08-4FDE-80B8-302690B1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A1A8-BAE8-4ED4-8CAC-2DC8DE0D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8486-8AB2-4121-B2EE-B5F77B3E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3920-3EC8-4DCC-A4D5-9EB3B1FF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0C83-C2B1-4FFF-B2C5-8638697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9A4-4F9D-4A62-B5DB-CF09B109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836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FC56-F24B-42EA-945A-82419EFF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13A8-3B67-4627-81E6-7F24B795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7040" y="3182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A0F7-81F7-4C50-927D-DF487A2D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836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1884-FE69-4EB5-B4B3-4B315535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320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936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704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5320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4936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AA1C-B7BE-439D-A616-4D546D5B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979-ABA1-4ED7-BF19-58CDD12F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E3E-2DAC-44B5-A6DD-B78B7F6B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199-FD1F-41E3-8C71-96E5A96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D8A-07EA-4FBA-B90D-68232CFE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3FC-98BD-432B-B801-69A25FD9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836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B9E-0692-47CA-BBFF-29A8FE1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DCB-0E1B-49B7-B84C-B670BC1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02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469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469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19C-10BD-43CA-ABA3-7080E13B108F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55308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55308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5228-35EB-46F8-9EC7-7EE34E9CE6EC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医学卡通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完整版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320" y="5257440"/>
            <a:ext cx="90676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octor_checking_throat_hg_clr"/>
          <p:cNvPicPr/>
          <p:nvPr/>
        </p:nvPicPr>
        <p:blipFill>
          <a:blip r:embed="rId1"/>
          <a:stretch/>
        </p:blipFill>
        <p:spPr>
          <a:xfrm>
            <a:off x="5410080" y="990720"/>
            <a:ext cx="2995560" cy="3666960"/>
          </a:xfrm>
          <a:prstGeom prst="rect">
            <a:avLst/>
          </a:prstGeom>
          <a:ln w="0">
            <a:noFill/>
          </a:ln>
        </p:spPr>
      </p:pic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Your Topic Goes He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67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gotapples"/>
          <p:cNvPicPr/>
          <p:nvPr/>
        </p:nvPicPr>
        <p:blipFill>
          <a:blip r:embed="rId1"/>
          <a:stretch/>
        </p:blipFill>
        <p:spPr>
          <a:xfrm>
            <a:off x="0" y="914400"/>
            <a:ext cx="2400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Your Topic Goes He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67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ookatchart"/>
          <p:cNvPicPr/>
          <p:nvPr/>
        </p:nvPicPr>
        <p:blipFill>
          <a:blip r:embed="rId2"/>
          <a:stretch/>
        </p:blipFill>
        <p:spPr>
          <a:xfrm>
            <a:off x="0" y="914400"/>
            <a:ext cx="2122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672520" y="93816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4872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>
            <a:hlinkClick r:id="rId1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171320" y="274320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imated .GI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091040" y="464832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ill Frame .P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visiting_the_doctor_sld"/>
          <p:cNvPicPr/>
          <p:nvPr/>
        </p:nvPicPr>
        <p:blipFill>
          <a:blip r:embed="rId2"/>
          <a:stretch/>
        </p:blipFill>
        <p:spPr>
          <a:xfrm>
            <a:off x="4267080" y="1257480"/>
            <a:ext cx="13716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13" descr="visiting_the_doctor_prt"/>
          <p:cNvPicPr/>
          <p:nvPr/>
        </p:nvPicPr>
        <p:blipFill>
          <a:blip r:embed="rId3"/>
          <a:stretch/>
        </p:blipFill>
        <p:spPr>
          <a:xfrm>
            <a:off x="7467480" y="1219320"/>
            <a:ext cx="13716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14" descr="visiting_the_doctor_qx"/>
          <p:cNvPicPr/>
          <p:nvPr/>
        </p:nvPicPr>
        <p:blipFill>
          <a:blip r:embed="rId4"/>
          <a:stretch/>
        </p:blipFill>
        <p:spPr>
          <a:xfrm>
            <a:off x="2666880" y="1257480"/>
            <a:ext cx="13716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15" descr="doctor_checking_throat_hg_clr"/>
          <p:cNvPicPr/>
          <p:nvPr/>
        </p:nvPicPr>
        <p:blipFill>
          <a:blip r:embed="rId5"/>
          <a:stretch/>
        </p:blipFill>
        <p:spPr>
          <a:xfrm>
            <a:off x="5605560" y="3048120"/>
            <a:ext cx="1252440" cy="153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doctor_examining_patient_hg_clr"/>
          <p:cNvPicPr/>
          <p:nvPr/>
        </p:nvPicPr>
        <p:blipFill>
          <a:blip r:embed="rId6"/>
          <a:stretch/>
        </p:blipFill>
        <p:spPr>
          <a:xfrm>
            <a:off x="3929040" y="3048120"/>
            <a:ext cx="1533600" cy="153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doctor_with_chart_hg_clr"/>
          <p:cNvPicPr/>
          <p:nvPr/>
        </p:nvPicPr>
        <p:blipFill>
          <a:blip r:embed="rId7"/>
          <a:stretch/>
        </p:blipFill>
        <p:spPr>
          <a:xfrm>
            <a:off x="3090960" y="3048120"/>
            <a:ext cx="709560" cy="153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gotapples"/>
          <p:cNvPicPr/>
          <p:nvPr/>
        </p:nvPicPr>
        <p:blipFill>
          <a:blip r:embed="rId8"/>
          <a:stretch/>
        </p:blipFill>
        <p:spPr>
          <a:xfrm>
            <a:off x="5638680" y="4876920"/>
            <a:ext cx="9604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lookatchart"/>
          <p:cNvPicPr/>
          <p:nvPr/>
        </p:nvPicPr>
        <p:blipFill>
          <a:blip r:embed="rId9"/>
          <a:stretch/>
        </p:blipFill>
        <p:spPr>
          <a:xfrm>
            <a:off x="4495680" y="4952880"/>
            <a:ext cx="76536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thisisthechart"/>
          <p:cNvPicPr/>
          <p:nvPr/>
        </p:nvPicPr>
        <p:blipFill>
          <a:blip r:embed="rId10"/>
          <a:stretch/>
        </p:blipFill>
        <p:spPr>
          <a:xfrm>
            <a:off x="3041640" y="4952880"/>
            <a:ext cx="12002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4:16:57Z</dcterms:created>
  <dc:creator/>
  <dc:description/>
  <cp:keywords/>
  <dc:language>en-US</dc:language>
  <cp:lastModifiedBy>a</cp:lastModifiedBy>
  <dcterms:modified xsi:type="dcterms:W3CDTF">2015-07-21T02:50:09Z</dcterms:modified>
  <cp:revision>9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