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4F4-13A9-427E-BD78-8A2F8E64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D11-EB04-49AE-9BE3-10C3F25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930-41AC-404F-9DE3-E38F5B8C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CAA-FE29-4D18-BF4A-0EE20350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54E7-7806-415C-BB89-9B6BFAB5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680F-CF91-4866-B1DF-A6A6BA5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6EE4-37E0-461B-B2F5-03DCE4E1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25E-5457-4E27-A6B3-2AB7D1CA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3DF-3156-4B32-B77E-C27D3CC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B34-2647-48B8-A869-0C9BCAC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8EF-B990-4A98-8E5F-A0C77B4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1D0-8CF1-4460-8847-5559D45D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9873-3154-4CD8-BAE8-0943D47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EC6-B54D-4D26-A403-639DC77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B8C-83EE-428A-87EA-3648F52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8D1D-96D0-4E39-B4E5-5EA84EDF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8D52-3E1C-40A5-AF9D-921B42AC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2357-57D5-4B60-BE4E-6B0DE496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9945-031E-448B-B6AC-CF4D9CB3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DEDD-C1B9-4CA7-910D-6FF00F7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811E-2904-47BF-8EDB-CC107B5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032B-C87C-45F9-AEA5-DC279B0E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47F-19E8-4A52-B624-B61EDF6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21CB-57C5-4427-A520-6368182B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D782-6A93-44C1-8465-DE727BB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8DC2-D156-4C26-AB44-D4158B1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3C54-7036-4601-8780-CBC3C8B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8E0B-E493-4CE0-9098-45AC1D2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2103-106C-4658-BA61-B4748ACF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CD3F-3423-4F8A-AA0E-DF32D70B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DFF-3233-4EA8-8F95-A49DEE7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C84-F663-4BDE-95BF-D40A6B3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CF7-47D9-4D78-838B-821BB84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693-C5A4-44AD-B91C-8B667D3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083-60D3-4D68-B83C-8C80CC1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2C1-96E7-4FFE-9177-8E5F665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B188-272C-43C2-BC3B-AB2C217A4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681-6479-431A-877B-C4ADFA4910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71F-F33A-45AD-960A-37AE11FC46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46280" y="1483920"/>
            <a:ext cx="464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华文中宋"/>
                <a:ea typeface="华文中宋"/>
              </a:rPr>
              <a:t>纪昌学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2577600" y="3492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寓言两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untitle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60" y="3375000"/>
            <a:ext cx="2592720" cy="3468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268360" y="12700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你想要学射箭，首先应该下功夫练眼力。眼睛要牢牢地盯住一个目标，不能眨一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40000" y="32860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"/>
              </a:rPr>
              <a:t>虽然你已经取得了不小的成绩，但你的眼力还不够。等到练得能够把极小的东西，看成一件很大的东西的时候，你再来见我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18057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　  </a:t>
            </a:r>
            <a:r>
              <a:rPr b="0" lang="zh-CN" sz="4000" spc="-1" strike="noStrike">
                <a:solidFill>
                  <a:srgbClr val="333399"/>
                </a:solidFill>
                <a:latin typeface="华文中宋"/>
                <a:ea typeface="华文中宋"/>
              </a:rPr>
              <a:t>假如纪昌没跟飞卫学射，而跟一个普通箭手学射，会成为射箭能手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>
            <a:hlinkClick r:id="rId1" action="ppaction://hlinksldjump"/>
          </p:cNvPr>
          <p:cNvSpPr/>
          <p:nvPr/>
        </p:nvSpPr>
        <p:spPr>
          <a:xfrm>
            <a:off x="395280" y="453816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学习本领和好老师的指导与自己的努力是分不开的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826920" y="134064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0" lang="zh-CN" sz="4000" spc="-1" strike="noStrike">
                <a:solidFill>
                  <a:srgbClr val="333399"/>
                </a:solidFill>
                <a:latin typeface="华文中宋"/>
                <a:ea typeface="华文中宋"/>
              </a:rPr>
              <a:t>假如纪昌不先练眼力，他会百发百中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42920" y="440892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0" lang="zh-CN" sz="3600" spc="-1" strike="noStrike">
                <a:solidFill>
                  <a:srgbClr val="ff7c80"/>
                </a:solidFill>
                <a:latin typeface="华文中宋"/>
                <a:ea typeface="华文中宋"/>
              </a:rPr>
              <a:t>学任何一项本领，都要有扎实的基本功。要想掌握射箭本领，就要先练眼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24000" y="119700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华文中宋"/>
                <a:ea typeface="华文中宋"/>
              </a:rPr>
              <a:t>读了这个故事，你懂得了什么道理？</a:t>
            </a:r>
            <a:r>
              <a:rPr b="0" lang="zh-CN" sz="4000" spc="-1" strike="noStrike">
                <a:solidFill>
                  <a:srgbClr val="333399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24000" y="2898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纪昌学射的故事，告诉我们学任何一项本领，都要有扎实的基本功。要想掌握射箭本领，就要先练眼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40194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要想掌握骑车本领，就要</a:t>
            </a:r>
            <a:r>
              <a:rPr b="0" lang="en-US" sz="3600" spc="-1" strike="noStrike">
                <a:solidFill>
                  <a:srgbClr val="0099ff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；要想掌握滑冰本领，就要</a:t>
            </a:r>
            <a:r>
              <a:rPr b="0" lang="en-US" sz="3600" spc="-1" strike="noStrike">
                <a:solidFill>
                  <a:srgbClr val="0099ff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；要想掌握操作电脑本领，就要</a:t>
            </a:r>
            <a:r>
              <a:rPr b="0" lang="en-US" sz="3600" spc="-1" strike="noStrike">
                <a:solidFill>
                  <a:srgbClr val="0099ff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；要想掌握</a:t>
            </a:r>
            <a:r>
              <a:rPr b="0" lang="en-US" sz="3600" spc="-1" strike="noStrike">
                <a:solidFill>
                  <a:srgbClr val="0099ff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，就要</a:t>
            </a:r>
            <a:r>
              <a:rPr b="0" lang="en-US" sz="3600" spc="-1" strike="noStrike">
                <a:solidFill>
                  <a:srgbClr val="0099ff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  <a:ea typeface="华文中宋"/>
              </a:rPr>
              <a:t>。你能举例说一说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68360" y="1125360"/>
            <a:ext cx="8207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3366"/>
                </a:solidFill>
                <a:latin typeface="楷体"/>
                <a:ea typeface="楷体"/>
              </a:rPr>
              <a:t>故事以生动的事例阐明了无论学什么技艺，都要从学习这门技艺的基本功入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200724183147354"/>
          <p:cNvPicPr/>
          <p:nvPr/>
        </p:nvPicPr>
        <p:blipFill>
          <a:blip r:embed="rId1"/>
          <a:stretch/>
        </p:blipFill>
        <p:spPr>
          <a:xfrm>
            <a:off x="5867280" y="3645000"/>
            <a:ext cx="3070440" cy="32353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2009227014669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280520" y="444600"/>
            <a:ext cx="28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练好基本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124000" y="1484280"/>
            <a:ext cx="55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丈高楼平地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筑之道贵基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磨刀不误砍柴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62920" y="3357720"/>
            <a:ext cx="40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坚持不懈，刻苦努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331080" y="4214880"/>
            <a:ext cx="422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绳锯木断，水滴石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路漫漫其修远兮，吾将上下而求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宝剑锋从磨砺出，梅花香自苦寒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200811171275855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1239840" y="404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布置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24000" y="177336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，此时，你们肯定有很多话想说，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飞卫的三次指导中，你想对飞卫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纪昌成了百发百中的神箭手，你想对纪昌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了这篇文章，你想对自己和同学们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613600" y="50133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任选一点写一次小练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守株待兔"/>
          <p:cNvPicPr/>
          <p:nvPr/>
        </p:nvPicPr>
        <p:blipFill>
          <a:blip r:embed="rId1"/>
          <a:stretch/>
        </p:blipFill>
        <p:spPr>
          <a:xfrm>
            <a:off x="539640" y="189000"/>
            <a:ext cx="748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hngmh2008060722"/>
          <p:cNvPicPr/>
          <p:nvPr/>
        </p:nvPicPr>
        <p:blipFill>
          <a:blip r:embed="rId1"/>
          <a:stretch/>
        </p:blipFill>
        <p:spPr>
          <a:xfrm>
            <a:off x="395280" y="476280"/>
            <a:ext cx="777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Arial"/>
              </a:rPr>
              <a:t>寓言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99ff"/>
                </a:solidFill>
                <a:latin typeface="Arial"/>
              </a:rPr>
              <a:t>寓言是文学作品的一种体裁，常带有讽刺或劝戒的性质，用假托的故事或拟人手法说明某个道理或教训。“寓”有“寄托”的意思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亡羊补牢 2"/>
          <p:cNvPicPr/>
          <p:nvPr/>
        </p:nvPicPr>
        <p:blipFill>
          <a:blip r:embed="rId1"/>
          <a:stretch/>
        </p:blipFill>
        <p:spPr>
          <a:xfrm>
            <a:off x="395280" y="0"/>
            <a:ext cx="7956720" cy="6669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9"/>
          <p:cNvSpPr/>
          <p:nvPr/>
        </p:nvSpPr>
        <p:spPr>
          <a:xfrm>
            <a:off x="5796000" y="53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098720" y="3254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4000" y="1916280"/>
            <a:ext cx="88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识记生字、词语，熟读课文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疏通文意，积累文言词语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感悟文中的道理，学习纪昌精神，从中受到启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纪昌   妻子   刺他   绑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虱子  扁鹊   理睬    肠胃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敷烫   几剂汤药    蔡桓公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自读自悟，把握内容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１轻声读课文，读准字音，读通句子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２思考：课文分为几部分，课文写了一件什么事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00724183147354"/>
          <p:cNvPicPr/>
          <p:nvPr/>
        </p:nvPicPr>
        <p:blipFill>
          <a:blip r:embed="rId1"/>
          <a:stretch/>
        </p:blipFill>
        <p:spPr>
          <a:xfrm>
            <a:off x="5724360" y="3860640"/>
            <a:ext cx="2710080" cy="2857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611280" y="83664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纪昌向飞卫请教（    ），飞卫让他先（     ）。一是练（     ），二是练（      ）。后来，纪昌成了（    ）的射箭能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404640"/>
            <a:ext cx="914400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纪昌向飞卫请教      ，飞卫让他先       。一是练  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二是练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纪昌都做到之后，飞卫才教他开弓放箭。后来，纪昌成了        的射箭能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857920" y="33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射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359800" y="112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练眼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249240" y="112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用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26160" y="1844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牢牢地盯住一个目标，不能眨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3036240" y="24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能够把极小的东西，看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782360" y="3141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件很大的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238040" y="44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百发百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8964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质疑交流，感情朗读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820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飞卫要求纪昌怎样做？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>
            <a:hlinkClick r:id="rId1" action="ppaction://hlinksldjump"/>
          </p:cNvPr>
          <p:cNvSpPr/>
          <p:nvPr/>
        </p:nvSpPr>
        <p:spPr>
          <a:xfrm>
            <a:off x="324000" y="2205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纪昌是怎么练习眼力的？假如纪昌不先练眼力，他会百发百中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>
            <a:hlinkClick r:id="rId2" action="ppaction://hlinksldjump"/>
          </p:cNvPr>
          <p:cNvSpPr/>
          <p:nvPr/>
        </p:nvSpPr>
        <p:spPr>
          <a:xfrm>
            <a:off x="250920" y="4797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读了这个故事，你懂得了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>
            <a:hlinkClick r:id="rId3" action="ppaction://hlinksldjump"/>
          </p:cNvPr>
          <p:cNvSpPr/>
          <p:nvPr/>
        </p:nvSpPr>
        <p:spPr>
          <a:xfrm>
            <a:off x="324000" y="342900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ffcc"/>
                </a:solidFill>
                <a:latin typeface="Arial"/>
              </a:rPr>
              <a:t>假如纪昌没跟飞卫学射，而跟一个普通箭手学射，会成为射箭能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200724183147354"/>
          <p:cNvPicPr/>
          <p:nvPr/>
        </p:nvPicPr>
        <p:blipFill>
          <a:blip r:embed="rId1"/>
          <a:stretch/>
        </p:blipFill>
        <p:spPr>
          <a:xfrm>
            <a:off x="0" y="-96840"/>
            <a:ext cx="6626160" cy="6977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008440" y="2421000"/>
            <a:ext cx="53985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妻子织布的时候，他躺在织布机下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睁大眼睛，注视着梭子来回穿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755640" y="3429000"/>
            <a:ext cx="7201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两年以后，纪昌的本领练得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相当到家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了——就是有人用针刺他的眼皮，他的眼睛也不会眨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008440" y="2421000"/>
            <a:ext cx="53985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妻子织布的时候，他躺在织布机下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睁大眼睛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注视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着梭子来回穿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845720" y="1125360"/>
            <a:ext cx="49107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他用一根长头发，绑住一只虱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把它吊在窗口。然后每天站在虱子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"/>
                <a:ea typeface="楷体"/>
              </a:rPr>
              <a:t>边，聚精会神地盯着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200724183147354"/>
          <p:cNvPicPr/>
          <p:nvPr/>
        </p:nvPicPr>
        <p:blipFill>
          <a:blip r:embed="rId1"/>
          <a:stretch/>
        </p:blipFill>
        <p:spPr>
          <a:xfrm>
            <a:off x="5867280" y="3645000"/>
            <a:ext cx="3070440" cy="3235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321200" y="2781360"/>
            <a:ext cx="564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"/>
              </a:rPr>
              <a:t>那只小虱子，在纪昌的眼里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"/>
              </a:rPr>
              <a:t>天大起来，练到后来，大得竟然像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"/>
              </a:rPr>
              <a:t>轮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2:15:07Z</dcterms:created>
  <dc:creator/>
  <dc:description/>
  <cp:keywords>幻灯片之家 http:/www.eeppt.com</cp:keywords>
  <dc:language>en-US</dc:language>
  <cp:lastModifiedBy/>
  <dcterms:modified xsi:type="dcterms:W3CDTF">2015-07-20T06:06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