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E8A-2016-4462-947F-F7C91EF1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2A3-409F-4E19-98C4-2F9708E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66D-9CB6-4B6B-8299-E17FD48D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89C-083A-4044-BBAA-7938177F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9784-9F60-4515-A17D-EC7FA060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79C-A913-4688-8F9B-371D5E12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114A-2E0C-4DB3-9AAB-B0F3923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FF3F-7F51-4103-93AE-6919CC7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174-C2E4-45A3-BB4B-98A09A93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93F1-F12F-4C19-8470-5B11FA28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53B-FD8D-48ED-8EA7-79B9D4E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C1E-F6D6-41A1-8B0D-EC6EDD8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9B4-D5A5-4313-A632-FA28301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E81C-ED35-4033-B43C-C470621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89E-7243-4E8E-8C1D-793A508D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269-03E7-4079-A00A-3BBBDC4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809D-4C62-4485-B89A-128A3410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350-E28C-4B60-B80E-B2BD216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345-8630-43C4-9DC8-2BB2A3D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E7E-C64B-48CB-A29C-1392A351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3C3-349B-4D83-902C-325008A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6A9-C15B-418E-8398-A2574C7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68C-75E9-437F-86DA-914F406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637-C675-4A7D-A01A-7BA0B33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67B5-3624-4E3C-9D7B-85176A4A58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B1F-C282-4E9F-93C5-DB8CB7389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C2E-A91B-471F-BB42-B7C191C535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878A-B77A-49F3-9B3C-6A2CD8E64C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u=2287152906,2937462981&amp;fm=21&amp;gp=0" descr=""/>
          <p:cNvPicPr/>
          <p:nvPr/>
        </p:nvPicPr>
        <p:blipFill>
          <a:blip r:embed="rId1"/>
          <a:stretch/>
        </p:blipFill>
        <p:spPr>
          <a:xfrm>
            <a:off x="165240" y="12600"/>
            <a:ext cx="8788320" cy="681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31600" y="50328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元硬币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A4B5-A136-4423-8492-CA2DCF6AF0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