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2C04-14FD-4392-AE8C-1A77DAB8E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B952-97D7-4EDD-B26F-D9B4083C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925C-EAA2-4013-85B4-AF0A8A673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38C6-3F5D-4B72-B827-F3CDCB770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45A7-5AA8-4EFE-B281-7D13871B9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B1F7-50BA-4130-97D4-EBA6F893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C548-1E8E-4A3F-8FCA-B4D13B82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8BBC-B840-4F81-B7AF-5FAF3A33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BA77-9E08-4EDD-A954-1C4473B5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993B-1AA8-4C90-9D3B-7DCC0767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9CF1-A9D4-4C86-B664-8609E89D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9D5B-7F13-4389-AD91-60DF7ABE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E049-7D1F-4B1F-9F48-9A8528F4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4874-3B7F-487C-AB87-4B12D8FA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0E03-BDDF-463A-BE26-A420A3F1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FB46-F4D1-484B-B2F1-865A7EED8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65B1-D2C3-45F3-9858-C9A10FDA5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EFE4-26D7-4958-A6D8-873A5522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49D5-044A-4901-8AD2-E7FE60F3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2F18-933D-4AEC-AD20-DD13C456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D6BA-4F2C-4691-8190-0CF80216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F0E6-F9AB-4D5A-AF25-FBA390FB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6DF3-84B0-4B88-BC2E-16EE685C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BD24-B410-4749-A73B-11A50B3C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9244-616C-4619-9EDD-2A1B8FD2D5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61D8-1345-484F-9377-447104DE1CA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4643280" y="4071960"/>
            <a:ext cx="52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4786200" y="507204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清爽主题及相关类别演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"/>
          <p:cNvSpPr/>
          <p:nvPr/>
        </p:nvSpPr>
        <p:spPr>
          <a:xfrm>
            <a:off x="2344680" y="90792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炫彩美景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1214280" y="100008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"/>
          <p:cNvSpPr/>
          <p:nvPr/>
        </p:nvSpPr>
        <p:spPr>
          <a:xfrm>
            <a:off x="1285920" y="4429080"/>
            <a:ext cx="35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9"/>
          <p:cNvSpPr/>
          <p:nvPr/>
        </p:nvSpPr>
        <p:spPr>
          <a:xfrm>
            <a:off x="6715080" y="4214880"/>
            <a:ext cx="14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0"/>
          <p:cNvSpPr/>
          <p:nvPr/>
        </p:nvSpPr>
        <p:spPr>
          <a:xfrm>
            <a:off x="3786120" y="4429080"/>
            <a:ext cx="35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8"/>
          <p:cNvSpPr/>
          <p:nvPr/>
        </p:nvSpPr>
        <p:spPr>
          <a:xfrm>
            <a:off x="1223640" y="10587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37119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/>
          <p:cNvSpPr/>
          <p:nvPr/>
        </p:nvSpPr>
        <p:spPr>
          <a:xfrm>
            <a:off x="66409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8"/>
          <p:cNvSpPr/>
          <p:nvPr/>
        </p:nvSpPr>
        <p:spPr>
          <a:xfrm>
            <a:off x="6712560" y="5572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8"/>
          <p:cNvSpPr/>
          <p:nvPr/>
        </p:nvSpPr>
        <p:spPr>
          <a:xfrm>
            <a:off x="3997800" y="5715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9"/>
          <p:cNvSpPr/>
          <p:nvPr/>
        </p:nvSpPr>
        <p:spPr>
          <a:xfrm>
            <a:off x="69267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1"/>
          <p:cNvSpPr/>
          <p:nvPr/>
        </p:nvSpPr>
        <p:spPr>
          <a:xfrm>
            <a:off x="242604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"/>
          <p:cNvSpPr/>
          <p:nvPr/>
        </p:nvSpPr>
        <p:spPr>
          <a:xfrm>
            <a:off x="228312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5"/>
          <p:cNvSpPr/>
          <p:nvPr/>
        </p:nvSpPr>
        <p:spPr>
          <a:xfrm>
            <a:off x="1191960" y="1000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7"/>
          <p:cNvSpPr/>
          <p:nvPr/>
        </p:nvSpPr>
        <p:spPr>
          <a:xfrm>
            <a:off x="6426720" y="5715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5"/>
          <p:cNvSpPr/>
          <p:nvPr/>
        </p:nvSpPr>
        <p:spPr>
          <a:xfrm>
            <a:off x="628380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755640" y="630864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4:19:3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