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14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819-0713-40B6-A100-2A99D8CA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A72-3FCA-4DD8-9A75-884053A2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30A-954D-4D49-B106-DFD4EE95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580-D282-41CC-8AF4-E3460985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77DB-6E51-4F78-863D-2FA97493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3B2B-FFFD-4058-BACE-F7B5427D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3C92-7068-46DF-961E-875D3944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E034-233D-4AD0-A608-40B5E8C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1F34-7ECB-4999-8F77-16243A5F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B1DA-21DE-4353-B781-7E84949A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7729-8FA8-49A0-A5A1-D587645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AC2-7FE8-4D59-AFF9-B402843B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5437-55A7-4BF7-82DC-03F8E680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EE12-7316-4E76-A5FF-FA2142B2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7785-21B1-4C4D-AE1A-A95812D3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FDEE-F7D6-4797-99C8-B0A33C43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CAE4-64B0-44C1-A6C4-4E0EDA23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55D-AE2F-48A5-8517-43F22E6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B46-62EC-44CF-B9D7-99D6EC64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EBA-71D4-498F-9681-09949BD3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EA3-A310-4903-9A02-B10252D6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B1E-9E3B-48EF-9BAB-42ECF78A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D27-C65A-4689-8778-0D4D9DCD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9AD-8217-40F6-932F-0C3D4BAA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CEEE-36CD-4F62-B5D8-FA124366A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8F67-A3C6-4584-9787-09995303B7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20041122141956122"/>
          <p:cNvPicPr/>
          <p:nvPr/>
        </p:nvPicPr>
        <p:blipFill>
          <a:blip r:embed="rId1"/>
          <a:srcRect l="0" t="0" r="51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828800" y="1828800"/>
            <a:ext cx="50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争吵</a:t>
            </a:r>
            <a:r>
              <a:rPr b="1" lang="en-US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后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不该那样做。克莱谛是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好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他绝对不会是故意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想起那次去他家玩，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帮助父母干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服侍生病的母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情形，还想起他来我家的时候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全家都诚心诚意的欢迎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父亲又是那么喜欢他的种种情形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38080" y="4343400"/>
            <a:ext cx="724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用眼角偷偷地看他，见他衣服肩上的线缝都开了，大概是因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扛多了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缘故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文化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月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到这里，我觉得克莱谛很可爱，心里暗暗说“去向他认错吧”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可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请原谅我”这几个字怎么也说不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4343400" y="3276720"/>
            <a:ext cx="2209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?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读一读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克莱谛不时用眼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，从他的眼里表示出来的不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愤怒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而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悲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又说：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在外边等着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！”我回答说：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也等着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！” 可我心里想着父亲对我说过的话：“要是你错了，别人打你，你千万不要还手，只要防御就是了。”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我心想：“我只是防御，绝不还手。”毕竟是心里有事，老师讲的功课我一句也没有听进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8390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容，是一束照射在冬日里的阳光，使误解这座冰雕融化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容，是一座亮丽在黑夜中的灯塔，使迷途者找到航行的港湾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容，是一缕飘飞在大地上的清风，使犯错者顿获一股清醒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20080318082116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0" y="152280"/>
            <a:ext cx="1676520" cy="1295640"/>
          </a:xfrm>
          <a:prstGeom prst="cloudCallout">
            <a:avLst>
              <a:gd name="adj1" fmla="val 78217"/>
              <a:gd name="adj2" fmla="val 43629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457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争吵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981080" y="175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的笔记本被弄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809880" y="1523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572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火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257800" y="1523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7339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1814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微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9436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5238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嫉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3276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312408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809880" y="3352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弄脏克莱谛的本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464832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脸红、举起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46483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缩回手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3429000" y="17524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2895480" y="35053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0"/>
          <p:cNvSpPr/>
          <p:nvPr/>
        </p:nvSpPr>
        <p:spPr>
          <a:xfrm>
            <a:off x="4343400" y="42670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438280" y="26668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15238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嫉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PM_001"/>
          <p:cNvPicPr/>
          <p:nvPr/>
        </p:nvPicPr>
        <p:blipFill>
          <a:blip r:embed="rId1"/>
          <a:stretch/>
        </p:blipFill>
        <p:spPr>
          <a:xfrm>
            <a:off x="0" y="0"/>
            <a:ext cx="11412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826920" y="1341360"/>
            <a:ext cx="64818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石匠   抄写  墨水   故意  报复   缩回   诚心诚意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承认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缘故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愤怒   独自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戒尺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不料   既然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嫉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哼（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ng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） 胳膊肘 服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20080318082116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7"/>
          <p:cNvSpPr/>
          <p:nvPr/>
        </p:nvSpPr>
        <p:spPr>
          <a:xfrm>
            <a:off x="228600" y="152280"/>
            <a:ext cx="1066680" cy="1676520"/>
          </a:xfrm>
          <a:prstGeom prst="cloudCallout">
            <a:avLst>
              <a:gd name="adj1" fmla="val 95388"/>
              <a:gd name="adj2" fmla="val 4981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536400" y="457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争吵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213372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25146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39625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承认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624852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不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 rot="5400000">
            <a:off x="4685760" y="647280"/>
            <a:ext cx="457200" cy="403884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97"/>
                </a:lnTo>
                <a:cubicBezTo>
                  <a:pt x="10800" y="9797"/>
                  <a:pt x="16200" y="10697"/>
                  <a:pt x="21600" y="10697"/>
                </a:cubicBezTo>
                <a:cubicBezTo>
                  <a:pt x="16200" y="10697"/>
                  <a:pt x="10800" y="11597"/>
                  <a:pt x="10800" y="1249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41911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矛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莱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3276720" y="21337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5638680" y="21337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1447920" y="41148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时用眼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，从他眼里表现出来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是愤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悲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3429000" y="914400"/>
            <a:ext cx="4038480" cy="990720"/>
          </a:xfrm>
          <a:prstGeom prst="wedgeRoundRectCallout">
            <a:avLst>
              <a:gd name="adj1" fmla="val -59000"/>
              <a:gd name="adj2" fmla="val 4759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3581280" y="9907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是我没有骂他，没有做对不起他的事该有多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3733920" y="228600"/>
            <a:ext cx="5105160" cy="1371600"/>
          </a:xfrm>
          <a:prstGeom prst="wedgeRoundRectCallout">
            <a:avLst>
              <a:gd name="adj1" fmla="val -4416"/>
              <a:gd name="adj2" fmla="val 82523"/>
              <a:gd name="adj3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3809880" y="3049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心里暗暗说“去向他认错吧”，可是“请原谅我”这几个字怎么也说不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3"/>
          <p:cNvSpPr/>
          <p:nvPr/>
        </p:nvSpPr>
        <p:spPr>
          <a:xfrm>
            <a:off x="1371600" y="5181480"/>
            <a:ext cx="2590920" cy="914400"/>
          </a:xfrm>
          <a:prstGeom prst="wedgeRoundRectCallout">
            <a:avLst>
              <a:gd name="adj1" fmla="val 2819"/>
              <a:gd name="adj2" fmla="val -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295280" y="5257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所作所为的宽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5"/>
          <p:cNvSpPr/>
          <p:nvPr/>
        </p:nvSpPr>
        <p:spPr>
          <a:xfrm>
            <a:off x="4419720" y="5029200"/>
            <a:ext cx="2895480" cy="914400"/>
          </a:xfrm>
          <a:prstGeom prst="wedgeRoundRectCallout">
            <a:avLst>
              <a:gd name="adj1" fmla="val -39583"/>
              <a:gd name="adj2" fmla="val -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4343400" y="51055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所作所为觉得不可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3" descr="20080318082116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0"/>
          <p:cNvSpPr/>
          <p:nvPr/>
        </p:nvSpPr>
        <p:spPr>
          <a:xfrm>
            <a:off x="0" y="304920"/>
            <a:ext cx="1219320" cy="1447560"/>
          </a:xfrm>
          <a:prstGeom prst="cloudCallout">
            <a:avLst>
              <a:gd name="adj1" fmla="val 71222"/>
              <a:gd name="adj2" fmla="val 4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52280" y="685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1828800" y="18288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，安利柯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莱谛微笑着用手拨开戒尺，温和地对我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我们像从前那样做好朋友吧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236232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后我们再不吵架了，好吗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2362320" y="3809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也不了！再也不了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回答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9"/>
          <p:cNvSpPr/>
          <p:nvPr/>
        </p:nvSpPr>
        <p:spPr>
          <a:xfrm>
            <a:off x="1143000" y="4724280"/>
            <a:ext cx="2438280" cy="1447920"/>
          </a:xfrm>
          <a:prstGeom prst="wedgeEllipseCallout">
            <a:avLst>
              <a:gd name="adj1" fmla="val 50912"/>
              <a:gd name="adj2" fmla="val -80703"/>
            </a:avLst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14479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字后面不全用冒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PM_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"/>
          <p:cNvSpPr/>
          <p:nvPr/>
        </p:nvSpPr>
        <p:spPr>
          <a:xfrm>
            <a:off x="685800" y="404640"/>
            <a:ext cx="77724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宽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是幽深古井中一滴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晶莹剔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露珠；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宽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是倒映在大海中的那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一碧万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蓝天；宽容，是照射在冬日里的那一束阳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3004"/>
          <p:cNvPicPr/>
          <p:nvPr/>
        </p:nvPicPr>
        <p:blipFill>
          <a:blip r:embed="rId2"/>
          <a:stretch/>
        </p:blipFill>
        <p:spPr>
          <a:xfrm rot="1392600">
            <a:off x="5257440" y="152280"/>
            <a:ext cx="1095480" cy="17398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7"/>
          <p:cNvSpPr/>
          <p:nvPr/>
        </p:nvSpPr>
        <p:spPr>
          <a:xfrm>
            <a:off x="5562720" y="2514600"/>
            <a:ext cx="2819160" cy="3886200"/>
          </a:xfrm>
          <a:prstGeom prst="cloudCallout">
            <a:avLst>
              <a:gd name="adj1" fmla="val -37444"/>
              <a:gd name="adj2" fmla="val -75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095880" y="32767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假如克莱谛没有主动与“我”和好，事情会怎样发展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3" descr="20070923154904376"/>
          <p:cNvPicPr/>
          <p:nvPr/>
        </p:nvPicPr>
        <p:blipFill>
          <a:blip r:embed="rId1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WordArt 11"/>
          <p:cNvSpPr txBox="1"/>
          <p:nvPr/>
        </p:nvSpPr>
        <p:spPr>
          <a:xfrm rot="21419400">
            <a:off x="3192480" y="1152000"/>
            <a:ext cx="1913040" cy="4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总 结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133720" y="31240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5181480" y="3048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克莱谛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9051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不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5181480" y="3657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主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80988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吵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38098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36576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错就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34290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 flipH="1">
            <a:off x="342864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1"/>
          <p:cNvSpPr/>
          <p:nvPr/>
        </p:nvSpPr>
        <p:spPr>
          <a:xfrm rot="16200000">
            <a:off x="4267080" y="2895120"/>
            <a:ext cx="228600" cy="3124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RX_014"/>
          <p:cNvPicPr/>
          <p:nvPr/>
        </p:nvPicPr>
        <p:blipFill>
          <a:blip r:embed="rId1"/>
          <a:stretch/>
        </p:blipFill>
        <p:spPr>
          <a:xfrm>
            <a:off x="0" y="-171360"/>
            <a:ext cx="1260360" cy="2361960"/>
          </a:xfrm>
          <a:prstGeom prst="rect">
            <a:avLst/>
          </a:prstGeom>
          <a:ln w="0">
            <a:noFill/>
          </a:ln>
        </p:spPr>
      </p:pic>
      <p:pic>
        <p:nvPicPr>
          <p:cNvPr id="293" name="WordArt 3" descr=""/>
          <p:cNvPicPr/>
          <p:nvPr/>
        </p:nvPicPr>
        <p:blipFill>
          <a:blip r:embed="rId2"/>
          <a:stretch/>
        </p:blipFill>
        <p:spPr>
          <a:xfrm>
            <a:off x="1322280" y="0"/>
            <a:ext cx="4249800" cy="165276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4"/>
          <p:cNvGrpSpPr/>
          <p:nvPr/>
        </p:nvGrpSpPr>
        <p:grpSpPr>
          <a:xfrm>
            <a:off x="900000" y="1916280"/>
            <a:ext cx="1600200" cy="1600200"/>
            <a:chOff x="900000" y="1916280"/>
            <a:chExt cx="1600200" cy="1600200"/>
          </a:xfrm>
        </p:grpSpPr>
        <p:sp>
          <p:nvSpPr>
            <p:cNvPr id="295" name="Rectangle 5"/>
            <p:cNvSpPr/>
            <p:nvPr/>
          </p:nvSpPr>
          <p:spPr>
            <a:xfrm>
              <a:off x="900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6"/>
            <p:cNvSpPr/>
            <p:nvPr/>
          </p:nvSpPr>
          <p:spPr>
            <a:xfrm>
              <a:off x="900000" y="275436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7"/>
            <p:cNvSpPr/>
            <p:nvPr/>
          </p:nvSpPr>
          <p:spPr>
            <a:xfrm>
              <a:off x="173808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8"/>
          <p:cNvGrpSpPr/>
          <p:nvPr/>
        </p:nvGrpSpPr>
        <p:grpSpPr>
          <a:xfrm>
            <a:off x="971640" y="3860640"/>
            <a:ext cx="1600200" cy="1600200"/>
            <a:chOff x="971640" y="3860640"/>
            <a:chExt cx="1600200" cy="1600200"/>
          </a:xfrm>
        </p:grpSpPr>
        <p:sp>
          <p:nvSpPr>
            <p:cNvPr id="299" name="Rectangle 9"/>
            <p:cNvSpPr/>
            <p:nvPr/>
          </p:nvSpPr>
          <p:spPr>
            <a:xfrm>
              <a:off x="971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>
              <a:off x="971640" y="4698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1"/>
            <p:cNvSpPr/>
            <p:nvPr/>
          </p:nvSpPr>
          <p:spPr>
            <a:xfrm>
              <a:off x="180972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2"/>
          <p:cNvGrpSpPr/>
          <p:nvPr/>
        </p:nvGrpSpPr>
        <p:grpSpPr>
          <a:xfrm>
            <a:off x="2843280" y="1916280"/>
            <a:ext cx="1600200" cy="1600200"/>
            <a:chOff x="2843280" y="1916280"/>
            <a:chExt cx="1600200" cy="1600200"/>
          </a:xfrm>
        </p:grpSpPr>
        <p:sp>
          <p:nvSpPr>
            <p:cNvPr id="303" name="Rectangle 13"/>
            <p:cNvSpPr/>
            <p:nvPr/>
          </p:nvSpPr>
          <p:spPr>
            <a:xfrm>
              <a:off x="284328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>
              <a:off x="2843280" y="275436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368136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6"/>
          <p:cNvGrpSpPr/>
          <p:nvPr/>
        </p:nvGrpSpPr>
        <p:grpSpPr>
          <a:xfrm>
            <a:off x="4788000" y="1916280"/>
            <a:ext cx="1600200" cy="1600200"/>
            <a:chOff x="4788000" y="1916280"/>
            <a:chExt cx="1600200" cy="1600200"/>
          </a:xfrm>
        </p:grpSpPr>
        <p:sp>
          <p:nvSpPr>
            <p:cNvPr id="307" name="Rectangle 17"/>
            <p:cNvSpPr/>
            <p:nvPr/>
          </p:nvSpPr>
          <p:spPr>
            <a:xfrm>
              <a:off x="4788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4788000" y="275436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9"/>
            <p:cNvSpPr/>
            <p:nvPr/>
          </p:nvSpPr>
          <p:spPr>
            <a:xfrm>
              <a:off x="562608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20"/>
          <p:cNvGrpSpPr/>
          <p:nvPr/>
        </p:nvGrpSpPr>
        <p:grpSpPr>
          <a:xfrm>
            <a:off x="6804000" y="1916280"/>
            <a:ext cx="1600200" cy="1600200"/>
            <a:chOff x="6804000" y="1916280"/>
            <a:chExt cx="1600200" cy="1600200"/>
          </a:xfrm>
        </p:grpSpPr>
        <p:sp>
          <p:nvSpPr>
            <p:cNvPr id="311" name="Rectangle 21"/>
            <p:cNvSpPr/>
            <p:nvPr/>
          </p:nvSpPr>
          <p:spPr>
            <a:xfrm>
              <a:off x="6804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2"/>
            <p:cNvSpPr/>
            <p:nvPr/>
          </p:nvSpPr>
          <p:spPr>
            <a:xfrm>
              <a:off x="6804000" y="275436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764208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WordArt 24"/>
          <p:cNvSpPr txBox="1"/>
          <p:nvPr/>
        </p:nvSpPr>
        <p:spPr>
          <a:xfrm>
            <a:off x="2916360" y="206064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扛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5" name="WordArt 25"/>
          <p:cNvSpPr txBox="1"/>
          <p:nvPr/>
        </p:nvSpPr>
        <p:spPr>
          <a:xfrm>
            <a:off x="990720" y="205740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肩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16" name="Group 26"/>
          <p:cNvGrpSpPr/>
          <p:nvPr/>
        </p:nvGrpSpPr>
        <p:grpSpPr>
          <a:xfrm>
            <a:off x="2771640" y="3860640"/>
            <a:ext cx="1600200" cy="1600200"/>
            <a:chOff x="2771640" y="3860640"/>
            <a:chExt cx="1600200" cy="1600200"/>
          </a:xfrm>
        </p:grpSpPr>
        <p:sp>
          <p:nvSpPr>
            <p:cNvPr id="317" name="Rectangle 27"/>
            <p:cNvSpPr/>
            <p:nvPr/>
          </p:nvSpPr>
          <p:spPr>
            <a:xfrm>
              <a:off x="2771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8"/>
            <p:cNvSpPr/>
            <p:nvPr/>
          </p:nvSpPr>
          <p:spPr>
            <a:xfrm>
              <a:off x="2771640" y="4698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9"/>
            <p:cNvSpPr/>
            <p:nvPr/>
          </p:nvSpPr>
          <p:spPr>
            <a:xfrm>
              <a:off x="360972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30"/>
          <p:cNvGrpSpPr/>
          <p:nvPr/>
        </p:nvGrpSpPr>
        <p:grpSpPr>
          <a:xfrm>
            <a:off x="4716360" y="3860640"/>
            <a:ext cx="1600200" cy="1600200"/>
            <a:chOff x="4716360" y="3860640"/>
            <a:chExt cx="1600200" cy="1600200"/>
          </a:xfrm>
        </p:grpSpPr>
        <p:sp>
          <p:nvSpPr>
            <p:cNvPr id="321" name="Rectangle 31"/>
            <p:cNvSpPr/>
            <p:nvPr/>
          </p:nvSpPr>
          <p:spPr>
            <a:xfrm>
              <a:off x="471636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2"/>
            <p:cNvSpPr/>
            <p:nvPr/>
          </p:nvSpPr>
          <p:spPr>
            <a:xfrm>
              <a:off x="4716360" y="4698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3"/>
            <p:cNvSpPr/>
            <p:nvPr/>
          </p:nvSpPr>
          <p:spPr>
            <a:xfrm>
              <a:off x="555444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34"/>
          <p:cNvGrpSpPr/>
          <p:nvPr/>
        </p:nvGrpSpPr>
        <p:grpSpPr>
          <a:xfrm>
            <a:off x="6659640" y="3860640"/>
            <a:ext cx="1600200" cy="1600200"/>
            <a:chOff x="6659640" y="3860640"/>
            <a:chExt cx="1600200" cy="1600200"/>
          </a:xfrm>
        </p:grpSpPr>
        <p:sp>
          <p:nvSpPr>
            <p:cNvPr id="325" name="Rectangle 35"/>
            <p:cNvSpPr/>
            <p:nvPr/>
          </p:nvSpPr>
          <p:spPr>
            <a:xfrm>
              <a:off x="6659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6"/>
            <p:cNvSpPr/>
            <p:nvPr/>
          </p:nvSpPr>
          <p:spPr>
            <a:xfrm>
              <a:off x="6659640" y="4698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7"/>
            <p:cNvSpPr/>
            <p:nvPr/>
          </p:nvSpPr>
          <p:spPr>
            <a:xfrm>
              <a:off x="749772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WordArt 38"/>
          <p:cNvSpPr txBox="1"/>
          <p:nvPr/>
        </p:nvSpPr>
        <p:spPr>
          <a:xfrm>
            <a:off x="2971800" y="403848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戒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39"/>
          <p:cNvSpPr txBox="1"/>
          <p:nvPr/>
        </p:nvSpPr>
        <p:spPr>
          <a:xfrm>
            <a:off x="1143000" y="403848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毕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0" name="WordArt 40"/>
          <p:cNvSpPr txBox="1"/>
          <p:nvPr/>
        </p:nvSpPr>
        <p:spPr>
          <a:xfrm>
            <a:off x="4876920" y="411480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既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1" name="WordArt 41"/>
          <p:cNvSpPr txBox="1"/>
          <p:nvPr/>
        </p:nvSpPr>
        <p:spPr>
          <a:xfrm>
            <a:off x="6934320" y="213372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愤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2" name="WordArt 42"/>
          <p:cNvSpPr txBox="1"/>
          <p:nvPr/>
        </p:nvSpPr>
        <p:spPr>
          <a:xfrm>
            <a:off x="4952880" y="2133720"/>
            <a:ext cx="1295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缘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8390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宽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一束照射在冬日里的阳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误解这座冰雕融化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宽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一座亮丽在黑夜中的灯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迷途者找到航行的港湾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宽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一缕飘飞在大地上的清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犯错者顿获一股清醒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20050614104725534"/>
          <p:cNvPicPr/>
          <p:nvPr/>
        </p:nvPicPr>
        <p:blipFill>
          <a:blip r:embed="rId1">
            <a:alphaModFix amt="42000"/>
          </a:blip>
          <a:srcRect l="4328" t="2478" r="16386" b="4691"/>
          <a:stretch/>
        </p:blipFill>
        <p:spPr>
          <a:xfrm>
            <a:off x="179280" y="623880"/>
            <a:ext cx="8786880" cy="59720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611280" y="2060640"/>
            <a:ext cx="7488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、学会懂得人与人之间要相互宽容，团结友爱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、学习生字、新词；理解课文内容，知道课文写了一件什么事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、能联系课文内容，理解父亲说的话；有感情的朗读课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018"/>
          <p:cNvPicPr/>
          <p:nvPr/>
        </p:nvPicPr>
        <p:blipFill>
          <a:blip r:embed="rId2"/>
          <a:stretch/>
        </p:blipFill>
        <p:spPr>
          <a:xfrm>
            <a:off x="395280" y="981000"/>
            <a:ext cx="2664000" cy="11527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611280" y="112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我要做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107ec"/>
          <p:cNvPicPr/>
          <p:nvPr/>
        </p:nvPicPr>
        <p:blipFill>
          <a:blip r:embed="rId1">
            <a:lum bright="12000"/>
          </a:blip>
          <a:srcRect l="0" t="13858" r="178" b="15559"/>
          <a:stretch/>
        </p:blipFill>
        <p:spPr>
          <a:xfrm>
            <a:off x="250920" y="601560"/>
            <a:ext cx="8713800" cy="592308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395280" y="2057400"/>
            <a:ext cx="81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近：缘故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原因　愤怒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愤慨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服侍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侍候   悲哀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悲伤　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温和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和气　防御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防备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反：故意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无意　防御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进攻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　　   温和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凶狠　高尚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卑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018"/>
          <p:cNvPicPr/>
          <p:nvPr/>
        </p:nvPicPr>
        <p:blipFill>
          <a:blip r:embed="rId2"/>
          <a:stretch/>
        </p:blipFill>
        <p:spPr>
          <a:xfrm>
            <a:off x="179280" y="620640"/>
            <a:ext cx="3240360" cy="11527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395280" y="7002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近、反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107ec"/>
          <p:cNvPicPr/>
          <p:nvPr/>
        </p:nvPicPr>
        <p:blipFill>
          <a:blip r:embed="rId1">
            <a:lum bright="12000"/>
          </a:blip>
          <a:srcRect l="0" t="13858" r="178" b="15559"/>
          <a:stretch/>
        </p:blipFill>
        <p:spPr>
          <a:xfrm>
            <a:off x="0" y="0"/>
            <a:ext cx="9142560" cy="6878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018"/>
          <p:cNvPicPr/>
          <p:nvPr/>
        </p:nvPicPr>
        <p:blipFill>
          <a:blip r:embed="rId2"/>
          <a:stretch/>
        </p:blipFill>
        <p:spPr>
          <a:xfrm>
            <a:off x="179280" y="44280"/>
            <a:ext cx="2880000" cy="1152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很伤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抗击敌人的进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究竟；终归；到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对某方面比自己好的人心怀怨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打击批评自己或损害自己利益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事后悔恨不该这样或那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伺候；照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诚恳，真心实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84360" y="189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巧析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003320" y="977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缘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982800" y="1554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悲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1003320" y="2128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防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003320" y="2705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1055880" y="3281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嫉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35360" y="3857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1035360" y="44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1035360" y="5081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服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75400" y="5657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心诚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bedd6ddfb229c2c5882dd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10"/>
          <p:cNvSpPr txBox="1"/>
          <p:nvPr/>
        </p:nvSpPr>
        <p:spPr>
          <a:xfrm rot="210000">
            <a:off x="3123720" y="837720"/>
            <a:ext cx="243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想一想？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685800" y="2666880"/>
            <a:ext cx="4952880" cy="2895480"/>
            <a:chOff x="685800" y="2666880"/>
            <a:chExt cx="4952880" cy="2895480"/>
          </a:xfrm>
        </p:grpSpPr>
        <p:sp>
          <p:nvSpPr>
            <p:cNvPr id="91" name="Text Box 12"/>
            <p:cNvSpPr/>
            <p:nvPr/>
          </p:nvSpPr>
          <p:spPr>
            <a:xfrm>
              <a:off x="1295280" y="2666880"/>
              <a:ext cx="31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、谁与谁争吵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3"/>
            <p:cNvSpPr/>
            <p:nvPr/>
          </p:nvSpPr>
          <p:spPr>
            <a:xfrm>
              <a:off x="685800" y="2819160"/>
              <a:ext cx="380880" cy="27432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8440 h 2743200"/>
                <a:gd name="textAreaBottom" fmla="*/ 27147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62"/>
                    <a:pt x="10800" y="724"/>
                  </a:cubicBezTo>
                  <a:lnTo>
                    <a:pt x="10800" y="10076"/>
                  </a:lnTo>
                  <a:cubicBezTo>
                    <a:pt x="10800" y="10438"/>
                    <a:pt x="5400" y="10800"/>
                    <a:pt x="0" y="10800"/>
                  </a:cubicBezTo>
                  <a:cubicBezTo>
                    <a:pt x="5400" y="10800"/>
                    <a:pt x="10800" y="11162"/>
                    <a:pt x="10800" y="11524"/>
                  </a:cubicBezTo>
                  <a:lnTo>
                    <a:pt x="10800" y="20876"/>
                  </a:lnTo>
                  <a:cubicBezTo>
                    <a:pt x="10800" y="21238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1295280" y="365760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、他们为何争吵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5"/>
            <p:cNvSpPr/>
            <p:nvPr/>
          </p:nvSpPr>
          <p:spPr>
            <a:xfrm>
              <a:off x="1295280" y="4572000"/>
              <a:ext cx="43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、我与</a:t>
              </a:r>
              <a:r>
                <a:rPr b="1" lang="zh-CN" sz="2800" spc="-1" strike="noStrike">
                  <a:solidFill>
                    <a:srgbClr val="00cc00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克莱谛</a:t>
              </a:r>
              <a:r>
                <a:rPr b="1" lang="zh-CN" sz="2800" spc="-1" strike="noStrike">
                  <a:solidFill>
                    <a:srgbClr val="00cc00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争吵前            后的表现时怎样的，又是如何和好的呢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2"/>
          <p:cNvGrpSpPr/>
          <p:nvPr/>
        </p:nvGrpSpPr>
        <p:grpSpPr>
          <a:xfrm>
            <a:off x="4572000" y="2743200"/>
            <a:ext cx="3809520" cy="609480"/>
            <a:chOff x="4572000" y="2743200"/>
            <a:chExt cx="3809520" cy="609480"/>
          </a:xfrm>
        </p:grpSpPr>
        <p:sp>
          <p:nvSpPr>
            <p:cNvPr id="96" name="AutoShape 23"/>
            <p:cNvSpPr/>
            <p:nvPr/>
          </p:nvSpPr>
          <p:spPr>
            <a:xfrm>
              <a:off x="4748760" y="2743200"/>
              <a:ext cx="3632760" cy="609480"/>
            </a:xfrm>
            <a:prstGeom prst="wedgeRoundRectCallout">
              <a:avLst>
                <a:gd name="adj1" fmla="val -68342"/>
                <a:gd name="adj2" fmla="val -29685"/>
                <a:gd name="adj3" fmla="val 16667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4"/>
            <p:cNvSpPr/>
            <p:nvPr/>
          </p:nvSpPr>
          <p:spPr>
            <a:xfrm>
              <a:off x="4572000" y="2743200"/>
              <a:ext cx="36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我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与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克莱谛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6"/>
          <p:cNvGrpSpPr/>
          <p:nvPr/>
        </p:nvGrpSpPr>
        <p:grpSpPr>
          <a:xfrm>
            <a:off x="5029200" y="2514600"/>
            <a:ext cx="4114800" cy="2209680"/>
            <a:chOff x="5029200" y="2514600"/>
            <a:chExt cx="4114800" cy="2209680"/>
          </a:xfrm>
        </p:grpSpPr>
        <p:sp>
          <p:nvSpPr>
            <p:cNvPr id="99" name="AutoShape 37"/>
            <p:cNvSpPr/>
            <p:nvPr/>
          </p:nvSpPr>
          <p:spPr>
            <a:xfrm>
              <a:off x="5029200" y="2514600"/>
              <a:ext cx="4038480" cy="2209680"/>
            </a:xfrm>
            <a:prstGeom prst="wedgeRoundRectCallout">
              <a:avLst>
                <a:gd name="adj1" fmla="val -62226"/>
                <a:gd name="adj2" fmla="val 14296"/>
                <a:gd name="adj3" fmla="val 16667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8"/>
            <p:cNvSpPr/>
            <p:nvPr/>
          </p:nvSpPr>
          <p:spPr>
            <a:xfrm>
              <a:off x="5181480" y="2666880"/>
              <a:ext cx="3962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10377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克莱谛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不小心弄脏了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我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的笔记本，我为了报复，故意弄脏了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克莱谛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的本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20050524191026658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971640" y="1773360"/>
            <a:ext cx="7416720" cy="971640"/>
          </a:xfrm>
          <a:prstGeom prst="rect">
            <a:avLst/>
          </a:prstGeom>
          <a:solidFill>
            <a:srgbClr val="ffff99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　  </a:t>
            </a:r>
            <a:r>
              <a:rPr b="0" lang="zh-CN" sz="3600" spc="-1" strike="noStrike">
                <a:solidFill>
                  <a:srgbClr val="ff00ff"/>
                </a:solidFill>
                <a:latin typeface="Comic Sans MS"/>
                <a:ea typeface="华文中宋"/>
              </a:rPr>
              <a:t>“我”的笔记本被克莱蒂弄脏了。为了报复，“我”也把他的本子弄脏了。“我”很后悔这样做，但没有勇气向他承认错误。放学后，在克莱谛主动要求下，我们和好了。回到家，父亲又教育了我。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018"/>
          <p:cNvPicPr/>
          <p:nvPr/>
        </p:nvPicPr>
        <p:blipFill>
          <a:blip r:embed="rId2"/>
          <a:stretch/>
        </p:blipFill>
        <p:spPr>
          <a:xfrm>
            <a:off x="179280" y="692280"/>
            <a:ext cx="2592360" cy="8650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324000" y="6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11523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61128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16000" y="2997360"/>
            <a:ext cx="81723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他只是微笑着说：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不是故意的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我本来会相信他的，可是他的笑使我很不高兴。我想：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哼，得了奖，就自以为了不起了！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于是我想报复他，过了一会儿，我也碰了他一下，把他的本子也弄脏了。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813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克莱谛把”我”的笔记本弄脏后，他是怎么做的？“我”又是怎样想、怎样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20050530195536858"/>
          <p:cNvPicPr/>
          <p:nvPr/>
        </p:nvPicPr>
        <p:blipFill>
          <a:blip r:embed="rId2"/>
          <a:stretch/>
        </p:blipFill>
        <p:spPr>
          <a:xfrm>
            <a:off x="7599240" y="2997360"/>
            <a:ext cx="17971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468360" y="3213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他的表现是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脸都红了，举起手又缩回去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脸红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说明他生气。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举起手又缩回去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，说明克莱谛不想把事情闹大，老师知道后，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会受到批评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11523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4"/>
          <p:cNvSpPr/>
          <p:nvPr/>
        </p:nvSpPr>
        <p:spPr>
          <a:xfrm>
            <a:off x="61128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9640" y="134136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当“我”故意把克莱谛的本子弄脏后，他是怎样表现的？为什么会这样？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20050605200138662"/>
          <p:cNvPicPr/>
          <p:nvPr/>
        </p:nvPicPr>
        <p:blipFill>
          <a:blip r:embed="rId2"/>
          <a:srcRect l="16490" t="2962" r="19695" b="1853"/>
          <a:stretch/>
        </p:blipFill>
        <p:spPr>
          <a:xfrm>
            <a:off x="7521480" y="2637000"/>
            <a:ext cx="1622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0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79280" y="2923920"/>
            <a:ext cx="806472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①</a:t>
            </a:r>
            <a:r>
              <a:rPr b="0" lang="en-US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觉得很不安，气也全消了。我很后悔，不该那样做。</a:t>
            </a:r>
            <a:r>
              <a:rPr b="0" lang="en-US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……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该有多好！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　   ②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认识到了自己做错了，可为什么不能向克莱谛道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　   （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觉得向他承认错误太丢脸了，也就没有勇气面对他，承认错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115236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61128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611280" y="1557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4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事情发生后，我又是怎样想的呢？请找出有关的句子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20050601185706223"/>
          <p:cNvPicPr/>
          <p:nvPr/>
        </p:nvPicPr>
        <p:blipFill>
          <a:blip r:embed="rId2"/>
          <a:srcRect l="16438" t="0" r="11011" b="546"/>
          <a:stretch/>
        </p:blipFill>
        <p:spPr>
          <a:xfrm>
            <a:off x="7488360" y="3716280"/>
            <a:ext cx="1655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5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5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395280" y="313992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克莱谛两次说这句话，是想让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上课的时候不要想这件事了，放学后再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解释清楚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第一次听到他说这句话时，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感到不安、觉得后悔；第二次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虽然认识到自己错了，心里想的仍是防御，并没有想到放学后主动向他认错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9363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611280" y="692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20050615145048329"/>
          <p:cNvPicPr/>
          <p:nvPr/>
        </p:nvPicPr>
        <p:blipFill>
          <a:blip r:embed="rId2"/>
          <a:stretch/>
        </p:blipFill>
        <p:spPr>
          <a:xfrm>
            <a:off x="7088040" y="620640"/>
            <a:ext cx="1784520" cy="2448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611280" y="1268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5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克莱谛为什么两次说“我在外边等着你！” ？“我”每次都是怎样领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77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0" dur="77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2" dur="77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05080" cy="8650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3"/>
          <p:cNvSpPr/>
          <p:nvPr/>
        </p:nvSpPr>
        <p:spPr>
          <a:xfrm>
            <a:off x="611280" y="692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20050911181952804"/>
          <p:cNvPicPr/>
          <p:nvPr/>
        </p:nvPicPr>
        <p:blipFill>
          <a:blip r:embed="rId2"/>
          <a:srcRect l="26377" t="31114" r="43377" b="-383"/>
          <a:stretch/>
        </p:blipFill>
        <p:spPr>
          <a:xfrm>
            <a:off x="0" y="3068640"/>
            <a:ext cx="1476360" cy="3166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1042920" y="2924280"/>
            <a:ext cx="73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从这件事可以看出克莱谛是一个宽容、友爱待人的好孩子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则是一个爱面子的孩子，最后被克莱谛的宽容、友爱精神所感动，承认了自己的错误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8436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6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从这件事情可以看得出来，克莱谛是个怎样的孩子。“我”呢？又是个怎样的孩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7" descr="20060211212332866"/>
          <p:cNvPicPr/>
          <p:nvPr/>
        </p:nvPicPr>
        <p:blipFill>
          <a:blip r:embed="rId3"/>
          <a:srcRect l="33521" t="0" r="30759" b="879"/>
          <a:stretch/>
        </p:blipFill>
        <p:spPr>
          <a:xfrm>
            <a:off x="7788240" y="765000"/>
            <a:ext cx="13557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8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f9d712a5f42d0d447b2c005b61744e54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79280" y="2276640"/>
            <a:ext cx="849816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    这句话说明了克莱谛对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故意报复的行为不以为然，既不生气，也不愤怒，而是感到可悲。同学之间为一件小事而报复别人，这值得吗？他满以为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会认识到自己的错误，甚至公开认错，但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却没有这样做，这使他为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感到可悲。可见克莱谛为人正派，人格高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018"/>
          <p:cNvPicPr/>
          <p:nvPr/>
        </p:nvPicPr>
        <p:blipFill>
          <a:blip r:embed="rId2"/>
          <a:stretch/>
        </p:blipFill>
        <p:spPr>
          <a:xfrm>
            <a:off x="108000" y="44280"/>
            <a:ext cx="2663640" cy="8636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5"/>
          <p:cNvSpPr/>
          <p:nvPr/>
        </p:nvSpPr>
        <p:spPr>
          <a:xfrm>
            <a:off x="324000" y="0"/>
            <a:ext cx="22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重点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11280" y="907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．克莱谛不时用眼睛瞟我，从他的眼里表示出来的不是愤怒，而是悲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f9d712a5f42d0d447b2c005b61744e54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018"/>
          <p:cNvPicPr/>
          <p:nvPr/>
        </p:nvPicPr>
        <p:blipFill>
          <a:blip r:embed="rId2"/>
          <a:stretch/>
        </p:blipFill>
        <p:spPr>
          <a:xfrm>
            <a:off x="34920" y="44280"/>
            <a:ext cx="2808360" cy="7923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1280" y="2205000"/>
            <a:ext cx="860436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这是父亲对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的批评和教育。话里包含着很深的做人道理：一个人既然知道自己做错了，就应该主动地向别人承认自己的错误，多做自我批评，求得别人的谅解，而不应该为了面子犹豫不决。当别人向自己表示和解时，应该多些理解和宽容，更不应该心存戒备和进行报复，这样，你才会拥有更多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-27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重点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324000" y="620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     </a:t>
            </a:r>
            <a:r>
              <a:rPr b="0" lang="en-US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．既然你错了，就应该第一个伸过手去请他原谅，更不应该向一个比你高尚的朋友举起戒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终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到了放学。我在街上独自走着，听见克莱谛从后面跟上来。我手里拿着戒尺站住等他。他走近了我，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举起戒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，安利柯！”克莱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微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着用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拨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戒尺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温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对我说：“让我们像从前那样做好朋友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愣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。我觉得有两只手搭在我的肩上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以后我们再不吵架了，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再也不了！再也不了！”我回答说。然后我们就高高兴兴地分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9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3bedd6ddfb229c2c5882dd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 rot="422400">
            <a:off x="380520" y="228600"/>
            <a:ext cx="5715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横线划出我的表现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波浪线划出克莱谛的表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12760" y="230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228600" y="1752480"/>
            <a:ext cx="85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我火了，骂了他一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是他的笑让我很不高兴。心想：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…”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于是我想报复他。过了一会儿，我也碰了他一下，把他的本子也弄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28600" y="4019400"/>
            <a:ext cx="856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我正抄着，坐在旁边的</a:t>
            </a:r>
            <a:r>
              <a:rPr b="0" lang="en-US" sz="3600" spc="-1" strike="noStrike">
                <a:solidFill>
                  <a:srgbClr val="210377"/>
                </a:solidFill>
                <a:latin typeface="Arial"/>
              </a:rPr>
              <a:t>……</a:t>
            </a: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自己也看不清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他微笑着说：“我不是故意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克莱谛气得脸都红了。</a:t>
            </a:r>
            <a:r>
              <a:rPr b="0" lang="en-US" sz="3600" spc="-1" strike="noStrike">
                <a:solidFill>
                  <a:srgbClr val="210377"/>
                </a:solidFill>
                <a:latin typeface="Arial"/>
              </a:rPr>
              <a:t>……</a:t>
            </a: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说：“我在外边等你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64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回到家里，我把这件事告诉了父亲，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想让父亲高兴一下，不料父亲把脸一沉，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既然你错了，就应该第一个伸过手去请他原谅，况且你不应该向一个比你高尚的朋友举起戒尺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说着从我手里夺过戒尺，折成两段，向墙角扔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RX_014"/>
          <p:cNvPicPr/>
          <p:nvPr/>
        </p:nvPicPr>
        <p:blipFill>
          <a:blip r:embed="rId1"/>
          <a:stretch/>
        </p:blipFill>
        <p:spPr>
          <a:xfrm>
            <a:off x="0" y="-171360"/>
            <a:ext cx="126036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3" descr=""/>
          <p:cNvPicPr/>
          <p:nvPr/>
        </p:nvPicPr>
        <p:blipFill>
          <a:blip r:embed="rId2"/>
          <a:stretch/>
        </p:blipFill>
        <p:spPr>
          <a:xfrm>
            <a:off x="1322280" y="0"/>
            <a:ext cx="4249800" cy="16527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4"/>
          <p:cNvGrpSpPr/>
          <p:nvPr/>
        </p:nvGrpSpPr>
        <p:grpSpPr>
          <a:xfrm>
            <a:off x="900000" y="1916280"/>
            <a:ext cx="1600200" cy="1600200"/>
            <a:chOff x="900000" y="1916280"/>
            <a:chExt cx="1600200" cy="1600200"/>
          </a:xfrm>
        </p:grpSpPr>
        <p:sp>
          <p:nvSpPr>
            <p:cNvPr id="109" name="Rectangle 5"/>
            <p:cNvSpPr/>
            <p:nvPr/>
          </p:nvSpPr>
          <p:spPr>
            <a:xfrm>
              <a:off x="900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>
              <a:off x="900000" y="275436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173808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8"/>
          <p:cNvGrpSpPr/>
          <p:nvPr/>
        </p:nvGrpSpPr>
        <p:grpSpPr>
          <a:xfrm>
            <a:off x="971640" y="3860640"/>
            <a:ext cx="1600200" cy="1600200"/>
            <a:chOff x="971640" y="3860640"/>
            <a:chExt cx="1600200" cy="1600200"/>
          </a:xfrm>
        </p:grpSpPr>
        <p:sp>
          <p:nvSpPr>
            <p:cNvPr id="113" name="Rectangle 9"/>
            <p:cNvSpPr/>
            <p:nvPr/>
          </p:nvSpPr>
          <p:spPr>
            <a:xfrm>
              <a:off x="971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971640" y="4698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180972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2843280" y="1916280"/>
            <a:ext cx="1600200" cy="1600200"/>
            <a:chOff x="2843280" y="1916280"/>
            <a:chExt cx="1600200" cy="1600200"/>
          </a:xfrm>
        </p:grpSpPr>
        <p:sp>
          <p:nvSpPr>
            <p:cNvPr id="117" name="Rectangle 13"/>
            <p:cNvSpPr/>
            <p:nvPr/>
          </p:nvSpPr>
          <p:spPr>
            <a:xfrm>
              <a:off x="284328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2843280" y="275436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368136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6"/>
          <p:cNvGrpSpPr/>
          <p:nvPr/>
        </p:nvGrpSpPr>
        <p:grpSpPr>
          <a:xfrm>
            <a:off x="4788000" y="1916280"/>
            <a:ext cx="1600200" cy="1600200"/>
            <a:chOff x="4788000" y="1916280"/>
            <a:chExt cx="1600200" cy="1600200"/>
          </a:xfrm>
        </p:grpSpPr>
        <p:sp>
          <p:nvSpPr>
            <p:cNvPr id="121" name="Rectangle 17"/>
            <p:cNvSpPr/>
            <p:nvPr/>
          </p:nvSpPr>
          <p:spPr>
            <a:xfrm>
              <a:off x="4788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8"/>
            <p:cNvSpPr/>
            <p:nvPr/>
          </p:nvSpPr>
          <p:spPr>
            <a:xfrm>
              <a:off x="4788000" y="275436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9"/>
            <p:cNvSpPr/>
            <p:nvPr/>
          </p:nvSpPr>
          <p:spPr>
            <a:xfrm>
              <a:off x="562608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6804000" y="1916280"/>
            <a:ext cx="1600200" cy="1600200"/>
            <a:chOff x="6804000" y="1916280"/>
            <a:chExt cx="1600200" cy="1600200"/>
          </a:xfrm>
        </p:grpSpPr>
        <p:sp>
          <p:nvSpPr>
            <p:cNvPr id="125" name="Rectangle 21"/>
            <p:cNvSpPr/>
            <p:nvPr/>
          </p:nvSpPr>
          <p:spPr>
            <a:xfrm>
              <a:off x="6804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2"/>
            <p:cNvSpPr/>
            <p:nvPr/>
          </p:nvSpPr>
          <p:spPr>
            <a:xfrm>
              <a:off x="6804000" y="275436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3"/>
            <p:cNvSpPr/>
            <p:nvPr/>
          </p:nvSpPr>
          <p:spPr>
            <a:xfrm>
              <a:off x="764208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WordArt 24"/>
          <p:cNvSpPr txBox="1"/>
          <p:nvPr/>
        </p:nvSpPr>
        <p:spPr>
          <a:xfrm>
            <a:off x="2916360" y="206064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替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1116000" y="206064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匠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0" name="Group 26"/>
          <p:cNvGrpSpPr/>
          <p:nvPr/>
        </p:nvGrpSpPr>
        <p:grpSpPr>
          <a:xfrm>
            <a:off x="2771640" y="3860640"/>
            <a:ext cx="1600200" cy="1600200"/>
            <a:chOff x="2771640" y="3860640"/>
            <a:chExt cx="1600200" cy="1600200"/>
          </a:xfrm>
        </p:grpSpPr>
        <p:sp>
          <p:nvSpPr>
            <p:cNvPr id="131" name="Rectangle 27"/>
            <p:cNvSpPr/>
            <p:nvPr/>
          </p:nvSpPr>
          <p:spPr>
            <a:xfrm>
              <a:off x="2771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8"/>
            <p:cNvSpPr/>
            <p:nvPr/>
          </p:nvSpPr>
          <p:spPr>
            <a:xfrm>
              <a:off x="2771640" y="4698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360972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0"/>
          <p:cNvGrpSpPr/>
          <p:nvPr/>
        </p:nvGrpSpPr>
        <p:grpSpPr>
          <a:xfrm>
            <a:off x="4716360" y="3860640"/>
            <a:ext cx="1600200" cy="1600200"/>
            <a:chOff x="4716360" y="3860640"/>
            <a:chExt cx="1600200" cy="1600200"/>
          </a:xfrm>
        </p:grpSpPr>
        <p:sp>
          <p:nvSpPr>
            <p:cNvPr id="135" name="Rectangle 31"/>
            <p:cNvSpPr/>
            <p:nvPr/>
          </p:nvSpPr>
          <p:spPr>
            <a:xfrm>
              <a:off x="471636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2"/>
            <p:cNvSpPr/>
            <p:nvPr/>
          </p:nvSpPr>
          <p:spPr>
            <a:xfrm>
              <a:off x="4716360" y="4698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3"/>
            <p:cNvSpPr/>
            <p:nvPr/>
          </p:nvSpPr>
          <p:spPr>
            <a:xfrm>
              <a:off x="555444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4"/>
          <p:cNvGrpSpPr/>
          <p:nvPr/>
        </p:nvGrpSpPr>
        <p:grpSpPr>
          <a:xfrm>
            <a:off x="6659640" y="3860640"/>
            <a:ext cx="1600200" cy="1600200"/>
            <a:chOff x="6659640" y="3860640"/>
            <a:chExt cx="1600200" cy="1600200"/>
          </a:xfrm>
        </p:grpSpPr>
        <p:sp>
          <p:nvSpPr>
            <p:cNvPr id="139" name="Rectangle 35"/>
            <p:cNvSpPr/>
            <p:nvPr/>
          </p:nvSpPr>
          <p:spPr>
            <a:xfrm>
              <a:off x="6659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6"/>
            <p:cNvSpPr/>
            <p:nvPr/>
          </p:nvSpPr>
          <p:spPr>
            <a:xfrm>
              <a:off x="6659640" y="4698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749772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WordArt 38"/>
          <p:cNvSpPr txBox="1"/>
          <p:nvPr/>
        </p:nvSpPr>
        <p:spPr>
          <a:xfrm>
            <a:off x="2971800" y="403848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缩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WordArt 39"/>
          <p:cNvSpPr txBox="1"/>
          <p:nvPr/>
        </p:nvSpPr>
        <p:spPr>
          <a:xfrm>
            <a:off x="1143000" y="403848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骂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WordArt 40"/>
          <p:cNvSpPr txBox="1"/>
          <p:nvPr/>
        </p:nvSpPr>
        <p:spPr>
          <a:xfrm>
            <a:off x="4876920" y="411480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承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WordArt 41"/>
          <p:cNvSpPr txBox="1"/>
          <p:nvPr/>
        </p:nvSpPr>
        <p:spPr>
          <a:xfrm>
            <a:off x="6934320" y="213372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墨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WordArt 42"/>
          <p:cNvSpPr txBox="1"/>
          <p:nvPr/>
        </p:nvSpPr>
        <p:spPr>
          <a:xfrm>
            <a:off x="4952880" y="2133720"/>
            <a:ext cx="1295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抄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20070923154904376"/>
          <p:cNvPicPr/>
          <p:nvPr/>
        </p:nvPicPr>
        <p:blipFill>
          <a:blip r:embed="rId1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981080" y="3049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05120" y="304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读一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371600" y="2209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2743200" y="4495680"/>
            <a:ext cx="5562720" cy="840600"/>
            <a:chOff x="2743200" y="4495680"/>
            <a:chExt cx="5562720" cy="840600"/>
          </a:xfrm>
        </p:grpSpPr>
        <p:sp>
          <p:nvSpPr>
            <p:cNvPr id="152" name="Text Box 7"/>
            <p:cNvSpPr/>
            <p:nvPr/>
          </p:nvSpPr>
          <p:spPr>
            <a:xfrm>
              <a:off x="4343400" y="48765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终于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到了放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2743200" y="48765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你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着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6858000" y="48765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家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312408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ā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502920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2"/>
            <p:cNvSpPr/>
            <p:nvPr/>
          </p:nvSpPr>
          <p:spPr>
            <a:xfrm>
              <a:off x="6934320" y="4495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ā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754380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ā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4"/>
          <p:cNvSpPr/>
          <p:nvPr/>
        </p:nvSpPr>
        <p:spPr>
          <a:xfrm>
            <a:off x="1447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音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20080318082116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3"/>
          <p:cNvSpPr/>
          <p:nvPr/>
        </p:nvSpPr>
        <p:spPr>
          <a:xfrm>
            <a:off x="0" y="152280"/>
            <a:ext cx="1676520" cy="1295640"/>
          </a:xfrm>
          <a:prstGeom prst="cloudCallout">
            <a:avLst>
              <a:gd name="adj1" fmla="val 78217"/>
              <a:gd name="adj2" fmla="val 43629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457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争吵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981080" y="175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的笔记本被弄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809880" y="1523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572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火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257800" y="1523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7339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814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微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9436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5238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嫉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3276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12408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809880" y="3352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弄脏克莱谛的本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脸红、举起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46483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缩回手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3429000" y="17524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2895480" y="35053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4343400" y="42670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2438280" y="26668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2"/>
          <p:cNvSpPr/>
          <p:nvPr/>
        </p:nvSpPr>
        <p:spPr>
          <a:xfrm>
            <a:off x="7010280" y="304920"/>
            <a:ext cx="1828800" cy="1981080"/>
          </a:xfrm>
          <a:prstGeom prst="wedgeRoundRectCallout">
            <a:avLst>
              <a:gd name="adj1" fmla="val -44532"/>
              <a:gd name="adj2" fmla="val 63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7010280" y="5335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只是微笑着说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不是故意的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4"/>
          <p:cNvSpPr/>
          <p:nvPr/>
        </p:nvSpPr>
        <p:spPr>
          <a:xfrm>
            <a:off x="2666880" y="152280"/>
            <a:ext cx="1905120" cy="1371600"/>
          </a:xfrm>
          <a:prstGeom prst="wedgeRoundRectCallout">
            <a:avLst>
              <a:gd name="adj1" fmla="val -42750"/>
              <a:gd name="adj2" fmla="val 7164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259092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坐在旁边的克莱谛忽然碰到我的胳膊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228600" y="4648320"/>
            <a:ext cx="2514600" cy="1828800"/>
          </a:xfrm>
          <a:prstGeom prst="wedgeRoundRectCallout">
            <a:avLst>
              <a:gd name="adj1" fmla="val 31689"/>
              <a:gd name="adj2" fmla="val -644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304920" y="4572000"/>
            <a:ext cx="23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0377"/>
                </a:solidFill>
                <a:latin typeface="Arial"/>
              </a:rPr>
              <a:t>他的笑让我很不高兴。我心想：</a:t>
            </a:r>
            <a:r>
              <a:rPr b="1" lang="zh-CN" sz="2400" spc="-1" strike="noStrike">
                <a:solidFill>
                  <a:srgbClr val="210377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210377"/>
                </a:solidFill>
                <a:latin typeface="Arial"/>
              </a:rPr>
              <a:t>哼，不就是得了奖，有什么了不起！</a:t>
            </a:r>
            <a:r>
              <a:rPr b="1" lang="zh-CN" sz="2400" spc="-1" strike="noStrike">
                <a:solidFill>
                  <a:srgbClr val="210377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8"/>
          <p:cNvSpPr/>
          <p:nvPr/>
        </p:nvSpPr>
        <p:spPr>
          <a:xfrm>
            <a:off x="6705720" y="2971800"/>
            <a:ext cx="2286000" cy="2209680"/>
          </a:xfrm>
          <a:prstGeom prst="wedgeRoundRectCallout">
            <a:avLst>
              <a:gd name="adj1" fmla="val -66875"/>
              <a:gd name="adj2" fmla="val -2342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67057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0377"/>
                </a:solidFill>
                <a:latin typeface="Arial"/>
              </a:rPr>
              <a:t>我想报复他。过了一会儿，我也碰了他一下，把他的本子也弄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0"/>
          <p:cNvSpPr/>
          <p:nvPr/>
        </p:nvSpPr>
        <p:spPr>
          <a:xfrm>
            <a:off x="6019920" y="4952880"/>
            <a:ext cx="2590560" cy="1600200"/>
          </a:xfrm>
          <a:prstGeom prst="wedgeRoundRectCallout">
            <a:avLst>
              <a:gd name="adj1" fmla="val -53245"/>
              <a:gd name="adj2" fmla="val -75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6095880" y="5029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莱谛气的脸都红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这是故意的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着就举起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2"/>
          <p:cNvSpPr/>
          <p:nvPr/>
        </p:nvSpPr>
        <p:spPr>
          <a:xfrm>
            <a:off x="4876920" y="0"/>
            <a:ext cx="2438280" cy="1066680"/>
          </a:xfrm>
          <a:prstGeom prst="wedgeRoundRectCallout">
            <a:avLst>
              <a:gd name="adj1" fmla="val -22787"/>
              <a:gd name="adj2" fmla="val 105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3"/>
          <p:cNvSpPr/>
          <p:nvPr/>
        </p:nvSpPr>
        <p:spPr>
          <a:xfrm>
            <a:off x="4952880" y="228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0377"/>
                </a:solidFill>
                <a:latin typeface="Arial"/>
              </a:rPr>
              <a:t>我火了，骂了他一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15238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嫉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5"/>
          <p:cNvSpPr/>
          <p:nvPr/>
        </p:nvSpPr>
        <p:spPr>
          <a:xfrm>
            <a:off x="2743200" y="5562720"/>
            <a:ext cx="2971800" cy="1295280"/>
          </a:xfrm>
          <a:prstGeom prst="wedgeRoundRectCallout">
            <a:avLst>
              <a:gd name="adj1" fmla="val 39421"/>
              <a:gd name="adj2" fmla="val -6715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2819520" y="5670720"/>
            <a:ext cx="30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莱谛急忙缩回手去，说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在外边等你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7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14200" y="2997000"/>
            <a:ext cx="6337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吵架的原因是克莱谛不小心把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的笔记本弄脏了，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嫉妒他得奖，为了报复他，也故意弄脏了他的本子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1152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1128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619280" y="1700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“我”和克莱谛因为什么事而争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9"/>
          <p:cNvPicPr/>
          <p:nvPr/>
        </p:nvPicPr>
        <p:blipFill>
          <a:blip r:embed="rId2"/>
          <a:srcRect l="6200" t="9506" r="50750" b="988"/>
          <a:stretch/>
        </p:blipFill>
        <p:spPr>
          <a:xfrm>
            <a:off x="179280" y="1916280"/>
            <a:ext cx="1224000" cy="33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9"/>
          <p:cNvPicPr/>
          <p:nvPr/>
        </p:nvPicPr>
        <p:blipFill>
          <a:blip r:embed="rId3"/>
          <a:srcRect l="54650" t="7654" r="5350" b="-802"/>
          <a:stretch/>
        </p:blipFill>
        <p:spPr>
          <a:xfrm>
            <a:off x="7596360" y="1916280"/>
            <a:ext cx="1296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觉得很不安，气也全消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3:20:21Z</dcterms:created>
  <dc:creator/>
  <dc:description/>
  <cp:keywords>幻灯片之家 http:/www.eeppt.com</cp:keywords>
  <dc:language>en-US</dc:language>
  <cp:lastModifiedBy/>
  <dcterms:modified xsi:type="dcterms:W3CDTF">2015-07-20T06:17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