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EF0-B841-4097-96D2-5BBF8F1E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BE3-494E-41B2-B4F0-A2C0F6AE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1E7-81CB-43DE-A327-E076FF3C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AB3-B2BF-46C5-8119-A64DEC39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FD9-C664-43A0-9E9F-0B5CF1DA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B27-73F6-458C-B911-2A18A412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3C0-5DAD-4B81-8F07-E6135F2E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969-F153-4F38-8EE4-4905A8FB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03B-ABF8-43C3-B173-1774C1BC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557-4FC3-4DCB-ACDA-10E2367B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E63-ED90-4402-9C5D-3EE52EA9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DE9-4A1F-43D2-AA29-BABB063D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6233-0201-4230-A899-D2C6034CF6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1371600" y="1125360"/>
            <a:ext cx="6248520" cy="19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祖父的园子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kt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164304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52280" y="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这几句话中，你体会到了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3672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祖父的园子里昆虫丰富多彩；昆虫非常可爱；祖父的园子充满生机、热闹、美丽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我对园子非常喜爱，难以忘怀。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yu5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16430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80880" y="297180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22860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539640" y="36036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”在园子里到底是玩还是干活？你从中感受到了什么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7760" y="2652480"/>
            <a:ext cx="906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“我”在园子里干活就是玩，玩就是干活，反正都充满了欢乐。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95280" y="1700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祖父戴一顶大草帽，我戴一顶小草帽。祖父栽花，我就栽花；祖父拔草，我就拔草。当祖父下种，种小白菜的时候，我就跟在后边，把那下了种的土窝，用脚一个一个地溜平。哪里会溜得准，东一脚西一脚地瞎闹。有时不单菜种没被土盖上，反而被我踢飞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767960" y="403920"/>
            <a:ext cx="53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你觉得“我”在祖父园子里做的事情哪一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最有趣？说说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5280" y="1700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祖父铲地，我也铲地。因为我太小，拿不动锄头杆，祖父就把锄头杆拔下来，让我单拿着那个锄头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铲。其实哪里是铲，也不过爬在地上，用锄头乱勾一阵就是了。也认不得哪个是苗，哪个是草，往往把韭菜当作野草一起割掉，把狗尾草当做谷穗留着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767960" y="403920"/>
            <a:ext cx="53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你觉得“我”在祖父园子里做的事情哪一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最有趣？说说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96F-C4D1-4F16-851D-83AE1DF7D6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468360" y="2133720"/>
            <a:ext cx="83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抬头看见一个黄瓜长大了，跑过去摘下来，我又去吃黄瓜去了。黄瓜还没有吃完，又看见一只大蜻蜒从旁边飞过，于是丢下黄瓜追蜻蜒了。跑了几步就又去做别的了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689120" y="403920"/>
            <a:ext cx="562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你觉得“我”在祖父园子里做的事情哪一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最有趣？说说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66560" y="18144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玩腻了，我又跑到祖父那里乱闹一阵。祖父浇菜，我也抢过来浇。不过我并不往菜上浇，而是拿着水瓢，拼尽了力气，把水往天空一扬，大喊着：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雨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雨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767960" y="403920"/>
            <a:ext cx="53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你觉得“我”在祖父园子里做的事情哪一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最有趣？说说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092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默读文章后面的几段话，你从中体会又到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50920" y="358920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切都活了，要做什么，就做什么。要怎么样，就怎么样，都是自由的。倭瓜愿意爬上架就爬上架，愿意爬上房就爬上房。黄瓜愿意开一谎花，就开一谎花，愿意结一个瓜，就结一个瓜。玉米愿意长多高就长多高，它若愿意长上天去，也没有人管。蝴蝶随意地飞，一会儿从墙头上飞来一对黄蝴蝶，一会儿又从墙头上飞走一只白蝴蝶。它们是从谁家来的，又飞到谁家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也不知道这个。只是天空蓝悠悠的，又高又远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50607095000140"/>
          <p:cNvPicPr/>
          <p:nvPr/>
        </p:nvPicPr>
        <p:blipFill>
          <a:blip r:embed="rId1"/>
          <a:stretch/>
        </p:blipFill>
        <p:spPr>
          <a:xfrm>
            <a:off x="0" y="-522360"/>
            <a:ext cx="9144000" cy="7380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64304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0492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04920" y="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你从中体会到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68360" y="569880"/>
            <a:ext cx="7515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2650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写园子里植物和动物的自由自在，表达“我”无拘无束、自由自在的快乐心情；所以，在“我”的眼里，园子里的一切都是自由、快乐的，都是那样美好，充满活力。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95280" y="1125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这些富有孩子气的语言，同样富有诗情画意，把世界在孩子心里的样子描绘出来了，在她的心中，倭瓜、黄瓜、玉米、蝴蝶都是有灵性的，都是做得了自己的主的，是自由快乐的，不受约束的，由着自己的性子生长的。它们的事情，人不去干涉，太阳也不过问。这样的感受，当然与作者的自由快乐是分不开的，用自由而富有灵性的心感知到的事物，才会如此无拘无束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1623960" y="26370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{3AB6AD8B-E135-4B72-9AD7-BE9599717F7D}"/>
          <p:cNvPicPr/>
          <p:nvPr/>
        </p:nvPicPr>
        <p:blipFill>
          <a:blip r:embed="rId1"/>
          <a:srcRect l="845" t="1102" r="0" b="0"/>
          <a:stretch/>
        </p:blipFill>
        <p:spPr>
          <a:xfrm>
            <a:off x="179280" y="606600"/>
            <a:ext cx="8785440" cy="6062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3635280" y="620640"/>
            <a:ext cx="51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萧红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191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隶书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942)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国现代著名女作家。黑龙江省呼兰县人，原名张乃莹。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935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在上海出版成名作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生死场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时，开始用萧红作笔名，蜚声文坛。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l94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发表了著名长篇小说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呼兰河传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在萧红不到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的创作生涯中，为祖国文学宝库留下了近百万字的作品，深受广大读者的喜爱，具有广泛而深远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753604710X0954804-fm"/>
          <p:cNvPicPr/>
          <p:nvPr/>
        </p:nvPicPr>
        <p:blipFill>
          <a:blip r:embed="rId2"/>
          <a:srcRect l="1633" t="14406" r="19767" b="20683"/>
          <a:stretch/>
        </p:blipFill>
        <p:spPr>
          <a:xfrm>
            <a:off x="324000" y="2060640"/>
            <a:ext cx="3260520" cy="388764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684360" y="907920"/>
            <a:ext cx="22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走近作者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eyurv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8600" y="2590920"/>
            <a:ext cx="9144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52280" y="0"/>
            <a:ext cx="899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-122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作者为什么能将她的童年生活写得那样有趣，真实，吸引读者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3550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作者留心观察生活，用心感受生活，并真实地表达自己的感受，把“我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小孩做的、想的、说的如实地写下来。这些事，只有小孩会这样做，这样说，具有真情实感。作者的描写具体生动，用了一系列的动作、语言，心理描写，使我们好像真正走进了园子，看到了“我”一样。因此，我们也要做生活的有心人，留心感受生活中的人、事、物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258920" y="549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书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050920" y="549360"/>
            <a:ext cx="34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胡兰河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258920" y="1197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66920" y="1197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萧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75080" y="2276640"/>
            <a:ext cx="11552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和祖父的园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1979640" y="2133720"/>
            <a:ext cx="71280" cy="3095640"/>
          </a:xfrm>
          <a:custGeom>
            <a:avLst/>
            <a:gdLst>
              <a:gd name="textAreaLeft" fmla="*/ 45720 w 71280"/>
              <a:gd name="textAreaRight" fmla="*/ 71640 w 7128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195640" y="2276640"/>
            <a:ext cx="187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园子的印象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282920" y="1844640"/>
            <a:ext cx="865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356000" y="1844640"/>
            <a:ext cx="863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4140360" y="2276640"/>
            <a:ext cx="93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昆虫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148360" y="206064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蜜蜂蝴蝶蜻蜓蚂蚱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050920" y="4149720"/>
            <a:ext cx="23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园子里的活动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4282920" y="3500280"/>
            <a:ext cx="73080" cy="1729080"/>
          </a:xfrm>
          <a:custGeom>
            <a:avLst/>
            <a:gdLst>
              <a:gd name="textAreaLeft" fmla="*/ 46800 w 73080"/>
              <a:gd name="textAreaRight" fmla="*/ 73440 w 7308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4500720" y="3429000"/>
            <a:ext cx="1223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栽 拔种 铲摘 吃追 采捉 浇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804000" y="1557360"/>
            <a:ext cx="71640" cy="3672000"/>
          </a:xfrm>
          <a:custGeom>
            <a:avLst/>
            <a:gdLst>
              <a:gd name="textAreaLeft" fmla="*/ 0 w 71640"/>
              <a:gd name="textAreaRight" fmla="*/ 25920 w 71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643080" y="1700280"/>
            <a:ext cx="9421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自由　快乐　幸福的乐园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萧红故居院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131302323779546"/>
          <p:cNvPicPr/>
          <p:nvPr/>
        </p:nvPicPr>
        <p:blipFill>
          <a:blip r:embed="rId1"/>
          <a:stretch/>
        </p:blipFill>
        <p:spPr>
          <a:xfrm>
            <a:off x="1447920" y="1295280"/>
            <a:ext cx="6229080" cy="46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萧红故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151302323779546"/>
          <p:cNvPicPr/>
          <p:nvPr/>
        </p:nvPicPr>
        <p:blipFill>
          <a:blip r:embed="rId1"/>
          <a:stretch/>
        </p:blipFill>
        <p:spPr>
          <a:xfrm>
            <a:off x="755640" y="974880"/>
            <a:ext cx="7848720" cy="53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萧红故居院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161302323779546"/>
          <p:cNvPicPr/>
          <p:nvPr/>
        </p:nvPicPr>
        <p:blipFill>
          <a:blip r:embed="rId1"/>
          <a:stretch/>
        </p:blipFill>
        <p:spPr>
          <a:xfrm>
            <a:off x="900000" y="1125360"/>
            <a:ext cx="7559640" cy="55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萧红塑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171302323779546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后花园磨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181302323779546"/>
          <p:cNvPicPr/>
          <p:nvPr/>
        </p:nvPicPr>
        <p:blipFill>
          <a:blip r:embed="rId1"/>
          <a:stretch/>
        </p:blipFill>
        <p:spPr>
          <a:xfrm>
            <a:off x="1403280" y="1184400"/>
            <a:ext cx="6913800" cy="52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203640" y="1052640"/>
            <a:ext cx="1081080" cy="503280"/>
          </a:xfrm>
          <a:custGeom>
            <a:avLst/>
            <a:gdLst>
              <a:gd name="textAreaLeft" fmla="*/ 31320 w 1081080"/>
              <a:gd name="textAreaRight" fmla="*/ 1049760 w 1081080"/>
              <a:gd name="textAreaTop" fmla="*/ 31320 h 503280"/>
              <a:gd name="textAreaBottom" fmla="*/ 47196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5031" y="1350"/>
                </a:lnTo>
                <a:lnTo>
                  <a:pt x="1350" y="135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5031" y="20250"/>
                </a:lnTo>
                <a:lnTo>
                  <a:pt x="45031" y="135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5031" y="2025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6381" h="21600">
                <a:moveTo>
                  <a:pt x="16147" y="7283"/>
                </a:moveTo>
                <a:lnTo>
                  <a:pt x="17065" y="7283"/>
                </a:lnTo>
                <a:lnTo>
                  <a:pt x="17450" y="7650"/>
                </a:lnTo>
                <a:lnTo>
                  <a:pt x="26708" y="7650"/>
                </a:lnTo>
                <a:lnTo>
                  <a:pt x="27268" y="8210"/>
                </a:lnTo>
                <a:lnTo>
                  <a:pt x="27268" y="8761"/>
                </a:lnTo>
                <a:lnTo>
                  <a:pt x="29123" y="8761"/>
                </a:lnTo>
                <a:lnTo>
                  <a:pt x="29490" y="8210"/>
                </a:lnTo>
                <a:lnTo>
                  <a:pt x="30234" y="8210"/>
                </a:lnTo>
                <a:lnTo>
                  <a:pt x="30234" y="13390"/>
                </a:lnTo>
                <a:lnTo>
                  <a:pt x="29490" y="13390"/>
                </a:lnTo>
                <a:lnTo>
                  <a:pt x="29123" y="12839"/>
                </a:lnTo>
                <a:lnTo>
                  <a:pt x="27268" y="12839"/>
                </a:lnTo>
                <a:lnTo>
                  <a:pt x="27268" y="14125"/>
                </a:lnTo>
                <a:lnTo>
                  <a:pt x="17634" y="14125"/>
                </a:lnTo>
                <a:lnTo>
                  <a:pt x="17634" y="9873"/>
                </a:lnTo>
                <a:lnTo>
                  <a:pt x="17450" y="9873"/>
                </a:lnTo>
                <a:lnTo>
                  <a:pt x="17065" y="10240"/>
                </a:lnTo>
                <a:lnTo>
                  <a:pt x="16147" y="1024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501420"/>
          <p:cNvPicPr/>
          <p:nvPr/>
        </p:nvPicPr>
        <p:blipFill>
          <a:blip r:embed="rId1"/>
          <a:stretch/>
        </p:blipFill>
        <p:spPr>
          <a:xfrm>
            <a:off x="5003640" y="1843200"/>
            <a:ext cx="2887920" cy="424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yuleft0905"/>
          <p:cNvPicPr/>
          <p:nvPr/>
        </p:nvPicPr>
        <p:blipFill>
          <a:blip r:embed="rId2"/>
          <a:stretch/>
        </p:blipFill>
        <p:spPr>
          <a:xfrm>
            <a:off x="971640" y="1844640"/>
            <a:ext cx="3095640" cy="4248360"/>
          </a:xfrm>
          <a:prstGeom prst="rect">
            <a:avLst/>
          </a:prstGeom>
          <a:ln w="0">
            <a:noFill/>
          </a:ln>
        </p:spPr>
      </p:pic>
      <p:sp>
        <p:nvSpPr>
          <p:cNvPr id="129" name="WordArt 5"/>
          <p:cNvSpPr txBox="1"/>
          <p:nvPr/>
        </p:nvSpPr>
        <p:spPr>
          <a:xfrm>
            <a:off x="468360" y="836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课外链接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60823248438194"/>
          <p:cNvPicPr/>
          <p:nvPr/>
        </p:nvPicPr>
        <p:blipFill>
          <a:blip r:embed="rId1">
            <a:lum bright="12000"/>
          </a:blip>
          <a:srcRect l="0" t="863" r="13474" b="33613"/>
          <a:stretch/>
        </p:blipFill>
        <p:spPr>
          <a:xfrm>
            <a:off x="179280" y="620640"/>
            <a:ext cx="8785440" cy="5889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539640" y="83664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萧红的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呼兰河传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是对故乡的一本回忆录。也就在写完后的一年，这个女子就从世间消失了，只有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岁。但她把她对乡土农家的爱恋，把她对生活的严肃思考，传达给了她的读者，世世代代的读者。在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呼兰河传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里，她用了许多的文字写了自己的童年，尤其重点描写了家里的园子，她称它为祖父的园子，自己的后花园。为什么她对园子如此念念不忘呢？这个园子给童年的萧红留下了什么呢？让我们随着作者美好的回忆，走进她魂牵梦绕的祖父的园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620640"/>
            <a:ext cx="8964720" cy="3871440"/>
          </a:xfrm>
          <a:prstGeom prst="rect">
            <a:avLst/>
          </a:prstGeom>
          <a:solidFill>
            <a:srgbClr val="ccff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用自己喜欢的方式读课文，整体感知课文内容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找出生字新词，注意读准字音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查字典，联系上下文，与同桌探讨，理解课文中的词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小组讨论，交流，作者回忆了童年时代在祖父的园子里快乐玩耍的哪些情景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2080" y="0"/>
            <a:ext cx="879156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wēng       kě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蚂蚱    蝴蝶   蜻蜓    翁翁    啃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īng    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p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   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ō        dū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樱桃    蚌壳   水瓢    倭瓜    嘟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下雨啰     光芒四射   蚯蚓    蝙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6430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979640" y="2133720"/>
            <a:ext cx="645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者回忆了童年时代在祖父的园子里快乐玩耍的哪些情景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979640" y="692280"/>
            <a:ext cx="669600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观赏小昆虫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跟随外祖父栽花，拔草，种菜，铲地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3 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误把狗尾草当谷穗留下不铲除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摘吃黄瓜，追逐蜻蜓，捉玩蚂蚱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用瓢舀水往天空扬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6 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沐浴阳光，感受花、鸟、果、虫的自由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7 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用草帽遮脸睡觉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73440" y="836640"/>
            <a:ext cx="394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763640" y="1052640"/>
            <a:ext cx="144360" cy="4752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23840 h 4752720"/>
              <a:gd name="textAreaBottom" fmla="*/ 4628880 h 47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83672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用自己喜欢的方式再读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体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园子里的心情是怎样的？你是从哪里体会到的？用笔勾出相关句子，并在旁边批注自己的体会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46960" y="62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再读提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4000" y="1166760"/>
            <a:ext cx="86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家有一个大园子，这园子里蜂子、蝴蝶、蜻蜓、蚂蚱，样样都有。蝴蝶有白蝴蝶、黄蝴蝶。这些蝴蝶极小，不太好看。好看的是大红蝴蝶，满身带着金粉。蜻蜓是金的，蚂蚱是绿的。蜂子则嗡嗡地飞着，满身绒毛，落到一朵花上，胖圆圆的就跟一个小毛球似的一动不动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39640" y="5543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从这几句话中，你体会到什么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从哪些词句中体会到的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1T06:40:02Z</dcterms:created>
  <dc:creator/>
  <dc:description/>
  <cp:keywords>幻灯片之家 http:/www.eeppt.com</cp:keywords>
  <dc:language>en-US</dc:language>
  <cp:lastModifiedBy/>
  <dcterms:modified xsi:type="dcterms:W3CDTF">2015-07-20T07:45:00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