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</p:sldIdLst>
  <p:sldSz cx="9144000" cy="60944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025D-4A4E-4AE1-BCD0-CBB5B18E0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822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523320"/>
            <a:ext cx="822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2731-2969-4931-A33C-C0C719D81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401580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422360"/>
            <a:ext cx="401580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00834B-DADF-45E7-93F9-E6D4FD403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747CB4-A4ED-4FD8-B6E2-CB4EFA656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229600" cy="471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4A1873-ABF4-4934-A7A0-17175FE8D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422360"/>
            <a:ext cx="401580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52332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78693E-E9E4-4158-A470-267418D0F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401580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42236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52332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1E7EDC-9863-469B-9FC5-C9996D2E4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42236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523320"/>
            <a:ext cx="822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551C01-07E8-4A85-9DBD-D92F42212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822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523320"/>
            <a:ext cx="822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2B76BD-5E52-448D-B00B-7909FE023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42236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52332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52332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FBB053-13DF-4678-AA2D-9968D25D9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264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422360"/>
            <a:ext cx="264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422360"/>
            <a:ext cx="264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523320"/>
            <a:ext cx="264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523320"/>
            <a:ext cx="264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523320"/>
            <a:ext cx="264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977112-1237-4449-B4F1-FD37C28E4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CAB2F2-5CAC-4F6E-AA38-FF71C55F5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2236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52332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52332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232A-40F3-44B5-8F1D-25B32109D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422360"/>
            <a:ext cx="82296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C708D5-4173-4CC5-9ABB-D628E526B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822960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F4B061-52E0-4410-84E0-D21C92EFF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401580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422360"/>
            <a:ext cx="401580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E0B355-E9FE-4D10-AD75-A73579C8A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0B792D-5243-417A-A28E-557C91656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229600" cy="471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077832-8DFF-4B8A-844A-BE1AF30C0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422360"/>
            <a:ext cx="401580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52332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1B8166-92B4-4226-90BA-65D5FC0A5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401580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42236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52332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2B9271-1009-4A0A-8FA3-15B2FEFA6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42236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523320"/>
            <a:ext cx="822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81B2D0-4798-49F6-8AF1-8A536D3EA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822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523320"/>
            <a:ext cx="822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9633D3-9708-4A92-8445-828BF7E35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42236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52332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52332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6DE5EB-6853-40D1-9524-4B086FA87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264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22360"/>
            <a:ext cx="264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22360"/>
            <a:ext cx="264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523320"/>
            <a:ext cx="264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523320"/>
            <a:ext cx="264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523320"/>
            <a:ext cx="264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1FE5-CD88-409A-9431-09AC4702F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264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422360"/>
            <a:ext cx="264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422360"/>
            <a:ext cx="264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523320"/>
            <a:ext cx="264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523320"/>
            <a:ext cx="264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523320"/>
            <a:ext cx="264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AC09C0-2397-49BB-B264-17FCF3928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82B4C0-6366-4873-AADE-058126D52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422360"/>
            <a:ext cx="82296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FDDC81-1DD6-405A-AA0E-D3167E724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822960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7B92B8-3110-4A5F-8B9F-883DAA168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401580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422360"/>
            <a:ext cx="401580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AFB4F6-3471-4ACA-8B79-4CDFA0633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DD5EFA-2225-45A8-9EC8-A1F2A10C6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229600" cy="471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62CF52-DC44-484B-A284-A8128A572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422360"/>
            <a:ext cx="401580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52332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74BB33-A2D6-4686-B6AD-EA4E94FD7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401580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42236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52332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18C33F-EDEC-4ADD-A3B6-C36598077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42236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523320"/>
            <a:ext cx="822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9612A0-D511-4DBF-A6DC-0C3FDB281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D7CE1-A0C4-483C-9199-408BCA9AF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822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523320"/>
            <a:ext cx="822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769757-CC1A-4348-8A41-41B6169C2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42236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52332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52332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86EDCA-430C-4152-ACCC-87D69EEF8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264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422360"/>
            <a:ext cx="264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422360"/>
            <a:ext cx="264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523320"/>
            <a:ext cx="264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523320"/>
            <a:ext cx="264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523320"/>
            <a:ext cx="264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0E7C78-9E16-4D72-BBFD-1B9ABC3E6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C0BA8A-56FC-4231-BAF2-AE5163B37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422360"/>
            <a:ext cx="82296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A60837-C2E2-4CFF-BABF-E8C87E894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822960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4ECCAC-59EF-4EB6-8024-2EDF300DC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401580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422360"/>
            <a:ext cx="401580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8377AD-E6CC-4B23-9FDB-7C650F3D1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53879A-7FD0-4736-AB3B-67BC4FB11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229600" cy="471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A09490-E944-40F7-9FB6-514E74331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422360"/>
            <a:ext cx="401580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52332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4A7378-1698-489F-BFE9-E37224DE0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422360"/>
            <a:ext cx="82296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44646-2406-4FF1-A19D-6C3EA8EF0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401580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42236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52332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E748FA-0186-44BF-BD61-52BEBBA2F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42236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523320"/>
            <a:ext cx="822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458511-A04E-46C2-BE13-48027EA77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822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523320"/>
            <a:ext cx="822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19FE19-4D66-49D6-AFCF-102250DEC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42236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52332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52332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39614C-E914-4A35-A78F-83D6720D8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264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422360"/>
            <a:ext cx="264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422360"/>
            <a:ext cx="264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523320"/>
            <a:ext cx="264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523320"/>
            <a:ext cx="264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523320"/>
            <a:ext cx="264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BB36F8-A689-4695-9B9A-11E10F044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8724DF-A3DD-49EE-AEC9-721A8FEFB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422360"/>
            <a:ext cx="82296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EB53B3-4CB3-4973-A912-01B9D2C1C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822960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F174E2-5E97-4B61-B66C-A7E205A92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401580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422360"/>
            <a:ext cx="401580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C0EAB2-0001-48B5-A066-AC2B57CB2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594072-90C1-4468-B61C-3E91324D7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822960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81CFC-D269-4DA7-9924-7F3E6AD82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229600" cy="471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092924-9961-4F18-B4CF-1E7988E04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422360"/>
            <a:ext cx="401580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52332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68407E-9304-4918-B6C1-2C46293BC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401580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42236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52332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8B662A-9C49-420B-A60C-49E0F5379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42236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523320"/>
            <a:ext cx="822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6597AA-A688-4CAA-8E74-75E561AB4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822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523320"/>
            <a:ext cx="822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413588-A133-4548-8338-9CCE57E3C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42236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52332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52332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A83E07-539F-4781-9C4E-979429ACC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264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422360"/>
            <a:ext cx="264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422360"/>
            <a:ext cx="264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523320"/>
            <a:ext cx="264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523320"/>
            <a:ext cx="264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523320"/>
            <a:ext cx="264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E05FCA-E79A-4058-A31F-D6ADABE94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78E6BA-E805-4090-8311-CD252B0C7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422360"/>
            <a:ext cx="82296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EC7D8F-F3FB-4B30-8ED8-D3791533A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822960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326834-54E5-4F5F-8C55-C77603E17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401580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22360"/>
            <a:ext cx="401580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313ED-3CB2-4810-8AC4-3C3561600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401580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422360"/>
            <a:ext cx="401580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685AF2-EC6B-4439-9A89-5C2CE6973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7F6B02-8167-4B20-9BC6-738305652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229600" cy="471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FFF79C6-4935-4634-85B5-20E0C6670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422360"/>
            <a:ext cx="401580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52332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7473AC-16BC-4646-B506-A11FC9573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401580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42236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52332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865FC7-F5D8-4FF1-A8C1-14D7B5C52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42236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523320"/>
            <a:ext cx="822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CD8C75D-6D49-4178-802F-C1780C79D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822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523320"/>
            <a:ext cx="822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B62A04-1086-4A72-92D2-B23DCC6F4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42236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52332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52332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08BDC7-3C07-4E14-A6B1-0E60398C7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264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422360"/>
            <a:ext cx="264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422360"/>
            <a:ext cx="264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523320"/>
            <a:ext cx="264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523320"/>
            <a:ext cx="264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523320"/>
            <a:ext cx="264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D877BA9-A227-49F1-914A-01F237891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FA09F-2552-4E43-9A44-BD1609181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229600" cy="471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082AE-7BD8-40EE-92C3-6E045DDE3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422360"/>
            <a:ext cx="401580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52332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AFDD0-62DB-4062-A3E7-71B1EC498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22360"/>
            <a:ext cx="82296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EB12-86B8-431C-B79D-064297808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401580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42236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52332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037A4-86E1-4860-BC5B-AC031C2E5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42236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523320"/>
            <a:ext cx="822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C339A-B87B-45A4-981E-0F2D93EB5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822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523320"/>
            <a:ext cx="822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7C598-21AD-4468-BA73-E063219C4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42236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52332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52332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6031C-C3BA-4FDC-AE2D-5CE54C05E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264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422360"/>
            <a:ext cx="264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422360"/>
            <a:ext cx="264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523320"/>
            <a:ext cx="264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523320"/>
            <a:ext cx="264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523320"/>
            <a:ext cx="264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DBCD6-46FE-4E78-8AC0-337F874D9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3C0671-3A1F-4669-88B8-4F8CF69C1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422360"/>
            <a:ext cx="82296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E55961-F927-4886-9F02-FD584DCCE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822960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981E5B-2062-4DB0-895C-9FF30ACAE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401580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422360"/>
            <a:ext cx="401580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9EE8DC-F516-4A1D-95FF-376A29B21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85DB52-EF93-4C05-AE50-B00E8D9B1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822960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C9FD-E01E-473D-9CFE-2624DB31C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229600" cy="471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D4264E-3483-4106-B6A8-56A44D992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422360"/>
            <a:ext cx="401580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52332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E3801A-8D19-48AC-BEAB-A8A4B08F1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401580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2236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52332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277126-6363-4EA3-AC12-00A85E1F1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2236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523320"/>
            <a:ext cx="822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F9B38D-7460-4B23-8B6D-AD9B863C7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822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523320"/>
            <a:ext cx="822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70DFC2-461B-49D7-9B0B-4E3D2677A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42236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52332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52332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90E0FE-D0EE-4D76-9D37-DB7F79F67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264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422360"/>
            <a:ext cx="264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422360"/>
            <a:ext cx="264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523320"/>
            <a:ext cx="264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523320"/>
            <a:ext cx="264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523320"/>
            <a:ext cx="264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31B98C-D675-4583-8E90-BA8C33F18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42BBC6-3635-4471-92C1-1BF72EA0D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422360"/>
            <a:ext cx="82296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4A58B2-BE95-4A9B-8F34-4CAB4527C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822960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27A9E4-9BA0-421E-A838-1DD483708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401580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22360"/>
            <a:ext cx="401580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DC5C-1CC8-4B51-8088-54AF731E1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401580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422360"/>
            <a:ext cx="401580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6E5BB3-2E1D-4DCB-9597-1D8ACC4AC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4EDA70-CB5F-4E31-BF87-BDCCD3B5B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229600" cy="471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8FA5C5-26CB-4150-A29A-A54D0C874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422360"/>
            <a:ext cx="401580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52332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A6505C-2088-4621-857A-6581D3110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401580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42236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52332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36DF21-80B3-4FF5-952A-D0F29FEB4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42236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523320"/>
            <a:ext cx="822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C0D4D4-9E15-4C8E-BF12-687D7ECFA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822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523320"/>
            <a:ext cx="822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0B826F-05A7-42E4-A3F6-D6BC3D9A2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42236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52332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52332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CB416A-1295-4401-AC6C-3DA36799B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264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422360"/>
            <a:ext cx="264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422360"/>
            <a:ext cx="264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523320"/>
            <a:ext cx="264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523320"/>
            <a:ext cx="264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523320"/>
            <a:ext cx="264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F85AD7-2331-417A-8338-1C7363953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EC95A0-AB15-49A9-A046-01B9E4279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5393-86B1-4CF1-9067-A90B112FA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422360"/>
            <a:ext cx="82296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3AC62C-33B5-488F-A833-E7F3CD1F8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822960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81B41E-70CC-4BF9-8F06-A0D1974FB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401580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22360"/>
            <a:ext cx="401580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E04FFD-2BD4-4AE5-9CC2-E31858133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776E2E-E769-49EB-86EA-CEB1654BD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229600" cy="471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B3B33B-F006-4D30-870F-7B31B2906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422360"/>
            <a:ext cx="401580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52332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C11741-A088-41A2-B0C3-B4BE3D8BF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401580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42236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52332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A8C620-1419-46BE-B234-82C636E08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42236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523320"/>
            <a:ext cx="822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4C35EA-AD72-4103-AAC1-779FD7089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822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523320"/>
            <a:ext cx="822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F46BB6-F544-4B21-A4E8-3DC3728F2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42236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52332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52332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EDF7A9-27E0-4B32-924E-E2C8E0E16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229600" cy="471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F471-EE1E-4634-88B6-893AE5015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264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422360"/>
            <a:ext cx="264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422360"/>
            <a:ext cx="264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523320"/>
            <a:ext cx="264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523320"/>
            <a:ext cx="264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523320"/>
            <a:ext cx="264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C4423F-2E3A-4C0A-9E48-49AF6E35C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6E165D-732D-42B2-841D-FA2CD3DA8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422360"/>
            <a:ext cx="82296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7230DB-F9DD-4B7E-B55F-94F2FE9EC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822960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030AF4-44C9-434E-A06C-012EFF7EF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401580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22360"/>
            <a:ext cx="401580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16694A-81C3-4D61-BA0E-FC481CF5B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5EC498-D1F6-47DC-AABC-1CBED4264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229600" cy="471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5F8B96-667A-4184-A8C0-9627407F5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422360"/>
            <a:ext cx="401580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52332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C2816C-5392-4E34-BDDB-1E4396E33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401580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42236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52332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A265BA-D6DA-46E3-93A3-8A747CE41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42236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523320"/>
            <a:ext cx="822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347CA9-EA41-4E55-B342-0A24391F7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22360"/>
            <a:ext cx="401580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52332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47A4-D474-4760-987D-685712C9F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822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523320"/>
            <a:ext cx="822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D7989B-664D-420E-BD3F-CC3426D1F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42236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52332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52332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1DEEDE-5482-4813-97D0-0D67535C9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264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422360"/>
            <a:ext cx="264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422360"/>
            <a:ext cx="264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523320"/>
            <a:ext cx="264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523320"/>
            <a:ext cx="264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523320"/>
            <a:ext cx="264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BF5EE1-014E-4603-A997-727899193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517D2D-17E0-4165-9704-4AFB91257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422360"/>
            <a:ext cx="82296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35717B-7E39-4D51-B80E-401D8C843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822960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B37FD5-000D-4B54-AFBD-DD874438A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401580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422360"/>
            <a:ext cx="401580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ACE310-0CC7-40A3-8671-AE2996ADB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5412A4-C1C4-4E20-A286-C082CB4AA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229600" cy="471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8FB43A-0A3D-44C1-A962-EF34C4066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422360"/>
            <a:ext cx="401580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52332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843EE3-47C9-4A2A-9A08-C6BB06659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401580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2236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52332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5E41-73EC-41E1-BCD2-24A7C33DC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401580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42236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52332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015A1F-AE8D-439E-A327-572CAF551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2236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523320"/>
            <a:ext cx="822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FDDE29-5E99-4521-B840-FEFFA6E51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822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523320"/>
            <a:ext cx="822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96B6DC-5E84-4B67-9A89-5E7D7FB49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42236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52332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52332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6A0C58-F229-4D78-93A8-B39DA9FAB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264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422360"/>
            <a:ext cx="264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422360"/>
            <a:ext cx="264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523320"/>
            <a:ext cx="264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523320"/>
            <a:ext cx="264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523320"/>
            <a:ext cx="264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57B90E-C437-4FB6-834A-19D8B6615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642531-886E-426A-B03F-6F59370D0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422360"/>
            <a:ext cx="82296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1F14EF-4F04-4C9F-B779-8A1144E8D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822960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E11190-6306-4F97-BBC6-883A6464E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401580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422360"/>
            <a:ext cx="401580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15DC0D-8A8A-4A93-8E59-C76D8EFE7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7A55C9-65CE-43BB-A96B-CF1B8F5BF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2236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523320"/>
            <a:ext cx="822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53DB-D4A4-4B69-8D74-8F7653D3E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229600" cy="471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75E43C-D9E3-4BAF-A339-9EF05AA9A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422360"/>
            <a:ext cx="401580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52332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9700B0-48ED-4035-8667-2148047F7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401580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42236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52332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CA301A-8BF6-493B-8E56-AA8C06C17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2236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523320"/>
            <a:ext cx="822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36C2AD-BD96-449C-9226-480307A2B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822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523320"/>
            <a:ext cx="822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70B4F0-B34C-4ECB-BABF-C448D0DE6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42236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52332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52332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BEC112-0E6E-41C6-8E3A-6CACFB0EC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264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422360"/>
            <a:ext cx="264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422360"/>
            <a:ext cx="264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523320"/>
            <a:ext cx="264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523320"/>
            <a:ext cx="264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523320"/>
            <a:ext cx="264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707C5F-F189-4325-8F59-784FE77A6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485C74-0C8E-4E5D-B1E5-E6EA940DD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422360"/>
            <a:ext cx="82296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B3BAFA-DFCA-4CC4-88A4-A1AFEA479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822960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F95F28-AB95-4150-8EAD-E019296E4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54380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7720" y="142236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040" y="5624280"/>
            <a:ext cx="167652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624280"/>
            <a:ext cx="28958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624280"/>
            <a:ext cx="17528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CB7B4-2EF7-4C01-B150-5685B3D5BC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422360"/>
            <a:ext cx="822960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0240" indent="-253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5920" indent="-203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422360" indent="-203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030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030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030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5649840"/>
            <a:ext cx="213372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5649840"/>
            <a:ext cx="289584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5649840"/>
            <a:ext cx="213372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03C8D-C9CD-498B-82AB-51BD5CF59B43}" type="slidenum">
              <a:rPr b="0" lang="zh-CN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422360"/>
            <a:ext cx="822960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0240" indent="-253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5920" indent="-203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422360" indent="-203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030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030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030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5649840"/>
            <a:ext cx="213372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5649840"/>
            <a:ext cx="289584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5649840"/>
            <a:ext cx="213372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5EE87-A152-4B13-8CAD-3577903984B4}" type="slidenum">
              <a:rPr b="0" lang="zh-CN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422360"/>
            <a:ext cx="822960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0240" indent="-253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5920" indent="-203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422360" indent="-203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030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030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030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5649840"/>
            <a:ext cx="213372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5649840"/>
            <a:ext cx="289584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5649840"/>
            <a:ext cx="213372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9DF50-9480-47E9-94F6-0171ED7A347E}" type="slidenum">
              <a:rPr b="0" lang="zh-CN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422360"/>
            <a:ext cx="822960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0240" indent="-253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5920" indent="-203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422360" indent="-203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030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030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030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5649840"/>
            <a:ext cx="213372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5649840"/>
            <a:ext cx="289584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5649840"/>
            <a:ext cx="213372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3C340-E64E-487E-B30C-0BBE61263EEF}" type="slidenum">
              <a:rPr b="0" lang="zh-CN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422360"/>
            <a:ext cx="822960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0240" indent="-253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5920" indent="-203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422360" indent="-203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030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030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030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5649840"/>
            <a:ext cx="213372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5649840"/>
            <a:ext cx="289584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5649840"/>
            <a:ext cx="213372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B2DCF-2090-4949-A63E-1DFD31C3AEB0}" type="slidenum">
              <a:rPr b="0" lang="zh-CN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54380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7720" y="142236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756720" y="5609880"/>
            <a:ext cx="213372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5609880"/>
            <a:ext cx="28958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5609880"/>
            <a:ext cx="182880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6A00E-245D-4E74-A094-AB5781B990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422360"/>
            <a:ext cx="822960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0240" indent="-253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5920" indent="-203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422360" indent="-203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030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030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030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5649840"/>
            <a:ext cx="213372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5649840"/>
            <a:ext cx="289584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5649840"/>
            <a:ext cx="213372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762D4-2938-47D3-8228-D16B05102D6B}" type="slidenum">
              <a:rPr b="0" lang="zh-CN" sz="10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422360"/>
            <a:ext cx="822960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0240" indent="-253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5920" indent="-203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422360" indent="-203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030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030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030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5649840"/>
            <a:ext cx="213372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5649840"/>
            <a:ext cx="289584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5649840"/>
            <a:ext cx="213372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85B1B-C4AA-4926-8671-2B938F1DF67E}" type="slidenum">
              <a:rPr b="0" lang="zh-CN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422360"/>
            <a:ext cx="822960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0240" indent="-253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5920" indent="-203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422360" indent="-203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030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030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030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5649840"/>
            <a:ext cx="213372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5649840"/>
            <a:ext cx="289584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5649840"/>
            <a:ext cx="213372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F894A-F73E-4444-A770-DF8425D50911}" type="slidenum">
              <a:rPr b="0" lang="zh-CN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422360"/>
            <a:ext cx="822960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0240" indent="-253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5920" indent="-203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422360" indent="-203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030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030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030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5649840"/>
            <a:ext cx="213372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5649840"/>
            <a:ext cx="289584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5649840"/>
            <a:ext cx="213372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5B5CD-FD7B-4DEA-9872-8C66825067C0}" type="slidenum">
              <a:rPr b="0" lang="zh-CN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422360"/>
            <a:ext cx="822960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0240" indent="-253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5920" indent="-203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422360" indent="-203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030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030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030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5649840"/>
            <a:ext cx="213372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5649840"/>
            <a:ext cx="289584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5649840"/>
            <a:ext cx="213372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0F676-B3C1-4D41-B74C-21C4B0875900}" type="slidenum">
              <a:rPr b="0" lang="zh-CN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422360"/>
            <a:ext cx="822960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0240" indent="-253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5920" indent="-203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422360" indent="-203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030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030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030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5649840"/>
            <a:ext cx="213372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5649840"/>
            <a:ext cx="289584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5649840"/>
            <a:ext cx="213372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32B11-8FB1-49A9-AAAB-43E3015699AD}" type="slidenum">
              <a:rPr b="0" lang="zh-CN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422360"/>
            <a:ext cx="822960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0240" indent="-253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5920" indent="-203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422360" indent="-203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030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030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030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5649840"/>
            <a:ext cx="213372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5649840"/>
            <a:ext cx="289584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5649840"/>
            <a:ext cx="213372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1210B-A2C2-44D1-9C56-A837AC4AEC6F}" type="slidenum">
              <a:rPr b="0" lang="zh-CN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矩形 1"/>
          <p:cNvSpPr/>
          <p:nvPr/>
        </p:nvSpPr>
        <p:spPr>
          <a:xfrm>
            <a:off x="2678760" y="304920"/>
            <a:ext cx="4457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中国风之笔墨卷香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矩形 3"/>
          <p:cNvSpPr/>
          <p:nvPr/>
        </p:nvSpPr>
        <p:spPr>
          <a:xfrm>
            <a:off x="256320" y="556272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543800" cy="80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按一下添加标题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837720" y="142236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配色方案修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配色方案在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格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幻灯片设计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配色方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编辑配色方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添加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添加修改在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下调整。直接选择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图片删除或修改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字体格式的设置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标题和文本格式的设置在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默认设置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首页主标题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4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号（中文黑体英文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ial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加粗；副标题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号（中文黑体英文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ial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加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内页标题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号（中文黑体英文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ial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，）加粗；内页内容文字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8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号（宋体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2"/>
          <p:cNvSpPr/>
          <p:nvPr/>
        </p:nvSpPr>
        <p:spPr>
          <a:xfrm>
            <a:off x="1752480" y="2400480"/>
            <a:ext cx="5715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谢谢关注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3"/>
          <p:cNvSpPr/>
          <p:nvPr/>
        </p:nvSpPr>
        <p:spPr>
          <a:xfrm>
            <a:off x="1143000" y="510552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923760" y="168120"/>
            <a:ext cx="729648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9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03360" y="1128600"/>
            <a:ext cx="7937280" cy="464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幻灯片模板下载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</a:rPr>
              <a:t>http://www.eeppt.com/                      </a:t>
            </a:r>
            <a:r>
              <a:rPr b="0" lang="zh-CN" sz="11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背景图片素材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</a:rPr>
              <a:t>http://www.eeppt.com/beijing/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动态模板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</a:rPr>
              <a:t>http://www.eeppt.com/dongtai/              </a:t>
            </a:r>
            <a:r>
              <a:rPr b="0" lang="zh-CN" sz="11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通用ppt模板下载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</a:rPr>
              <a:t>http://www.eeppt.com/moban/tongyong/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ppt 模板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</a:rPr>
              <a:t>http://www.eeppt.com/moban/                       </a:t>
            </a:r>
            <a:r>
              <a:rPr b="0" lang="zh-CN" sz="11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ppt设计模板下载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</a:rPr>
              <a:t>http://www.eeppt.com/moban/chuangyi/ 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ppt模板素材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</a:rPr>
              <a:t>http://www.eeppt.com/sucai/                   </a:t>
            </a:r>
            <a:r>
              <a:rPr b="0" lang="zh-CN" sz="11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毕业答辩ppt模板下载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</a:rPr>
              <a:t>http://www.eeppt.com/moban/dabian/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文化ppt模板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</a:rPr>
              <a:t>http://www.eeppt.com/moban/qiye/</a:t>
            </a:r>
            <a:r>
              <a:rPr b="0" lang="zh-CN" sz="11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月工作总结ppt模板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</a:rPr>
              <a:t>http://www.eeppt.com/moban/gongzuo/ 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商务ppt模板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</a:rPr>
              <a:t>http://www.eeppt.com/moban/shangwu/  </a:t>
            </a:r>
            <a:r>
              <a:rPr b="0" lang="zh-CN" sz="11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精品ppt模板下载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</a:rPr>
              <a:t>http://www.eeppt.com/moban/jingpin/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ppt课件模板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</a:rPr>
              <a:t>http://www.eeppt.com/moban/kejian/       </a:t>
            </a:r>
            <a:r>
              <a:rPr b="0" lang="zh-CN" sz="11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中国风ppt模板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</a:rPr>
              <a:t>http://www.eeppt.com/moban/zhongguofeng/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活动策划方案ppt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</a:rPr>
              <a:t>http://www.eeppt.com/moban/yingxiao/   ppt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</a:rPr>
              <a:t>免费下载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</a:rPr>
              <a:t>http://www.eeppt.com/moban/mianfei/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ededed"/>
                </a:solidFill>
                <a:latin typeface="Calibri"/>
              </a:rPr>
              <a:t>工业制造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</a:rPr>
              <a:t>http://www.eeppt.com/moban/gongye/ 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</a:rPr>
              <a:t>会议报告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</a:rPr>
              <a:t>http://www.eeppt.com/moban/huiyi/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ededed"/>
                </a:solidFill>
                <a:latin typeface="Calibri"/>
              </a:rPr>
              <a:t>交通安全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</a:rPr>
              <a:t>http://www.eeppt.com/moban/jiaotong/ 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</a:rPr>
              <a:t>教育培训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ededed"/>
                </a:solidFill>
                <a:latin typeface="Calibri"/>
              </a:rPr>
              <a:t>卡通动漫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</a:rPr>
              <a:t>http://www.eeppt.com/moban/katong/ 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</a:rPr>
              <a:t>体育运动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</a:rPr>
              <a:t>http://www.eeppt.com/moban/yundong/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Rectangle 7"/>
          <p:cNvSpPr/>
          <p:nvPr/>
        </p:nvSpPr>
        <p:spPr>
          <a:xfrm>
            <a:off x="6985080" y="297000"/>
            <a:ext cx="1235160" cy="309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28T09:14:29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06:16:21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  <property fmtid="{D5CDD505-2E9C-101B-9397-08002B2CF9AE}" pid="3" name="Version">
    <vt:r8>1</vt:r8>
  </property>
</Properties>
</file>