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A18-139C-4126-9CB1-5F45B3CC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163-1768-41F6-9365-2A075FA2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84A-1FC8-4D0B-AA47-2D44AD11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A17-EE10-4A6D-94DE-F8D7C9B8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4565-DB22-4042-8D58-AD9302E1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1423-EA12-4232-A7B8-3032556E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8393-4DE9-47A4-9BB6-CB5A83D7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7FE1-92A6-4A30-A14D-E94C0FBF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5EBF-956B-40E7-AB9C-7E2DF2B8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7CE8-D570-4448-BF0A-78C2C70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0452-4A62-4B15-B1B1-E5D973A8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5A4-A633-4579-A45C-AEE1BB4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8193-4728-41B0-B5FB-1CB5905B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7860-6164-4B12-A73B-D73515FE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3371-2F36-4CEC-BB99-F41C94D5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A741-53DF-472D-8443-52932541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F404-9003-4135-B8DC-7EC8CAEA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00F-9A79-4EA0-BB6F-FFD5E966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6DF-191C-44A9-8628-2E672836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331-CF9F-4038-BC40-2AB404C1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348-8C02-456E-BBA2-5E8485AD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5DA-F0D0-4A0E-9292-8ED11AA9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3B4-1C3D-49E8-8260-E500D4E5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B55-8D9C-4211-8D38-26DD4E42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CB4D-9F45-4DBC-AB34-1A791CE11D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8131-108F-4E6C-B2C6-8D71C020E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57E3-325C-4C19-9EAE-C477FC1B67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E15-935A-4683-8797-C9756EDE64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03200" y="212760"/>
            <a:ext cx="8353440" cy="639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440" y="6553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52080" y="531720"/>
            <a:ext cx="47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中国结</a:t>
            </a:r>
            <a:r>
              <a:rPr b="1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FFFE-872B-4EB4-8EA5-113435D8E3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