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612313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D3C-B452-4A49-A5CB-7BA27CCB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86504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0600" y="3849840"/>
            <a:ext cx="86504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D44-1E39-4E0F-A5D0-239B6F4D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060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328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946-86DE-408A-ADAC-A9E92262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5600" y="155376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0600" y="155376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0600" y="384984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5600" y="384984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0600" y="384984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D2B-6D78-47A1-8891-67EB786F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0600" y="1553760"/>
            <a:ext cx="865044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74F-B935-4D06-9A82-DD2FEF65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86504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8A6-27A9-4FA5-8456-E1A8FAF0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5D5-5C27-4FEE-9627-86F29BF4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988-C3E0-4200-9095-26918F2C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0600" y="266760"/>
            <a:ext cx="865044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433-FA80-471F-8088-9CCEFF3D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060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4F7-E3BA-4681-A52D-88A38E14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328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4E4-1FA6-4C1E-BFB5-C20F12B9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0600" y="3849840"/>
            <a:ext cx="86504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3A29-F5DE-4041-94ED-0077C12E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0600" y="1553760"/>
            <a:ext cx="86504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0600" y="6065640"/>
            <a:ext cx="22417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4280" y="6065640"/>
            <a:ext cx="304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9320" y="6065640"/>
            <a:ext cx="22417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5F15-68AB-441F-98E8-8DA91F888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54400" y="3133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990000" y="2251080"/>
            <a:ext cx="3310200" cy="3900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14880" y="90360"/>
            <a:ext cx="34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总结会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1760" y="183960"/>
            <a:ext cx="86295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480" y="1233000"/>
            <a:ext cx="9385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659720" y="324000"/>
            <a:ext cx="1461960" cy="339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F74-1C09-4BDC-A5E4-6C06B90721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78360" y="235080"/>
            <a:ext cx="652680" cy="5682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  <a:ea typeface="迷你简汉真广标"/>
              </a:rPr>
              <a:t>新春年会—总结大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1640" y="977400"/>
            <a:ext cx="5761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08:11:5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