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04FED-F876-403E-B597-D389CA8E6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14B7A-C7EF-46A9-876E-F7A02C8A7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D9B3E-ACDA-47D2-9056-D08358573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BA0C9-13F4-438A-954F-ED349F80B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42F57-15B0-43DB-9FED-7718A9790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9D8E6-C003-44BA-86E4-C32A6BEFC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41DC5-FE5F-4129-B0F4-B8DBEC1B3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C107B-4B1C-48EA-BBE7-795DD9AD8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BB2E2-EDE5-43E0-9F01-206FFA05F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53C14-39EA-4F49-9598-795FB0152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3DDB1-8EA9-49A0-81ED-2EF69EDE3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F34AB-6F92-43FF-8B0C-6ABC229BB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0337B-86CF-4FBB-B809-FAFDCD204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F1445-5700-447B-BCCF-78918CCF1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29E65-B1CA-4EC4-A874-9D9261557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35675-99C3-4DC9-936F-1A1B92BDB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86662-A518-4D54-A5B1-ECFCEF96B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FA7BEE-FC35-4D4D-8893-7F6CEE778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583D7B-665E-4A0E-8B31-4834DF444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69F84D-73B2-4CD3-A4EC-AE6B7FCAF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648848-B33C-4612-B7D9-3C588587A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44D3FB-4D61-4705-BDBC-0E09DA405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207CA-EBE1-4180-81DD-E47A475AC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86061F-2F4B-4223-92EA-6FBA16521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0BBC1E-2683-4B7C-AFFD-8F33CA448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050BB0-915F-4CE3-AAE1-88EB66933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DD8A83-CE8F-4D9B-9916-917B46261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BF2A3D-7A78-4471-8B4B-9BDCFC4B3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EF6475-A10E-4A2E-9A46-A1FE8AB99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6AF1BF-2D90-4C97-A987-5A5F32C5A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9C2093-6D4B-4B01-AC32-47BC742A7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7D09FC-B925-4885-8CCD-F01023568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BE317B-1787-4258-AF12-0BC5F0F2E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BA70C-3A33-4612-A1AD-039DA8324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BAC485-E91B-436D-BB3F-1EC09E253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3AD05F-0922-4675-8DEC-B3CDAC496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9DF65D-8C85-4755-968B-D13770006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29613F-31DF-425D-ACED-315427031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47D46F-B999-472A-959F-8C9315533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4001CC-ECBB-4CFE-9DC3-9E1F03156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460FC3-5266-464B-8C7C-F145C6EB9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3F91DF-3E49-4ACB-9029-59112F1A7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646AB3-BDDA-46B4-8E65-661005A70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E2E204-568A-464C-8008-55CFD4701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C020D-D344-49BB-93B1-5280714AE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F4FBAF-9869-4C79-925B-39F4B5F4F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81DF78-9A18-45E9-BEE4-7EF606FB9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4A49AD-F3E5-4D87-95AF-B7C2FE98F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7BF647-66EC-4CFA-B5A5-AB29586EC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8EF278-EEFF-4C0E-86F9-B6C17DBE4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9E1EB1-D7E5-4F62-87A7-398053F99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860F79-C745-4786-B7A8-27C5532B5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81919C-6F8C-48CF-A3A3-22C18B3AA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13BE5E-152F-40DF-884C-15C5CD840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C94E7E-EC8D-49C1-AD78-2189894BD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80BDE-0BF1-414A-8391-93293F001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252731-CA07-4227-A40C-32A3BC277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3F3F97-C509-4800-BE4B-7AEC64394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571055-847A-4E25-8556-3741F6690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90FD5D-8693-40D4-9A94-F3EC27388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7BB223-76A5-4B84-B84C-9B46C85CA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2F5788-8932-4959-B4FF-70A5E9EC8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ADCAE5-1388-4945-9728-76DA9E0D4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E78DB2-77DB-41DB-89A2-5A1103E9A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90258C-9463-49DC-A51A-61CEFC3A6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4C8A83-95B1-4CF2-8086-49834AD15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71FCE-F8BE-4173-9F6D-5410DAD01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A29AA1-A431-47D0-918B-4E1B93E41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BE0E2B-A367-4B81-B392-FE233270A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5C302E-1224-4083-8456-70AB6AD05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EFB93-F7B5-4E99-94DF-569934FCB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56DD6-5DB7-42FA-A4D5-0E336086A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28B54-387B-4896-8A78-DE6F2EBB41DE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7D249-F0EC-46F9-B078-2DED00F4F2A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-33480" y="6126120"/>
            <a:ext cx="9213840" cy="758880"/>
          </a:xfrm>
          <a:prstGeom prst="rect">
            <a:avLst/>
          </a:prstGeom>
          <a:solidFill>
            <a:srgbClr val="8458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8" descr="未标题-3"/>
          <p:cNvPicPr/>
          <p:nvPr/>
        </p:nvPicPr>
        <p:blipFill>
          <a:blip r:embed="rId3"/>
          <a:stretch/>
        </p:blipFill>
        <p:spPr>
          <a:xfrm>
            <a:off x="457200" y="4941720"/>
            <a:ext cx="831960" cy="161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799DA-6BEE-4998-9192-A082778DF2D2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A1A56-C80A-438E-88A4-EA3B7E439CA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950D4-C1BF-4818-A421-0FDA6232697D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4908E-DC90-4D9D-A310-0B8DA9D44BC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-33480" y="6126120"/>
            <a:ext cx="9213840" cy="758880"/>
          </a:xfrm>
          <a:prstGeom prst="rect">
            <a:avLst/>
          </a:prstGeom>
          <a:solidFill>
            <a:srgbClr val="8458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8" descr="未标题-4"/>
          <p:cNvPicPr/>
          <p:nvPr/>
        </p:nvPicPr>
        <p:blipFill>
          <a:blip r:embed="rId3"/>
          <a:stretch/>
        </p:blipFill>
        <p:spPr>
          <a:xfrm>
            <a:off x="7956720" y="4602240"/>
            <a:ext cx="1060200" cy="1643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28DFD-5745-4F8F-B408-F9BA58F4225D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4443E-9276-44AD-9099-1AF834AF1FF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7"/>
          <p:cNvSpPr/>
          <p:nvPr/>
        </p:nvSpPr>
        <p:spPr>
          <a:xfrm>
            <a:off x="-33480" y="6126120"/>
            <a:ext cx="9213840" cy="758880"/>
          </a:xfrm>
          <a:prstGeom prst="rect">
            <a:avLst/>
          </a:prstGeom>
          <a:solidFill>
            <a:srgbClr val="8458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8" descr="未标题-2"/>
          <p:cNvPicPr/>
          <p:nvPr/>
        </p:nvPicPr>
        <p:blipFill>
          <a:blip r:embed="rId3"/>
          <a:stretch/>
        </p:blipFill>
        <p:spPr>
          <a:xfrm>
            <a:off x="181080" y="5164200"/>
            <a:ext cx="898560" cy="1557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10F55-B4AF-4536-A23E-508E9DF75C23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656DD-21A3-487C-B664-C4972E06A5C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D82C6-D490-4A9E-984E-E6495C8E1F60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D42CB-CE2E-4B74-9763-57A69F8B5C71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4" descr="未标题-1"/>
          <p:cNvPicPr/>
          <p:nvPr/>
        </p:nvPicPr>
        <p:blipFill>
          <a:blip r:embed="rId1"/>
          <a:stretch/>
        </p:blipFill>
        <p:spPr>
          <a:xfrm>
            <a:off x="6229440" y="1413000"/>
            <a:ext cx="2367000" cy="407664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5" descr="未标题-2"/>
          <p:cNvPicPr/>
          <p:nvPr/>
        </p:nvPicPr>
        <p:blipFill>
          <a:blip r:embed="rId2"/>
          <a:stretch/>
        </p:blipFill>
        <p:spPr>
          <a:xfrm>
            <a:off x="396720" y="5497560"/>
            <a:ext cx="789120" cy="136836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6" descr="未标题-3"/>
          <p:cNvPicPr/>
          <p:nvPr/>
        </p:nvPicPr>
        <p:blipFill>
          <a:blip r:embed="rId3"/>
          <a:stretch/>
        </p:blipFill>
        <p:spPr>
          <a:xfrm>
            <a:off x="1322280" y="5213520"/>
            <a:ext cx="844560" cy="163656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7" descr="未标题-4"/>
          <p:cNvPicPr/>
          <p:nvPr/>
        </p:nvPicPr>
        <p:blipFill>
          <a:blip r:embed="rId4"/>
          <a:stretch/>
        </p:blipFill>
        <p:spPr>
          <a:xfrm>
            <a:off x="2338560" y="5446800"/>
            <a:ext cx="915840" cy="1419120"/>
          </a:xfrm>
          <a:prstGeom prst="rect">
            <a:avLst/>
          </a:prstGeom>
          <a:ln w="0">
            <a:noFill/>
          </a:ln>
        </p:spPr>
      </p:pic>
      <p:sp>
        <p:nvSpPr>
          <p:cNvPr id="256" name="Text Box 8"/>
          <p:cNvSpPr/>
          <p:nvPr/>
        </p:nvSpPr>
        <p:spPr>
          <a:xfrm>
            <a:off x="6732720" y="6356520"/>
            <a:ext cx="20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张海山锐线体2.0"/>
              </a:rPr>
              <a:t>图片版权：伊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矩形 1"/>
          <p:cNvSpPr/>
          <p:nvPr/>
        </p:nvSpPr>
        <p:spPr>
          <a:xfrm>
            <a:off x="2261880" y="704880"/>
            <a:ext cx="4458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炫丽动漫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Oval 2"/>
          <p:cNvSpPr/>
          <p:nvPr/>
        </p:nvSpPr>
        <p:spPr>
          <a:xfrm>
            <a:off x="3720960" y="2649600"/>
            <a:ext cx="1498680" cy="1500120"/>
          </a:xfrm>
          <a:prstGeom prst="ellipse">
            <a:avLst/>
          </a:prstGeom>
          <a:solidFill>
            <a:srgbClr val="845866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Picture 3" descr="未标题-2"/>
          <p:cNvPicPr/>
          <p:nvPr/>
        </p:nvPicPr>
        <p:blipFill>
          <a:blip r:embed="rId1"/>
          <a:stretch/>
        </p:blipFill>
        <p:spPr>
          <a:xfrm>
            <a:off x="4083120" y="2852640"/>
            <a:ext cx="641160" cy="1109880"/>
          </a:xfrm>
          <a:prstGeom prst="rect">
            <a:avLst/>
          </a:prstGeom>
          <a:ln w="0">
            <a:noFill/>
          </a:ln>
        </p:spPr>
      </p:pic>
      <p:sp>
        <p:nvSpPr>
          <p:cNvPr id="261" name="Oval 4"/>
          <p:cNvSpPr/>
          <p:nvPr/>
        </p:nvSpPr>
        <p:spPr>
          <a:xfrm>
            <a:off x="3781440" y="988920"/>
            <a:ext cx="1365120" cy="1366920"/>
          </a:xfrm>
          <a:prstGeom prst="ellipse">
            <a:avLst/>
          </a:prstGeom>
          <a:solidFill>
            <a:srgbClr val="845866">
              <a:alpha val="80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5"/>
          <p:cNvSpPr/>
          <p:nvPr/>
        </p:nvSpPr>
        <p:spPr>
          <a:xfrm>
            <a:off x="3981600" y="1189080"/>
            <a:ext cx="965160" cy="96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3200" rIns="43200" tIns="43200" bIns="43200" anchor="ctr">
            <a:normAutofit/>
          </a:bodyPr>
          <a:p>
            <a:pPr algn="ctr">
              <a:lnSpc>
                <a:spcPct val="90000"/>
              </a:lnSpc>
              <a:spcAft>
                <a:spcPts val="14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ffffff"/>
                </a:solidFill>
                <a:latin typeface="宋体"/>
                <a:ea typeface="方正稚艺简体"/>
              </a:rPr>
              <a:t>文本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AutoShape 6"/>
          <p:cNvSpPr/>
          <p:nvPr/>
        </p:nvSpPr>
        <p:spPr>
          <a:xfrm rot="2160000">
            <a:off x="5103360" y="2038320"/>
            <a:ext cx="363600" cy="461880"/>
          </a:xfrm>
          <a:prstGeom prst="rightArrow">
            <a:avLst>
              <a:gd name="adj1" fmla="val 60000"/>
              <a:gd name="adj2" fmla="val 50000"/>
            </a:avLst>
          </a:prstGeom>
          <a:solidFill>
            <a:srgbClr val="845866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7"/>
          <p:cNvSpPr/>
          <p:nvPr/>
        </p:nvSpPr>
        <p:spPr>
          <a:xfrm rot="2160000">
            <a:off x="5114520" y="2098440"/>
            <a:ext cx="254160" cy="277560"/>
          </a:xfrm>
          <a:prstGeom prst="rect">
            <a:avLst/>
          </a:prstGeom>
          <a:solidFill>
            <a:srgbClr val="845866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90000"/>
              </a:lnSpc>
              <a:spcAft>
                <a:spcPts val="8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Oval 8"/>
          <p:cNvSpPr/>
          <p:nvPr/>
        </p:nvSpPr>
        <p:spPr>
          <a:xfrm>
            <a:off x="5442120" y="2195640"/>
            <a:ext cx="1366560" cy="1366560"/>
          </a:xfrm>
          <a:prstGeom prst="ellipse">
            <a:avLst/>
          </a:prstGeom>
          <a:solidFill>
            <a:srgbClr val="845866">
              <a:alpha val="80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9"/>
          <p:cNvSpPr/>
          <p:nvPr/>
        </p:nvSpPr>
        <p:spPr>
          <a:xfrm>
            <a:off x="5641920" y="2395440"/>
            <a:ext cx="966960" cy="96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3200" rIns="43200" tIns="43200" bIns="43200" anchor="ctr">
            <a:normAutofit/>
          </a:bodyPr>
          <a:p>
            <a:pPr algn="ctr">
              <a:lnSpc>
                <a:spcPct val="90000"/>
              </a:lnSpc>
              <a:spcAft>
                <a:spcPts val="14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ffffff"/>
                </a:solidFill>
                <a:latin typeface="宋体"/>
                <a:ea typeface="宋体"/>
              </a:rPr>
              <a:t>文本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AutoShape 10"/>
          <p:cNvSpPr/>
          <p:nvPr/>
        </p:nvSpPr>
        <p:spPr>
          <a:xfrm rot="6480000">
            <a:off x="5627880" y="3615120"/>
            <a:ext cx="363240" cy="460440"/>
          </a:xfrm>
          <a:prstGeom prst="rightArrow">
            <a:avLst>
              <a:gd name="adj1" fmla="val 60000"/>
              <a:gd name="adj2" fmla="val 50000"/>
            </a:avLst>
          </a:prstGeom>
          <a:solidFill>
            <a:srgbClr val="845866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11"/>
          <p:cNvSpPr/>
          <p:nvPr/>
        </p:nvSpPr>
        <p:spPr>
          <a:xfrm rot="17280000">
            <a:off x="5700600" y="3654000"/>
            <a:ext cx="254160" cy="276480"/>
          </a:xfrm>
          <a:prstGeom prst="rect">
            <a:avLst/>
          </a:prstGeom>
          <a:solidFill>
            <a:srgbClr val="845866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90000"/>
              </a:lnSpc>
              <a:spcAft>
                <a:spcPts val="8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Oval 12"/>
          <p:cNvSpPr/>
          <p:nvPr/>
        </p:nvSpPr>
        <p:spPr>
          <a:xfrm>
            <a:off x="4807080" y="4149720"/>
            <a:ext cx="1366560" cy="1365120"/>
          </a:xfrm>
          <a:prstGeom prst="ellipse">
            <a:avLst/>
          </a:prstGeom>
          <a:solidFill>
            <a:srgbClr val="845866">
              <a:alpha val="80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13"/>
          <p:cNvSpPr/>
          <p:nvPr/>
        </p:nvSpPr>
        <p:spPr>
          <a:xfrm>
            <a:off x="5006880" y="4349880"/>
            <a:ext cx="966960" cy="9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3200" rIns="43200" tIns="43200" bIns="43200" anchor="ctr">
            <a:normAutofit/>
          </a:bodyPr>
          <a:p>
            <a:pPr algn="ctr">
              <a:lnSpc>
                <a:spcPct val="90000"/>
              </a:lnSpc>
              <a:spcAft>
                <a:spcPts val="14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ffffff"/>
                </a:solidFill>
                <a:latin typeface="宋体"/>
                <a:ea typeface="宋体"/>
              </a:rPr>
              <a:t>文本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AutoShape 14"/>
          <p:cNvSpPr/>
          <p:nvPr/>
        </p:nvSpPr>
        <p:spPr>
          <a:xfrm rot="10800000">
            <a:off x="4292640" y="4600440"/>
            <a:ext cx="363600" cy="462240"/>
          </a:xfrm>
          <a:prstGeom prst="rightArrow">
            <a:avLst>
              <a:gd name="adj1" fmla="val 60000"/>
              <a:gd name="adj2" fmla="val 50000"/>
            </a:avLst>
          </a:prstGeom>
          <a:solidFill>
            <a:srgbClr val="845866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15"/>
          <p:cNvSpPr/>
          <p:nvPr/>
        </p:nvSpPr>
        <p:spPr>
          <a:xfrm>
            <a:off x="4402080" y="4694400"/>
            <a:ext cx="254160" cy="276120"/>
          </a:xfrm>
          <a:prstGeom prst="rect">
            <a:avLst/>
          </a:prstGeom>
          <a:solidFill>
            <a:srgbClr val="845866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90000"/>
              </a:lnSpc>
              <a:spcAft>
                <a:spcPts val="8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Oval 16"/>
          <p:cNvSpPr/>
          <p:nvPr/>
        </p:nvSpPr>
        <p:spPr>
          <a:xfrm>
            <a:off x="2754360" y="4149720"/>
            <a:ext cx="1366920" cy="1365120"/>
          </a:xfrm>
          <a:prstGeom prst="ellipse">
            <a:avLst/>
          </a:prstGeom>
          <a:solidFill>
            <a:srgbClr val="845866">
              <a:alpha val="80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17"/>
          <p:cNvSpPr/>
          <p:nvPr/>
        </p:nvSpPr>
        <p:spPr>
          <a:xfrm>
            <a:off x="2954160" y="4349880"/>
            <a:ext cx="966960" cy="9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3200" rIns="43200" tIns="43200" bIns="43200" anchor="ctr">
            <a:normAutofit/>
          </a:bodyPr>
          <a:p>
            <a:pPr algn="ctr">
              <a:lnSpc>
                <a:spcPct val="90000"/>
              </a:lnSpc>
              <a:spcAft>
                <a:spcPts val="14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ffffff"/>
                </a:solidFill>
                <a:latin typeface="宋体"/>
                <a:ea typeface="方正稚艺简体"/>
              </a:rPr>
              <a:t>文本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AutoShape 18"/>
          <p:cNvSpPr/>
          <p:nvPr/>
        </p:nvSpPr>
        <p:spPr>
          <a:xfrm rot="15120000">
            <a:off x="2940840" y="3634200"/>
            <a:ext cx="363240" cy="460080"/>
          </a:xfrm>
          <a:prstGeom prst="rightArrow">
            <a:avLst>
              <a:gd name="adj1" fmla="val 60000"/>
              <a:gd name="adj2" fmla="val 50000"/>
            </a:avLst>
          </a:prstGeom>
          <a:solidFill>
            <a:srgbClr val="845866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19"/>
          <p:cNvSpPr/>
          <p:nvPr/>
        </p:nvSpPr>
        <p:spPr>
          <a:xfrm rot="4320000">
            <a:off x="3012480" y="3778200"/>
            <a:ext cx="25560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90000"/>
              </a:lnSpc>
              <a:spcAft>
                <a:spcPts val="8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Oval 20"/>
          <p:cNvSpPr/>
          <p:nvPr/>
        </p:nvSpPr>
        <p:spPr>
          <a:xfrm>
            <a:off x="2120760" y="2195640"/>
            <a:ext cx="1365480" cy="1366560"/>
          </a:xfrm>
          <a:prstGeom prst="ellipse">
            <a:avLst/>
          </a:prstGeom>
          <a:solidFill>
            <a:srgbClr val="845866">
              <a:alpha val="80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21"/>
          <p:cNvSpPr/>
          <p:nvPr/>
        </p:nvSpPr>
        <p:spPr>
          <a:xfrm>
            <a:off x="2320920" y="2395440"/>
            <a:ext cx="965160" cy="96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3200" rIns="43200" tIns="43200" bIns="43200" anchor="ctr">
            <a:normAutofit/>
          </a:bodyPr>
          <a:p>
            <a:pPr algn="ctr">
              <a:lnSpc>
                <a:spcPct val="90000"/>
              </a:lnSpc>
              <a:spcAft>
                <a:spcPts val="14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ffffff"/>
                </a:solidFill>
                <a:latin typeface="宋体"/>
                <a:ea typeface="方正稚艺简体"/>
              </a:rPr>
              <a:t>文本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AutoShape 22"/>
          <p:cNvSpPr/>
          <p:nvPr/>
        </p:nvSpPr>
        <p:spPr>
          <a:xfrm rot="19440000">
            <a:off x="3443400" y="2050920"/>
            <a:ext cx="363600" cy="460440"/>
          </a:xfrm>
          <a:prstGeom prst="rightArrow">
            <a:avLst>
              <a:gd name="adj1" fmla="val 60000"/>
              <a:gd name="adj2" fmla="val 50000"/>
            </a:avLst>
          </a:prstGeom>
          <a:solidFill>
            <a:srgbClr val="845866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23"/>
          <p:cNvSpPr/>
          <p:nvPr/>
        </p:nvSpPr>
        <p:spPr>
          <a:xfrm rot="19440000">
            <a:off x="3454200" y="2174760"/>
            <a:ext cx="253800" cy="277920"/>
          </a:xfrm>
          <a:prstGeom prst="rect">
            <a:avLst/>
          </a:prstGeom>
          <a:solidFill>
            <a:srgbClr val="845866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90000"/>
              </a:lnSpc>
              <a:spcAft>
                <a:spcPts val="8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332000" y="2420640"/>
            <a:ext cx="4749840" cy="143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方正稚艺简体"/>
              </a:rPr>
              <a:t>谢谢观赏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Picture 3" descr="未标题-1"/>
          <p:cNvPicPr/>
          <p:nvPr/>
        </p:nvPicPr>
        <p:blipFill>
          <a:blip r:embed="rId1"/>
          <a:stretch/>
        </p:blipFill>
        <p:spPr>
          <a:xfrm>
            <a:off x="6229440" y="1413000"/>
            <a:ext cx="2367000" cy="4076640"/>
          </a:xfrm>
          <a:prstGeom prst="rect">
            <a:avLst/>
          </a:prstGeom>
          <a:ln w="0">
            <a:noFill/>
          </a:ln>
        </p:spPr>
      </p:pic>
      <p:sp>
        <p:nvSpPr>
          <p:cNvPr id="289" name="Text Box 4"/>
          <p:cNvSpPr/>
          <p:nvPr/>
        </p:nvSpPr>
        <p:spPr>
          <a:xfrm>
            <a:off x="6372360" y="6002280"/>
            <a:ext cx="20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张海山锐线体2.0"/>
                <a:ea typeface="张海山锐线体2.0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张海山锐线体2.0"/>
                <a:ea typeface="张海山锐线体2.0"/>
              </a:rPr>
              <a:t>制作：小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张海山锐线体2.0"/>
                <a:ea typeface="张海山锐线体2.0"/>
              </a:rPr>
              <a:t>图片版权：伊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</a:rPr>
              <a:t>背景图片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</a:rPr>
              <a:t>www.eeppt.com/dongtai/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</a:rPr>
              <a:t>素材下载：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</a:rPr>
              <a:t>图表下载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</a:rPr>
              <a:t>教程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</a:rPr>
              <a:t>技巧：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</a:rPr>
              <a:t>www.eeppt.com/officejiqiao/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</a:rPr>
              <a:t>最新更新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</cp:lastModifiedBy>
  <dcterms:modified xsi:type="dcterms:W3CDTF">2015-07-20T12:33:33Z</dcterms:modified>
  <cp:revision>1</cp:revision>
  <dc:subject/>
  <dc:title>PowerPoint 演示文稿</dc:title>
</cp:coreProperties>
</file>