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2022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31D-6852-4FA6-BA48-EB1ADC72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07080"/>
            <a:ext cx="822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4F3-B4EE-4A51-96F0-2EC41590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5F9-3B74-4CC9-9DCC-6907D9B8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070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070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07080"/>
            <a:ext cx="264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143-8749-4C09-BF54-5D653C24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4F7-DAE1-483E-8B85-6C9701CB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BD7-F8B4-45F6-AF9A-3FBBF2FA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F04-D5F7-40A4-9D6F-756292F3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29F-6C0D-46C0-95A5-F106569D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FED-78EE-4C3B-9A54-5AAD3FA0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34F-104C-456B-BBBE-129C7EC2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070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3B3-1B8C-439C-98BB-42A961D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07080"/>
            <a:ext cx="822960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01A-BF7C-492F-B885-C879919B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36880"/>
            <a:ext cx="21337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36880"/>
            <a:ext cx="28958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36880"/>
            <a:ext cx="21337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8CF2-7AC0-4468-B491-C2FAC75F0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963720"/>
            <a:ext cx="8928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252360"/>
            <a:ext cx="1388880" cy="265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E4C-B271-441C-B2D3-B39C0AF10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044360"/>
            <a:ext cx="842472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252360"/>
            <a:ext cx="1388880" cy="265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541440" y="3203640"/>
            <a:ext cx="828180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6:26:4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3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