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D06-36F2-49C4-B9F3-BA5677BE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A11-BAB1-4D2B-BAF9-75BDB4E3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AEB-8C93-435D-A8E2-16D4B4A9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3FD-0880-460C-8AF3-CAB11471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77D-2EC4-4F97-8C71-83E64AEA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B7EA-326F-4CBD-81F1-B67957B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EFA-0B4F-4C2F-B464-17D1C937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2BCE-23E3-4339-B791-2F774FE0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9054-8EF7-4007-917D-150FE59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302F-DD3C-439F-AF1E-DCADEB2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9E8A-95B1-492C-B892-5FC52CDD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FD1-3F9A-4208-AB30-EAE5E480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C2C2-5AE7-47AE-A72C-F55B0F1F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E4D-9E6A-4145-ADB8-0B95666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F29E-3A55-4101-9F92-F81E1C70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81D8-F4F6-457C-BD35-7D9C715A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B3E1-017D-497C-A84F-9D3C3397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AA6-1D48-4236-91C8-B6AF4D0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113-F8A7-433D-8EE8-C68545A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011-1979-4A86-99C4-D0DD66F3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4FD-A2AC-4261-88DB-0E64582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3D0-7250-4548-8806-CF5CA83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FE3-94C4-49FB-9DA2-90B7D0C4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1B5-BDAF-4807-860A-4E726CF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69DD-9F29-4992-8788-866BED6ED6E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146B-8319-4AE2-9560-98B4592A44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793480" y="2421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221760" y="3573360"/>
            <a:ext cx="8899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bfbfbf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bfbfbf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www.1ppt.com/jieri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3449880" y="17035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佳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76776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767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39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390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4804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9168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474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128120" y="5079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641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136040" y="90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55240" y="3540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508200" y="3933720"/>
            <a:ext cx="729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54280" y="3870360"/>
            <a:ext cx="729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965640" y="3905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923840" y="479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28848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8492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904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7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51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554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3410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50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711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106640" y="65484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0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