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5D2-1118-450F-A999-D1A872C0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95E-33B9-4A79-A098-C00595D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545-CFEA-4953-98A2-0F76C2A1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657-E20A-4290-9974-3A0B5D99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9FD-E791-41AC-AAF3-A513ED7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E46-9E0F-462B-A2BB-93059D1E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AD0-5B18-4518-A98E-AE8FE76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0D1-078E-4598-9397-DC26ECF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811-C38A-4940-8351-C9D0992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269-B5D9-4E05-ABEA-C4EFD19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20A-A132-4D09-97C5-895B588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D95-3B05-411C-B405-01090AE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3966-0665-4AA4-BB53-A23BA045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8000" y="-2700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429080" y="3286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56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植物学百合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02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1ED-119C-4209-8693-A53D6FFB0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6:36:19Z</dcterms:created>
  <dc:creator/>
  <dc:description/>
  <dc:language>en-US</dc:language>
  <cp:lastModifiedBy>fnzxedu.com</cp:lastModifiedBy>
  <dcterms:modified xsi:type="dcterms:W3CDTF">2015-07-20T11:48:20Z</dcterms:modified>
  <cp:revision>3</cp:revision>
  <dc:subject/>
  <dc:title>更多精品资源尽在20学库网 http://www.20xk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