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291-621D-4496-B50D-F43909E2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D47-472A-4F39-BDC8-C800E26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AC0-55FA-435A-A772-7D69E067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6DC-271A-4716-8529-DF89D638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A8BF-06EC-4A08-BA17-5CB28381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2BE-2650-4838-B6A1-A46CBDA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C7F-42D0-4680-83E1-A82EC893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4F18-128F-48E3-ACF4-ACD981A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7FC3-94B7-4C44-8B13-E13E841E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254-198A-4C03-98FA-2C4A1B0C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4DE3-38AA-4AF2-A040-70DA1ED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1C3-61E7-4E85-B421-F9C01A66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C955-4F01-4910-BC8A-F1A4F1B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6D82-C23F-4BAD-85CD-6B7906F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2FCA-3A1D-4A86-AD68-5200506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7DA6-A2EC-41B9-924E-81036B01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329-62AA-4E0F-BD4A-E420CC89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1E0-4977-46A7-9931-E2D227E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122-97E7-4A15-9DC8-D713C068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72B-55E2-453C-843D-B16982F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6F8-6358-4C95-A463-B8D53F2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9BE-418E-4A08-B9EC-4E6C8B0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A43-1B9D-4DB9-99D8-3B37417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078-3AA0-4225-8DBF-F83CC8D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D66F-184F-4590-ABBF-5BD615C6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80360" y="61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华文隶书"/>
                <a:ea typeface="华文隶书"/>
              </a:rPr>
              <a:t>By L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868-7895-4347-A638-0922D8813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>
            <a:off x="828720" y="1844640"/>
            <a:ext cx="7777080" cy="26607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365120" y="197496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278136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852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组织结构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47640" y="907920"/>
            <a:ext cx="6119640" cy="4824360"/>
            <a:chOff x="1547640" y="907920"/>
            <a:chExt cx="6119640" cy="4824360"/>
          </a:xfrm>
        </p:grpSpPr>
        <p:sp>
          <p:nvSpPr>
            <p:cNvPr id="89" name="_s1043"/>
            <p:cNvSpPr/>
            <p:nvPr/>
          </p:nvSpPr>
          <p:spPr>
            <a:xfrm>
              <a:off x="3132000" y="907920"/>
              <a:ext cx="2952720" cy="720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154764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277164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3"/>
            <p:cNvSpPr/>
            <p:nvPr/>
          </p:nvSpPr>
          <p:spPr>
            <a:xfrm>
              <a:off x="4140000" y="2563560"/>
              <a:ext cx="86364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3"/>
            <p:cNvSpPr/>
            <p:nvPr/>
          </p:nvSpPr>
          <p:spPr>
            <a:xfrm>
              <a:off x="5435280" y="2563560"/>
              <a:ext cx="863640" cy="3168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3"/>
            <p:cNvSpPr/>
            <p:nvPr/>
          </p:nvSpPr>
          <p:spPr>
            <a:xfrm>
              <a:off x="6804000" y="2563560"/>
              <a:ext cx="863280" cy="3167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120" rIns="69120" tIns="34560" bIns="34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"/>
            <p:cNvCxnSpPr/>
            <p:nvPr/>
          </p:nvCxnSpPr>
          <p:spPr>
            <a:xfrm>
              <a:off x="1978920" y="1987200"/>
              <a:ext cx="5256720" cy="1080"/>
            </a:xfrm>
            <a:prstGeom prst="straightConnector1">
              <a:avLst/>
            </a:prstGeom>
            <a:ln w="25560">
              <a:solidFill>
                <a:srgbClr val="99cc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4572000" y="1628640"/>
              <a:ext cx="0" cy="9349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9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3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5640" y="1987560"/>
              <a:ext cx="0" cy="5760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42920" y="907920"/>
            <a:ext cx="7128000" cy="4608360"/>
            <a:chOff x="1042920" y="907920"/>
            <a:chExt cx="7128000" cy="4608360"/>
          </a:xfrm>
        </p:grpSpPr>
        <p:sp>
          <p:nvSpPr>
            <p:cNvPr id="102" name="_s1037"/>
            <p:cNvSpPr/>
            <p:nvPr/>
          </p:nvSpPr>
          <p:spPr>
            <a:xfrm>
              <a:off x="7307280" y="2636640"/>
              <a:ext cx="863640" cy="287964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2879640"/>
                <a:gd name="textAreaBottom" fmla="*/ 2837520 h 2879640"/>
              </a:gdLst>
              <a:ahLst/>
              <a:rect l="textAreaLeft" t="textAreaTop" r="textAreaRight" b="textAreaBottom"/>
              <a:pathLst>
                <a:path w="21600" h="72000">
                  <a:moveTo>
                    <a:pt x="3600" y="0"/>
                  </a:moveTo>
                  <a:arcTo wR="3600" hR="3600" stAng="16200000" swAng="-5400000"/>
                  <a:lnTo>
                    <a:pt x="0" y="68400"/>
                  </a:lnTo>
                  <a:arcTo wR="3600" hR="3600" stAng="10800000" swAng="-5400000"/>
                  <a:lnTo>
                    <a:pt x="18000" y="72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042920" y="907920"/>
              <a:ext cx="6625080" cy="4608360"/>
              <a:chOff x="1042920" y="907920"/>
              <a:chExt cx="6625080" cy="4608360"/>
            </a:xfrm>
          </p:grpSpPr>
          <p:sp>
            <p:nvSpPr>
              <p:cNvPr id="104" name="_s1037"/>
              <p:cNvSpPr/>
              <p:nvPr/>
            </p:nvSpPr>
            <p:spPr>
              <a:xfrm>
                <a:off x="2770200" y="907920"/>
                <a:ext cx="3817800" cy="936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_s1037"/>
              <p:cNvSpPr/>
              <p:nvPr/>
            </p:nvSpPr>
            <p:spPr>
              <a:xfrm>
                <a:off x="104292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_s1037"/>
              <p:cNvSpPr/>
              <p:nvPr/>
            </p:nvSpPr>
            <p:spPr>
              <a:xfrm>
                <a:off x="269856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_s1037"/>
              <p:cNvSpPr/>
              <p:nvPr/>
            </p:nvSpPr>
            <p:spPr>
              <a:xfrm>
                <a:off x="435456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_s1037"/>
              <p:cNvSpPr/>
              <p:nvPr/>
            </p:nvSpPr>
            <p:spPr>
              <a:xfrm>
                <a:off x="5867280" y="2636640"/>
                <a:ext cx="863640" cy="2879640"/>
              </a:xfrm>
              <a:custGeom>
                <a:avLst/>
                <a:gdLst>
                  <a:gd name="textAreaLeft" fmla="*/ 42120 w 863640"/>
                  <a:gd name="textAreaRight" fmla="*/ 821520 w 863640"/>
                  <a:gd name="textAreaTop" fmla="*/ 42120 h 2879640"/>
                  <a:gd name="textAreaBottom" fmla="*/ 2837520 h 2879640"/>
                </a:gdLst>
                <a:ahLst/>
                <a:rect l="textAreaLeft" t="textAreaTop" r="textAreaRight" b="textAreaBottom"/>
                <a:pathLst>
                  <a:path w="21600" h="72000">
                    <a:moveTo>
                      <a:pt x="3600" y="0"/>
                    </a:moveTo>
                    <a:arcTo wR="3600" hR="3600" stAng="16200000" swAng="-5400000"/>
                    <a:lnTo>
                      <a:pt x="0" y="68400"/>
                    </a:lnTo>
                    <a:arcTo wR="3600" hR="3600" stAng="10800000" swAng="-5400000"/>
                    <a:lnTo>
                      <a:pt x="18000" y="720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1240" rIns="111240" tIns="55440" bIns="5544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0808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/>
              <p:nvPr/>
            </p:nvCxnSpPr>
            <p:spPr>
              <a:xfrm>
                <a:off x="1546200" y="2131560"/>
                <a:ext cx="6122160" cy="108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0" name=""/>
              <p:cNvCxnSpPr/>
              <p:nvPr/>
            </p:nvCxnSpPr>
            <p:spPr>
              <a:xfrm>
                <a:off x="154584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1" name=""/>
              <p:cNvCxnSpPr/>
              <p:nvPr/>
            </p:nvCxnSpPr>
            <p:spPr>
              <a:xfrm>
                <a:off x="313020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>
                <a:off x="471456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629892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4" name=""/>
              <p:cNvCxnSpPr/>
              <p:nvPr/>
            </p:nvCxnSpPr>
            <p:spPr>
              <a:xfrm>
                <a:off x="7667280" y="2131920"/>
                <a:ext cx="1080" cy="50544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  <p:cxnSp>
            <p:nvCxnSpPr>
              <p:cNvPr id="115" name=""/>
              <p:cNvCxnSpPr/>
              <p:nvPr/>
            </p:nvCxnSpPr>
            <p:spPr>
              <a:xfrm>
                <a:off x="4714560" y="1771200"/>
                <a:ext cx="1080" cy="361080"/>
              </a:xfrm>
              <a:prstGeom prst="straightConnector1">
                <a:avLst/>
              </a:prstGeom>
              <a:ln w="25560">
                <a:solidFill>
                  <a:srgbClr val="66ccff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403280" y="1197000"/>
            <a:ext cx="6119640" cy="4608360"/>
            <a:chOff x="1403280" y="1197000"/>
            <a:chExt cx="6119640" cy="4608360"/>
          </a:xfrm>
        </p:grpSpPr>
        <p:sp>
          <p:nvSpPr>
            <p:cNvPr id="117" name=""/>
            <p:cNvSpPr/>
            <p:nvPr/>
          </p:nvSpPr>
          <p:spPr>
            <a:xfrm>
              <a:off x="3132000" y="1197000"/>
              <a:ext cx="2808360" cy="719280"/>
            </a:xfrm>
            <a:prstGeom prst="flowChartAlternateProcess">
              <a:avLst/>
            </a:prstGeom>
            <a:gradFill rotWithShape="0">
              <a:gsLst>
                <a:gs pos="0">
                  <a:srgbClr val="99cc00">
                    <a:alpha val="87058"/>
                  </a:srgbClr>
                </a:gs>
                <a:gs pos="50000">
                  <a:srgbClr val="ffffff"/>
                </a:gs>
                <a:gs pos="100000">
                  <a:srgbClr val="99cc00">
                    <a:alpha val="87058"/>
                  </a:srgbClr>
                </a:gs>
              </a:gsLst>
              <a:lin ang="54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7280" y="2708280"/>
              <a:ext cx="86328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564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59640" y="2708280"/>
              <a:ext cx="86328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2708280"/>
              <a:ext cx="863640" cy="3097080"/>
            </a:xfrm>
            <a:prstGeom prst="flowChartAlternateProcess">
              <a:avLst/>
            </a:prstGeom>
            <a:gradFill rotWithShape="0">
              <a:gsLst>
                <a:gs pos="0">
                  <a:srgbClr val="ff9900">
                    <a:alpha val="87058"/>
                  </a:srgbClr>
                </a:gs>
                <a:gs pos="50000">
                  <a:srgbClr val="ffffff"/>
                </a:gs>
                <a:gs pos="100000">
                  <a:srgbClr val="ff9900">
                    <a:alpha val="87058"/>
                  </a:srgbClr>
                </a:gs>
              </a:gsLst>
              <a:lin ang="10800000"/>
            </a:gradFill>
            <a:ln w="0">
              <a:noFill/>
            </a:ln>
            <a:effectLst>
              <a:outerShdw dist="89604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4920" y="2276640"/>
              <a:ext cx="525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0360" y="191628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492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728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92720" y="227664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95280" y="692280"/>
            <a:ext cx="8424720" cy="4825440"/>
            <a:chOff x="395280" y="692280"/>
            <a:chExt cx="8424720" cy="4825440"/>
          </a:xfrm>
        </p:grpSpPr>
        <p:sp>
          <p:nvSpPr>
            <p:cNvPr id="131" name=""/>
            <p:cNvSpPr/>
            <p:nvPr/>
          </p:nvSpPr>
          <p:spPr>
            <a:xfrm>
              <a:off x="3564000" y="692280"/>
              <a:ext cx="2016000" cy="1080720"/>
            </a:xfrm>
            <a:prstGeom prst="flowChartMultidocumen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565000"/>
              <a:ext cx="2016360" cy="1080720"/>
            </a:xfrm>
            <a:prstGeom prst="flowChartMultidocumen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28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0000" y="2565000"/>
              <a:ext cx="2016360" cy="1080720"/>
            </a:xfrm>
            <a:prstGeom prst="flowChartMultidocumen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7164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6720" y="4437000"/>
              <a:ext cx="144000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360" y="4365360"/>
              <a:ext cx="1439640" cy="1080720"/>
            </a:xfrm>
            <a:prstGeom prst="flowChartMultidocumen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d7d7d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56000" y="2060280"/>
              <a:ext cx="41050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116000" y="3860280"/>
              <a:ext cx="6985080" cy="7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6000" y="206028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59640" y="206028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6000" y="393192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4000" y="393192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3860640"/>
              <a:ext cx="0" cy="504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01080" y="386064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162864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6000" y="3500280"/>
              <a:ext cx="0" cy="431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2720" y="3428640"/>
              <a:ext cx="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720" y="4869000"/>
            <a:ext cx="2016000" cy="1152360"/>
          </a:xfrm>
          <a:prstGeom prst="flowChartAlternateProcess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6920" y="692280"/>
            <a:ext cx="7848720" cy="5329080"/>
            <a:chOff x="826920" y="692280"/>
            <a:chExt cx="7848720" cy="5329080"/>
          </a:xfrm>
        </p:grpSpPr>
        <p:sp>
          <p:nvSpPr>
            <p:cNvPr id="151" name=""/>
            <p:cNvSpPr/>
            <p:nvPr/>
          </p:nvSpPr>
          <p:spPr>
            <a:xfrm>
              <a:off x="3635280" y="692280"/>
              <a:ext cx="2016000" cy="1152360"/>
            </a:xfrm>
            <a:prstGeom prst="flowChartAlternateProcess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2781360"/>
              <a:ext cx="201600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5280" y="2708280"/>
              <a:ext cx="201600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280" y="2781360"/>
              <a:ext cx="2016360" cy="1152720"/>
            </a:xfrm>
            <a:prstGeom prst="flowChartAlternateProcess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69000"/>
              <a:ext cx="2016000" cy="1152360"/>
            </a:xfrm>
            <a:prstGeom prst="flowChartAlternateProcess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6920" y="4869000"/>
              <a:ext cx="2016000" cy="1152360"/>
            </a:xfrm>
            <a:prstGeom prst="flowChartAlternateProcess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34920" y="227664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3280" y="1844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3280" y="38610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34920" y="227664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96000" y="227664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4920" y="436572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96000" y="436572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4920" y="436572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87B-A662-4B3A-AB6A-D3E2D8DC6E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24000" y="189000"/>
            <a:ext cx="8602560" cy="6400800"/>
            <a:chOff x="324000" y="189000"/>
            <a:chExt cx="8602560" cy="6400800"/>
          </a:xfrm>
        </p:grpSpPr>
        <p:grpSp>
          <p:nvGrpSpPr>
            <p:cNvPr id="169" name=""/>
            <p:cNvGrpSpPr/>
            <p:nvPr/>
          </p:nvGrpSpPr>
          <p:grpSpPr>
            <a:xfrm>
              <a:off x="468360" y="189000"/>
              <a:ext cx="8458200" cy="6400800"/>
              <a:chOff x="468360" y="189000"/>
              <a:chExt cx="8458200" cy="6400800"/>
            </a:xfrm>
          </p:grpSpPr>
          <p:sp>
            <p:nvSpPr>
              <p:cNvPr id="170" name=""/>
              <p:cNvSpPr/>
              <p:nvPr/>
            </p:nvSpPr>
            <p:spPr>
              <a:xfrm>
                <a:off x="4049640" y="189000"/>
                <a:ext cx="11430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06440" y="64620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06440" y="171288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49640" y="1179720"/>
                <a:ext cx="99072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06440" y="2246400"/>
                <a:ext cx="160020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25960" y="2322720"/>
                <a:ext cx="99072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06440" y="1179720"/>
                <a:ext cx="160020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88280" y="722520"/>
                <a:ext cx="1066680" cy="30456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88280" y="1712880"/>
                <a:ext cx="106668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88280" y="2627280"/>
                <a:ext cx="1066680" cy="30492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83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25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90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68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78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878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973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64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975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070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168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2636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35840" y="3237120"/>
                <a:ext cx="38124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45680" y="3237120"/>
                <a:ext cx="380880" cy="1143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590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4944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01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545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6896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596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83160" y="493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83160" y="1484280"/>
                <a:ext cx="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83160" y="2627280"/>
                <a:ext cx="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06640" y="798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83160" y="87480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06640" y="2398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06640" y="1332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06640" y="1865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87880" y="79848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87880" y="13320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83160" y="18655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83160" y="27799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4680" y="18655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4680" y="186552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54160" y="3084480"/>
                <a:ext cx="76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54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876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97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06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164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259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92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61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356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454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5496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16444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74280" y="3084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3280" y="4608720"/>
                <a:ext cx="769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636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5436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450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38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642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7864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4761000"/>
                <a:ext cx="53316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64440" y="4761000"/>
                <a:ext cx="533520" cy="18288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6936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3280" y="4608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4000" y="3213360"/>
              <a:ext cx="360360" cy="11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11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