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57A-16FC-46C3-8C5E-ABC6BD20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357-9636-42D1-90EB-E0F766B3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4AC-1938-4110-9A85-E427A14F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F96-3BA4-4D4A-AF32-3AAEB123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60C9-6BFC-40D6-B9C3-5E5DAB36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2AEB-E64E-4E7A-B17C-2BC4945A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CD3F-AA09-4488-A131-AF37D6BA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8AB5-0C0B-44D0-8B8C-24D8A9C3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2C75-4DB4-4937-93F3-2C846951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6EBC-F384-4BA3-8C0C-F9FC4470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BAA4-1BCE-400C-918E-DA0EE9FC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241-03FB-4430-9D4E-E8B6731E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FA0D-9544-4BD0-B3BA-79FFE4E1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726D-13C7-4FB9-B508-726305D3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5DF2-CB8C-4DED-88AA-96E69580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1CA0-7477-4EB5-97A7-6EC7F646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094D-5029-41D5-A5D3-93B02806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1EA-57AA-4DED-9B1B-D291A964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AE1-1B2F-4647-B86D-A66AF7AC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E6D-73BE-4ABF-B64F-81880A31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6B6-E278-4912-939D-F4BEB957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434-8FA0-4F97-BDC3-BAE0EDB7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D8A-74E5-475A-876F-47A58C74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494-3D03-4F88-9EFF-BDDB3CA4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5F24-B6ED-40E3-A109-338BFB38220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3980-D3F6-46ED-974B-EAD0C0EE9EB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13BF-0767-48F0-9C78-6BAD061A51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"/>
          <p:cNvGrpSpPr/>
          <p:nvPr/>
        </p:nvGrpSpPr>
        <p:grpSpPr>
          <a:xfrm>
            <a:off x="676440" y="1600200"/>
            <a:ext cx="7708680" cy="3905280"/>
            <a:chOff x="676440" y="1600200"/>
            <a:chExt cx="7708680" cy="3905280"/>
          </a:xfrm>
        </p:grpSpPr>
        <p:grpSp>
          <p:nvGrpSpPr>
            <p:cNvPr id="89" name="组合 57"/>
            <p:cNvGrpSpPr/>
            <p:nvPr/>
          </p:nvGrpSpPr>
          <p:grpSpPr>
            <a:xfrm>
              <a:off x="6415200" y="2592000"/>
              <a:ext cx="1969920" cy="1971000"/>
              <a:chOff x="6415200" y="2592000"/>
              <a:chExt cx="1969920" cy="1971000"/>
            </a:xfrm>
          </p:grpSpPr>
          <p:sp>
            <p:nvSpPr>
              <p:cNvPr id="90" name="任意多边形 58"/>
              <p:cNvSpPr/>
              <p:nvPr/>
            </p:nvSpPr>
            <p:spPr>
              <a:xfrm>
                <a:off x="6415200" y="2592000"/>
                <a:ext cx="1969920" cy="197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任意多边形 59"/>
              <p:cNvSpPr/>
              <p:nvPr/>
            </p:nvSpPr>
            <p:spPr>
              <a:xfrm>
                <a:off x="6415200" y="2592000"/>
                <a:ext cx="1036800" cy="197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椭圆 60"/>
              <p:cNvSpPr/>
              <p:nvPr/>
            </p:nvSpPr>
            <p:spPr>
              <a:xfrm>
                <a:off x="7659360" y="3467880"/>
                <a:ext cx="207360" cy="2188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组合 61"/>
            <p:cNvGrpSpPr/>
            <p:nvPr/>
          </p:nvGrpSpPr>
          <p:grpSpPr>
            <a:xfrm>
              <a:off x="676440" y="2677680"/>
              <a:ext cx="1947960" cy="1819080"/>
              <a:chOff x="676440" y="2677680"/>
              <a:chExt cx="1947960" cy="1819080"/>
            </a:xfrm>
          </p:grpSpPr>
          <p:sp>
            <p:nvSpPr>
              <p:cNvPr id="94" name="任意多边形 62"/>
              <p:cNvSpPr/>
              <p:nvPr/>
            </p:nvSpPr>
            <p:spPr>
              <a:xfrm>
                <a:off x="676440" y="2677680"/>
                <a:ext cx="1947960" cy="18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任意多边形 63"/>
              <p:cNvSpPr/>
              <p:nvPr/>
            </p:nvSpPr>
            <p:spPr>
              <a:xfrm>
                <a:off x="676440" y="2677680"/>
                <a:ext cx="1082160" cy="18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直接连接符 64"/>
            <p:cNvSpPr/>
            <p:nvPr/>
          </p:nvSpPr>
          <p:spPr>
            <a:xfrm flipV="1">
              <a:off x="2624400" y="3576960"/>
              <a:ext cx="4323960" cy="9720"/>
            </a:xfrm>
            <a:prstGeom prst="line">
              <a:avLst/>
            </a:prstGeom>
            <a:ln w="7632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组合 65"/>
            <p:cNvGrpSpPr/>
            <p:nvPr/>
          </p:nvGrpSpPr>
          <p:grpSpPr>
            <a:xfrm>
              <a:off x="5644440" y="1600200"/>
              <a:ext cx="869040" cy="3905280"/>
              <a:chOff x="5644440" y="1600200"/>
              <a:chExt cx="869040" cy="3905280"/>
            </a:xfrm>
          </p:grpSpPr>
          <p:sp>
            <p:nvSpPr>
              <p:cNvPr id="98" name="任意多边形 66"/>
              <p:cNvSpPr/>
              <p:nvPr/>
            </p:nvSpPr>
            <p:spPr>
              <a:xfrm>
                <a:off x="5644440" y="1653840"/>
                <a:ext cx="523440" cy="385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6480">
                <a:solidFill>
                  <a:srgbClr val="ff9f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任意多边形 67"/>
              <p:cNvSpPr/>
              <p:nvPr/>
            </p:nvSpPr>
            <p:spPr>
              <a:xfrm>
                <a:off x="5656680" y="1600200"/>
                <a:ext cx="856800" cy="1910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6480">
                <a:solidFill>
                  <a:srgbClr val="ff9f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任意多边形 68"/>
              <p:cNvSpPr/>
              <p:nvPr/>
            </p:nvSpPr>
            <p:spPr>
              <a:xfrm flipV="1">
                <a:off x="5656680" y="3532680"/>
                <a:ext cx="856800" cy="1910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6480">
                <a:solidFill>
                  <a:srgbClr val="ff9f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合 69"/>
            <p:cNvGrpSpPr/>
            <p:nvPr/>
          </p:nvGrpSpPr>
          <p:grpSpPr>
            <a:xfrm>
              <a:off x="4359600" y="1906200"/>
              <a:ext cx="783360" cy="3342240"/>
              <a:chOff x="4359600" y="1906200"/>
              <a:chExt cx="783360" cy="3342240"/>
            </a:xfrm>
          </p:grpSpPr>
          <p:sp>
            <p:nvSpPr>
              <p:cNvPr id="102" name="任意多边形 70"/>
              <p:cNvSpPr/>
              <p:nvPr/>
            </p:nvSpPr>
            <p:spPr>
              <a:xfrm>
                <a:off x="4359600" y="1952280"/>
                <a:ext cx="471960" cy="3296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648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任意多边形 71"/>
              <p:cNvSpPr/>
              <p:nvPr/>
            </p:nvSpPr>
            <p:spPr>
              <a:xfrm>
                <a:off x="4370760" y="1906200"/>
                <a:ext cx="772200" cy="163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648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任意多边形 102"/>
              <p:cNvSpPr/>
              <p:nvPr/>
            </p:nvSpPr>
            <p:spPr>
              <a:xfrm flipV="1">
                <a:off x="4370760" y="3559320"/>
                <a:ext cx="772200" cy="163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648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组合 103"/>
            <p:cNvGrpSpPr/>
            <p:nvPr/>
          </p:nvGrpSpPr>
          <p:grpSpPr>
            <a:xfrm>
              <a:off x="2989080" y="1991880"/>
              <a:ext cx="783360" cy="3170880"/>
              <a:chOff x="2989080" y="1991880"/>
              <a:chExt cx="783360" cy="3170880"/>
            </a:xfrm>
          </p:grpSpPr>
          <p:sp>
            <p:nvSpPr>
              <p:cNvPr id="106" name="任意多边形 104"/>
              <p:cNvSpPr/>
              <p:nvPr/>
            </p:nvSpPr>
            <p:spPr>
              <a:xfrm>
                <a:off x="2989080" y="2035440"/>
                <a:ext cx="471960" cy="312732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任意多边形 105"/>
              <p:cNvSpPr/>
              <p:nvPr/>
            </p:nvSpPr>
            <p:spPr>
              <a:xfrm>
                <a:off x="3000240" y="1991880"/>
                <a:ext cx="772200" cy="155088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任意多边形 106"/>
              <p:cNvSpPr/>
              <p:nvPr/>
            </p:nvSpPr>
            <p:spPr>
              <a:xfrm flipV="1">
                <a:off x="3000240" y="3561120"/>
                <a:ext cx="772200" cy="155088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Box 107"/>
            <p:cNvSpPr/>
            <p:nvPr/>
          </p:nvSpPr>
          <p:spPr>
            <a:xfrm>
              <a:off x="4966560" y="18140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08"/>
            <p:cNvSpPr/>
            <p:nvPr/>
          </p:nvSpPr>
          <p:spPr>
            <a:xfrm>
              <a:off x="5172840" y="388800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09"/>
            <p:cNvSpPr/>
            <p:nvPr/>
          </p:nvSpPr>
          <p:spPr>
            <a:xfrm>
              <a:off x="3498120" y="19868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10"/>
            <p:cNvSpPr/>
            <p:nvPr/>
          </p:nvSpPr>
          <p:spPr>
            <a:xfrm>
              <a:off x="3877200" y="380160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11"/>
            <p:cNvSpPr/>
            <p:nvPr/>
          </p:nvSpPr>
          <p:spPr>
            <a:xfrm>
              <a:off x="2202480" y="208908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12"/>
            <p:cNvSpPr/>
            <p:nvPr/>
          </p:nvSpPr>
          <p:spPr>
            <a:xfrm>
              <a:off x="2581560" y="39038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203480" y="1054080"/>
            <a:ext cx="65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组织架构图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6262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76B7-584C-43A2-88D2-DD407BB01F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7Z</dcterms:modified>
  <cp:revision>10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