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4D5F-CE80-4217-90A8-DB586BAF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C66-F326-43FF-BFB1-CB77C88FC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49ABE-B9A0-48E6-93DC-E8EAD6F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85C1-4954-4205-8BEA-6697FF77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0F7F9-F823-463C-8CC5-83C00774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F407C-25C8-4B38-96A8-2575FD2A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A926F-DDE8-4FDA-9CE7-DA023675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58EFC-4E2B-4EA4-8E90-E06A31A8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866D2-9519-4DF6-A490-8D666A99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7CAAC-871E-4393-9DF8-C90FCE1E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0603E-0DF4-4B4E-81D2-50AC5D08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9BDC8-DC9C-4647-8C99-BDFF21B0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BE4-DCA9-4E24-B668-172A42308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78F72-DF5B-433A-9FF8-E1632F81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157FC-E285-4711-B021-151F99BE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5A78F-0FB8-4A6D-B2A4-440DB77A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68DA0-F577-4FA1-98B6-BB62991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6EB08-E2C5-45F1-AAC1-B4D8F497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D2B0-A09F-458F-8DA7-4BD74D98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5F78A-CCA5-4AF7-87A6-30CBE093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7E220-1D75-40F6-A606-B608C468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C99EE3-C6B1-43B9-9275-2FDC24FA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5DFF1-928F-4A2F-91CA-1A8783ED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B37E-932B-41E8-8F5D-42C45451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BE1E9-4B51-4146-8103-093E7C5C0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9D3CC-40AA-4431-81DB-EF974C031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F515-4DD9-4351-97A0-C91CE1C4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D95CF-F714-4AED-9852-BB6ACF44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48F55-88D6-4BF9-AA27-BEAB919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104ED-401B-4860-8C47-C83425C1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24E4F-D613-4436-AC7E-76AA27BC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EFEFB-40D5-456D-B3C2-DE3E41A3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ADD16-15B1-4A96-B94E-C5146DF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D8EC0-F64E-4073-A446-BACF1456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98B5F-AD51-437E-8554-ED4EFB13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5CC68-8D47-42BC-8324-CAAC33CA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15C80-0AAD-403E-8004-2F6F6C5C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6807C-61A0-4704-8A3F-128186CE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3976D-DF38-434D-A06B-222688EF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AB139-0BD2-4816-A9AE-AE4B697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F10D9-318F-4EF3-9FE5-25F351B8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927DF-1D91-450F-8E0B-381ABA5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E4E8B-BC6A-432F-AFFB-C83516C9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1A567-555D-4A5F-AE0B-E5DBCA9F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07C5C-8AC9-489C-8ED5-098C18D0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3FD2-4D53-44F1-B00F-396CF0AE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467F1-3FC5-4AFC-AE7E-3BACF95D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52E7D-0E08-43A2-8F44-2B49302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68E4A-42FC-46B6-890E-06CB3054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4A5FB-849C-426C-BBD9-E388CF81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ED49A-B9D1-45AB-BD4D-B65BF316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3A5367-C988-4C9F-A989-0604F346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4402C-295F-4F04-AA42-93063E84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71E03-AFF8-4841-99E5-E4E46CC4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9BE79-B203-4EF5-952E-11816EAE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C1B73-9B6E-4746-B580-03CB107B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D96D-C24A-49FB-B6AE-AD1B87E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2DB48-324A-4856-83FB-D109FE28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5331F6-AA59-44A9-B51E-4DE7477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390A1E-894D-47C0-B6CC-A5A36640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E75E7-CFA3-4649-8A8E-C1C1E4D0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954A4-0ABF-478A-8F76-62DBFF9C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E032E-546C-45BD-B7E1-C7EA0009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ECF18-5430-48A0-B5DC-E4CD943A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3BD3-6E8A-443D-B470-5924D57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EF4C-C487-45A7-B5A4-4B9A938B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DF41-D1D7-40D7-B7EC-197B366C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8CA4-7AAD-4CE3-AFC5-DA539237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D16-B072-4D23-9E4D-7BEA7AEB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32A0-430D-4AC8-98BA-739E947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8F06-9E21-4FA7-83B2-F760BDCF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F59D-FC80-4A8C-8579-A5536196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DE37-D26C-4F8E-9397-94FA3AE9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4B4D-15FB-49B1-A2BF-D17A715A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5D418-F8E8-42BD-847F-B16DFFE5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2720-FFD7-45A6-AB3B-81FC5BCF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619E9-BEED-4078-B48A-238D01E5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39F30-CA8A-4E77-8F51-565D27BF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7C010-4F6A-4E2C-B80F-4A66584F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89B-B426-436C-B1E5-7CE199C9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081D1-7177-487E-88E4-82A98E71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CD420-DC21-464E-AEB5-48DD62B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824C8-C3C3-41EF-BFAE-BE52600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7E8C-DC0B-47DE-B186-232FE0B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BF01B-2295-4324-A14E-7646DC15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C0095-C3CC-4F75-AC31-D4C7CC1B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E00B3-E618-49EF-8F4D-54164EB5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E3605-F05E-4244-8781-A9485C4E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DDC80-8456-4607-9E19-D1EBD2BD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D6437-5CDA-4741-A661-58D1EDF2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DAE7-E11F-4AFE-992E-391DE964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D1062-B988-496B-B4DE-713BFA9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4682-FD39-4EB2-8715-D446848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375EF-56BC-491E-B63D-CBA43AC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95471-BBF2-4581-898C-20CB9D0E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2FBB4-1204-4072-A8CD-F2C4829C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C72B-140D-4675-B4BA-E66CBEF9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87AB4-0DA1-4108-B266-D5D091F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38818-0066-4686-BC11-D2650A11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2B5DE-4609-4E20-8085-C910751E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24CE9-5812-474F-847E-0A6DD3AB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C89-5ADB-4737-B311-3548E70D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45515-B13D-4E2A-A2B7-632BE1B3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02C21-D91B-47EB-A326-86F3FF20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6A043-4E40-4D28-AC98-7308CF4E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42726-DFC7-410E-9570-446DE398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11969-590F-4E51-A935-A1C1413A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5712-1441-46A9-A81B-0F36A826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80675-DA3F-4170-A4BE-2EE5347F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A581-0BE5-4F1A-A79A-DAFB4953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6585-095B-4566-8AB7-7D9AE2D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6FCEB-6FB3-4F0C-917A-D0DFCDA4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600-1582-4FE9-98D3-63E81B1C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DBCE0-51C1-49CF-B0BD-E48826C6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EB33-52EE-4565-80EC-44A91E95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E1F8B-16AF-4DD7-8627-688D02D9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6184-5D72-453F-B6B5-F5694485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44C46-3661-4292-8588-B7F5D958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15BE-2B49-4C3D-A3B6-F69E647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A3F72-1201-49B4-BBFF-1FBF5D02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00CEF-A8B8-4B26-B5B3-F1DB568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A5278-C519-4993-B3D5-2E0657A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6E7ED-0201-423F-BEC6-F064B14A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902-F503-4FF5-B382-8681961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4199F-D8D6-4594-839C-FF77EE8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4D4C1-F12C-4591-B7CE-C7A43669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C2194-A1CF-4D6E-88F4-25483DCDE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9323E-A697-4344-A20F-DC8371C9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CC36-E99E-4721-B8F1-A7936FC2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D49E-58B2-4E7D-8F45-346615D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1E903-8723-4AF7-BC7C-C28EE7E5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84122-9A03-430C-AB52-AA6CAEFD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972C-0B19-4774-A081-F61E737D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C0AE1-2BAE-4428-9DDB-8A57109A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40E-2591-4838-851D-9E5A1AA9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4BF4A-878B-4380-9E0D-BDA0ABF8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C280F-3FC8-40CD-8DFD-1B85DC4E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63E98-6A87-4D60-AB12-F58779DF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2F0A1-73A1-4AA1-864C-5A9611A6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3B2CD-3ADF-423B-87CE-FAE604B1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F0DC2-6830-4F92-B924-5C6DD73A6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BF19B-FAF8-41CD-8A5A-9BF816FA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FCC0E-613A-4C90-A8DD-3D234391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7C2D7-075F-483B-A726-436DEC21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D1DE6-79D8-4F37-B4ED-499057F7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69E-0DCF-4802-B451-16788392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BAF32-E79D-4EF2-A833-98E83178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F426A-73F0-4144-ACC4-10EAAF98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22CAD-034F-4DD5-AC73-A7A195D4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42A38-EBE7-412D-B251-DE17F6CA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36A6A-4F8E-48FE-9FB8-B6483CAF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00E72-024D-437A-AF17-705C936E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632E5-EDDB-4889-AF75-B91FACDF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11F51-A8FB-4990-AA3A-A99F43F0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818326-9F7F-4788-B0B4-61489132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2166C-76A9-4E81-A5F9-78DD46AE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14B4-2191-4D0E-AB10-5071E1289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622-CF96-48A4-B5FF-453562C22F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6529-8650-4392-8DF0-7120644717E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9970-01D7-410F-A527-08B5A66E36C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F702-091D-4A18-A6FB-67A49478BB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6D6A-304F-4546-ADF8-B834930FDB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D98F-669F-4A3B-B555-6704E94B80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48BC-197E-4475-B5C5-F8ED6708597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DB30-B13E-456C-B7CB-5CE6C3C0FB3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9BDB-EE63-4212-B91C-658CC03D54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FC88-C1AE-4D3B-9D59-2DFE8858E9E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818C-C207-4EA8-A288-3D6B9629A7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815C-3C37-41DE-8888-258C744AF60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YW00089"/>
          <p:cNvPicPr/>
          <p:nvPr/>
        </p:nvPicPr>
        <p:blipFill>
          <a:blip r:embed="rId1"/>
          <a:stretch/>
        </p:blipFill>
        <p:spPr>
          <a:xfrm>
            <a:off x="0" y="476280"/>
            <a:ext cx="5148360" cy="59436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5"/>
          <p:cNvSpPr txBox="1"/>
          <p:nvPr/>
        </p:nvSpPr>
        <p:spPr>
          <a:xfrm rot="5400000">
            <a:off x="5316840" y="2539080"/>
            <a:ext cx="471636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晏子使楚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5439600" y="1579680"/>
            <a:ext cx="789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晏子春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龙的传人新.mp3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225440" cy="1225800"/>
          </a:xfrm>
          <a:prstGeom prst="rect">
            <a:avLst/>
          </a:prstGeom>
          <a:ln w="0">
            <a:noFill/>
          </a:ln>
        </p:spPr>
      </p:pic>
      <p:sp>
        <p:nvSpPr>
          <p:cNvPr id="537" name="矩形 1"/>
          <p:cNvSpPr/>
          <p:nvPr/>
        </p:nvSpPr>
        <p:spPr>
          <a:xfrm>
            <a:off x="1893600" y="476280"/>
            <a:ext cx="465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晏子使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矩形 7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9918" fill="hold"/>
                                        <p:tgtEl>
                                          <p:spTgt spid="5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050920" y="2707920"/>
            <a:ext cx="5834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原文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将    使    楚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603440" y="4365720"/>
            <a:ext cx="58370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译文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将要出使楚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900000" y="549360"/>
            <a:ext cx="785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、注意将单音词译为双音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1835280" y="54936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隶书"/>
                <a:ea typeface="隶书"/>
              </a:rPr>
              <a:t>2.</a:t>
            </a:r>
            <a:r>
              <a:rPr b="0" lang="zh-CN" sz="5400" spc="-1" strike="noStrike">
                <a:solidFill>
                  <a:srgbClr val="ff3300"/>
                </a:solidFill>
                <a:latin typeface="隶书"/>
                <a:ea typeface="隶书"/>
              </a:rPr>
              <a:t>通假字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143000" y="26668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1)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</a:rPr>
              <a:t>曷</a:t>
            </a: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(       )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</a:rPr>
              <a:t>通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Times New Roman"/>
              </a:rPr>
              <a:t>____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</a:rPr>
              <a:t>译</a:t>
            </a: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Times New Roman"/>
              </a:rPr>
              <a:t>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2)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</a:rPr>
              <a:t>熙</a:t>
            </a: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(       )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</a:rPr>
              <a:t>通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Times New Roman"/>
              </a:rPr>
              <a:t>____</a:t>
            </a:r>
            <a:r>
              <a:rPr b="0" lang="zh-CN" sz="4800" spc="-1" strike="noStrike">
                <a:solidFill>
                  <a:srgbClr val="009999"/>
                </a:solidFill>
                <a:latin typeface="Times New Roman"/>
              </a:rPr>
              <a:t>译</a:t>
            </a:r>
            <a:r>
              <a:rPr b="0" lang="en-US" sz="4800" spc="-1" strike="noStrike">
                <a:solidFill>
                  <a:srgbClr val="009999"/>
                </a:solidFill>
                <a:latin typeface="Times New Roman"/>
              </a:rPr>
              <a:t>:</a:t>
            </a:r>
            <a:r>
              <a:rPr b="0" lang="en-US" sz="4800" spc="-1" strike="noStrike" u="sng">
                <a:solidFill>
                  <a:srgbClr val="009999"/>
                </a:solidFill>
                <a:uFillTx/>
                <a:latin typeface="Times New Roman"/>
              </a:rPr>
              <a:t>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2743200" y="26668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h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4419720" y="26668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何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6553080" y="2666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什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7"/>
          <p:cNvSpPr/>
          <p:nvPr/>
        </p:nvSpPr>
        <p:spPr>
          <a:xfrm>
            <a:off x="28195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x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8"/>
          <p:cNvSpPr/>
          <p:nvPr/>
        </p:nvSpPr>
        <p:spPr>
          <a:xfrm>
            <a:off x="4572000" y="480060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嬉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9"/>
          <p:cNvSpPr/>
          <p:nvPr/>
        </p:nvSpPr>
        <p:spPr>
          <a:xfrm>
            <a:off x="6248520" y="47242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开玩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2108520" y="436680"/>
            <a:ext cx="31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3300"/>
                </a:solidFill>
                <a:latin typeface="隶书"/>
                <a:ea typeface="隶书"/>
              </a:rPr>
              <a:t>3.</a:t>
            </a:r>
            <a:r>
              <a:rPr b="0" i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古今异义词</a:t>
            </a:r>
            <a:r>
              <a:rPr b="0" i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79280" y="206064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900000" y="177336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1258920" y="1557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 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1332000" y="27082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4500720" y="2205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8"/>
          <p:cNvSpPr/>
          <p:nvPr/>
        </p:nvSpPr>
        <p:spPr>
          <a:xfrm>
            <a:off x="5148360" y="1844640"/>
            <a:ext cx="304560" cy="14479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5542560" y="1557360"/>
            <a:ext cx="26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>
            <a:off x="5508720" y="2781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1"/>
          <p:cNvSpPr/>
          <p:nvPr/>
        </p:nvSpPr>
        <p:spPr>
          <a:xfrm>
            <a:off x="0" y="4437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其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2"/>
          <p:cNvSpPr/>
          <p:nvPr/>
        </p:nvSpPr>
        <p:spPr>
          <a:xfrm>
            <a:off x="1187280" y="407664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1547640" y="400536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1619280" y="5229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940360" y="3716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5940360" y="52293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Times New Roman"/>
                <a:ea typeface="仿宋_GB2312"/>
              </a:rPr>
              <a:t>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7"/>
          <p:cNvSpPr/>
          <p:nvPr/>
        </p:nvSpPr>
        <p:spPr>
          <a:xfrm>
            <a:off x="5580000" y="400536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4427640" y="4365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所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979640" y="1557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犯罪  如：坐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050920" y="270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坐下，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1"/>
          <p:cNvSpPr/>
          <p:nvPr/>
        </p:nvSpPr>
        <p:spPr>
          <a:xfrm>
            <a:off x="6227640" y="15573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座具  如：避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630072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席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195640" y="400536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它的果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2195640" y="479736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副词，表示所说的是实际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5"/>
          <p:cNvSpPr/>
          <p:nvPr/>
        </p:nvSpPr>
        <p:spPr>
          <a:xfrm>
            <a:off x="6588000" y="3716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原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6516720" y="4724280"/>
            <a:ext cx="21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表因果关系的连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精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注意文言句式的一些特点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5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判断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晏婴，齐之习辞者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非所与熙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6227640" y="2205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肯定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6084720" y="2781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（否定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5435640" y="407664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5435640" y="45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者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5580000" y="5084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9"/>
          <p:cNvSpPr/>
          <p:nvPr/>
        </p:nvSpPr>
        <p:spPr>
          <a:xfrm>
            <a:off x="1116000" y="3429000"/>
            <a:ext cx="4535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倒装句（宾语前置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者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注意了解词类活用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齐人固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盗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无楚之水土使民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善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403280" y="429264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善于、擅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0728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各显神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0" y="1628640"/>
            <a:ext cx="558000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听说晏子要来楚国，楚王心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 flipV="1" rot="10800000">
            <a:off x="0" y="2492280"/>
            <a:ext cx="3132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楚王与亲信商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6"/>
          <p:cNvSpPr/>
          <p:nvPr/>
        </p:nvSpPr>
        <p:spPr>
          <a:xfrm>
            <a:off x="5724360" y="2205000"/>
            <a:ext cx="2016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3348000" y="3141720"/>
            <a:ext cx="1368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8"/>
          <p:cNvSpPr/>
          <p:nvPr/>
        </p:nvSpPr>
        <p:spPr>
          <a:xfrm flipV="1" rot="10800000">
            <a:off x="4642920" y="2635920"/>
            <a:ext cx="252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亲信建议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9"/>
          <p:cNvSpPr/>
          <p:nvPr/>
        </p:nvSpPr>
        <p:spPr>
          <a:xfrm>
            <a:off x="7308720" y="3141720"/>
            <a:ext cx="1368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0"/>
          <p:cNvSpPr/>
          <p:nvPr/>
        </p:nvSpPr>
        <p:spPr>
          <a:xfrm flipV="1" rot="10800000">
            <a:off x="0" y="3500280"/>
            <a:ext cx="4284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面对楚王侮辱，晏子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1"/>
          <p:cNvSpPr/>
          <p:nvPr/>
        </p:nvSpPr>
        <p:spPr>
          <a:xfrm>
            <a:off x="4427640" y="4005360"/>
            <a:ext cx="2592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2"/>
          <p:cNvSpPr/>
          <p:nvPr/>
        </p:nvSpPr>
        <p:spPr>
          <a:xfrm flipV="1" rot="10800000">
            <a:off x="-360" y="4437000"/>
            <a:ext cx="277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对楚王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2843280" y="5013360"/>
            <a:ext cx="1512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4"/>
          <p:cNvSpPr/>
          <p:nvPr/>
        </p:nvSpPr>
        <p:spPr>
          <a:xfrm flipV="1" rot="10800000">
            <a:off x="4500720" y="4653000"/>
            <a:ext cx="1511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最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16"/>
          <p:cNvSpPr/>
          <p:nvPr/>
        </p:nvSpPr>
        <p:spPr>
          <a:xfrm>
            <a:off x="5940360" y="5229360"/>
            <a:ext cx="13683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Picture 2" descr="3"/>
          <p:cNvPicPr/>
          <p:nvPr/>
        </p:nvPicPr>
        <p:blipFill>
          <a:blip r:embed="rId2"/>
          <a:stretch/>
        </p:blipFill>
        <p:spPr>
          <a:xfrm>
            <a:off x="3059280" y="83664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3" descr="73"/>
          <p:cNvPicPr/>
          <p:nvPr/>
        </p:nvPicPr>
        <p:blipFill>
          <a:blip r:embed="rId3"/>
          <a:stretch/>
        </p:blipFill>
        <p:spPr>
          <a:xfrm>
            <a:off x="228600" y="3886200"/>
            <a:ext cx="4114800" cy="29718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84"/>
          <p:cNvPicPr/>
          <p:nvPr/>
        </p:nvPicPr>
        <p:blipFill>
          <a:blip r:embed="rId4"/>
          <a:stretch/>
        </p:blipFill>
        <p:spPr>
          <a:xfrm>
            <a:off x="5029200" y="3886200"/>
            <a:ext cx="3962520" cy="288756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5"/>
          <p:cNvSpPr/>
          <p:nvPr/>
        </p:nvSpPr>
        <p:spPr>
          <a:xfrm>
            <a:off x="0" y="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对照下面三幅图画讲一下故事梗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WordArt 6" descr=""/>
          <p:cNvPicPr/>
          <p:nvPr/>
        </p:nvPicPr>
        <p:blipFill>
          <a:blip r:embed="rId5"/>
          <a:stretch/>
        </p:blipFill>
        <p:spPr>
          <a:xfrm>
            <a:off x="96840" y="835200"/>
            <a:ext cx="305424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图片3"/>
          <p:cNvPicPr/>
          <p:nvPr/>
        </p:nvPicPr>
        <p:blipFill>
          <a:blip r:embed="rId1"/>
          <a:stretch/>
        </p:blipFill>
        <p:spPr>
          <a:xfrm>
            <a:off x="5724360" y="3284640"/>
            <a:ext cx="3202200" cy="314172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" descr="图片1"/>
          <p:cNvPicPr/>
          <p:nvPr/>
        </p:nvPicPr>
        <p:blipFill>
          <a:blip r:embed="rId2"/>
          <a:stretch/>
        </p:blipFill>
        <p:spPr>
          <a:xfrm>
            <a:off x="468360" y="1773360"/>
            <a:ext cx="3552840" cy="28080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4"/>
          <p:cNvSpPr/>
          <p:nvPr/>
        </p:nvSpPr>
        <p:spPr>
          <a:xfrm>
            <a:off x="1523880" y="4572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9999"/>
                </a:solidFill>
                <a:latin typeface="Times New Roman"/>
              </a:rPr>
              <a:t>形象分析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4211640" y="16286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机智勇敢，善于辞令，不辱使命，极大地维护了国家尊严的出色的外交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990720" y="52578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自作聪明，仗势欺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7"/>
          <p:cNvSpPr/>
          <p:nvPr/>
        </p:nvSpPr>
        <p:spPr>
          <a:xfrm>
            <a:off x="2590920" y="1981080"/>
            <a:ext cx="1066680" cy="533520"/>
          </a:xfrm>
          <a:prstGeom prst="wedgeEllipseCallout">
            <a:avLst>
              <a:gd name="adj1" fmla="val -47768"/>
              <a:gd name="adj2" fmla="val 6993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晏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8"/>
          <p:cNvSpPr/>
          <p:nvPr/>
        </p:nvSpPr>
        <p:spPr>
          <a:xfrm>
            <a:off x="7696080" y="4800600"/>
            <a:ext cx="1067040" cy="533520"/>
          </a:xfrm>
          <a:prstGeom prst="wedgeEllipseCallout">
            <a:avLst>
              <a:gd name="adj1" fmla="val -10712"/>
              <a:gd name="adj2" fmla="val 7291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楚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609480" y="1600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、晏子在楚国反击楚王的目的是什么？能够成功反击依靠的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611280" y="2924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晏子成功使楚，齐王决定重赏他，于是需要拟一份诏书，对晏子作一个全面、客观地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评价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，你能帮助齐王完成这一工作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4"/>
          <p:cNvSpPr/>
          <p:nvPr/>
        </p:nvSpPr>
        <p:spPr>
          <a:xfrm>
            <a:off x="304920" y="685800"/>
            <a:ext cx="3200400" cy="7621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WordArt 5"/>
          <p:cNvSpPr txBox="1"/>
          <p:nvPr/>
        </p:nvSpPr>
        <p:spPr>
          <a:xfrm>
            <a:off x="457200" y="68580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隶书"/>
              </a:rPr>
              <a:t>走近晏子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隶书"/>
              <a:ea typeface="隶书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假如你是晏子，你能否结合刚才的事例说一说你是怎样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巧妙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地反击楚王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0" y="476280"/>
            <a:ext cx="4572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晏子简介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4" descr="图片6"/>
          <p:cNvPicPr/>
          <p:nvPr/>
        </p:nvPicPr>
        <p:blipFill>
          <a:blip r:embed="rId1"/>
          <a:stretch/>
        </p:blipFill>
        <p:spPr>
          <a:xfrm>
            <a:off x="4572000" y="1424160"/>
            <a:ext cx="4572000" cy="48574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5"/>
          <p:cNvSpPr/>
          <p:nvPr/>
        </p:nvSpPr>
        <p:spPr>
          <a:xfrm>
            <a:off x="71280" y="765000"/>
            <a:ext cx="450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晏婴，又称晏子，春秋时齐国 人。历仕灵公、庄公、景公三世，是继管仲之后，齐国的名相，也是我国古代杰出的政治家和外交家。春秋时期，诸侯并起，风云变幻。晏婴头脑机敏，能言善辩。他内辅国政，屡谏齐王，竭心尽力拯救内忧外患的齐国。在对外斗争中，他既富有灵活性，又坚持原则性，出使不受辱，捍卫了齐国的国格和国威</a:t>
            </a:r>
            <a:r>
              <a:rPr b="0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知道吗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一个成语或歇后语来形容失败的楚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4"/>
          <p:cNvSpPr/>
          <p:nvPr/>
        </p:nvSpPr>
        <p:spPr>
          <a:xfrm>
            <a:off x="755640" y="2924280"/>
            <a:ext cx="33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哑巴吃黄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5"/>
          <p:cNvSpPr/>
          <p:nvPr/>
        </p:nvSpPr>
        <p:spPr>
          <a:xfrm>
            <a:off x="4067280" y="28526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5651640" y="2708280"/>
            <a:ext cx="27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有苦说不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900000" y="4005360"/>
            <a:ext cx="338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偷鸡不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8"/>
          <p:cNvSpPr/>
          <p:nvPr/>
        </p:nvSpPr>
        <p:spPr>
          <a:xfrm>
            <a:off x="5651640" y="3860640"/>
            <a:ext cx="26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反蚀一把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9"/>
          <p:cNvSpPr/>
          <p:nvPr/>
        </p:nvSpPr>
        <p:spPr>
          <a:xfrm>
            <a:off x="755640" y="501336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搬起石头砸自己的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"/>
          <p:cNvSpPr/>
          <p:nvPr/>
        </p:nvSpPr>
        <p:spPr>
          <a:xfrm>
            <a:off x="5508720" y="5013360"/>
            <a:ext cx="24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自作自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4140360" y="39337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4140360" y="50846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990000"/>
                </a:solidFill>
                <a:latin typeface="Times New Roman"/>
              </a:rPr>
              <a:t>迁移练习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故事一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有一次，克林顿到外地演讲，他正在演讲时，从下面传来一张字条，上面写了两个字：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痴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” 。如果你是克林顿，你会怎样回答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天，德国大诗人歌德在公园散步，在一条狭窄的小路上遇到了一位反对他的批评家，这位傲慢的批评家说：“你知道吗？我这个人从来不给傻瓜让路。”歌德却说：“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说完闪身让批评家过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2843280" y="3860640"/>
            <a:ext cx="273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而我恰恰相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国大诗人海涅是犹太人，常常遭到无端攻击。有一次晚会上，一个旅行家对他说：“我发现了一个小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个岛上竟然没有犹太人和驴子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海涅不动声色地说：“看来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才会弥补这个缺陷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539640" y="443700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只有你我一起去那个岛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故事四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俄国著名寓言作家克雷洛夫长得很胖，又爱穿黑衣服。一次，一位贵族看到他在散步，便冲着他大叫：“你看，来了一朵乌云！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________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克雷洛夫看着雍肿的贵族答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1835280" y="386064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怪不得蛤蟆开始叫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5" descr="zhubaobao33,2007022020443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61080"/>
          </a:xfrm>
          <a:prstGeom prst="rect">
            <a:avLst/>
          </a:prstGeom>
          <a:ln w="0">
            <a:noFill/>
          </a:ln>
        </p:spPr>
      </p:pic>
      <p:sp>
        <p:nvSpPr>
          <p:cNvPr id="714" name="WordArt 7"/>
          <p:cNvSpPr txBox="1"/>
          <p:nvPr/>
        </p:nvSpPr>
        <p:spPr>
          <a:xfrm rot="19404600">
            <a:off x="-396360" y="1773000"/>
            <a:ext cx="4572000" cy="14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请你说故事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3"/>
          <p:cNvSpPr/>
          <p:nvPr/>
        </p:nvSpPr>
        <p:spPr>
          <a:xfrm>
            <a:off x="2466360" y="1700280"/>
            <a:ext cx="487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这个故事，我们应该懂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84384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转换角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1187280" y="2708280"/>
            <a:ext cx="63741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热爱祖国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维护祖国尊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Oval 5"/>
          <p:cNvSpPr/>
          <p:nvPr/>
        </p:nvSpPr>
        <p:spPr>
          <a:xfrm>
            <a:off x="611280" y="765000"/>
            <a:ext cx="3024000" cy="10083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2"/>
          <p:cNvSpPr/>
          <p:nvPr/>
        </p:nvSpPr>
        <p:spPr>
          <a:xfrm>
            <a:off x="250920" y="3645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假如你是楚国的大臣，你能否找出晏子话语中的破绽，巧妙地反击他的论辩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WordArt 3"/>
          <p:cNvSpPr txBox="1"/>
          <p:nvPr/>
        </p:nvSpPr>
        <p:spPr>
          <a:xfrm>
            <a:off x="684360" y="836640"/>
            <a:ext cx="2743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展我辩才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21" name="Text Box 6"/>
          <p:cNvSpPr/>
          <p:nvPr/>
        </p:nvSpPr>
        <p:spPr>
          <a:xfrm>
            <a:off x="395280" y="220500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作业</a:t>
            </a: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3"/>
          <p:cNvSpPr/>
          <p:nvPr/>
        </p:nvSpPr>
        <p:spPr>
          <a:xfrm>
            <a:off x="5936760" y="609480"/>
            <a:ext cx="27547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话和事业的 发展有很大的关系，因为这直接关系到别人的同情、合作和帮助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富兰克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WordArt 5"/>
          <p:cNvSpPr txBox="1"/>
          <p:nvPr/>
        </p:nvSpPr>
        <p:spPr>
          <a:xfrm rot="5400000">
            <a:off x="-380880" y="2590920"/>
            <a:ext cx="31240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教师寄语</a:t>
            </a:r>
            <a:endParaRPr b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24" name="孙楠 红旗飘飘.mp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725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5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4" dur="259553" fill="hold"/>
                                        <p:tgtEl>
                                          <p:spTgt spid="7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了解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晏子春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5" descr="yanzitu"/>
          <p:cNvPicPr/>
          <p:nvPr/>
        </p:nvPicPr>
        <p:blipFill>
          <a:blip r:embed="rId1"/>
          <a:stretch/>
        </p:blipFill>
        <p:spPr>
          <a:xfrm>
            <a:off x="5508720" y="1484280"/>
            <a:ext cx="3384360" cy="482436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08000" y="1773360"/>
            <a:ext cx="5400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记述春秋时齐国晏婴言行的散文作品。实为战国时人搜集有关他的言行及遗闻轶事编辑而成。其中以晏子即事劝谏景公治国利民、贤明为政的内容居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插图"/>
          <p:cNvPicPr/>
          <p:nvPr/>
        </p:nvPicPr>
        <p:blipFill>
          <a:blip r:embed="rId1"/>
          <a:stretch/>
        </p:blipFill>
        <p:spPr>
          <a:xfrm>
            <a:off x="0" y="0"/>
            <a:ext cx="305928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3924360" y="83664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晏子使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3132000" y="191628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晏子：本名晏婴，春秋时齐国的大夫。“子” ，是指对古代有贡献男人的尊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284720" y="40053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：出使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3708360" y="4952880"/>
            <a:ext cx="505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：春秋时期与齐国齐名的大国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280" y="609120"/>
            <a:ext cx="8964720" cy="116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朗读课文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6" descr="图片2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24480"/>
          </a:xfrm>
          <a:prstGeom prst="rect">
            <a:avLst/>
          </a:prstGeom>
          <a:ln w="0">
            <a:noFill/>
          </a:ln>
        </p:spPr>
      </p:pic>
      <p:sp>
        <p:nvSpPr>
          <p:cNvPr id="552" name="Rectangle 7"/>
          <p:cNvSpPr/>
          <p:nvPr/>
        </p:nvSpPr>
        <p:spPr>
          <a:xfrm>
            <a:off x="0" y="1989000"/>
            <a:ext cx="12589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晏子使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划线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字注音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79280" y="1916280"/>
            <a:ext cx="79250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赐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（      ）晏子酒       酒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酣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（      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缚者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曷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（       ）为者也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吏二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缚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（          ）一人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诣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（          ）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橘生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淮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(        )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南则为橘，生于淮北则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990000"/>
                </a:solidFill>
                <a:uFillTx/>
                <a:latin typeface="Times New Roman"/>
              </a:rPr>
              <a:t>枳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</a:rPr>
              <a:t>（       ）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187280" y="1844640"/>
            <a:ext cx="838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5724360" y="1773360"/>
            <a:ext cx="1600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2195640" y="2565360"/>
            <a:ext cx="990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"/>
          <p:cNvSpPr/>
          <p:nvPr/>
        </p:nvSpPr>
        <p:spPr>
          <a:xfrm>
            <a:off x="2268360" y="3500280"/>
            <a:ext cx="914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5724360" y="3429000"/>
            <a:ext cx="1067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1692360" y="43657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á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1187280" y="5084640"/>
            <a:ext cx="10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h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0" y="2602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  子  将  使  楚。 楚王     闻        之，         谓  左右  曰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晏婴，齐  之    习     辞     者     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今    方   来，吾  欲  辱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何      以    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     左右对曰：“为 其 来也，臣请        缚  一人过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行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，何  为  者  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  曰：齐人也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  曰，何           坐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，  坐   盗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143000" y="6858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出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124080" y="685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听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4038480" y="685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这个消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5867280" y="685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判断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371600" y="1905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2057400" y="1905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熟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3200400" y="19051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的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51814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将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7620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代晏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以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25146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回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38098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è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5029200" y="2971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请允许干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8"/>
          <p:cNvSpPr/>
          <p:nvPr/>
        </p:nvSpPr>
        <p:spPr>
          <a:xfrm>
            <a:off x="74674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9"/>
          <p:cNvSpPr/>
          <p:nvPr/>
        </p:nvSpPr>
        <p:spPr>
          <a:xfrm>
            <a:off x="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何  为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é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20"/>
          <p:cNvSpPr/>
          <p:nvPr/>
        </p:nvSpPr>
        <p:spPr>
          <a:xfrm>
            <a:off x="5181480" y="4038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宾语前置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坐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21"/>
          <p:cNvSpPr/>
          <p:nvPr/>
        </p:nvSpPr>
        <p:spPr>
          <a:xfrm>
            <a:off x="777240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22"/>
          <p:cNvSpPr/>
          <p:nvPr/>
        </p:nvSpPr>
        <p:spPr>
          <a:xfrm>
            <a:off x="533520" y="5105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犯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3"/>
          <p:cNvSpPr/>
          <p:nvPr/>
        </p:nvSpPr>
        <p:spPr>
          <a:xfrm>
            <a:off x="1116000" y="57340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楚国君臣事前的密谋策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2"/>
          <p:cNvSpPr/>
          <p:nvPr/>
        </p:nvSpPr>
        <p:spPr>
          <a:xfrm>
            <a:off x="838080" y="38088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0" y="68580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至，楚王    赐    晏子酒。  酒             酣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吏二缚 一人 诣 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王曰：“缚者     曷     为  者也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对曰：“齐人也，坐   盗。”王    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晏子曰“齐人   固     善    盗乎？”晏子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避  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对曰：“婴  闻         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橘 生   淮南  则  为  橘，生 于 淮北则为枳，叶徒相似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味不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      以          然    者    何？   水土   异    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1828800" y="1143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赏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4343400" y="1143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喝酒喝得正高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69343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807732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0" y="2209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宾语前置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9"/>
          <p:cNvSpPr/>
          <p:nvPr/>
        </p:nvSpPr>
        <p:spPr>
          <a:xfrm>
            <a:off x="1828800" y="2209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通假字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曷”通“何”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0"/>
          <p:cNvSpPr/>
          <p:nvPr/>
        </p:nvSpPr>
        <p:spPr>
          <a:xfrm>
            <a:off x="137160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本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2286000" y="3352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善于擅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2"/>
          <p:cNvSpPr/>
          <p:nvPr/>
        </p:nvSpPr>
        <p:spPr>
          <a:xfrm>
            <a:off x="464832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离开座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3"/>
          <p:cNvSpPr/>
          <p:nvPr/>
        </p:nvSpPr>
        <p:spPr>
          <a:xfrm>
            <a:off x="7543800" y="3276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这样的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1619280" y="4365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2050920" y="4437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变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609588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只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6948360" y="443700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它们的果    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0" y="5562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2057400" y="548640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代词</a:t>
            </a:r>
            <a:r>
              <a:rPr b="1" lang="en-US" sz="2400" spc="-1" strike="noStrike">
                <a:solidFill>
                  <a:srgbClr val="cc00cc"/>
                </a:solidFill>
                <a:latin typeface="Times New Roman"/>
              </a:rPr>
              <a:t>,    </a:t>
            </a: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这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4952880" y="5562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Times New Roman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228600" y="1447920"/>
            <a:ext cx="8915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民生长于齐不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楚则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得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楚 之 水土 使民   善  盗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王笑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“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圣   人  非  所  与         熙          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寡人  反 取  病  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495680" y="1981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莫非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难道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2514600" y="2971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3581280" y="2895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熙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“嬉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：开玩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76201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611280" y="4724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第二段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晏子机智地挫败了楚国君臣的阴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41:33Z</dcterms:created>
  <dc:creator/>
  <dc:description/>
  <cp:keywords>幻灯片之家 http:/www.eeppt.com</cp:keywords>
  <dc:language>en-US</dc:language>
  <cp:lastModifiedBy/>
  <dcterms:modified xsi:type="dcterms:W3CDTF">2015-07-20T04:23:2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