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2F2-3477-40DA-9661-F6253561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58E-59AD-47E2-885A-C75EBA9B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50F-C773-4529-8437-BD917D62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B04-83EA-474B-A6A8-989B6537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D12-885F-4548-B906-ECBD3E1B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30F-EBF9-4723-B649-364D0153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8EE-9CDA-446A-B457-DEE2F2D8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8B6-B32A-4C57-9D35-A232A62B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201-0AFD-4912-97A4-AB3C82AB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CA6-31D6-473E-A191-39F5FAAE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ED5-B063-44D8-A25E-104157F0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07E-5B06-4131-8219-3547949F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2316-5372-4054-9D86-8ED5B834CC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572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46</a:t>
            </a:r>
            <a:r>
              <a:rPr b="1" lang="zh-CN" sz="40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周部门例会</a:t>
            </a:r>
            <a:r>
              <a:rPr b="1" lang="en-US" sz="40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4880" y="3499920"/>
            <a:ext cx="49291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零售培训发展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9"/>
          <p:cNvGrpSpPr/>
          <p:nvPr/>
        </p:nvGrpSpPr>
        <p:grpSpPr>
          <a:xfrm>
            <a:off x="0" y="1428840"/>
            <a:ext cx="8001000" cy="71280"/>
            <a:chOff x="0" y="1428840"/>
            <a:chExt cx="8001000" cy="71280"/>
          </a:xfrm>
        </p:grpSpPr>
        <p:sp>
          <p:nvSpPr>
            <p:cNvPr id="44" name="直接连接符 4"/>
            <p:cNvSpPr/>
            <p:nvPr/>
          </p:nvSpPr>
          <p:spPr>
            <a:xfrm>
              <a:off x="0" y="1428840"/>
              <a:ext cx="8001000" cy="1440"/>
            </a:xfrm>
            <a:prstGeom prst="line">
              <a:avLst/>
            </a:prstGeom>
            <a:ln w="381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直接连接符 5"/>
            <p:cNvSpPr/>
            <p:nvPr/>
          </p:nvSpPr>
          <p:spPr>
            <a:xfrm>
              <a:off x="0" y="1498680"/>
              <a:ext cx="8001000" cy="144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组合 8"/>
          <p:cNvGrpSpPr/>
          <p:nvPr/>
        </p:nvGrpSpPr>
        <p:grpSpPr>
          <a:xfrm>
            <a:off x="1357200" y="2857680"/>
            <a:ext cx="7786800" cy="71280"/>
            <a:chOff x="1357200" y="2857680"/>
            <a:chExt cx="7786800" cy="71280"/>
          </a:xfrm>
        </p:grpSpPr>
        <p:sp>
          <p:nvSpPr>
            <p:cNvPr id="47" name="直接连接符 6"/>
            <p:cNvSpPr/>
            <p:nvPr/>
          </p:nvSpPr>
          <p:spPr>
            <a:xfrm>
              <a:off x="1357200" y="2927520"/>
              <a:ext cx="7786800" cy="1440"/>
            </a:xfrm>
            <a:prstGeom prst="line">
              <a:avLst/>
            </a:prstGeom>
            <a:ln w="381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直接连接符 7"/>
            <p:cNvSpPr/>
            <p:nvPr/>
          </p:nvSpPr>
          <p:spPr>
            <a:xfrm>
              <a:off x="1357200" y="2857680"/>
              <a:ext cx="7786800" cy="1440"/>
            </a:xfrm>
            <a:prstGeom prst="line">
              <a:avLst/>
            </a:prstGeom>
            <a:ln w="93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直接连接符 10"/>
          <p:cNvSpPr/>
          <p:nvPr/>
        </p:nvSpPr>
        <p:spPr>
          <a:xfrm>
            <a:off x="5500800" y="3929040"/>
            <a:ext cx="2500200" cy="144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357120" y="642960"/>
            <a:ext cx="1714680" cy="57132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928800" y="1714680"/>
            <a:ext cx="17143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215040" y="1714680"/>
            <a:ext cx="17146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571920" y="1714680"/>
            <a:ext cx="17143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928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1714680" y="1714680"/>
            <a:ext cx="7855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25002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95737E-006 L -0.58056 0.00062 E">
                                      <p:cBhvr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95737E-006 L -0.2915 0.00062 E">
                                      <p:cBhvr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2" presetSubtype="8">
                                  <p:stCondLst>
                                    <p:cond delay="4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3" dur="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6" dur="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9" dur="4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00"/>
                            </p:stCondLst>
                            <p:childTnLst>
                              <p:par>
                                <p:cTn id="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4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25"/>
          <p:cNvGrpSpPr/>
          <p:nvPr/>
        </p:nvGrpSpPr>
        <p:grpSpPr>
          <a:xfrm>
            <a:off x="1714680" y="1714680"/>
            <a:ext cx="5286240" cy="2571480"/>
            <a:chOff x="1714680" y="1714680"/>
            <a:chExt cx="5286240" cy="2571480"/>
          </a:xfrm>
        </p:grpSpPr>
        <p:pic>
          <p:nvPicPr>
            <p:cNvPr id="59" name="Picture 4" descr="http://img01.tooopen.com/Downs/images/2011/9/20/sy_20110920113258815016.jpg"/>
            <p:cNvPicPr/>
            <p:nvPr/>
          </p:nvPicPr>
          <p:blipFill>
            <a:blip r:embed="rId1"/>
            <a:srcRect l="0" t="1962" r="0" b="27452"/>
            <a:stretch/>
          </p:blipFill>
          <p:spPr>
            <a:xfrm>
              <a:off x="1714680" y="1714680"/>
              <a:ext cx="528624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组合 24"/>
            <p:cNvGrpSpPr/>
            <p:nvPr/>
          </p:nvGrpSpPr>
          <p:grpSpPr>
            <a:xfrm>
              <a:off x="2000160" y="3143160"/>
              <a:ext cx="4643280" cy="714240"/>
              <a:chOff x="2000160" y="3143160"/>
              <a:chExt cx="4643280" cy="714240"/>
            </a:xfrm>
          </p:grpSpPr>
          <p:sp>
            <p:nvSpPr>
              <p:cNvPr id="61" name="矩形 17"/>
              <p:cNvSpPr/>
              <p:nvPr/>
            </p:nvSpPr>
            <p:spPr>
              <a:xfrm>
                <a:off x="2071440" y="3143160"/>
                <a:ext cx="128592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TextBox 14"/>
              <p:cNvSpPr/>
              <p:nvPr/>
            </p:nvSpPr>
            <p:spPr>
              <a:xfrm>
                <a:off x="2000160" y="3143160"/>
                <a:ext cx="142848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第</a:t>
                </a:r>
                <a:r>
                  <a:rPr b="1" lang="en-US" sz="4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46</a:t>
                </a:r>
                <a:r>
                  <a:rPr b="1" lang="zh-CN" sz="2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矩形 18"/>
              <p:cNvSpPr/>
              <p:nvPr/>
            </p:nvSpPr>
            <p:spPr>
              <a:xfrm>
                <a:off x="3357360" y="314316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矩形 19"/>
              <p:cNvSpPr/>
              <p:nvPr/>
            </p:nvSpPr>
            <p:spPr>
              <a:xfrm>
                <a:off x="3357360" y="378612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矩形 20"/>
              <p:cNvSpPr/>
              <p:nvPr/>
            </p:nvSpPr>
            <p:spPr>
              <a:xfrm>
                <a:off x="6572160" y="3143160"/>
                <a:ext cx="7128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TextBox 21"/>
              <p:cNvSpPr/>
              <p:nvPr/>
            </p:nvSpPr>
            <p:spPr>
              <a:xfrm>
                <a:off x="3357360" y="3214440"/>
                <a:ext cx="3214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2f2f2"/>
                    </a:solidFill>
                    <a:latin typeface="Arial"/>
                  </a:rPr>
                  <a:t>WHAT WE HAVE DONE IN THE LAST WEEK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Box 22"/>
              <p:cNvSpPr/>
              <p:nvPr/>
            </p:nvSpPr>
            <p:spPr>
              <a:xfrm>
                <a:off x="3357360" y="3333600"/>
                <a:ext cx="321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f2f2f2"/>
                    </a:solidFill>
                    <a:latin typeface="方正姚体"/>
                    <a:ea typeface="方正姚体"/>
                  </a:rPr>
                  <a:t>這 一 周</a:t>
                </a:r>
                <a:endParaRPr b="0" lang="en-US" sz="2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8" name="矩形 9"/>
          <p:cNvSpPr/>
          <p:nvPr/>
        </p:nvSpPr>
        <p:spPr>
          <a:xfrm>
            <a:off x="928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1714680" y="1714680"/>
            <a:ext cx="7855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1"/>
          <p:cNvSpPr/>
          <p:nvPr/>
        </p:nvSpPr>
        <p:spPr>
          <a:xfrm>
            <a:off x="25002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16"/>
          <p:cNvSpPr/>
          <p:nvPr/>
        </p:nvSpPr>
        <p:spPr>
          <a:xfrm flipH="1" flipV="1">
            <a:off x="713880" y="1285920"/>
            <a:ext cx="785844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圆角矩形 24"/>
          <p:cNvSpPr/>
          <p:nvPr/>
        </p:nvSpPr>
        <p:spPr>
          <a:xfrm>
            <a:off x="714240" y="78588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例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95737E-006 L 0.57743 0.00062 E">
                                      <p:cBhvr>
                                        <p:cTn id="59" dur="8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95737E-006 L 0.57674 0.00062 E">
                                      <p:cBhvr>
                                        <p:cTn id="61" dur="8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7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4"/>
          <p:cNvGrpSpPr/>
          <p:nvPr/>
        </p:nvGrpSpPr>
        <p:grpSpPr>
          <a:xfrm>
            <a:off x="1714680" y="1714680"/>
            <a:ext cx="5286240" cy="2571480"/>
            <a:chOff x="1714680" y="1714680"/>
            <a:chExt cx="5286240" cy="2571480"/>
          </a:xfrm>
        </p:grpSpPr>
        <p:pic>
          <p:nvPicPr>
            <p:cNvPr id="74" name="Picture 4" descr="http://img01.tooopen.com/Downs/images/2011/9/20/sy_20110920113258815016.jpg"/>
            <p:cNvPicPr/>
            <p:nvPr/>
          </p:nvPicPr>
          <p:blipFill>
            <a:blip r:embed="rId1"/>
            <a:srcRect l="0" t="1962" r="0" b="27452"/>
            <a:stretch/>
          </p:blipFill>
          <p:spPr>
            <a:xfrm>
              <a:off x="1714680" y="1714680"/>
              <a:ext cx="528624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组合 24"/>
            <p:cNvGrpSpPr/>
            <p:nvPr/>
          </p:nvGrpSpPr>
          <p:grpSpPr>
            <a:xfrm>
              <a:off x="2000160" y="3143160"/>
              <a:ext cx="4643280" cy="714240"/>
              <a:chOff x="2000160" y="3143160"/>
              <a:chExt cx="4643280" cy="714240"/>
            </a:xfrm>
          </p:grpSpPr>
          <p:sp>
            <p:nvSpPr>
              <p:cNvPr id="76" name="矩形 17"/>
              <p:cNvSpPr/>
              <p:nvPr/>
            </p:nvSpPr>
            <p:spPr>
              <a:xfrm>
                <a:off x="2071440" y="3143160"/>
                <a:ext cx="128592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TextBox 14"/>
              <p:cNvSpPr/>
              <p:nvPr/>
            </p:nvSpPr>
            <p:spPr>
              <a:xfrm>
                <a:off x="2000160" y="3143160"/>
                <a:ext cx="142848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第</a:t>
                </a:r>
                <a:r>
                  <a:rPr b="1" lang="en-US" sz="4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46</a:t>
                </a:r>
                <a:r>
                  <a:rPr b="1" lang="zh-CN" sz="2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矩形 18"/>
              <p:cNvSpPr/>
              <p:nvPr/>
            </p:nvSpPr>
            <p:spPr>
              <a:xfrm>
                <a:off x="3357360" y="314316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矩形 19"/>
              <p:cNvSpPr/>
              <p:nvPr/>
            </p:nvSpPr>
            <p:spPr>
              <a:xfrm>
                <a:off x="3357360" y="378612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矩形 20"/>
              <p:cNvSpPr/>
              <p:nvPr/>
            </p:nvSpPr>
            <p:spPr>
              <a:xfrm>
                <a:off x="6572160" y="3143160"/>
                <a:ext cx="7128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TextBox 21"/>
              <p:cNvSpPr/>
              <p:nvPr/>
            </p:nvSpPr>
            <p:spPr>
              <a:xfrm>
                <a:off x="3357360" y="3214440"/>
                <a:ext cx="3214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2f2f2"/>
                    </a:solidFill>
                    <a:latin typeface="Arial"/>
                  </a:rPr>
                  <a:t>WHAT WE HAVE DONE IN THE LAST WEEK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TextBox 22"/>
              <p:cNvSpPr/>
              <p:nvPr/>
            </p:nvSpPr>
            <p:spPr>
              <a:xfrm>
                <a:off x="3357360" y="3333600"/>
                <a:ext cx="321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f2f2f2"/>
                    </a:solidFill>
                    <a:latin typeface="方正姚体"/>
                    <a:ea typeface="方正姚体"/>
                  </a:rPr>
                  <a:t>這 一 周</a:t>
                </a:r>
                <a:endParaRPr b="0" lang="en-US" sz="2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" name="矩形 9"/>
          <p:cNvSpPr/>
          <p:nvPr/>
        </p:nvSpPr>
        <p:spPr>
          <a:xfrm>
            <a:off x="928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00092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7786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35"/>
          <p:cNvGrpSpPr/>
          <p:nvPr/>
        </p:nvGrpSpPr>
        <p:grpSpPr>
          <a:xfrm>
            <a:off x="2500200" y="1714680"/>
            <a:ext cx="5286600" cy="2571480"/>
            <a:chOff x="2500200" y="1714680"/>
            <a:chExt cx="5286600" cy="2571480"/>
          </a:xfrm>
        </p:grpSpPr>
        <p:pic>
          <p:nvPicPr>
            <p:cNvPr id="87" name="Picture 6" descr="http://sc.studentboss.com/upload/qita7/sky/images/1600cloudsky_2010.jpg"/>
            <p:cNvPicPr/>
            <p:nvPr/>
          </p:nvPicPr>
          <p:blipFill>
            <a:blip r:embed="rId2"/>
            <a:srcRect l="0" t="34240" r="0" b="896"/>
            <a:stretch/>
          </p:blipFill>
          <p:spPr>
            <a:xfrm>
              <a:off x="2500200" y="1714680"/>
              <a:ext cx="528660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组合 26"/>
            <p:cNvGrpSpPr/>
            <p:nvPr/>
          </p:nvGrpSpPr>
          <p:grpSpPr>
            <a:xfrm>
              <a:off x="2857320" y="3214800"/>
              <a:ext cx="4643640" cy="714240"/>
              <a:chOff x="2857320" y="3214800"/>
              <a:chExt cx="4643640" cy="714240"/>
            </a:xfrm>
          </p:grpSpPr>
          <p:sp>
            <p:nvSpPr>
              <p:cNvPr id="89" name="矩形 27"/>
              <p:cNvSpPr/>
              <p:nvPr/>
            </p:nvSpPr>
            <p:spPr>
              <a:xfrm>
                <a:off x="2928600" y="3214800"/>
                <a:ext cx="128592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TextBox 28"/>
              <p:cNvSpPr/>
              <p:nvPr/>
            </p:nvSpPr>
            <p:spPr>
              <a:xfrm>
                <a:off x="2857320" y="3214800"/>
                <a:ext cx="142884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第</a:t>
                </a:r>
                <a:r>
                  <a:rPr b="1" lang="en-US" sz="4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47</a:t>
                </a: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矩形 29"/>
              <p:cNvSpPr/>
              <p:nvPr/>
            </p:nvSpPr>
            <p:spPr>
              <a:xfrm>
                <a:off x="4214520" y="321480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矩形 30"/>
              <p:cNvSpPr/>
              <p:nvPr/>
            </p:nvSpPr>
            <p:spPr>
              <a:xfrm>
                <a:off x="4214520" y="385776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矩形 31"/>
              <p:cNvSpPr/>
              <p:nvPr/>
            </p:nvSpPr>
            <p:spPr>
              <a:xfrm>
                <a:off x="7429680" y="3214800"/>
                <a:ext cx="7128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Box 32"/>
              <p:cNvSpPr/>
              <p:nvPr/>
            </p:nvSpPr>
            <p:spPr>
              <a:xfrm>
                <a:off x="4214520" y="3286080"/>
                <a:ext cx="3214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2f2f2"/>
                    </a:solidFill>
                    <a:latin typeface="Arial"/>
                  </a:rPr>
                  <a:t>WHAT WE HAVE DONE IN THE LAST WEEK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33"/>
              <p:cNvSpPr/>
              <p:nvPr/>
            </p:nvSpPr>
            <p:spPr>
              <a:xfrm>
                <a:off x="4214520" y="3405960"/>
                <a:ext cx="321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ffffff"/>
                    </a:solidFill>
                    <a:latin typeface="方正姚体"/>
                    <a:ea typeface="方正姚体"/>
                  </a:rPr>
                  <a:t>這 一 周</a:t>
                </a:r>
                <a:endParaRPr b="0" lang="en-US" sz="2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6" name="直接连接符 25"/>
          <p:cNvSpPr/>
          <p:nvPr/>
        </p:nvSpPr>
        <p:spPr>
          <a:xfrm flipH="1" flipV="1">
            <a:off x="713880" y="1285920"/>
            <a:ext cx="785844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圆角矩形 26"/>
          <p:cNvSpPr/>
          <p:nvPr/>
        </p:nvSpPr>
        <p:spPr>
          <a:xfrm>
            <a:off x="714240" y="78588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例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84456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63805E-006 L -0.57622 0.00062 E">
                                      <p:cBhvr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35"/>
          <p:cNvGrpSpPr/>
          <p:nvPr/>
        </p:nvGrpSpPr>
        <p:grpSpPr>
          <a:xfrm>
            <a:off x="2500200" y="1714680"/>
            <a:ext cx="5286600" cy="2571480"/>
            <a:chOff x="2500200" y="1714680"/>
            <a:chExt cx="5286600" cy="2571480"/>
          </a:xfrm>
        </p:grpSpPr>
        <p:pic>
          <p:nvPicPr>
            <p:cNvPr id="100" name="Picture 6" descr="http://sc.studentboss.com/upload/qita7/sky/images/1600cloudsky_2010.jpg"/>
            <p:cNvPicPr/>
            <p:nvPr/>
          </p:nvPicPr>
          <p:blipFill>
            <a:blip r:embed="rId1"/>
            <a:srcRect l="0" t="34240" r="0" b="896"/>
            <a:stretch/>
          </p:blipFill>
          <p:spPr>
            <a:xfrm>
              <a:off x="2500200" y="1714680"/>
              <a:ext cx="528660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" name="组合 26"/>
            <p:cNvGrpSpPr/>
            <p:nvPr/>
          </p:nvGrpSpPr>
          <p:grpSpPr>
            <a:xfrm>
              <a:off x="2857320" y="3214800"/>
              <a:ext cx="4643640" cy="714240"/>
              <a:chOff x="2857320" y="3214800"/>
              <a:chExt cx="4643640" cy="714240"/>
            </a:xfrm>
          </p:grpSpPr>
          <p:sp>
            <p:nvSpPr>
              <p:cNvPr id="102" name="矩形 27"/>
              <p:cNvSpPr/>
              <p:nvPr/>
            </p:nvSpPr>
            <p:spPr>
              <a:xfrm>
                <a:off x="2928600" y="3214800"/>
                <a:ext cx="128592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28"/>
              <p:cNvSpPr/>
              <p:nvPr/>
            </p:nvSpPr>
            <p:spPr>
              <a:xfrm>
                <a:off x="2857320" y="3214800"/>
                <a:ext cx="142884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第</a:t>
                </a:r>
                <a:r>
                  <a:rPr b="1" lang="en-US" sz="4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47</a:t>
                </a: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矩形 29"/>
              <p:cNvSpPr/>
              <p:nvPr/>
            </p:nvSpPr>
            <p:spPr>
              <a:xfrm>
                <a:off x="4214520" y="321480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矩形 30"/>
              <p:cNvSpPr/>
              <p:nvPr/>
            </p:nvSpPr>
            <p:spPr>
              <a:xfrm>
                <a:off x="4214520" y="385776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矩形 31"/>
              <p:cNvSpPr/>
              <p:nvPr/>
            </p:nvSpPr>
            <p:spPr>
              <a:xfrm>
                <a:off x="7429680" y="3214800"/>
                <a:ext cx="7128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TextBox 32"/>
              <p:cNvSpPr/>
              <p:nvPr/>
            </p:nvSpPr>
            <p:spPr>
              <a:xfrm>
                <a:off x="4214520" y="3286080"/>
                <a:ext cx="3214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2f2f2"/>
                    </a:solidFill>
                    <a:latin typeface="Arial"/>
                  </a:rPr>
                  <a:t>WHAT WE HAVE DONE IN THE NEXT WEEK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33"/>
              <p:cNvSpPr/>
              <p:nvPr/>
            </p:nvSpPr>
            <p:spPr>
              <a:xfrm>
                <a:off x="4214520" y="3405960"/>
                <a:ext cx="321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ffffff"/>
                    </a:solidFill>
                    <a:latin typeface="方正姚体"/>
                    <a:ea typeface="方正姚体"/>
                  </a:rPr>
                  <a:t>這 一 周</a:t>
                </a:r>
                <a:endParaRPr b="0" lang="en-US" sz="2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矩形 26"/>
          <p:cNvSpPr/>
          <p:nvPr/>
        </p:nvSpPr>
        <p:spPr>
          <a:xfrm>
            <a:off x="928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4"/>
          <p:cNvSpPr/>
          <p:nvPr/>
        </p:nvSpPr>
        <p:spPr>
          <a:xfrm>
            <a:off x="1714680" y="1714680"/>
            <a:ext cx="7855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7786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接连接符 15"/>
          <p:cNvSpPr/>
          <p:nvPr/>
        </p:nvSpPr>
        <p:spPr>
          <a:xfrm flipH="1" flipV="1">
            <a:off x="713880" y="1285920"/>
            <a:ext cx="785844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圆角矩形 16"/>
          <p:cNvSpPr/>
          <p:nvPr/>
        </p:nvSpPr>
        <p:spPr>
          <a:xfrm>
            <a:off x="714240" y="78588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例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17"/>
          <p:cNvGrpSpPr/>
          <p:nvPr/>
        </p:nvGrpSpPr>
        <p:grpSpPr>
          <a:xfrm>
            <a:off x="3286080" y="1714680"/>
            <a:ext cx="5286600" cy="2571480"/>
            <a:chOff x="3286080" y="1714680"/>
            <a:chExt cx="5286600" cy="2571480"/>
          </a:xfrm>
        </p:grpSpPr>
        <p:pic>
          <p:nvPicPr>
            <p:cNvPr id="115" name="Picture 2" descr="http://pic1a.nipic.com/2008-12-03/200812323925637_2.jpg"/>
            <p:cNvPicPr/>
            <p:nvPr/>
          </p:nvPicPr>
          <p:blipFill>
            <a:blip r:embed="rId2"/>
            <a:srcRect l="0" t="5487" r="0" b="28682"/>
            <a:stretch/>
          </p:blipFill>
          <p:spPr>
            <a:xfrm>
              <a:off x="3286080" y="1714680"/>
              <a:ext cx="528660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矩形 19"/>
            <p:cNvGrpSpPr/>
            <p:nvPr/>
          </p:nvGrpSpPr>
          <p:grpSpPr>
            <a:xfrm>
              <a:off x="4779360" y="2566440"/>
              <a:ext cx="2511720" cy="651960"/>
              <a:chOff x="4779360" y="2566440"/>
              <a:chExt cx="2511720" cy="651960"/>
            </a:xfrm>
          </p:grpSpPr>
          <p:pic>
            <p:nvPicPr>
              <p:cNvPr id="117" name="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779360" y="2566440"/>
                <a:ext cx="2511720" cy="65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4786200" y="2571480"/>
                <a:ext cx="25005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行楷"/>
                    <a:ea typeface="华文行楷"/>
                  </a:rPr>
                  <a:t>分享与总结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0.57552 0.00062 E">
                                      <p:cBhvr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010-9EFA-4DD8-B85D-387274AB87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矩形 3" descr=""/>
          <p:cNvPicPr/>
          <p:nvPr/>
        </p:nvPicPr>
        <p:blipFill>
          <a:blip r:embed="rId1"/>
          <a:stretch/>
        </p:blipFill>
        <p:spPr>
          <a:xfrm>
            <a:off x="-6480" y="1011240"/>
            <a:ext cx="9156960" cy="32194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0" y="3651120"/>
            <a:ext cx="9144000" cy="6429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1:25:02Z</dcterms:created>
  <dc:creator>幻灯片之家：www.eeppt.com</dc:creator>
  <dc:description/>
  <cp:keywords>幻灯片之家：www.eeppt.com</cp:keywords>
  <dc:language>en-US</dc:language>
  <cp:lastModifiedBy/>
  <dcterms:modified xsi:type="dcterms:W3CDTF">2015-09-18T13:14:2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