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D2F-CD30-4E92-BFD7-A39F4E80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C57-A86F-401D-8EA1-663DCEF3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EA2-8BF0-4EF2-A62D-651C1848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4C5-502D-4F94-9379-ABCB8415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AF5-ADE9-486C-9B80-1964BEF0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04A-60A4-4358-9BDF-FA6E9EF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1DB-8BEB-4BB9-B71C-1CA0D5C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8C4-4A26-4CF0-8FAB-F850592C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513-6CB8-475E-B26B-931E82F7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5F2-01F2-429F-BACD-89B99E4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D9E-3FC9-4AF2-A9AE-0C388F1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8F5-0E14-41F7-B4E8-362FE0A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A96-4570-4F5D-B386-B5F6F65E27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CCD8-E5AB-49F8-A595-5B08231FC0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-6480" y="4311720"/>
            <a:ext cx="9150480" cy="254628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44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46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48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277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1"/>
          <p:cNvSpPr/>
          <p:nvPr/>
        </p:nvSpPr>
        <p:spPr>
          <a:xfrm>
            <a:off x="3233520" y="1484280"/>
            <a:ext cx="1607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项目汇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工程项目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158760" y="1049400"/>
            <a:ext cx="4154400" cy="2546280"/>
          </a:xfrm>
          <a:prstGeom prst="rect">
            <a:avLst/>
          </a:prstGeom>
          <a:ln w="0">
            <a:noFill/>
          </a:ln>
        </p:spPr>
      </p:pic>
      <p:sp>
        <p:nvSpPr>
          <p:cNvPr id="51" name="矩形 14"/>
          <p:cNvSpPr/>
          <p:nvPr/>
        </p:nvSpPr>
        <p:spPr>
          <a:xfrm>
            <a:off x="2892600" y="26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42600" y="260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阿狸项目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4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-6480" y="0"/>
            <a:ext cx="9150480" cy="43117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7" name="圆角矩形 9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1"/>
          <p:cNvSpPr/>
          <p:nvPr/>
        </p:nvSpPr>
        <p:spPr>
          <a:xfrm>
            <a:off x="539640" y="4743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Xenu</a:t>
            </a:r>
            <a:r>
              <a:rPr b="0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对于链接测试的自动生成结果记录后保存到测试质量报告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564000" y="458136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链接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表单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0160" y="692280"/>
            <a:ext cx="8743680" cy="2601720"/>
            <a:chOff x="200160" y="692280"/>
            <a:chExt cx="8743680" cy="2601720"/>
          </a:xfrm>
        </p:grpSpPr>
        <p:pic>
          <p:nvPicPr>
            <p:cNvPr id="61" name="Picture 1" descr=""/>
            <p:cNvPicPr/>
            <p:nvPr/>
          </p:nvPicPr>
          <p:blipFill>
            <a:blip r:embed="rId1"/>
            <a:stretch/>
          </p:blipFill>
          <p:spPr>
            <a:xfrm>
              <a:off x="200160" y="692280"/>
              <a:ext cx="4202280" cy="2601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4591800" y="692280"/>
              <a:ext cx="4352040" cy="2601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63" name="TextBox 15"/>
          <p:cNvSpPr/>
          <p:nvPr/>
        </p:nvSpPr>
        <p:spPr>
          <a:xfrm>
            <a:off x="6443640" y="477036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表单测试中的项目按照测试方案说明中的索引条目逐条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-6480" y="3598920"/>
            <a:ext cx="915048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68" name="圆角矩形 9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1"/>
          <p:cNvSpPr/>
          <p:nvPr/>
        </p:nvSpPr>
        <p:spPr>
          <a:xfrm>
            <a:off x="1692360" y="692280"/>
            <a:ext cx="3456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基本实现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发布微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转发微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加好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收听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排行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搜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未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个人标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用户自定义皮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同道中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796000" y="692280"/>
            <a:ext cx="3456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预计剩余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测试查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细节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酌情考虑未完成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整理文档和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27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187280" y="1393920"/>
            <a:ext cx="2305080" cy="3259080"/>
            <a:chOff x="1187280" y="1393920"/>
            <a:chExt cx="2305080" cy="3259080"/>
          </a:xfrm>
        </p:grpSpPr>
        <p:sp>
          <p:nvSpPr>
            <p:cNvPr id="73" name="圆角矩形 10"/>
            <p:cNvSpPr/>
            <p:nvPr/>
          </p:nvSpPr>
          <p:spPr>
            <a:xfrm>
              <a:off x="1187280" y="1393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3"/>
          <p:cNvSpPr/>
          <p:nvPr/>
        </p:nvSpPr>
        <p:spPr>
          <a:xfrm>
            <a:off x="566640" y="2492280"/>
            <a:ext cx="6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残暴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397160" y="24764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7101000" y="4680000"/>
            <a:ext cx="61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围观组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003640" y="469908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7"/>
          <p:cNvSpPr/>
          <p:nvPr/>
        </p:nvSpPr>
        <p:spPr>
          <a:xfrm>
            <a:off x="7101000" y="203040"/>
            <a:ext cx="61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情侣组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5003640" y="23652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9"/>
          <p:cNvSpPr/>
          <p:nvPr/>
        </p:nvSpPr>
        <p:spPr>
          <a:xfrm>
            <a:off x="7101000" y="2492280"/>
            <a:ext cx="61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苦力组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4"/>
          <a:stretch/>
        </p:blipFill>
        <p:spPr>
          <a:xfrm>
            <a:off x="5003640" y="244800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直接连接符 2"/>
          <p:cNvSpPr/>
          <p:nvPr/>
        </p:nvSpPr>
        <p:spPr>
          <a:xfrm flipV="1">
            <a:off x="3301920" y="1203480"/>
            <a:ext cx="1701720" cy="2225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4"/>
          <p:cNvSpPr/>
          <p:nvPr/>
        </p:nvSpPr>
        <p:spPr>
          <a:xfrm>
            <a:off x="3301920" y="3429000"/>
            <a:ext cx="1701720" cy="222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6"/>
          <p:cNvSpPr/>
          <p:nvPr/>
        </p:nvSpPr>
        <p:spPr>
          <a:xfrm flipV="1">
            <a:off x="3301920" y="3419640"/>
            <a:ext cx="170172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58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6AC-A1E8-416E-A0D0-1C782127D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9EB2-26FE-4C96-A0C2-29448CE75A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ff2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-6480" y="3598920"/>
            <a:ext cx="9150480" cy="3259080"/>
          </a:xfrm>
          <a:prstGeom prst="rect">
            <a:avLst/>
          </a:prstGeom>
          <a:solidFill>
            <a:srgbClr val="019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93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95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97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1"/>
          <p:cNvSpPr/>
          <p:nvPr/>
        </p:nvSpPr>
        <p:spPr>
          <a:xfrm>
            <a:off x="3871800" y="2649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0" r="-2021" b="0"/>
          <a:stretch/>
        </p:blipFill>
        <p:spPr>
          <a:xfrm>
            <a:off x="2646360" y="720720"/>
            <a:ext cx="4157640" cy="191628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32608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1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9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