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A3F-3D80-4C76-BAFA-5D88E64A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F89-F27B-4B3B-BC86-E5DA397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3C0-359F-4A32-8786-F7651E24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022-5CFC-4B3C-895F-E6DBB8C4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D40-A946-4031-89D2-475E5BB0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E36-816E-43CF-82C5-8E4F64D4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611-0C4A-405C-9E0A-5797F858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0FD-0D50-4464-9D11-90A806FB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11B-D59F-4EBB-9442-96DDF6D7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8D8-C714-4B3F-8C40-1049D0D7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871-AD3A-43F3-AB8A-659F3205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975-190E-477C-AD51-184FD8DC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2873-9BA7-462A-B5BE-A11F68D8891E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8c8"/>
                </a:solidFill>
                <a:latin typeface="Calibri"/>
                <a:ea typeface="PMingLiU"/>
              </a:rPr>
              <a:t>北极熊动物卡通</a:t>
            </a:r>
            <a:r>
              <a:rPr b="0" lang="zh-CN" sz="4000" spc="-1" strike="noStrike">
                <a:solidFill>
                  <a:srgbClr val="0088c8"/>
                </a:solidFill>
                <a:latin typeface="Calibri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19280"/>
            <a:ext cx="64008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8"/>
                </a:solidFill>
                <a:latin typeface="Calibri"/>
                <a:ea typeface="PMingLiU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88c8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23840"/>
            <a:ext cx="8229600" cy="31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8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28608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405-51A6-4313-B5E4-33A8FE2F5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88c8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8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00:1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4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