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4B3-38DC-4BD6-ACE4-217C2F73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A18-4BAE-48CF-B100-D8470345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5F9-2C8B-4302-9CDC-52C1EC72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084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516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88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084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516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688-4300-416F-AFCA-5F7362C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BAA5-7B5B-4268-AAA5-C7F27333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3A3-94DD-4A12-A61E-6E2D833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68D0-8CE1-42EB-8CA7-61D015D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269D-C93F-4366-9C50-59DE046C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72D-E729-41CE-81A3-115CED4C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B62-6450-48B2-AF13-F91E7E9D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FC4C-514B-4FD1-8762-F098E9D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09E-C0B2-453A-9686-011EAF6C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F779-DAFB-4F81-BF71-9AA701B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E883-E47B-4F15-BB40-13E3208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3A76-E255-41E6-90F8-CF4241D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7A23-C858-4097-A7B7-4568847D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084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516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88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084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9516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10DA-9BEE-4836-A27B-C2533393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417-A50B-4421-8D09-1B558F4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1FD-9014-4D90-95E5-E267F84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281-4A0F-4CA2-9C8F-3206937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8E6-C0EF-481E-AD9C-38F921B2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9F1-30D9-4F8C-97D3-08FC036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A8-C7E6-4D09-AAB8-100A763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4D7-26DA-431F-A33C-6BFB4D3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C3F8-C61E-46F5-A2BD-ADA12102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8D0-7BBF-4C69-B9DE-071C91BC3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owlarama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Eras Bold ITC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84" name="strike" descr=""/>
          <p:cNvPicPr/>
          <p:nvPr/>
        </p:nvPicPr>
        <p:blipFill>
          <a:blip r:embed="rId2"/>
          <a:stretch/>
        </p:blipFill>
        <p:spPr>
          <a:xfrm>
            <a:off x="914400" y="-304920"/>
            <a:ext cx="10363320" cy="876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040" y="1270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保龄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89" name="bowling_text_rotate_ball_hg_wht" descr=""/>
          <p:cNvPicPr/>
          <p:nvPr/>
        </p:nvPicPr>
        <p:blipFill>
          <a:blip r:embed="rId2"/>
          <a:stretch/>
        </p:blipFill>
        <p:spPr>
          <a:xfrm>
            <a:off x="6286680" y="5565600"/>
            <a:ext cx="1709640" cy="121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owler_concentrating_hg_wht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94" name="strike" descr=""/>
          <p:cNvPicPr/>
          <p:nvPr/>
        </p:nvPicPr>
        <p:blipFill>
          <a:blip r:embed="rId3"/>
          <a:stretch/>
        </p:blipFill>
        <p:spPr>
          <a:xfrm>
            <a:off x="838080" y="-304920"/>
            <a:ext cx="103633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97" name="bowling_pins_split_hg_wht" descr=""/>
          <p:cNvPicPr/>
          <p:nvPr/>
        </p:nvPicPr>
        <p:blipFill>
          <a:blip r:embed="rId2"/>
          <a:stretch/>
        </p:blipFill>
        <p:spPr>
          <a:xfrm>
            <a:off x="6284880" y="5578560"/>
            <a:ext cx="171756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D9E-0466-41C3-A85F-EA7D35847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103" name="strike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666880" cy="2255760"/>
          </a:xfrm>
          <a:prstGeom prst="rect">
            <a:avLst/>
          </a:prstGeom>
          <a:ln w="0">
            <a:noFill/>
          </a:ln>
        </p:spPr>
      </p:pic>
      <p:pic>
        <p:nvPicPr>
          <p:cNvPr id="104" name="bowlarama_prt" descr=""/>
          <p:cNvPicPr/>
          <p:nvPr/>
        </p:nvPicPr>
        <p:blipFill>
          <a:blip r:embed="rId2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bowlarama_qx" descr=""/>
          <p:cNvPicPr/>
          <p:nvPr/>
        </p:nvPicPr>
        <p:blipFill>
          <a:blip r:embed="rId3"/>
          <a:stretch/>
        </p:blipFill>
        <p:spPr>
          <a:xfrm>
            <a:off x="3048120" y="2209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bowlarama_sld" descr=""/>
          <p:cNvPicPr/>
          <p:nvPr/>
        </p:nvPicPr>
        <p:blipFill>
          <a:blip r:embed="rId4"/>
          <a:stretch/>
        </p:blipFill>
        <p:spPr>
          <a:xfrm>
            <a:off x="6095880" y="2209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7" name="bowlarama_trs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8" name="bowling_text_rotate_ball_hg_wht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1710000" cy="1216080"/>
          </a:xfrm>
          <a:prstGeom prst="rect">
            <a:avLst/>
          </a:prstGeom>
          <a:ln w="0">
            <a:noFill/>
          </a:ln>
        </p:spPr>
      </p:pic>
      <p:pic>
        <p:nvPicPr>
          <p:cNvPr id="109" name="bowler_concentrating_hg_wht" descr=""/>
          <p:cNvPicPr/>
          <p:nvPr/>
        </p:nvPicPr>
        <p:blipFill>
          <a:blip r:embed="rId7"/>
          <a:stretch/>
        </p:blipFill>
        <p:spPr>
          <a:xfrm>
            <a:off x="152280" y="1447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0" name="bowling_pins_split_hg_wht" descr=""/>
          <p:cNvPicPr/>
          <p:nvPr/>
        </p:nvPicPr>
        <p:blipFill>
          <a:blip r:embed="rId8"/>
          <a:stretch/>
        </p:blipFill>
        <p:spPr>
          <a:xfrm>
            <a:off x="152280" y="3200400"/>
            <a:ext cx="1717920" cy="1055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152280"/>
            <a:ext cx="2210040" cy="990720"/>
          </a:xfrm>
          <a:prstGeom prst="wedgeRectCallout">
            <a:avLst>
              <a:gd name="adj1" fmla="val -81898"/>
              <a:gd name="adj2" fmla="val 98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152280"/>
            <a:ext cx="22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re are many amusing bowling animations on the Platinum Site. Search Bloodhound for Bowling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0:50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