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243-1DFC-4730-B298-F1691A3A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8F6-7092-469E-ABAB-A0ECF837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480-13EC-42C5-879E-145CAD72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F3A7-8394-4158-8E7B-3D7A954D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2E2-D9A6-40B7-9B81-A42F5786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AE62-D99F-48DE-A67C-BA23422A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11F4-CE1C-47F9-8491-A7881296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3CA-3F92-45E2-B9FF-DAD7225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E8F-D375-4E3F-BED6-264407F0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D14-42E2-4F5B-8F7D-AD75CAE7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FAF-4C20-499A-8273-8244A6C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7A8-9C84-41AB-BED9-1A82698D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AEBB-51E6-4F41-B8E6-721EC0E66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3.jpeg"/><Relationship Id="rId17" Type="http://schemas.openxmlformats.org/officeDocument/2006/relationships/hyperlink" Target="http://www.eeppt.com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200832213948268_2"/>
          <p:cNvPicPr/>
          <p:nvPr/>
        </p:nvPicPr>
        <p:blipFill>
          <a:blip r:embed="rId1"/>
          <a:srcRect l="0" t="0" r="11131" b="0"/>
          <a:stretch/>
        </p:blipFill>
        <p:spPr>
          <a:xfrm>
            <a:off x="0" y="-38160"/>
            <a:ext cx="9215280" cy="6896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run"/>
          <p:cNvPicPr/>
          <p:nvPr/>
        </p:nvPicPr>
        <p:blipFill>
          <a:blip r:embed="rId2"/>
          <a:stretch/>
        </p:blipFill>
        <p:spPr>
          <a:xfrm>
            <a:off x="1332000" y="1197000"/>
            <a:ext cx="3076560" cy="453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un"/>
          <p:cNvPicPr/>
          <p:nvPr/>
        </p:nvPicPr>
        <p:blipFill>
          <a:blip r:embed="rId3"/>
          <a:stretch/>
        </p:blipFill>
        <p:spPr>
          <a:xfrm>
            <a:off x="-252360" y="1700280"/>
            <a:ext cx="2585880" cy="3816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7"/>
          <p:cNvSpPr/>
          <p:nvPr/>
        </p:nvSpPr>
        <p:spPr>
          <a:xfrm>
            <a:off x="1790640" y="5805360"/>
            <a:ext cx="5634000" cy="7034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6267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真广标"/>
                <a:ea typeface="汉真广标"/>
              </a:rPr>
              <a:t>给跑步新手的十条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31120" y="189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奔跑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http://my.inmagine.com/600wmz/30486c2a2e3e755f68/tetraimages/tt072/tt070229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全身心的爱去迎接每一天，每一个人，每一件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591-B89E-4054-B7E9-906A2F460A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http://my.inmagine.com/600wmz/5963383e7970564d3e/ojoimages/oj066/pe0061091.jpg"/>
          <p:cNvPicPr/>
          <p:nvPr/>
        </p:nvPicPr>
        <p:blipFill>
          <a:blip r:embed="rId16"/>
          <a:srcRect l="0" t="0" r="60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0" y="621504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生中总要做几件有趣的事，试着去跑一次马拉松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Peace__Love__and_Running_by_FuzzyYellowDuckl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0" y="619128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记得买双合适的鞋子，一定要呵护好你的双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http://my.inmagine.com/600wmz/30486c767542252a29/tetraimages/tt071/tt0138455.jpg"/>
          <p:cNvPicPr/>
          <p:nvPr/>
        </p:nvPicPr>
        <p:blipFill>
          <a:blip r:embed="rId1"/>
          <a:stretch/>
        </p:blipFill>
        <p:spPr>
          <a:xfrm>
            <a:off x="10717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不是运动员，别跑那么快，让身体决定速度和强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2393474195_451bdbc4f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0" y="142920"/>
            <a:ext cx="932508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须要有明确的目标，然后制定计划，并严格地去执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://my.inmagine.com/600wmz/30486c2a2e3e753560/tetraimages/tt072/tt07022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自己找一个坚持的理由，用它来击败所有放弃的念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http://my.inmagine.com/600wmz/3b5a615a265075556a7b/cultura/culs035/culs035024.jpg"/>
          <p:cNvPicPr/>
          <p:nvPr/>
        </p:nvPicPr>
        <p:blipFill>
          <a:blip r:embed="rId1"/>
          <a:srcRect l="66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会调整自己的身体，合理地补充营养、水分和电解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http://my.inmagine.com/600wmz/5963383e793620573a/ojoimages/oj078/pe0063198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0" y="621504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心感受跑步的快乐，分享给自己的家人和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http://my.inmagine.com/600wmz/3b5a615a26642e313356/cultura/culs056/culs056080.jpg"/>
          <p:cNvPicPr/>
          <p:nvPr/>
        </p:nvPicPr>
        <p:blipFill>
          <a:blip r:embed="rId1"/>
          <a:srcRect l="0" t="0" r="622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偶尔改变一次跑步路线，可以看到不同的人，还有风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http://my.inmagine.com/600wmz/3b5a615a263e4a7b3163/cultura/culs048/culs048158.jpg"/>
          <p:cNvPicPr/>
          <p:nvPr/>
        </p:nvPicPr>
        <p:blipFill>
          <a:blip r:embed="rId1"/>
          <a:srcRect l="0" t="0" r="4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0" y="6195960"/>
            <a:ext cx="9144000" cy="52056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跑步日记，和其他的跑步者交流经验，相互鼓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07:59:5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05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