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B2E-3CA7-411C-A093-DDE08FAC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949-EF0D-44FE-8703-0E801BEE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378-754A-42DD-B370-39E778D8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110-3000-421A-A0C4-B246920E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1232-F714-423A-8D92-D07336B8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CBBA-52B7-47A7-B4E2-A3D19326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9FBF-2F4E-434C-92AE-4DA39A6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69DC-5083-4C81-9051-D63149B9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883C-7F47-4582-BFE1-F6FC556D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6FE-04E4-4B38-AB31-FBD19F35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75B6-5BB5-4014-86A3-5C58F18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999-9F11-4104-B053-F15FD83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AD12-C615-46B1-A0FD-A50EC70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BE7C-B002-4004-B26D-075AA80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5896-79E6-4BB6-8CE4-F7827AB4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04EB-7231-481E-BF40-EC096954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8BE8-E1C4-4CF9-B48B-65B617AD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F9B-CD67-4B15-80AF-8782F48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F8B-E4BF-4BAB-8EE0-29590ED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FCE-0229-465C-A6C1-304782CF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EA0-012D-4A54-B7FA-9F15C6F6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713-27C8-4C8F-8F6A-2A52B70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71B-3AC4-4C96-9324-F98C882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871-4B4E-4638-AD03-BACA80B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B05-37FB-422B-9821-E5A19FE2449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6876-A8E8-41AC-9E32-241BB01EB3D5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11080" y="2925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彩色条纹简历背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0" name="Freeform 89"/>
            <p:cNvSpPr/>
            <p:nvPr/>
          </p:nvSpPr>
          <p:spPr>
            <a:xfrm>
              <a:off x="5653080" y="3098880"/>
              <a:ext cx="1352520" cy="111924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363636"/>
                </a:gs>
                <a:gs pos="100000">
                  <a:srgbClr val="797979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Freeform 90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777777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Freeform 91"/>
            <p:cNvSpPr/>
            <p:nvPr/>
          </p:nvSpPr>
          <p:spPr>
            <a:xfrm>
              <a:off x="5495760" y="4089240"/>
              <a:ext cx="1190520" cy="133524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d4d4d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>
              <a:off x="6886080" y="3274920"/>
              <a:ext cx="120816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949494"/>
                </a:gs>
                <a:gs pos="100000">
                  <a:srgbClr val="5e5e5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69A-FDF5-457F-92D0-073D096E99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5651640" y="2997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6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6129360" y="3711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6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2Z</dcterms:modified>
  <cp:revision>1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6204000000000001024140</vt:lpwstr>
  </property>
</Properties>
</file>