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1FF-4B96-4704-87A1-BEBFDA1B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522828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CE1-8250-45DB-BD15-9B0D30F7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522828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74600" y="522828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594-E63E-42B7-8F7E-8A07E186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671920" y="5029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10320" y="5029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522828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671920" y="522828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810320" y="522828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605-5132-4C3F-A876-F7DEAD03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476A-5B1E-45BA-8745-4C4FDA30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502920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217C-E65A-400B-AF3A-49C2B58F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F5E8-7485-4BD2-8799-ABBAC700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7FDA-6E80-4C70-A0BB-31A40633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D35-0DB6-4519-847B-7A369925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6296040" cy="68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C048-EC45-42E0-A4D5-F69D7363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522828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9D20-56E0-44D9-937A-210A476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502920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99C-EB84-4C2A-9D64-4A4D3401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774600" y="522828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25CA-AC7B-4F16-8CA6-9E38762F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522828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8AC1-DF9E-4A2D-9324-052DA215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522828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3A1A-FD9E-49E3-AABB-B2953EB9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522828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74600" y="522828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2A00-B48E-485E-A6A7-CD2B26C0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671920" y="5029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10320" y="502920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522828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671920" y="522828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810320" y="5228280"/>
            <a:ext cx="2036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4011-341B-4945-88E6-E8A5307C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552-9336-4D32-9B81-5C91BC54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4DB-9E23-4207-B536-B666055E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39D-ABBD-4641-BFFB-2DE658F8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6296040" cy="68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287-7D61-4388-9813-E1251F26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522828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FA8-EA3F-47BA-AB2B-DB60CAEF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74600" y="522828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C57-0CF7-4159-8FC7-42C0C51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74600" y="5029200"/>
            <a:ext cx="30862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5228280"/>
            <a:ext cx="63244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E5C3-BBFA-4794-890E-99E8BF9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9760" y="849240"/>
            <a:ext cx="8653320" cy="5780160"/>
          </a:xfrm>
          <a:prstGeom prst="roundRect">
            <a:avLst>
              <a:gd name="adj" fmla="val 6648"/>
            </a:avLst>
          </a:prstGeom>
          <a:gradFill rotWithShape="0">
            <a:gsLst>
              <a:gs pos="0">
                <a:srgbClr val="cfd7df"/>
              </a:gs>
              <a:gs pos="50000">
                <a:srgbClr val="f3f5f7"/>
              </a:gs>
              <a:gs pos="100000">
                <a:srgbClr val="cfd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914400"/>
            <a:ext cx="8534160" cy="5649840"/>
          </a:xfrm>
          <a:prstGeom prst="roundRect">
            <a:avLst>
              <a:gd name="adj" fmla="val 6250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4d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b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8620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8620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8620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19FD-1C8B-48C7-9D0B-2524AACAD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FEA4-18F3-4A84-9901-1719987C5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114800" y="5791320"/>
            <a:ext cx="1079640" cy="635760"/>
            <a:chOff x="4114800" y="5791320"/>
            <a:chExt cx="1079640" cy="635760"/>
          </a:xfrm>
        </p:grpSpPr>
        <p:sp>
          <p:nvSpPr>
            <p:cNvPr id="47" name=""/>
            <p:cNvSpPr/>
            <p:nvPr/>
          </p:nvSpPr>
          <p:spPr>
            <a:xfrm>
              <a:off x="4114800" y="59673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5400000">
              <a:off x="4508640" y="549756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1c4d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4d9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c4d94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6699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629604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825400">
            <a:off x="4592160" y="2558520"/>
            <a:ext cx="633600" cy="392400"/>
          </a:xfrm>
          <a:prstGeom prst="leftArrow">
            <a:avLst>
              <a:gd name="adj1" fmla="val 24509"/>
              <a:gd name="adj2" fmla="val 106269"/>
            </a:avLst>
          </a:prstGeom>
          <a:solidFill>
            <a:srgbClr val="ffffff"/>
          </a:solidFill>
          <a:ln w="28440">
            <a:solidFill>
              <a:srgbClr val="66a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502920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10400" y="1295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彩色医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09480" y="2133720"/>
            <a:ext cx="7632720" cy="3054240"/>
            <a:chOff x="609480" y="2133720"/>
            <a:chExt cx="7632720" cy="3054240"/>
          </a:xfrm>
        </p:grpSpPr>
        <p:sp>
          <p:nvSpPr>
            <p:cNvPr id="235" name=""/>
            <p:cNvSpPr/>
            <p:nvPr/>
          </p:nvSpPr>
          <p:spPr>
            <a:xfrm>
              <a:off x="2770200" y="29322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6a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05480" y="293220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369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1480" y="2140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369e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81480" y="2140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369e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222960" y="228132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4f387c"/>
                </a:gs>
                <a:gs pos="50000">
                  <a:srgbClr val="9369e7"/>
                </a:gs>
                <a:gs pos="100000">
                  <a:srgbClr val="4f38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4640" y="22924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9369e7">
                    <a:alpha val="0"/>
                  </a:srgbClr>
                </a:gs>
                <a:gs pos="100000">
                  <a:srgbClr val="5d4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4480" y="23749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9480" y="21337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0da6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9480" y="213372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0da6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060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17539"/>
                </a:gs>
                <a:gs pos="50000">
                  <a:srgbClr val="f0da6a"/>
                </a:gs>
                <a:gs pos="100000">
                  <a:srgbClr val="8175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240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f0da6a">
                    <a:alpha val="0"/>
                  </a:srgbClr>
                </a:gs>
                <a:gs pos="100000">
                  <a:srgbClr val="9789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44560" y="236880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871560" y="2394000"/>
              <a:ext cx="1636560" cy="1636920"/>
              <a:chOff x="871560" y="2394000"/>
              <a:chExt cx="1636560" cy="1636920"/>
            </a:xfrm>
          </p:grpSpPr>
          <p:sp>
            <p:nvSpPr>
              <p:cNvPr id="248" name=""/>
              <p:cNvSpPr/>
              <p:nvPr/>
            </p:nvSpPr>
            <p:spPr>
              <a:xfrm>
                <a:off x="871560" y="23940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92440" y="24030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909360" y="24188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998280" y="24606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3346200" y="2140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abd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46200" y="214020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2f4e64"/>
                </a:gs>
                <a:gs pos="100000">
                  <a:srgbClr val="66abd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7680" y="22813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365c75"/>
                </a:gs>
                <a:gs pos="50000">
                  <a:srgbClr val="66abda"/>
                </a:gs>
                <a:gs pos="100000">
                  <a:srgbClr val="365c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89120" y="22845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6abda">
                    <a:alpha val="0"/>
                  </a:srgbClr>
                </a:gs>
                <a:gs pos="100000">
                  <a:srgbClr val="406c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81280" y="237492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3608280" y="2394000"/>
              <a:ext cx="1636560" cy="1636920"/>
              <a:chOff x="3608280" y="2394000"/>
              <a:chExt cx="1636560" cy="1636920"/>
            </a:xfrm>
          </p:grpSpPr>
          <p:sp>
            <p:nvSpPr>
              <p:cNvPr id="258" name=""/>
              <p:cNvSpPr/>
              <p:nvPr/>
            </p:nvSpPr>
            <p:spPr>
              <a:xfrm>
                <a:off x="3608280" y="23940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29160" y="24030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46080" y="24188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35000" y="24606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354720" y="2394000"/>
              <a:ext cx="1636560" cy="1636920"/>
              <a:chOff x="6354720" y="2394000"/>
              <a:chExt cx="1636560" cy="1636920"/>
            </a:xfrm>
          </p:grpSpPr>
          <p:sp>
            <p:nvSpPr>
              <p:cNvPr id="263" name=""/>
              <p:cNvSpPr/>
              <p:nvPr/>
            </p:nvSpPr>
            <p:spPr>
              <a:xfrm>
                <a:off x="6354720" y="239400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75600" y="240300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92520" y="241884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81440" y="246060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658800" y="46720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92280" y="46720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5200" y="467208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06080" y="2998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49280" y="2998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92480" y="2998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295280" y="1523880"/>
            <a:ext cx="6934320" cy="4419720"/>
            <a:chOff x="1295280" y="1523880"/>
            <a:chExt cx="6934320" cy="4419720"/>
          </a:xfrm>
        </p:grpSpPr>
        <p:sp>
          <p:nvSpPr>
            <p:cNvPr id="275" name=""/>
            <p:cNvSpPr/>
            <p:nvPr/>
          </p:nvSpPr>
          <p:spPr>
            <a:xfrm>
              <a:off x="1295280" y="190476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66abda"/>
                </a:gs>
                <a:gs pos="100000">
                  <a:srgbClr val="1c4d94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fd7d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2360" y="342900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4d94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47920" y="3733560"/>
              <a:ext cx="1704960" cy="2028960"/>
              <a:chOff x="3247920" y="3733560"/>
              <a:chExt cx="1704960" cy="2028960"/>
            </a:xfrm>
          </p:grpSpPr>
          <p:sp>
            <p:nvSpPr>
              <p:cNvPr id="278" name=""/>
              <p:cNvSpPr/>
              <p:nvPr/>
            </p:nvSpPr>
            <p:spPr>
              <a:xfrm rot="20876400">
                <a:off x="331632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47920" y="37335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68440" y="37429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86080" y="37591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78240" y="38034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65520" y="43606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1396800" y="3352680"/>
              <a:ext cx="1371240" cy="1718640"/>
              <a:chOff x="1396800" y="3352680"/>
              <a:chExt cx="1371240" cy="1718640"/>
            </a:xfrm>
          </p:grpSpPr>
          <p:sp>
            <p:nvSpPr>
              <p:cNvPr id="285" name=""/>
              <p:cNvSpPr/>
              <p:nvPr/>
            </p:nvSpPr>
            <p:spPr>
              <a:xfrm rot="20826600">
                <a:off x="1473120" y="43430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1396800" y="3352680"/>
                <a:ext cx="1371240" cy="1441080"/>
                <a:chOff x="1396800" y="3352680"/>
                <a:chExt cx="1371240" cy="14410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39680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414800" y="33609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27760" y="33742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499400" y="34110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67724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"/>
            <p:cNvGrpSpPr/>
            <p:nvPr/>
          </p:nvGrpSpPr>
          <p:grpSpPr>
            <a:xfrm>
              <a:off x="1295280" y="1981080"/>
              <a:ext cx="1100160" cy="1139760"/>
              <a:chOff x="1295280" y="1981080"/>
              <a:chExt cx="1100160" cy="1139760"/>
            </a:xfrm>
          </p:grpSpPr>
          <p:sp>
            <p:nvSpPr>
              <p:cNvPr id="293" name=""/>
              <p:cNvSpPr/>
              <p:nvPr/>
            </p:nvSpPr>
            <p:spPr>
              <a:xfrm>
                <a:off x="1295280" y="25876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19810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84200" y="19857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95360" y="19969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49360" y="20224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852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562120" y="1523880"/>
              <a:ext cx="804960" cy="762120"/>
              <a:chOff x="2562120" y="1523880"/>
              <a:chExt cx="804960" cy="762120"/>
            </a:xfrm>
          </p:grpSpPr>
          <p:sp>
            <p:nvSpPr>
              <p:cNvPr id="300" name=""/>
              <p:cNvSpPr/>
              <p:nvPr/>
            </p:nvSpPr>
            <p:spPr>
              <a:xfrm>
                <a:off x="256212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8452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9388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00360" y="15332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36720" y="15523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75472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67240" y="1828800"/>
            <a:ext cx="7282440" cy="3770280"/>
            <a:chOff x="867240" y="1828800"/>
            <a:chExt cx="7282440" cy="3770280"/>
          </a:xfrm>
        </p:grpSpPr>
        <p:sp>
          <p:nvSpPr>
            <p:cNvPr id="308" name=""/>
            <p:cNvSpPr/>
            <p:nvPr/>
          </p:nvSpPr>
          <p:spPr>
            <a:xfrm rot="17973000">
              <a:off x="467604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1c4d9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3465600">
              <a:off x="472644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c4d9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4368800">
              <a:off x="350748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1c4d9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7534800">
              <a:off x="346932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1c4d9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0856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1c4d9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0800000">
              <a:off x="289836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1c4d94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1936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1c4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072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816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8512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72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672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532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7644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d5ec"/>
                </a:gs>
                <a:gs pos="100000">
                  <a:srgbClr val="66ab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9084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d5ec"/>
                </a:gs>
                <a:gs pos="100000">
                  <a:srgbClr val="66ab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959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d5ec"/>
                </a:gs>
                <a:gs pos="100000">
                  <a:srgbClr val="66ab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148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3d5ec"/>
                </a:gs>
                <a:gs pos="100000">
                  <a:srgbClr val="66ab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9596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d5ec"/>
                </a:gs>
                <a:gs pos="100000">
                  <a:srgbClr val="66ab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1036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3d5ec"/>
                </a:gs>
                <a:gs pos="100000">
                  <a:srgbClr val="66ab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594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369e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640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369e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7028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f387c"/>
                </a:gs>
                <a:gs pos="50000">
                  <a:srgbClr val="9369e7"/>
                </a:gs>
                <a:gs pos="100000">
                  <a:srgbClr val="4f387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6704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9369e7">
                    <a:alpha val="0"/>
                  </a:srgbClr>
                </a:gs>
                <a:gs pos="100000">
                  <a:srgbClr val="5d4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4480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65680" y="3087720"/>
              <a:ext cx="1290600" cy="1278000"/>
              <a:chOff x="3865680" y="3087720"/>
              <a:chExt cx="1290600" cy="1278000"/>
            </a:xfrm>
          </p:grpSpPr>
          <p:sp>
            <p:nvSpPr>
              <p:cNvPr id="333" name=""/>
              <p:cNvSpPr/>
              <p:nvPr/>
            </p:nvSpPr>
            <p:spPr>
              <a:xfrm>
                <a:off x="386568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8224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9556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6540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412884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112760" y="1832040"/>
            <a:ext cx="2170080" cy="4034880"/>
            <a:chOff x="1112760" y="1832040"/>
            <a:chExt cx="2170080" cy="4034880"/>
          </a:xfrm>
        </p:grpSpPr>
        <p:sp>
          <p:nvSpPr>
            <p:cNvPr id="340" name=""/>
            <p:cNvSpPr/>
            <p:nvPr/>
          </p:nvSpPr>
          <p:spPr>
            <a:xfrm>
              <a:off x="111276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4624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16352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6352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1924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6352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857240" y="1832040"/>
              <a:ext cx="642960" cy="642600"/>
              <a:chOff x="1857240" y="1832040"/>
              <a:chExt cx="642960" cy="642600"/>
            </a:xfrm>
          </p:grpSpPr>
          <p:sp>
            <p:nvSpPr>
              <p:cNvPr id="347" name=""/>
              <p:cNvSpPr/>
              <p:nvPr/>
            </p:nvSpPr>
            <p:spPr>
              <a:xfrm>
                <a:off x="185724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6372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7164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7812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1196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9972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8908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475080" y="1832040"/>
            <a:ext cx="2166840" cy="4034880"/>
            <a:chOff x="3475080" y="1832040"/>
            <a:chExt cx="2166840" cy="4034880"/>
          </a:xfrm>
        </p:grpSpPr>
        <p:sp>
          <p:nvSpPr>
            <p:cNvPr id="355" name=""/>
            <p:cNvSpPr/>
            <p:nvPr/>
          </p:nvSpPr>
          <p:spPr>
            <a:xfrm>
              <a:off x="34750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085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258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258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195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260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339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400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753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596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514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783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226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830920" y="1832040"/>
            <a:ext cx="2170080" cy="4034880"/>
            <a:chOff x="5830920" y="1832040"/>
            <a:chExt cx="2170080" cy="4034880"/>
          </a:xfrm>
        </p:grpSpPr>
        <p:sp>
          <p:nvSpPr>
            <p:cNvPr id="369" name=""/>
            <p:cNvSpPr/>
            <p:nvPr/>
          </p:nvSpPr>
          <p:spPr>
            <a:xfrm>
              <a:off x="58374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05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881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881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6581880" y="1832040"/>
              <a:ext cx="642960" cy="642600"/>
              <a:chOff x="6581880" y="1832040"/>
              <a:chExt cx="642960" cy="642600"/>
            </a:xfrm>
          </p:grpSpPr>
          <p:sp>
            <p:nvSpPr>
              <p:cNvPr id="374" name=""/>
              <p:cNvSpPr/>
              <p:nvPr/>
            </p:nvSpPr>
            <p:spPr>
              <a:xfrm>
                <a:off x="65818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5883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962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027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6366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7219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133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309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752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369e7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0" y="1969920"/>
            <a:ext cx="9144000" cy="4366080"/>
            <a:chOff x="0" y="1969920"/>
            <a:chExt cx="9144000" cy="4366080"/>
          </a:xfrm>
        </p:grpSpPr>
        <p:sp>
          <p:nvSpPr>
            <p:cNvPr id="386" name=""/>
            <p:cNvSpPr/>
            <p:nvPr/>
          </p:nvSpPr>
          <p:spPr>
            <a:xfrm>
              <a:off x="0" y="32590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33112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6720" y="2662200"/>
              <a:ext cx="2183040" cy="3600720"/>
              <a:chOff x="396720" y="2662200"/>
              <a:chExt cx="2183040" cy="360072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873720" y="3581280"/>
                <a:ext cx="1706040" cy="2681640"/>
                <a:chOff x="873720" y="3581280"/>
                <a:chExt cx="1706040" cy="268164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873720" y="3760200"/>
                  <a:ext cx="1578600" cy="2502720"/>
                  <a:chOff x="873720" y="3760200"/>
                  <a:chExt cx="1578600" cy="25027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3876600">
                    <a:off x="410040" y="47322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3876600">
                    <a:off x="1915920" y="57009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1368360" y="3581280"/>
                  <a:ext cx="1211400" cy="1920240"/>
                  <a:chOff x="1368360" y="3581280"/>
                  <a:chExt cx="1211400" cy="192024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 flipV="1" rot="3876600">
                    <a:off x="1012680" y="43272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V="1" rot="3876600">
                    <a:off x="2150640" y="50785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6" name=""/>
              <p:cNvGrpSpPr/>
              <p:nvPr/>
            </p:nvGrpSpPr>
            <p:grpSpPr>
              <a:xfrm>
                <a:off x="396720" y="2662200"/>
                <a:ext cx="1441800" cy="1440720"/>
                <a:chOff x="396720" y="2662200"/>
                <a:chExt cx="1441800" cy="14407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39672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9672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92120" y="27558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92120" y="27590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54040" y="28195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2" name=""/>
                <p:cNvGrpSpPr/>
                <p:nvPr/>
              </p:nvGrpSpPr>
              <p:grpSpPr>
                <a:xfrm>
                  <a:off x="571320" y="2836800"/>
                  <a:ext cx="1092240" cy="1092960"/>
                  <a:chOff x="571320" y="2836800"/>
                  <a:chExt cx="1092240" cy="109296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>
                    <a:off x="571320" y="28368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585360" y="28429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596520" y="28533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655920" y="28810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7" name=""/>
              <p:cNvSpPr/>
              <p:nvPr/>
            </p:nvSpPr>
            <p:spPr>
              <a:xfrm rot="3925800">
                <a:off x="89784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3925800">
                <a:off x="1401840" y="431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2379600" y="2662200"/>
              <a:ext cx="2183040" cy="3600720"/>
              <a:chOff x="2379600" y="2662200"/>
              <a:chExt cx="2183040" cy="36007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2856600" y="3581280"/>
                <a:ext cx="1706040" cy="2681640"/>
                <a:chOff x="2856600" y="3581280"/>
                <a:chExt cx="1706040" cy="268164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2856600" y="3760200"/>
                  <a:ext cx="1578600" cy="2502720"/>
                  <a:chOff x="2856600" y="3760200"/>
                  <a:chExt cx="1578600" cy="25027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rot="3876600">
                    <a:off x="2392920" y="47322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3876600">
                    <a:off x="3898800" y="57009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3351240" y="3581280"/>
                  <a:ext cx="1211400" cy="1920240"/>
                  <a:chOff x="3351240" y="3581280"/>
                  <a:chExt cx="1211400" cy="19202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 rot="3876600">
                    <a:off x="2995560" y="43272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V="1" rot="3876600">
                    <a:off x="4133520" y="50785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7" name=""/>
              <p:cNvGrpSpPr/>
              <p:nvPr/>
            </p:nvGrpSpPr>
            <p:grpSpPr>
              <a:xfrm>
                <a:off x="2379600" y="2662200"/>
                <a:ext cx="1441800" cy="1440720"/>
                <a:chOff x="2379600" y="2662200"/>
                <a:chExt cx="1441800" cy="14407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237960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379600" y="266220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475000" y="275580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475000" y="275904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536920" y="281952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554200" y="2836800"/>
                  <a:ext cx="1092240" cy="1092960"/>
                  <a:chOff x="2554200" y="2836800"/>
                  <a:chExt cx="1092240" cy="10929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554200" y="283680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568240" y="284292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579400" y="285336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638800" y="288108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8" name=""/>
              <p:cNvSpPr/>
              <p:nvPr/>
            </p:nvSpPr>
            <p:spPr>
              <a:xfrm rot="3925800">
                <a:off x="287496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3925800">
                <a:off x="3378240" y="431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4427640" y="2662200"/>
              <a:ext cx="2182680" cy="3600720"/>
              <a:chOff x="4427640" y="2662200"/>
              <a:chExt cx="2182680" cy="360072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4904280" y="3581280"/>
                <a:ext cx="1706040" cy="2681640"/>
                <a:chOff x="4904280" y="3581280"/>
                <a:chExt cx="1706040" cy="2681640"/>
              </a:xfrm>
            </p:grpSpPr>
            <p:grpSp>
              <p:nvGrpSpPr>
                <p:cNvPr id="432" name=""/>
                <p:cNvGrpSpPr/>
                <p:nvPr/>
              </p:nvGrpSpPr>
              <p:grpSpPr>
                <a:xfrm>
                  <a:off x="4904280" y="3760200"/>
                  <a:ext cx="1578600" cy="2502720"/>
                  <a:chOff x="4904280" y="3760200"/>
                  <a:chExt cx="1578600" cy="25027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3876600">
                    <a:off x="4440600" y="473220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3876600">
                    <a:off x="5946480" y="570096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5398920" y="3581280"/>
                  <a:ext cx="1211400" cy="1920240"/>
                  <a:chOff x="5398920" y="3581280"/>
                  <a:chExt cx="1211400" cy="192024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V="1" rot="3876600">
                    <a:off x="5043240" y="432720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V="1" rot="3876600">
                    <a:off x="6181200" y="507852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4427640" y="2662200"/>
                <a:ext cx="1441440" cy="1440720"/>
                <a:chOff x="4427640" y="2662200"/>
                <a:chExt cx="1441440" cy="14407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4427640" y="26622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427640" y="266220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523040" y="275580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523040" y="275904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584960" y="281952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4" name=""/>
                <p:cNvGrpSpPr/>
                <p:nvPr/>
              </p:nvGrpSpPr>
              <p:grpSpPr>
                <a:xfrm>
                  <a:off x="4602240" y="2836800"/>
                  <a:ext cx="1091880" cy="1092960"/>
                  <a:chOff x="4602240" y="2836800"/>
                  <a:chExt cx="1091880" cy="109296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4602240" y="283680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4616280" y="284292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4627440" y="285336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4686840" y="288108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 rot="3925800">
                <a:off x="4932000" y="46076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3925800">
                <a:off x="5435640" y="431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6442200" y="2503440"/>
              <a:ext cx="2399760" cy="3832560"/>
              <a:chOff x="6442200" y="2503440"/>
              <a:chExt cx="2399760" cy="383256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7136280" y="3654360"/>
                <a:ext cx="1705680" cy="2681640"/>
                <a:chOff x="7136280" y="3654360"/>
                <a:chExt cx="1705680" cy="268164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7136280" y="3833280"/>
                  <a:ext cx="1578600" cy="2502720"/>
                  <a:chOff x="7136280" y="3833280"/>
                  <a:chExt cx="1578600" cy="25027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 rot="3876600">
                    <a:off x="6672600" y="48052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rot="3876600">
                    <a:off x="8178480" y="57740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7630560" y="3654360"/>
                  <a:ext cx="1211400" cy="1920240"/>
                  <a:chOff x="7630560" y="3654360"/>
                  <a:chExt cx="1211400" cy="192024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 flipV="1" rot="3876600">
                    <a:off x="7274880" y="44002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V="1" rot="3876600">
                    <a:off x="8412840" y="515196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9" name=""/>
              <p:cNvSpPr/>
              <p:nvPr/>
            </p:nvSpPr>
            <p:spPr>
              <a:xfrm>
                <a:off x="6442200" y="25034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42200" y="250344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58120" y="261612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59560" y="261936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32640" y="269244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6653160" y="2712960"/>
                <a:ext cx="1312920" cy="1310400"/>
                <a:chOff x="6653160" y="2712960"/>
                <a:chExt cx="1312920" cy="131040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6653160" y="271296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69720" y="272016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83400" y="273276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6754680" y="276624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 rot="3925800">
                <a:off x="7147080" y="4766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3925800">
                <a:off x="7649640" y="4474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77796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6840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49840" y="20127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95000" y="19699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5" name=""/>
            <p:cNvCxnSpPr>
              <a:stCxn id="471" idx="3"/>
              <a:endCxn id="472" idx="1"/>
            </p:cNvCxnSpPr>
            <p:nvPr/>
          </p:nvCxnSpPr>
          <p:spPr>
            <a:xfrm>
              <a:off x="1514160" y="219672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2" idx="3"/>
              <a:endCxn id="473" idx="1"/>
            </p:cNvCxnSpPr>
            <p:nvPr/>
          </p:nvCxnSpPr>
          <p:spPr>
            <a:xfrm>
              <a:off x="3504960" y="2196720"/>
              <a:ext cx="1213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7" name=""/>
            <p:cNvCxnSpPr>
              <a:stCxn id="473" idx="3"/>
              <a:endCxn id="474" idx="1"/>
            </p:cNvCxnSpPr>
            <p:nvPr/>
          </p:nvCxnSpPr>
          <p:spPr>
            <a:xfrm>
              <a:off x="5486040" y="2197080"/>
              <a:ext cx="1220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2f4600"/>
              </a:gs>
              <a:gs pos="100000">
                <a:srgbClr val="669900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43306a"/>
              </a:gs>
              <a:gs pos="100000">
                <a:srgbClr val="9369e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f4e64"/>
              </a:gs>
              <a:gs pos="100000">
                <a:srgbClr val="66abda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e64"/>
              </a:gs>
              <a:gs pos="100000">
                <a:srgbClr val="66abd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3306a"/>
              </a:gs>
              <a:gs pos="100000">
                <a:srgbClr val="9369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600"/>
              </a:gs>
              <a:gs pos="100000">
                <a:srgbClr val="669900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3200400"/>
            <a:ext cx="1676160" cy="2590920"/>
          </a:xfrm>
          <a:custGeom>
            <a:avLst/>
            <a:gdLst>
              <a:gd name="textAreaLeft" fmla="*/ 67320 w 1676160"/>
              <a:gd name="textAreaRight" fmla="*/ 1608840 w 16761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86">
                <a:moveTo>
                  <a:pt x="2969" y="0"/>
                </a:moveTo>
                <a:arcTo wR="2969" hR="2969" stAng="16200000" swAng="-5400000"/>
                <a:lnTo>
                  <a:pt x="0" y="30417"/>
                </a:lnTo>
                <a:arcTo wR="2969" hR="2969" stAng="10800000" swAng="-5400000"/>
                <a:lnTo>
                  <a:pt x="18631" y="333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fd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fd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5580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fd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990720" y="3200400"/>
            <a:ext cx="1676160" cy="2590920"/>
          </a:xfrm>
          <a:custGeom>
            <a:avLst/>
            <a:gdLst>
              <a:gd name="textAreaLeft" fmla="*/ 67320 w 1676160"/>
              <a:gd name="textAreaRight" fmla="*/ 1608840 w 16761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86">
                <a:moveTo>
                  <a:pt x="2969" y="0"/>
                </a:moveTo>
                <a:arcTo wR="2969" hR="2969" stAng="16200000" swAng="-5400000"/>
                <a:lnTo>
                  <a:pt x="0" y="30417"/>
                </a:lnTo>
                <a:arcTo wR="2969" hR="2969" stAng="10800000" swAng="-5400000"/>
                <a:lnTo>
                  <a:pt x="18631" y="333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fd7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048680" y="1706400"/>
            <a:ext cx="6436800" cy="1387800"/>
            <a:chOff x="1048680" y="1706400"/>
            <a:chExt cx="6436800" cy="1387800"/>
          </a:xfrm>
        </p:grpSpPr>
        <p:sp>
          <p:nvSpPr>
            <p:cNvPr id="491" name=""/>
            <p:cNvSpPr/>
            <p:nvPr/>
          </p:nvSpPr>
          <p:spPr>
            <a:xfrm rot="3418800">
              <a:off x="125928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9369e7"/>
                </a:gs>
                <a:gs pos="100000">
                  <a:srgbClr val="4330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2223000" y="2103120"/>
              <a:ext cx="932040" cy="131760"/>
              <a:chOff x="2223000" y="2103120"/>
              <a:chExt cx="932040" cy="131760"/>
            </a:xfrm>
          </p:grpSpPr>
          <p:sp>
            <p:nvSpPr>
              <p:cNvPr id="493" name=""/>
              <p:cNvSpPr/>
              <p:nvPr/>
            </p:nvSpPr>
            <p:spPr>
              <a:xfrm>
                <a:off x="222300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31228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392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8916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 rot="3418800">
              <a:off x="2980440" y="1865160"/>
              <a:ext cx="924120" cy="1003680"/>
            </a:xfrm>
            <a:prstGeom prst="rect">
              <a:avLst/>
            </a:prstGeom>
            <a:solidFill>
              <a:srgbClr val="1c4d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3944160" y="2103120"/>
              <a:ext cx="932040" cy="131760"/>
              <a:chOff x="3944160" y="2103120"/>
              <a:chExt cx="932040" cy="131760"/>
            </a:xfrm>
          </p:grpSpPr>
          <p:sp>
            <p:nvSpPr>
              <p:cNvPr id="499" name=""/>
              <p:cNvSpPr/>
              <p:nvPr/>
            </p:nvSpPr>
            <p:spPr>
              <a:xfrm>
                <a:off x="39441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33440" y="21042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735080" y="21052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810320" y="21463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 rot="3418800">
              <a:off x="4629240" y="18651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9369e7"/>
                </a:gs>
                <a:gs pos="100000">
                  <a:srgbClr val="4330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5665320" y="2103120"/>
              <a:ext cx="1218600" cy="131760"/>
              <a:chOff x="5665320" y="2103120"/>
              <a:chExt cx="1218600" cy="131760"/>
            </a:xfrm>
          </p:grpSpPr>
          <p:sp>
            <p:nvSpPr>
              <p:cNvPr id="505" name=""/>
              <p:cNvSpPr/>
              <p:nvPr/>
            </p:nvSpPr>
            <p:spPr>
              <a:xfrm>
                <a:off x="5665320" y="21031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78196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99240" y="21052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97880" y="21463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rot="3418800">
              <a:off x="6350400" y="1865160"/>
              <a:ext cx="924120" cy="1004040"/>
            </a:xfrm>
            <a:prstGeom prst="rect">
              <a:avLst/>
            </a:prstGeom>
            <a:solidFill>
              <a:srgbClr val="1c4d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37916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1316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7318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843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3852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3812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906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6430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685800" y="1495440"/>
          <a:ext cx="7620120" cy="38163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0da6a"/>
                        </a:gs>
                        <a:gs pos="100000">
                          <a:srgbClr val="f6eb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0da6a"/>
                        </a:gs>
                        <a:gs pos="100000">
                          <a:srgbClr val="f6eb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0da6a"/>
                        </a:gs>
                        <a:gs pos="100000">
                          <a:srgbClr val="f6eb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6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0da6a"/>
                        </a:gs>
                        <a:gs pos="100000">
                          <a:srgbClr val="f6eb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0da6a"/>
                        </a:gs>
                        <a:gs pos="100000">
                          <a:srgbClr val="f6eb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5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0da6a"/>
                        </a:gs>
                        <a:gs pos="100000">
                          <a:srgbClr val="f6ebb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29560" y="1136520"/>
            <a:ext cx="7431480" cy="4917960"/>
            <a:chOff x="529560" y="1136520"/>
            <a:chExt cx="7431480" cy="4917960"/>
          </a:xfrm>
        </p:grpSpPr>
        <p:sp>
          <p:nvSpPr>
            <p:cNvPr id="522" name="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601600">
              <a:off x="1461960" y="2276280"/>
              <a:ext cx="576288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01600">
              <a:off x="1517400" y="211464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01600">
              <a:off x="1382760" y="2132640"/>
              <a:ext cx="5748840" cy="292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67" y="14960"/>
                  </a:moveTo>
                  <a:arcTo wR="10800" hR="10800" stAng="1359439" swAng="2520569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67" y="14960"/>
                  </a:moveTo>
                  <a:arcTo wR="10800" hR="10800" stAng="1359439" swAng="2520569"/>
                </a:path>
              </a:pathLst>
            </a:custGeom>
            <a:solidFill>
              <a:srgbClr val="d9af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1434960" y="2099880"/>
              <a:ext cx="569844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rot="20602200">
              <a:off x="1438200" y="211356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01600">
              <a:off x="1440000" y="2112120"/>
              <a:ext cx="56826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rot="20602200">
              <a:off x="1423800" y="211896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01600">
              <a:off x="4506840" y="3435480"/>
              <a:ext cx="1220760" cy="1498680"/>
            </a:xfrm>
            <a:custGeom>
              <a:avLst/>
              <a:gdLst/>
              <a:ahLst/>
              <a:rect l="l" t="t" r="r" b="b"/>
              <a:pathLst>
                <a:path w="480" h="716">
                  <a:moveTo>
                    <a:pt x="480" y="716"/>
                  </a:moveTo>
                  <a:lnTo>
                    <a:pt x="480" y="60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6a93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01600">
              <a:off x="4400280" y="3182760"/>
              <a:ext cx="2562120" cy="809640"/>
            </a:xfrm>
            <a:custGeom>
              <a:avLst/>
              <a:gdLst/>
              <a:ahLst/>
              <a:rect l="l" t="t" r="r" b="b"/>
              <a:pathLst>
                <a:path w="1008" h="388">
                  <a:moveTo>
                    <a:pt x="1008" y="388"/>
                  </a:moveTo>
                  <a:lnTo>
                    <a:pt x="1000" y="284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29560" y="1433880"/>
              <a:ext cx="6918480" cy="4356720"/>
              <a:chOff x="529560" y="1433880"/>
              <a:chExt cx="6918480" cy="4356720"/>
            </a:xfrm>
          </p:grpSpPr>
          <p:sp>
            <p:nvSpPr>
              <p:cNvPr id="533" name=""/>
              <p:cNvSpPr/>
              <p:nvPr/>
            </p:nvSpPr>
            <p:spPr>
              <a:xfrm rot="20712600">
                <a:off x="782280" y="2205360"/>
                <a:ext cx="6412680" cy="281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712600">
                <a:off x="4186080" y="3403440"/>
                <a:ext cx="1377360" cy="153648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52973"/>
                  </a:gs>
                  <a:gs pos="100000">
                    <a:srgbClr val="696097"/>
                  </a:gs>
                </a:gsLst>
                <a:lin ang="14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712600">
                <a:off x="5562000" y="3571560"/>
                <a:ext cx="1579320" cy="97956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solidFill>
                <a:srgbClr val="3529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1003680" y="1136520"/>
              <a:ext cx="6957360" cy="4863240"/>
              <a:chOff x="1003680" y="1136520"/>
              <a:chExt cx="6957360" cy="4863240"/>
            </a:xfrm>
          </p:grpSpPr>
          <p:sp>
            <p:nvSpPr>
              <p:cNvPr id="537" name=""/>
              <p:cNvSpPr/>
              <p:nvPr/>
            </p:nvSpPr>
            <p:spPr>
              <a:xfrm rot="20601600">
                <a:off x="6073560" y="3474720"/>
                <a:ext cx="1555560" cy="1092240"/>
              </a:xfrm>
              <a:custGeom>
                <a:avLst/>
                <a:gdLst/>
                <a:ahLst/>
                <a:rect l="l" t="t" r="r" b="b"/>
                <a:pathLst>
                  <a:path w="556" h="486">
                    <a:moveTo>
                      <a:pt x="0" y="342"/>
                    </a:moveTo>
                    <a:lnTo>
                      <a:pt x="552" y="0"/>
                    </a:lnTo>
                    <a:lnTo>
                      <a:pt x="556" y="138"/>
                    </a:lnTo>
                    <a:cubicBezTo>
                      <a:pt x="522" y="194"/>
                      <a:pt x="438" y="280"/>
                      <a:pt x="346" y="338"/>
                    </a:cubicBezTo>
                    <a:cubicBezTo>
                      <a:pt x="254" y="396"/>
                      <a:pt x="64" y="485"/>
                      <a:pt x="6" y="486"/>
                    </a:cubicBezTo>
                    <a:cubicBezTo>
                      <a:pt x="8" y="434"/>
                      <a:pt x="1" y="372"/>
                      <a:pt x="0" y="3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6600cc"/>
                  </a:gs>
                  <a:gs pos="100000">
                    <a:srgbClr val="b88ae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20539200">
                <a:off x="1323720" y="2022480"/>
                <a:ext cx="6316920" cy="3090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33" y="15040"/>
                    </a:moveTo>
                    <a:arcTo wR="10800" hR="10800" stAng="1386854" swAng="249315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33" y="15040"/>
                    </a:moveTo>
                    <a:arcTo wR="10800" hR="10800" stAng="1386854" swAng="2493154"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20601600">
                <a:off x="4757760" y="3304800"/>
                <a:ext cx="1332000" cy="1689120"/>
              </a:xfrm>
              <a:custGeom>
                <a:avLst/>
                <a:gdLst/>
                <a:ahLst/>
                <a:rect l="l" t="t" r="r" b="b"/>
                <a:pathLst>
                  <a:path w="486" h="762">
                    <a:moveTo>
                      <a:pt x="480" y="633"/>
                    </a:moveTo>
                    <a:lnTo>
                      <a:pt x="486" y="762"/>
                    </a:lnTo>
                    <a:lnTo>
                      <a:pt x="9" y="129"/>
                    </a:lnTo>
                    <a:lnTo>
                      <a:pt x="0" y="0"/>
                    </a:lnTo>
                    <a:lnTo>
                      <a:pt x="480" y="6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e8dd3"/>
                  </a:gs>
                  <a:gs pos="100000">
                    <a:srgbClr val="5007a1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rot="20601600">
              <a:off x="2979720" y="282852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3056040" y="3063600"/>
              <a:ext cx="2624040" cy="109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716080" y="26496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15880" y="2192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7080" y="29545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58480" y="42498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10960" y="447840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2400" y="36403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50" name=""/>
            <p:cNvSpPr/>
            <p:nvPr/>
          </p:nvSpPr>
          <p:spPr>
            <a:xfrm>
              <a:off x="1752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fd7d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8600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7697"/>
                </a:gs>
                <a:gs pos="50000">
                  <a:srgbClr val="66abda"/>
                </a:gs>
                <a:gs pos="100000">
                  <a:srgbClr val="467697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66160" y="28195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4d94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55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c4d94"/>
                      </a:gs>
                      <a:gs pos="100000">
                        <a:srgbClr val="11305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1c4d9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8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6f7f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61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62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0da6a"/>
                      </a:gs>
                      <a:gs pos="100000">
                        <a:srgbClr val="3a341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0da6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678168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6f7f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69e7"/>
                    </a:gs>
                    <a:gs pos="100000">
                      <a:srgbClr val="4b35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369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1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6f7f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575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6abda"/>
                      </a:gs>
                      <a:gs pos="100000">
                        <a:srgbClr val="34576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66abd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8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6f7f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2209680" y="1066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369e7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968840" y="1681560"/>
            <a:ext cx="5182920" cy="685800"/>
            <a:chOff x="1968840" y="1681560"/>
            <a:chExt cx="5182920" cy="685800"/>
          </a:xfrm>
        </p:grpSpPr>
        <p:sp>
          <p:nvSpPr>
            <p:cNvPr id="94" name=""/>
            <p:cNvSpPr/>
            <p:nvPr/>
          </p:nvSpPr>
          <p:spPr>
            <a:xfrm>
              <a:off x="2351160" y="23400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3418800">
              <a:off x="2077560" y="176400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87560" y="185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57840" y="17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68840" y="2617920"/>
            <a:ext cx="5182920" cy="685800"/>
            <a:chOff x="1968840" y="2617920"/>
            <a:chExt cx="5182920" cy="685800"/>
          </a:xfrm>
        </p:grpSpPr>
        <p:sp>
          <p:nvSpPr>
            <p:cNvPr id="99" name=""/>
            <p:cNvSpPr/>
            <p:nvPr/>
          </p:nvSpPr>
          <p:spPr>
            <a:xfrm>
              <a:off x="235116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3418800">
              <a:off x="2077560" y="270036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9369e7"/>
                </a:gs>
                <a:gs pos="100000">
                  <a:srgbClr val="4330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87560" y="2787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57840" y="27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968840" y="3586320"/>
            <a:ext cx="5182920" cy="685800"/>
            <a:chOff x="1968840" y="3586320"/>
            <a:chExt cx="5182920" cy="685800"/>
          </a:xfrm>
        </p:grpSpPr>
        <p:sp>
          <p:nvSpPr>
            <p:cNvPr id="104" name=""/>
            <p:cNvSpPr/>
            <p:nvPr/>
          </p:nvSpPr>
          <p:spPr>
            <a:xfrm>
              <a:off x="2351160" y="42447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3418800">
              <a:off x="2077560" y="366876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6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87560" y="37558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57840" y="3700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968840" y="4523040"/>
            <a:ext cx="5182920" cy="685800"/>
            <a:chOff x="1968840" y="4523040"/>
            <a:chExt cx="5182920" cy="685800"/>
          </a:xfrm>
        </p:grpSpPr>
        <p:sp>
          <p:nvSpPr>
            <p:cNvPr id="109" name=""/>
            <p:cNvSpPr/>
            <p:nvPr/>
          </p:nvSpPr>
          <p:spPr>
            <a:xfrm>
              <a:off x="2351160" y="518148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3418800">
              <a:off x="2077560" y="460548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9369e7"/>
                </a:gs>
                <a:gs pos="100000">
                  <a:srgbClr val="43306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87560" y="46926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57840" y="463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369e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37F-6719-4C0C-81F0-1E2293745E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1752480" y="2590920"/>
            <a:ext cx="56390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abda"/>
                    </a:gs>
                    <a:gs pos="100000">
                      <a:srgbClr val="9369e7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abda"/>
                  </a:gs>
                  <a:gs pos="100000">
                    <a:srgbClr val="9369e7"/>
                  </a:gs>
                </a:gsLst>
                <a:lin ang="108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533520" y="502920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1c4d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1c4d9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850"/>
              </a:spcBef>
              <a:buClr>
                <a:srgbClr val="66ab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c4d94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9369e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c4d94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9369e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c4d94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9369e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c4d94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9369e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c4d94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3400" spc="-1" strike="noStrike">
                <a:solidFill>
                  <a:srgbClr val="1c4d94"/>
                </a:solidFill>
                <a:latin typeface="Arial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1c4d94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56272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18" name="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5000" y="3290760"/>
              <a:ext cx="2057400" cy="16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uild Desig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one of aligned company with Microsoft Ltd, and we develop and provide the design templates for Office 97, 2000, and X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21" name="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ddad"/>
              </a:gs>
              <a:gs pos="100000">
                <a:srgbClr val="66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2"/>
              </a:gs>
              <a:gs pos="100000">
                <a:srgbClr val="66ab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26" name="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326f"/>
                    </a:gs>
                    <a:gs pos="100000">
                      <a:srgbClr val="9369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69e7"/>
                    </a:gs>
                    <a:gs pos="100000">
                      <a:srgbClr val="cebbf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6abda"/>
                  </a:gs>
                  <a:gs pos="100000">
                    <a:srgbClr val="2f4e6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c8e0f1"/>
                  </a:gs>
                  <a:gs pos="100000">
                    <a:srgbClr val="66abda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6abda">
                      <a:alpha val="48235"/>
                    </a:srgbClr>
                  </a:gs>
                  <a:gs pos="100000">
                    <a:srgbClr val="5086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66abda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6840" y="1175040"/>
            <a:ext cx="7750080" cy="5225400"/>
            <a:chOff x="456840" y="1175040"/>
            <a:chExt cx="7750080" cy="5225400"/>
          </a:xfrm>
        </p:grpSpPr>
        <p:sp>
          <p:nvSpPr>
            <p:cNvPr id="137" name=""/>
            <p:cNvSpPr/>
            <p:nvPr/>
          </p:nvSpPr>
          <p:spPr>
            <a:xfrm rot="20241600">
              <a:off x="1077840" y="2385720"/>
              <a:ext cx="6853320" cy="28033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fd7df"/>
                </a:gs>
                <a:gs pos="100000">
                  <a:srgbClr val="f8f9fa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5238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369e7"/>
                </a:gs>
                <a:gs pos="100000">
                  <a:srgbClr val="3224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3048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6abda"/>
                </a:gs>
                <a:gs pos="100000">
                  <a:srgbClr val="1f35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8000" y="474516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4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52880" y="41148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3c185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81680" y="175248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f0da6a"/>
                </a:gs>
                <a:gs pos="100000">
                  <a:srgbClr val="524a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22520" y="3505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39640" y="19810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71480" y="2259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81560" y="45720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0600" y="5195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3510000"/>
              <a:ext cx="259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"/>
            <p:cNvCxnSpPr/>
            <p:nvPr/>
          </p:nvCxnSpPr>
          <p:spPr>
            <a:xfrm flipH="1">
              <a:off x="456840" y="1810800"/>
              <a:ext cx="20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" name=""/>
            <p:cNvSpPr/>
            <p:nvPr/>
          </p:nvSpPr>
          <p:spPr>
            <a:xfrm>
              <a:off x="534600" y="1371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90720" y="1447920"/>
            <a:ext cx="7010280" cy="4343400"/>
            <a:chOff x="990720" y="1447920"/>
            <a:chExt cx="7010280" cy="4343400"/>
          </a:xfrm>
        </p:grpSpPr>
        <p:sp>
          <p:nvSpPr>
            <p:cNvPr id="154" name=""/>
            <p:cNvSpPr/>
            <p:nvPr/>
          </p:nvSpPr>
          <p:spPr>
            <a:xfrm>
              <a:off x="3657600" y="3886200"/>
              <a:ext cx="16765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e64"/>
                </a:gs>
                <a:gs pos="50000">
                  <a:srgbClr val="66abda"/>
                </a:gs>
                <a:gs pos="100000">
                  <a:srgbClr val="2f4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57600" y="335304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e64"/>
                </a:gs>
                <a:gs pos="50000">
                  <a:srgbClr val="66abda"/>
                </a:gs>
                <a:gs pos="100000">
                  <a:srgbClr val="2f4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7600" y="2819520"/>
              <a:ext cx="16765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e64"/>
                </a:gs>
                <a:gs pos="50000">
                  <a:srgbClr val="66abda"/>
                </a:gs>
                <a:gs pos="100000">
                  <a:srgbClr val="2f4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9040" y="3049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9040" y="3583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9040" y="4116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71800" y="2590920"/>
              <a:ext cx="533520" cy="205740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f6366">
                    <a:alpha val="12156"/>
                  </a:srgbClr>
                </a:gs>
                <a:gs pos="100000">
                  <a:srgbClr val="cfd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0720" y="205740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7040" y="2286000"/>
              <a:ext cx="16761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72200" y="2057400"/>
              <a:ext cx="1828800" cy="312444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3124440"/>
                <a:gd name="textAreaBottom" fmla="*/ 3035160 h 3124440"/>
              </a:gdLst>
              <a:ahLst/>
              <a:rect l="textAreaLeft" t="textAreaTop" r="textAreaRight" b="textAreaBottom"/>
              <a:pathLst>
                <a:path w="21600" h="36900">
                  <a:moveTo>
                    <a:pt x="3600" y="0"/>
                  </a:moveTo>
                  <a:arcTo wR="3600" hR="3600" stAng="16200000" swAng="-5400000"/>
                  <a:lnTo>
                    <a:pt x="0" y="33300"/>
                  </a:lnTo>
                  <a:arcTo wR="3600" hR="3600" stAng="10800000" swAng="-5400000"/>
                  <a:lnTo>
                    <a:pt x="18000" y="369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2286000"/>
              <a:ext cx="16765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9640" y="2590920"/>
              <a:ext cx="530280" cy="205740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fd7df"/>
                </a:gs>
                <a:gs pos="100000">
                  <a:srgbClr val="5f63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95840" y="1447920"/>
              <a:ext cx="3047760" cy="6094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3306a"/>
                </a:gs>
                <a:gs pos="50000">
                  <a:srgbClr val="9369e7"/>
                </a:gs>
                <a:gs pos="100000">
                  <a:srgbClr val="4330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24480" y="2210040"/>
              <a:ext cx="1752480" cy="533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fd7df"/>
                </a:gs>
                <a:gs pos="100000">
                  <a:srgbClr val="dfe4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74920" y="1681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71800" y="5181840"/>
              <a:ext cx="3048120" cy="6094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4920" y="5415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02160" y="4572000"/>
              <a:ext cx="1755720" cy="525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fe4e9">
                    <a:alpha val="12156"/>
                  </a:srgbClr>
                </a:gs>
                <a:gs pos="100000">
                  <a:srgbClr val="cfd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38080" y="1905120"/>
            <a:ext cx="7391520" cy="3581280"/>
            <a:chOff x="838080" y="1905120"/>
            <a:chExt cx="7391520" cy="3581280"/>
          </a:xfrm>
        </p:grpSpPr>
        <p:grpSp>
          <p:nvGrpSpPr>
            <p:cNvPr id="174" name=""/>
            <p:cNvGrpSpPr/>
            <p:nvPr/>
          </p:nvGrpSpPr>
          <p:grpSpPr>
            <a:xfrm>
              <a:off x="2895480" y="1905120"/>
              <a:ext cx="3196800" cy="2890800"/>
              <a:chOff x="2895480" y="1905120"/>
              <a:chExt cx="3196800" cy="2890800"/>
            </a:xfrm>
          </p:grpSpPr>
          <p:sp>
            <p:nvSpPr>
              <p:cNvPr id="175" name=""/>
              <p:cNvSpPr/>
              <p:nvPr/>
            </p:nvSpPr>
            <p:spPr>
              <a:xfrm flipH="1" rot="16200000">
                <a:off x="2813400" y="301860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8d4"/>
                  </a:gs>
                  <a:gs pos="100000">
                    <a:srgbClr val="1c4d9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5400000">
                <a:off x="5683320" y="296424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8d4"/>
                  </a:gs>
                  <a:gs pos="100000">
                    <a:srgbClr val="1c4d94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0800000">
                <a:off x="4250520" y="446904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8d4"/>
                  </a:gs>
                  <a:gs pos="100000">
                    <a:srgbClr val="1c4d9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22360" y="190512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68880" y="204948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02440" y="21844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369e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02440" y="218448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34560" y="23162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4f387c"/>
                  </a:gs>
                  <a:gs pos="50000">
                    <a:srgbClr val="9369e7"/>
                  </a:gs>
                  <a:gs pos="100000">
                    <a:srgbClr val="4f387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34560" y="231624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838080" y="35053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306a"/>
                </a:gs>
                <a:gs pos="50000">
                  <a:srgbClr val="9369e7"/>
                </a:gs>
                <a:gs pos="100000">
                  <a:srgbClr val="4330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080" y="29718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306a"/>
                </a:gs>
                <a:gs pos="50000">
                  <a:srgbClr val="9369e7"/>
                </a:gs>
                <a:gs pos="100000">
                  <a:srgbClr val="4330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24386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306a"/>
                </a:gs>
                <a:gs pos="50000">
                  <a:srgbClr val="9369e7"/>
                </a:gs>
                <a:gs pos="100000">
                  <a:srgbClr val="4330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480" y="35053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e64"/>
                </a:gs>
                <a:gs pos="50000">
                  <a:srgbClr val="66abda"/>
                </a:gs>
                <a:gs pos="100000">
                  <a:srgbClr val="2f4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480" y="29718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e64"/>
                </a:gs>
                <a:gs pos="50000">
                  <a:srgbClr val="66abda"/>
                </a:gs>
                <a:gs pos="100000">
                  <a:srgbClr val="2f4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4480" y="24386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e64"/>
                </a:gs>
                <a:gs pos="50000">
                  <a:srgbClr val="66abda"/>
                </a:gs>
                <a:gs pos="100000">
                  <a:srgbClr val="2f4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12400" y="29718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57440" y="49532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abda"/>
                </a:gs>
                <a:gs pos="50000">
                  <a:srgbClr val="f9fbfc"/>
                </a:gs>
                <a:gs pos="100000">
                  <a:srgbClr val="66abda"/>
                </a:gs>
              </a:gsLst>
              <a:lin ang="10800000"/>
            </a:gradFill>
            <a:ln w="38160">
              <a:solidFill>
                <a:srgbClr val="1c4d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73040" y="2595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3040" y="3129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73040" y="366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92640" y="2595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92640" y="3129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92640" y="36626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00" name="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447920"/>
            <a:ext cx="5790960" cy="4495680"/>
          </a:xfrm>
          <a:prstGeom prst="rightArrow">
            <a:avLst>
              <a:gd name="adj1" fmla="val 79306"/>
              <a:gd name="adj2" fmla="val 31905"/>
            </a:avLst>
          </a:prstGeom>
          <a:gradFill rotWithShape="0">
            <a:gsLst>
              <a:gs pos="0">
                <a:srgbClr val="cfd7d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20574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abda"/>
              </a:gs>
              <a:gs pos="100000">
                <a:srgbClr val="2f4e6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2004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434340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00"/>
              </a:gs>
              <a:gs pos="100000">
                <a:srgbClr val="2f46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3600" y="29718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369e7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06:55:4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00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