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0639-A2D8-4CEF-B014-C19304B2A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992040"/>
            <a:ext cx="8534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583C-4364-4433-AFD8-8CCFF4BA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92040"/>
            <a:ext cx="4164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992040"/>
            <a:ext cx="4164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1308-E685-495C-85A7-12C96F8F4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47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523880"/>
            <a:ext cx="2747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523880"/>
            <a:ext cx="2747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992040"/>
            <a:ext cx="2747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992040"/>
            <a:ext cx="2747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992040"/>
            <a:ext cx="2747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77E1-C337-47EF-8803-C99829ECC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3992040"/>
            <a:ext cx="4164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226B-CC33-4290-ABC2-D1D7C32D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840" y="3992040"/>
            <a:ext cx="4164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92040"/>
            <a:ext cx="8534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3992040"/>
            <a:ext cx="8534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992040"/>
            <a:ext cx="4164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840" y="3992040"/>
            <a:ext cx="4164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47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0680" y="1523880"/>
            <a:ext cx="2747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6080" y="1523880"/>
            <a:ext cx="2747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3992040"/>
            <a:ext cx="2747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0680" y="3992040"/>
            <a:ext cx="2747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6080" y="3992040"/>
            <a:ext cx="2747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8EF4-C760-438D-836D-801157FF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6BED-EAD4-460D-A3E5-453EBA4C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304A-7010-4B62-B0E1-32B09983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A651-07CE-4C92-996F-CD8CDB9B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992040"/>
            <a:ext cx="4164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AC5B-9E3F-4705-ADFA-67FDA9EB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992040"/>
            <a:ext cx="4164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2F56-F42F-4CE1-946F-E2FF6F63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92040"/>
            <a:ext cx="8534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9788-E89C-4C60-9CE6-866EE17C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467400"/>
            <a:ext cx="9144000" cy="390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-36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69FB-CB01-4237-964B-E37D8A0D3222}" type="datetime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437920" y="6629040"/>
            <a:ext cx="4419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099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8C24-7451-4A71-8598-BCC66C2424D0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238880" y="6286680"/>
            <a:ext cx="190512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15364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15328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  <a:ea typeface="宋体"/>
              </a:rPr>
              <a:t>Classic Style 2</a:t>
            </a:r>
            <a:endParaRPr b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Times New Roman Font Fam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1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23680" y="18900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传统中医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使用规范说明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8225-5021-4340-8442-EAF0A7236F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93" name=""/>
          <p:cNvSpPr/>
          <p:nvPr/>
        </p:nvSpPr>
        <p:spPr>
          <a:xfrm>
            <a:off x="2340000" y="5302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 footer here (go to view menu and choose header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B502-394D-4693-964B-FB5F214ABBA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99ECF9-26D2-4B71-AFCB-F3D06EB3BA0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3T06:43:38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5:48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