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E9F44-8ECA-47C7-8670-3FEFA0398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3657600"/>
            <a:ext cx="6172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1960" y="4465440"/>
            <a:ext cx="62481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1960" y="4744080"/>
            <a:ext cx="62481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96B19-F2E2-4E2C-855B-C24902D3F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7720" y="3657600"/>
            <a:ext cx="6172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1960" y="4465440"/>
            <a:ext cx="30488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033800" y="4465440"/>
            <a:ext cx="30488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1960" y="4744080"/>
            <a:ext cx="30488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033800" y="4744080"/>
            <a:ext cx="30488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30CAC-F6C6-404F-8957-665629AB2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7720" y="3657600"/>
            <a:ext cx="6172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1960" y="4465440"/>
            <a:ext cx="20116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944440" y="4465440"/>
            <a:ext cx="20116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057280" y="4465440"/>
            <a:ext cx="20116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1960" y="4744080"/>
            <a:ext cx="20116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944440" y="4744080"/>
            <a:ext cx="20116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057280" y="4744080"/>
            <a:ext cx="20116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E6FEF-04CE-40F9-BD07-3D3C26C84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DC45D-08F6-4238-9AFA-7BDEC241F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7720" y="3657600"/>
            <a:ext cx="6172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1960" y="4465440"/>
            <a:ext cx="62481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7E100-7580-4597-87B0-960730DBB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7720" y="3657600"/>
            <a:ext cx="6172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1960" y="4465440"/>
            <a:ext cx="624816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6DF8F-D672-4C81-8BCD-CE2BEB0E6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7720" y="3657600"/>
            <a:ext cx="6172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1960" y="4465440"/>
            <a:ext cx="3048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033800" y="4465440"/>
            <a:ext cx="3048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FE5FD-8FB5-48E2-90A6-47AE7E7EB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7720" y="3657600"/>
            <a:ext cx="6172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25D6C-2506-48B5-A1D6-31EBC2922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7720" y="3657600"/>
            <a:ext cx="6172200" cy="247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D022B-E2A2-4BF4-BA55-857756D62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7720" y="3657600"/>
            <a:ext cx="6172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1960" y="4465440"/>
            <a:ext cx="30488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033800" y="4465440"/>
            <a:ext cx="3048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1960" y="4744080"/>
            <a:ext cx="30488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CAFF2-7FA5-45E5-AB4D-143B306C7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7720" y="3657600"/>
            <a:ext cx="6172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1960" y="4465440"/>
            <a:ext cx="62481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B9960-B5C3-4570-BDC3-1EDCC7423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7720" y="3657600"/>
            <a:ext cx="6172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1960" y="4465440"/>
            <a:ext cx="3048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033800" y="4465440"/>
            <a:ext cx="30488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033800" y="4744080"/>
            <a:ext cx="30488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C3C68-B6A9-4DEA-95C5-D72C1058C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7720" y="3657600"/>
            <a:ext cx="6172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1960" y="4465440"/>
            <a:ext cx="30488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033800" y="4465440"/>
            <a:ext cx="30488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1960" y="4744080"/>
            <a:ext cx="62481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882BA-CFB6-4B5C-8B63-476DC830B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7720" y="3657600"/>
            <a:ext cx="6172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1960" y="4465440"/>
            <a:ext cx="62481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1960" y="4744080"/>
            <a:ext cx="62481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525FF-6698-4A67-868A-8299B06E4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3657600"/>
            <a:ext cx="6172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1960" y="4465440"/>
            <a:ext cx="30488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033800" y="4465440"/>
            <a:ext cx="30488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1960" y="4744080"/>
            <a:ext cx="30488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033800" y="4744080"/>
            <a:ext cx="30488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3C146-BD0C-465B-8DAA-77102C1F9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3657600"/>
            <a:ext cx="6172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1960" y="4465440"/>
            <a:ext cx="20116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944440" y="4465440"/>
            <a:ext cx="20116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057280" y="4465440"/>
            <a:ext cx="20116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1960" y="4744080"/>
            <a:ext cx="20116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944440" y="4744080"/>
            <a:ext cx="20116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057280" y="4744080"/>
            <a:ext cx="20116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CD93D-6250-4C8E-ABA7-6DED01682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3657600"/>
            <a:ext cx="6172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1960" y="4465440"/>
            <a:ext cx="624816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F9842-6F3D-4CE7-8404-5EF702333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3657600"/>
            <a:ext cx="6172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1960" y="4465440"/>
            <a:ext cx="3048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033800" y="4465440"/>
            <a:ext cx="3048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A177C-E3FD-4F59-8D6D-C627A9AF7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7720" y="3657600"/>
            <a:ext cx="6172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85E65-49DA-4609-B04A-2FD1125D9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7720" y="3657600"/>
            <a:ext cx="6172200" cy="247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061A5-E717-46E6-8E28-B4993871C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7720" y="3657600"/>
            <a:ext cx="6172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1960" y="4465440"/>
            <a:ext cx="30488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033800" y="4465440"/>
            <a:ext cx="3048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1960" y="4744080"/>
            <a:ext cx="30488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72964-4DC0-4309-8E19-F5EBA8651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3657600"/>
            <a:ext cx="6172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1960" y="4465440"/>
            <a:ext cx="3048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033800" y="4465440"/>
            <a:ext cx="30488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033800" y="4744080"/>
            <a:ext cx="30488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1765C-3B4B-402D-A2C9-839F5DF3D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3657600"/>
            <a:ext cx="6172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1960" y="4465440"/>
            <a:ext cx="30488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033800" y="4465440"/>
            <a:ext cx="30488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1960" y="4744080"/>
            <a:ext cx="62481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AF262-9469-407E-9D49-3EAD67158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4040" y="152280"/>
            <a:ext cx="8001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808080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14040" y="990720"/>
            <a:ext cx="80010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Demi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Franklin Gothic Demi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Franklin Gothic Dem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Demi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Franklin Gothic Demi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Franklin Gothic Demi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Demi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Franklin Gothic Demi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Franklin Gothic Dem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Demi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Franklin Gothic Demi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Franklin Gothic Dem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Demi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Franklin Gothic Demi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Franklin Gothic Dem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Demi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Franklin Gothic Demi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Franklin Gothic Dem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Demi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552720"/>
            <a:ext cx="2895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B5EFE-044E-42DA-895B-E181F1F5047F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57600"/>
            <a:ext cx="6172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Impact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552720"/>
            <a:ext cx="2895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23888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3D308-FBB7-4EE7-B300-605EEC0D944C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Demi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Franklin Gothic Demi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Demi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Franklin Gothic Demi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Franklin Gothic Demi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anklin Gothic Demi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Franklin Gothic Demi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Franklin Gothic Demi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Demi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Franklin Gothic Demi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Franklin Gothic Demi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Demi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Franklin Gothic Demi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Franklin Gothic Dem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Demi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Franklin Gothic Demi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Franklin Gothic Dem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Demi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Franklin Gothic Dem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7720" y="3657600"/>
            <a:ext cx="6172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Impact"/>
              </a:rPr>
              <a:t>Support Radical Sports</a:t>
            </a:r>
            <a:endParaRPr b="0" lang="en-US" sz="4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831960" y="4465440"/>
            <a:ext cx="62481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Demi"/>
              </a:rPr>
              <a:t>Your Subtitle Goes Here</a:t>
            </a:r>
            <a:endParaRPr b="1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84" name="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485720" y="549360"/>
            <a:ext cx="506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单车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体育运动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在线下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280"/>
            <a:ext cx="8001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Impact"/>
              </a:rPr>
              <a:t>Your Topic Goes Here</a:t>
            </a:r>
            <a:endParaRPr b="0" lang="en-US" sz="4000" spc="-1" strike="noStrike">
              <a:solidFill>
                <a:srgbClr val="808080"/>
              </a:solidFill>
              <a:latin typeface="Impac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14040" y="990720"/>
            <a:ext cx="80010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Demi"/>
              </a:rPr>
              <a:t>Your subtopics go here</a:t>
            </a:r>
            <a:endParaRPr b="1" lang="en-US" sz="2800" spc="-1" strike="noStrike">
              <a:solidFill>
                <a:srgbClr val="000000"/>
              </a:solidFill>
              <a:latin typeface="Franklin Gothic Dem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7720" y="3657600"/>
            <a:ext cx="6172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Impact"/>
              </a:rPr>
              <a:t>Transitional Page</a:t>
            </a:r>
            <a:endParaRPr b="0" lang="en-US" sz="4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831960" y="4465440"/>
            <a:ext cx="62481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90" name=""/>
          <p:cNvSpPr/>
          <p:nvPr/>
        </p:nvSpPr>
        <p:spPr>
          <a:xfrm>
            <a:off x="755640" y="1773360"/>
            <a:ext cx="44355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152280"/>
            <a:ext cx="8001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Impact"/>
              </a:rPr>
              <a:t>Your Topic Goes Here</a:t>
            </a:r>
            <a:endParaRPr b="0" lang="en-US" sz="4000" spc="-1" strike="noStrike">
              <a:solidFill>
                <a:srgbClr val="808080"/>
              </a:solidFill>
              <a:latin typeface="Impac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14040" y="990720"/>
            <a:ext cx="80010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Demi"/>
              </a:rPr>
              <a:t>Your subtopics go here</a:t>
            </a:r>
            <a:endParaRPr b="1" lang="en-US" sz="2800" spc="-1" strike="noStrike">
              <a:solidFill>
                <a:srgbClr val="000000"/>
              </a:solidFill>
              <a:latin typeface="Franklin Gothic Dem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08080"/>
                </a:solidFill>
                <a:latin typeface="Impact"/>
              </a:rPr>
              <a:t>使用规范说明</a:t>
            </a:r>
            <a:endParaRPr b="0" lang="en-US" sz="4000" spc="-1" strike="noStrike">
              <a:solidFill>
                <a:srgbClr val="808080"/>
              </a:solidFill>
              <a:latin typeface="Impac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Franklin Gothic Demi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Franklin Gothic Demi"/>
              </a:rPr>
              <a:t>：</a:t>
            </a:r>
            <a:endParaRPr b="1" lang="en-US" sz="1400" spc="-1" strike="noStrike">
              <a:solidFill>
                <a:srgbClr val="000000"/>
              </a:solidFill>
              <a:latin typeface="Franklin Gothic Dem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Franklin Gothic Dem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Franklin Gothic Demi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Franklin Gothic Dem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Franklin Gothic Demi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Franklin Gothic Demi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Franklin Gothic Demi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Franklin Gothic Demi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Franklin Gothic Demi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Franklin Gothic Demi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Franklin Gothic Demi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Franklin Gothic Demi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Franklin Gothic Demi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Franklin Gothic Demi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Franklin Gothic Demi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Franklin Gothic Demi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Franklin Gothic Demi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Franklin Gothic Demi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Franklin Gothic Demi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Franklin Gothic Demi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Franklin Gothic Demi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Franklin Gothic Demi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Franklin Gothic Demi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Franklin Gothic Demi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Franklin Gothic Demi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Franklin Gothic Demi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Franklin Gothic Dem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Franklin Gothic Dem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Franklin Gothic Dem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Franklin Gothic Dem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Franklin Gothic Demi"/>
              </a:rPr>
              <a:t>特别说明：</a:t>
            </a:r>
            <a:endParaRPr b="1" lang="en-US" sz="1400" spc="-1" strike="noStrike">
              <a:solidFill>
                <a:srgbClr val="000000"/>
              </a:solidFill>
              <a:latin typeface="Franklin Gothic Dem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Franklin Gothic Dem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Franklin Gothic Dem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Franklin Gothic Dem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Franklin Gothic Demi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Franklin Gothic Demi"/>
              </a:rPr>
              <a:t>仅供学习与参考，请勿用于商业用途。否则产生的一切后果将由您自己承担！如有侵犯您的版权，请及时与我们联系。</a:t>
            </a:r>
            <a:endParaRPr b="1" lang="en-US" sz="1400" spc="-1" strike="noStrike">
              <a:solidFill>
                <a:srgbClr val="000000"/>
              </a:solidFill>
              <a:latin typeface="Franklin Gothic Dem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Franklin Gothic Dem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Franklin Gothic Dem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Franklin Gothic Dem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Franklin Gothic Demi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Franklin Gothic Demi"/>
              </a:rPr>
              <a:t>：</a:t>
            </a:r>
            <a:endParaRPr b="1" lang="en-US" sz="1400" spc="-1" strike="noStrike">
              <a:solidFill>
                <a:srgbClr val="000000"/>
              </a:solidFill>
              <a:latin typeface="Franklin Gothic Dem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1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1" lang="en-US" sz="1200" spc="-1" strike="noStrike">
              <a:solidFill>
                <a:srgbClr val="000000"/>
              </a:solidFill>
              <a:latin typeface="Franklin Gothic Dem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1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1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1" lang="en-US" sz="1200" spc="-1" strike="noStrike">
              <a:solidFill>
                <a:srgbClr val="000000"/>
              </a:solidFill>
              <a:latin typeface="Franklin Gothic Dem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1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1" lang="en-US" sz="1200" spc="-1" strike="noStrike">
              <a:solidFill>
                <a:srgbClr val="000000"/>
              </a:solidFill>
              <a:latin typeface="Franklin Gothic Dem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1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1" lang="en-US" sz="1200" spc="-1" strike="noStrike">
              <a:solidFill>
                <a:srgbClr val="000000"/>
              </a:solidFill>
              <a:latin typeface="Franklin Gothic Dem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1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1" lang="en-US" sz="1200" spc="-1" strike="noStrike">
              <a:solidFill>
                <a:srgbClr val="000000"/>
              </a:solidFill>
              <a:latin typeface="Franklin Gothic Dem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1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1" lang="en-US" sz="1200" spc="-1" strike="noStrike">
              <a:solidFill>
                <a:srgbClr val="000000"/>
              </a:solidFill>
              <a:latin typeface="Franklin Gothic Dem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1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1" lang="en-US" sz="1200" spc="-1" strike="noStrike">
              <a:solidFill>
                <a:srgbClr val="000000"/>
              </a:solidFill>
              <a:latin typeface="Franklin Gothic Dem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1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1" lang="en-US" sz="1200" spc="-1" strike="noStrike">
              <a:solidFill>
                <a:srgbClr val="000000"/>
              </a:solidFill>
              <a:latin typeface="Franklin Gothic Dem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1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1" lang="en-US" sz="1200" spc="-1" strike="noStrike">
              <a:solidFill>
                <a:srgbClr val="000000"/>
              </a:solidFill>
              <a:latin typeface="Franklin Gothic Dem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1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1" lang="en-US" sz="1200" spc="-1" strike="noStrike">
              <a:solidFill>
                <a:srgbClr val="000000"/>
              </a:solidFill>
              <a:latin typeface="Franklin Gothic Dem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1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1" lang="en-US" sz="1200" spc="-1" strike="noStrike">
              <a:solidFill>
                <a:srgbClr val="000000"/>
              </a:solidFill>
              <a:latin typeface="Franklin Gothic Dem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Franklin Gothic Dem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Franklin Gothic Dem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Franklin Gothic Dem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Franklin Gothic Dem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Franklin Gothic Dem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9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FF653-1FAF-4DA0-A033-FE4F505FB8A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7720" y="3657600"/>
            <a:ext cx="6172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Impact"/>
              </a:rPr>
              <a:t>elements</a:t>
            </a:r>
            <a:endParaRPr b="0" lang="en-US" sz="4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831960" y="4465440"/>
            <a:ext cx="62481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pic>
        <p:nvPicPr>
          <p:cNvPr id="98" name="radical_sports_prt" descr=""/>
          <p:cNvPicPr/>
          <p:nvPr/>
        </p:nvPicPr>
        <p:blipFill>
          <a:blip r:embed="rId1"/>
          <a:stretch/>
        </p:blipFill>
        <p:spPr>
          <a:xfrm>
            <a:off x="6934320" y="152280"/>
            <a:ext cx="2057400" cy="1543320"/>
          </a:xfrm>
          <a:prstGeom prst="rect">
            <a:avLst/>
          </a:prstGeom>
          <a:ln w="0">
            <a:noFill/>
          </a:ln>
        </p:spPr>
      </p:pic>
      <p:pic>
        <p:nvPicPr>
          <p:cNvPr id="99" name="radical_sports_qx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2057400" cy="1543320"/>
          </a:xfrm>
          <a:prstGeom prst="rect">
            <a:avLst/>
          </a:prstGeom>
          <a:ln w="0">
            <a:noFill/>
          </a:ln>
        </p:spPr>
      </p:pic>
      <p:pic>
        <p:nvPicPr>
          <p:cNvPr id="100" name="radical_sports_sld" descr=""/>
          <p:cNvPicPr/>
          <p:nvPr/>
        </p:nvPicPr>
        <p:blipFill>
          <a:blip r:embed="rId3"/>
          <a:stretch/>
        </p:blipFill>
        <p:spPr>
          <a:xfrm>
            <a:off x="2362320" y="152280"/>
            <a:ext cx="2057400" cy="1543320"/>
          </a:xfrm>
          <a:prstGeom prst="rect">
            <a:avLst/>
          </a:prstGeom>
          <a:ln w="0">
            <a:noFill/>
          </a:ln>
        </p:spPr>
      </p:pic>
      <p:pic>
        <p:nvPicPr>
          <p:cNvPr id="101" name="radical_sports_trs" descr=""/>
          <p:cNvPicPr/>
          <p:nvPr/>
        </p:nvPicPr>
        <p:blipFill>
          <a:blip r:embed="rId4"/>
          <a:stretch/>
        </p:blipFill>
        <p:spPr>
          <a:xfrm>
            <a:off x="4724280" y="152280"/>
            <a:ext cx="2057400" cy="15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3T14:21:56Z</dcterms:created>
  <dc:creator>幻灯片之家：www.eeppt.com</dc:creator>
  <dc:description>幻灯片之家：www.eeppt.com</dc:description>
  <cp:keywords>幻灯片之家：www.eeppt.com</cp:keywords>
  <dc:language>en-US</dc:language>
  <cp:lastModifiedBy/>
  <dcterms:modified xsi:type="dcterms:W3CDTF">2015-09-18T13:17:28Z</dcterms:modified>
  <cp:revision>5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