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944-C971-43E1-9003-56E51469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3C0-6353-45B9-8385-8084499B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278-575A-48E1-8E6C-B19459BC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CD2-544E-4F3B-B1A7-2DF73026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B400-EF8A-4C23-AE9A-97817C50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0DE4-790B-4AAD-967D-64B047FD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813C-B742-41E8-8CDB-53F116A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87FF-B1E3-4F10-B91E-AAA5F8B0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681-0181-43CB-B9F6-06135E2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8303-5920-40ED-B0DC-9CE3AEB5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8519-0BB0-42F0-821E-3E19772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E19-6057-4E75-B649-69F186E6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F3D5-1AE9-47D5-B39D-8271C97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3933-9DD7-43D0-920E-FC376CCD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000E-1696-4835-96A3-3CA73684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34BD-BB87-475E-85B7-F9D126ED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4BE0-1A33-4FDC-AD3C-B24140D8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29B-E007-43CB-AFCF-2995CCBF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62D-08BB-429E-89E1-8676B1BD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315-069B-4ECD-ADBE-01C1681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11B-F585-4DCB-8F6A-7F7AEB31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178-9AAD-457D-BBFA-BB16852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FCD-DF5C-4C35-96FB-071EDEF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71A-36AA-4EDE-B64D-D87C611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BE7C-C3CB-4AFB-B207-2116233BA4C3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DEE-4A5E-4D3E-ADDC-DF8BAC4F1EF0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36232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486c"/>
                </a:solidFill>
                <a:latin typeface="Impact"/>
              </a:rPr>
              <a:t>GOLF SEASON</a:t>
            </a:r>
            <a:endParaRPr b="0" lang="en-US" sz="6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342900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86c"/>
                </a:solidFill>
                <a:latin typeface="Impact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0600" y="10666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画高尔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86c"/>
                </a:solidFill>
                <a:latin typeface="Impact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70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2819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486c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70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486c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5A7-079A-40D7-A982-8CE63C3536CE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4940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0942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6944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2946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5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4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