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37B-FEDF-404B-BB6E-ACC67B20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938-533F-4530-912B-D2859D5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1C5-004C-4C50-ABA4-62054892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39C-EF8F-4EF1-95C1-ADAB22E0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7FC-5F09-413C-9809-EF7C3B5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194-B902-45EA-84E5-11114F6E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2BB-9D37-46ED-9249-8B6A5927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6FC-9CF1-4D6B-AEEA-30BD8EB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F88-7AA3-4CB7-A52A-B1F35033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053-F6F4-4744-B044-B44D066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757-BAAF-4511-B159-F766D5C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E11-5869-4B23-8470-0D8A797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5AE-EE00-4968-A2BF-C855A6B8F1F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1C9E-13FA-429E-BADF-2EB21EF0F0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148360" y="609300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98800" y="260280"/>
            <a:ext cx="56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哆啦</a:t>
            </a:r>
            <a:r>
              <a:rPr b="1" lang="en-US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a</a:t>
            </a:r>
            <a:r>
              <a:rPr b="1" lang="zh-CN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梦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68360" y="33577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672-D800-4707-A8EF-75165FA46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