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4BD-487A-4288-B5F2-E1E9BEFB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35C-DA53-4131-8DA9-E5DD77C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5E1-A8EF-40D8-8104-D544BAF3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071-426E-409C-9C5D-8DB2051C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0F3F-C82A-48AA-BCE0-32EAF55C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CB2-49F1-43D1-AA2A-970E1D4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E3D-2028-4813-ABC9-787FE56B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96C-10B3-42F9-B611-8A0AC38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5DB-8913-4C91-9C95-7E13478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4D41-7FDB-46D6-B318-5C4CABC8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57B8-BDDD-4C28-9E6B-06C847A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B0F-6C41-436F-94C7-C6D794A9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B6F-91FB-49BC-83AA-6A22C3C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556-AE12-488B-9F45-BF0C44A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1186-3034-42D1-9106-C01D6FD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5015-2085-40C2-A6AE-7F87ED31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E72A-F9E2-4B66-901C-FC318805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0E04-F0CD-4DF8-97A8-415EBD39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A622-5827-48A3-B3BA-72AEE66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4574-12DA-4755-8C99-71956C7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42E7-27E9-44AD-946A-5446A2A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6018-0BD6-4895-989A-ED2B474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13C-2F43-40FF-8BD7-859A6B8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C5E7-1D76-4AFB-A7D5-3BEC7027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AB08-0C8F-4260-9139-D3F31936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148C-C641-4AEC-84A4-8D98B9F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D02B0-A8FE-431E-950D-6142B3A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D08F-BC73-4E48-9B0A-FDDF741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E09A-785F-4E32-AB85-13692652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E3B0-3F44-49FD-B442-BB547093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F62-2842-4AED-83F5-3000FA0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BD9-9F49-4F83-9FDA-BB551B2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2F3-F02C-4735-BB92-070DE22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36B-F2D8-4E62-AB4D-93D02F3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E36-59F0-4481-AFF8-EF96948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6CA-496F-41FD-8AFF-E3B3394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9360"/>
            <a:ext cx="7621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f0f9e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2887400">
            <a:off x="77040" y="357840"/>
            <a:ext cx="1298160" cy="13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19080">
            <a:solidFill>
              <a:srgbClr val="66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457200"/>
            <a:ext cx="1179720" cy="112068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3175800">
            <a:off x="144000" y="407880"/>
            <a:ext cx="1168560" cy="1212840"/>
          </a:xfrm>
          <a:prstGeom prst="blockArc">
            <a:avLst>
              <a:gd name="adj1" fmla="val 17510097"/>
              <a:gd name="adj2" fmla="val 14889903"/>
              <a:gd name="adj3" fmla="val 16231"/>
            </a:avLst>
          </a:prstGeom>
          <a:gradFill rotWithShape="0">
            <a:gsLst>
              <a:gs pos="0">
                <a:srgbClr val="75cbc7"/>
              </a:gs>
              <a:gs pos="100000">
                <a:srgbClr val="f5fafa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C47-E648-434D-9F90-66704043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9360"/>
            <a:ext cx="46483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ed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8BAC-FDF4-46EC-B0DF-51520D807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51040" y="2049480"/>
            <a:ext cx="3745080" cy="373536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175800">
            <a:off x="2644920" y="2033640"/>
            <a:ext cx="3760920" cy="3776400"/>
          </a:xfrm>
          <a:prstGeom prst="blockArc">
            <a:avLst>
              <a:gd name="adj1" fmla="val 18013252"/>
              <a:gd name="adj2" fmla="val 14386748"/>
              <a:gd name="adj3" fmla="val 15097"/>
            </a:avLst>
          </a:prstGeom>
          <a:gradFill rotWithShape="0">
            <a:gsLst>
              <a:gs pos="0">
                <a:srgbClr val="75cbc7"/>
              </a:gs>
              <a:gs pos="100000">
                <a:srgbClr val="f1f9f8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2887400">
            <a:off x="2466000" y="1882080"/>
            <a:ext cx="4128120" cy="409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76D-824A-45E0-B483-338BB94DF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淡绿色医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5c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9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9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95200"/>
              </a:gs>
              <a:gs pos="50000">
                <a:srgbClr val="ff9900"/>
              </a:gs>
              <a:gs pos="100000">
                <a:srgbClr val="895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ff9900">
                  <a:alpha val="0"/>
                </a:srgbClr>
              </a:gs>
              <a:gs pos="100000">
                <a:srgbClr val="a16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0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5cbc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55d5b"/>
              </a:gs>
              <a:gs pos="100000">
                <a:srgbClr val="75cbc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f6d6b"/>
              </a:gs>
              <a:gs pos="50000">
                <a:srgbClr val="75cbc7"/>
              </a:gs>
              <a:gs pos="100000">
                <a:srgbClr val="3f6d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5cbc7">
                  <a:alpha val="0"/>
                </a:srgbClr>
              </a:gs>
              <a:gs pos="100000">
                <a:srgbClr val="4a807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1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2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23880" y="1600200"/>
            <a:ext cx="5410080" cy="4873320"/>
            <a:chOff x="1523880" y="1600200"/>
            <a:chExt cx="5410080" cy="4873320"/>
          </a:xfrm>
        </p:grpSpPr>
        <p:sp>
          <p:nvSpPr>
            <p:cNvPr id="333" name=""/>
            <p:cNvSpPr/>
            <p:nvPr/>
          </p:nvSpPr>
          <p:spPr>
            <a:xfrm rot="13770000">
              <a:off x="4694040" y="3958920"/>
              <a:ext cx="928800" cy="1857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8b8b8"/>
                </a:gs>
                <a:gs pos="100000">
                  <a:srgbClr val="777777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856000">
              <a:off x="2761920" y="3524760"/>
              <a:ext cx="980280" cy="166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cbcbc"/>
                </a:gs>
                <a:gs pos="100000">
                  <a:srgbClr val="777777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394200">
              <a:off x="4815360" y="2461320"/>
              <a:ext cx="577440" cy="1288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d5d5d5"/>
                </a:gs>
                <a:gs pos="100000">
                  <a:srgbClr val="777777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674880" y="2498040"/>
              <a:ext cx="1564200" cy="1539720"/>
              <a:chOff x="3674880" y="2498040"/>
              <a:chExt cx="1564200" cy="15397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3674880" y="2498040"/>
                <a:ext cx="1564200" cy="1539720"/>
                <a:chOff x="3674880" y="2498040"/>
                <a:chExt cx="1564200" cy="15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74880" y="2498040"/>
                  <a:ext cx="1564200" cy="15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d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3853440" y="2523600"/>
                  <a:ext cx="1206720" cy="581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3739320" y="31672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035320" y="1600200"/>
              <a:ext cx="909360" cy="834120"/>
              <a:chOff x="5035320" y="1600200"/>
              <a:chExt cx="909360" cy="834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043960" y="1600200"/>
                <a:ext cx="847080" cy="834120"/>
                <a:chOff x="5043960" y="1600200"/>
                <a:chExt cx="847080" cy="834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043960" y="1600200"/>
                  <a:ext cx="847080" cy="83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cbc7"/>
                    </a:gs>
                    <a:gs pos="100000">
                      <a:srgbClr val="1c31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5140800" y="1613880"/>
                  <a:ext cx="653400" cy="314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cb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5035320" y="19206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523880" y="2819160"/>
              <a:ext cx="1694520" cy="1732320"/>
              <a:chOff x="1523880" y="2819160"/>
              <a:chExt cx="1694520" cy="17323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523880" y="2819160"/>
                <a:ext cx="1694520" cy="1732320"/>
                <a:chOff x="1523880" y="2819160"/>
                <a:chExt cx="1694520" cy="17323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23880" y="2819160"/>
                  <a:ext cx="1694520" cy="173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4d88a"/>
                    </a:gs>
                    <a:gs pos="100000">
                      <a:srgbClr val="7c88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未知"/>
                <p:cNvSpPr/>
                <p:nvPr/>
              </p:nvSpPr>
              <p:spPr>
                <a:xfrm>
                  <a:off x="1717560" y="2847600"/>
                  <a:ext cx="1307160" cy="65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4d8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593720" y="358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978440" y="4102200"/>
              <a:ext cx="1955520" cy="1924560"/>
              <a:chOff x="4978440" y="4102200"/>
              <a:chExt cx="1955520" cy="19245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4978440" y="4102200"/>
                <a:ext cx="1955520" cy="1924560"/>
                <a:chOff x="4978440" y="4102200"/>
                <a:chExt cx="1955520" cy="19245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978440" y="4102200"/>
                  <a:ext cx="1955520" cy="192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33"/>
                    </a:gs>
                    <a:gs pos="100000">
                      <a:srgbClr val="3434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>
                  <a:off x="5202000" y="4133880"/>
                  <a:ext cx="1508400" cy="726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66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5234760" y="4935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19360" y="461556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0f9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05200" y="4041000"/>
              <a:ext cx="13784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04600" y="602712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74280" y="2498040"/>
              <a:ext cx="631440" cy="2232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69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72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75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78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81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84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f2f17"/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8080" y="4834080"/>
            <a:ext cx="2019240" cy="67464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ea5d0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371600" y="1905120"/>
            <a:ext cx="2019240" cy="3605040"/>
            <a:chOff x="1371600" y="1905120"/>
            <a:chExt cx="2019240" cy="3605040"/>
          </a:xfrm>
        </p:grpSpPr>
        <p:sp>
          <p:nvSpPr>
            <p:cNvPr id="405" name=""/>
            <p:cNvSpPr/>
            <p:nvPr/>
          </p:nvSpPr>
          <p:spPr>
            <a:xfrm>
              <a:off x="1371600" y="2189160"/>
              <a:ext cx="2019240" cy="264492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4920"/>
                <a:gd name="textAreaBottom" fmla="*/ 2541600 h 2644920"/>
              </a:gdLst>
              <a:ahLst/>
              <a:rect l="textAreaLeft" t="textAreaTop" r="textAreaRight" b="textAreaBottom"/>
              <a:pathLst>
                <a:path w="21600" h="28292">
                  <a:moveTo>
                    <a:pt x="3782" y="0"/>
                  </a:moveTo>
                  <a:arcTo wR="3782" hR="3782" stAng="16200000" swAng="-5400000"/>
                  <a:lnTo>
                    <a:pt x="0" y="24510"/>
                  </a:lnTo>
                  <a:arcTo wR="3782" hR="3782" stAng="10800000" swAng="-5400000"/>
                  <a:lnTo>
                    <a:pt x="17818" y="2829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3280" y="2197080"/>
              <a:ext cx="1957320" cy="259416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4160"/>
                <a:gd name="textAreaBottom" fmla="*/ 2498760 h 2594160"/>
              </a:gdLst>
              <a:ahLst/>
              <a:rect l="textAreaLeft" t="textAreaTop" r="textAreaRight" b="textAreaBottom"/>
              <a:pathLst>
                <a:path w="21600" h="28627">
                  <a:moveTo>
                    <a:pt x="3600" y="0"/>
                  </a:moveTo>
                  <a:arcTo wR="3600" hR="3600" stAng="16200000" swAng="-5400000"/>
                  <a:lnTo>
                    <a:pt x="0" y="25027"/>
                  </a:lnTo>
                  <a:arcTo wR="3600" hR="3600" stAng="10800000" swAng="-5400000"/>
                  <a:lnTo>
                    <a:pt x="18000" y="28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19120" y="4106880"/>
              <a:ext cx="193212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ed8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19120" y="221796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19120" y="4854600"/>
              <a:ext cx="193212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ace7f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065320" y="1905120"/>
              <a:ext cx="601560" cy="593640"/>
              <a:chOff x="2065320" y="1905120"/>
              <a:chExt cx="601560" cy="593640"/>
            </a:xfrm>
          </p:grpSpPr>
          <p:sp>
            <p:nvSpPr>
              <p:cNvPr id="411" name=""/>
              <p:cNvSpPr/>
              <p:nvPr/>
            </p:nvSpPr>
            <p:spPr>
              <a:xfrm>
                <a:off x="20653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714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786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0851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64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862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42880" y="26100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76600" y="1905120"/>
            <a:ext cx="2049480" cy="3590280"/>
            <a:chOff x="3576600" y="1905120"/>
            <a:chExt cx="2049480" cy="3590280"/>
          </a:xfrm>
        </p:grpSpPr>
        <p:sp>
          <p:nvSpPr>
            <p:cNvPr id="419" name=""/>
            <p:cNvSpPr/>
            <p:nvPr/>
          </p:nvSpPr>
          <p:spPr>
            <a:xfrm>
              <a:off x="3576600" y="2188800"/>
              <a:ext cx="2021040" cy="2641320"/>
            </a:xfrm>
            <a:custGeom>
              <a:avLst/>
              <a:gdLst>
                <a:gd name="textAreaLeft" fmla="*/ 103320 w 2021040"/>
                <a:gd name="textAreaRight" fmla="*/ 1917720 w 2021040"/>
                <a:gd name="textAreaTop" fmla="*/ 103320 h 2641320"/>
                <a:gd name="textAreaBottom" fmla="*/ 2538000 h 2641320"/>
              </a:gdLst>
              <a:ahLst/>
              <a:rect l="textAreaLeft" t="textAreaTop" r="textAreaRight" b="textAreaBottom"/>
              <a:pathLst>
                <a:path w="21600" h="28228">
                  <a:moveTo>
                    <a:pt x="3782" y="0"/>
                  </a:moveTo>
                  <a:arcTo wR="3782" hR="3782" stAng="16200000" swAng="-5400000"/>
                  <a:lnTo>
                    <a:pt x="0" y="24446"/>
                  </a:lnTo>
                  <a:arcTo wR="3782" hR="3782" stAng="10800000" swAng="-5400000"/>
                  <a:lnTo>
                    <a:pt x="17818" y="282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08280" y="2196720"/>
              <a:ext cx="1959120" cy="2590560"/>
            </a:xfrm>
            <a:custGeom>
              <a:avLst/>
              <a:gdLst>
                <a:gd name="textAreaLeft" fmla="*/ 95400 w 1959120"/>
                <a:gd name="textAreaRight" fmla="*/ 1863720 w 1959120"/>
                <a:gd name="textAreaTop" fmla="*/ 95400 h 2590560"/>
                <a:gd name="textAreaBottom" fmla="*/ 2495160 h 2590560"/>
              </a:gdLst>
              <a:ahLst/>
              <a:rect l="textAreaLeft" t="textAreaTop" r="textAreaRight" b="textAreaBottom"/>
              <a:pathLst>
                <a:path w="21600" h="28561">
                  <a:moveTo>
                    <a:pt x="3600" y="0"/>
                  </a:moveTo>
                  <a:arcTo wR="3600" hR="3600" stAng="16200000" swAng="-5400000"/>
                  <a:lnTo>
                    <a:pt x="0" y="24961"/>
                  </a:lnTo>
                  <a:arcTo wR="3600" hR="3600" stAng="10800000" swAng="-5400000"/>
                  <a:lnTo>
                    <a:pt x="18000" y="28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8ea91"/>
                </a:gs>
                <a:gs pos="100000">
                  <a:srgbClr val="21d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24120" y="4105080"/>
              <a:ext cx="193356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8ea91">
                    <a:alpha val="0"/>
                  </a:srgbClr>
                </a:gs>
                <a:gs pos="100000">
                  <a:srgbClr val="95eb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24120" y="2217600"/>
              <a:ext cx="1933560" cy="65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f7d9"/>
                </a:gs>
                <a:gs pos="100000">
                  <a:srgbClr val="88ea9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271760" y="1905120"/>
              <a:ext cx="600120" cy="593280"/>
              <a:chOff x="4271760" y="1905120"/>
              <a:chExt cx="600120" cy="593280"/>
            </a:xfrm>
          </p:grpSpPr>
          <p:sp>
            <p:nvSpPr>
              <p:cNvPr id="424" name=""/>
              <p:cNvSpPr/>
              <p:nvPr/>
            </p:nvSpPr>
            <p:spPr>
              <a:xfrm>
                <a:off x="4271760" y="1905120"/>
                <a:ext cx="600120" cy="593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77880" y="1909440"/>
                <a:ext cx="580320" cy="574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85080" y="1913040"/>
                <a:ext cx="567000" cy="56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91200" y="1918080"/>
                <a:ext cx="538920" cy="523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22880" y="1932480"/>
                <a:ext cx="478800" cy="425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391280" y="199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47880" y="260964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06840" y="4819320"/>
              <a:ext cx="2019240" cy="674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2e26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47880" y="4840200"/>
              <a:ext cx="1932120" cy="65520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cb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783400" y="1905120"/>
            <a:ext cx="2027160" cy="3598920"/>
            <a:chOff x="5783400" y="1905120"/>
            <a:chExt cx="2027160" cy="3598920"/>
          </a:xfrm>
        </p:grpSpPr>
        <p:sp>
          <p:nvSpPr>
            <p:cNvPr id="434" name=""/>
            <p:cNvSpPr/>
            <p:nvPr/>
          </p:nvSpPr>
          <p:spPr>
            <a:xfrm>
              <a:off x="5783400" y="2189160"/>
              <a:ext cx="2019240" cy="264168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1680"/>
                <a:gd name="textAreaBottom" fmla="*/ 2538360 h 2641680"/>
              </a:gdLst>
              <a:ahLst/>
              <a:rect l="textAreaLeft" t="textAreaTop" r="textAreaRight" b="textAreaBottom"/>
              <a:pathLst>
                <a:path w="21600" h="28257">
                  <a:moveTo>
                    <a:pt x="3782" y="0"/>
                  </a:moveTo>
                  <a:arcTo wR="3782" hR="3782" stAng="16200000" swAng="-5400000"/>
                  <a:lnTo>
                    <a:pt x="0" y="24475"/>
                  </a:lnTo>
                  <a:arcTo wR="3782" hR="3782" stAng="10800000" swAng="-5400000"/>
                  <a:lnTo>
                    <a:pt x="17818" y="282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15080" y="2197080"/>
              <a:ext cx="1957320" cy="259092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0920"/>
                <a:gd name="textAreaBottom" fmla="*/ 2495520 h 2590920"/>
              </a:gdLst>
              <a:ahLst/>
              <a:rect l="textAreaLeft" t="textAreaTop" r="textAreaRight" b="textAreaBottom"/>
              <a:pathLst>
                <a:path w="21600" h="28591">
                  <a:moveTo>
                    <a:pt x="3600" y="0"/>
                  </a:moveTo>
                  <a:arcTo wR="3600" hR="3600" stAng="16200000" swAng="-5400000"/>
                  <a:lnTo>
                    <a:pt x="0" y="24991"/>
                  </a:lnTo>
                  <a:arcTo wR="3600" hR="3600" stAng="10800000" swAng="-5400000"/>
                  <a:lnTo>
                    <a:pt x="18000" y="28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eaec86"/>
                </a:gs>
                <a:gs pos="100000">
                  <a:srgbClr val="dcc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30920" y="410544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ec86">
                    <a:alpha val="0"/>
                  </a:srgbClr>
                </a:gs>
                <a:gs pos="100000">
                  <a:srgbClr val="ebed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30920" y="2217960"/>
              <a:ext cx="1932120" cy="65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7d5"/>
                </a:gs>
                <a:gs pos="100000">
                  <a:srgbClr val="eaec8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477120" y="1905120"/>
              <a:ext cx="601560" cy="593640"/>
              <a:chOff x="6477120" y="1905120"/>
              <a:chExt cx="601560" cy="593640"/>
            </a:xfrm>
          </p:grpSpPr>
          <p:sp>
            <p:nvSpPr>
              <p:cNvPr id="439" name=""/>
              <p:cNvSpPr/>
              <p:nvPr/>
            </p:nvSpPr>
            <p:spPr>
              <a:xfrm>
                <a:off x="64771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32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904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969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282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65980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53240" y="2610000"/>
              <a:ext cx="1922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1320" y="4827600"/>
              <a:ext cx="2019240" cy="674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d7d45d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32720" y="4848480"/>
              <a:ext cx="193176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fa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528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41200" y="3238560"/>
            <a:ext cx="8664840" cy="142560"/>
            <a:chOff x="241200" y="3238560"/>
            <a:chExt cx="8664840" cy="142560"/>
          </a:xfrm>
        </p:grpSpPr>
        <p:sp>
          <p:nvSpPr>
            <p:cNvPr id="451" name=""/>
            <p:cNvSpPr/>
            <p:nvPr/>
          </p:nvSpPr>
          <p:spPr>
            <a:xfrm>
              <a:off x="241200" y="3238560"/>
              <a:ext cx="8664840" cy="5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200" y="3293280"/>
              <a:ext cx="8664840" cy="878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54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55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58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67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2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3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76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84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89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90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93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9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02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07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08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1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1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20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98360" y="2031840"/>
            <a:ext cx="6056640" cy="407880"/>
            <a:chOff x="1098360" y="2031840"/>
            <a:chExt cx="6056640" cy="407880"/>
          </a:xfrm>
        </p:grpSpPr>
        <p:sp>
          <p:nvSpPr>
            <p:cNvPr id="533" name=""/>
            <p:cNvSpPr/>
            <p:nvPr/>
          </p:nvSpPr>
          <p:spPr>
            <a:xfrm>
              <a:off x="109836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52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8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889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"/>
            <p:cNvCxnSpPr>
              <a:stCxn id="533" idx="3"/>
              <a:endCxn id="534" idx="1"/>
            </p:cNvCxnSpPr>
            <p:nvPr/>
          </p:nvCxnSpPr>
          <p:spPr>
            <a:xfrm>
              <a:off x="1834560" y="225540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8" name=""/>
            <p:cNvCxnSpPr>
              <a:stCxn id="534" idx="3"/>
              <a:endCxn id="535" idx="1"/>
            </p:cNvCxnSpPr>
            <p:nvPr/>
          </p:nvCxnSpPr>
          <p:spPr>
            <a:xfrm>
              <a:off x="3589200" y="225540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9" name=""/>
            <p:cNvCxnSpPr/>
            <p:nvPr/>
          </p:nvCxnSpPr>
          <p:spPr>
            <a:xfrm>
              <a:off x="5335560" y="226008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676520" y="1676520"/>
            <a:ext cx="5715000" cy="1197000"/>
            <a:chOff x="1676520" y="1676520"/>
            <a:chExt cx="5715000" cy="1197000"/>
          </a:xfrm>
        </p:grpSpPr>
        <p:sp>
          <p:nvSpPr>
            <p:cNvPr id="542" name=""/>
            <p:cNvSpPr/>
            <p:nvPr/>
          </p:nvSpPr>
          <p:spPr>
            <a:xfrm>
              <a:off x="1676520" y="167652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1801080" y="1786320"/>
              <a:ext cx="1101240" cy="978840"/>
              <a:chOff x="1801080" y="1786320"/>
              <a:chExt cx="1101240" cy="978840"/>
            </a:xfrm>
          </p:grpSpPr>
          <p:sp>
            <p:nvSpPr>
              <p:cNvPr id="544" name=""/>
              <p:cNvSpPr/>
              <p:nvPr/>
            </p:nvSpPr>
            <p:spPr>
              <a:xfrm>
                <a:off x="1801080" y="178632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5cbc7"/>
                  </a:gs>
                  <a:gs pos="100000">
                    <a:srgbClr val="518d8a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1869840" y="184932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e1df"/>
                  </a:gs>
                  <a:gs pos="50000">
                    <a:srgbClr val="75cbc7">
                      <a:alpha val="0"/>
                    </a:srgbClr>
                  </a:gs>
                  <a:gs pos="100000">
                    <a:srgbClr val="b3e1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13760" y="2052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3052080" y="186264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676520" y="3124080"/>
            <a:ext cx="5715000" cy="1197000"/>
            <a:chOff x="1676520" y="3124080"/>
            <a:chExt cx="5715000" cy="1197000"/>
          </a:xfrm>
        </p:grpSpPr>
        <p:sp>
          <p:nvSpPr>
            <p:cNvPr id="549" name=""/>
            <p:cNvSpPr/>
            <p:nvPr/>
          </p:nvSpPr>
          <p:spPr>
            <a:xfrm>
              <a:off x="1676520" y="312408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801080" y="3233880"/>
              <a:ext cx="1101240" cy="978840"/>
              <a:chOff x="1801080" y="3233880"/>
              <a:chExt cx="1101240" cy="978840"/>
            </a:xfrm>
          </p:grpSpPr>
          <p:sp>
            <p:nvSpPr>
              <p:cNvPr id="551" name=""/>
              <p:cNvSpPr/>
              <p:nvPr/>
            </p:nvSpPr>
            <p:spPr>
              <a:xfrm>
                <a:off x="1801080" y="323388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8f6a"/>
                  </a:gs>
                  <a:gs pos="100000">
                    <a:srgbClr val="666633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1869840" y="329688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33">
                      <a:alpha val="0"/>
                    </a:srgbClr>
                  </a:gs>
                  <a:gs pos="100000">
                    <a:srgbClr val="bdbd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13760" y="3501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3052080" y="328788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676520" y="4664160"/>
            <a:ext cx="5715000" cy="1197000"/>
            <a:chOff x="1676520" y="4664160"/>
            <a:chExt cx="5715000" cy="1197000"/>
          </a:xfrm>
        </p:grpSpPr>
        <p:sp>
          <p:nvSpPr>
            <p:cNvPr id="556" name=""/>
            <p:cNvSpPr/>
            <p:nvPr/>
          </p:nvSpPr>
          <p:spPr>
            <a:xfrm>
              <a:off x="1676520" y="466416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801080" y="4773960"/>
              <a:ext cx="1101240" cy="978840"/>
              <a:chOff x="1801080" y="4773960"/>
              <a:chExt cx="1101240" cy="978840"/>
            </a:xfrm>
          </p:grpSpPr>
          <p:sp>
            <p:nvSpPr>
              <p:cNvPr id="558" name=""/>
              <p:cNvSpPr/>
              <p:nvPr/>
            </p:nvSpPr>
            <p:spPr>
              <a:xfrm>
                <a:off x="1801080" y="477396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ebd5c"/>
                  </a:gs>
                  <a:gs pos="100000">
                    <a:srgbClr val="ff9900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1869840" y="483696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>
                      <a:alpha val="0"/>
                    </a:srgbClr>
                  </a:gs>
                  <a:gs pos="100000">
                    <a:srgbClr val="fecc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13760" y="50414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052080" y="482796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3256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3696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154320" y="32814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508760" y="1711080"/>
            <a:ext cx="6214680" cy="1324080"/>
            <a:chOff x="1508760" y="1711080"/>
            <a:chExt cx="6214680" cy="1324080"/>
          </a:xfrm>
        </p:grpSpPr>
        <p:sp>
          <p:nvSpPr>
            <p:cNvPr id="568" name=""/>
            <p:cNvSpPr/>
            <p:nvPr/>
          </p:nvSpPr>
          <p:spPr>
            <a:xfrm rot="3418800">
              <a:off x="171684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639520" y="2092320"/>
              <a:ext cx="901080" cy="124200"/>
              <a:chOff x="2639520" y="2092320"/>
              <a:chExt cx="901080" cy="124200"/>
            </a:xfrm>
          </p:grpSpPr>
          <p:sp>
            <p:nvSpPr>
              <p:cNvPr id="570" name=""/>
              <p:cNvSpPr/>
              <p:nvPr/>
            </p:nvSpPr>
            <p:spPr>
              <a:xfrm>
                <a:off x="26395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72592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041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7688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rot="3418800">
              <a:off x="33814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4304160" y="2092320"/>
              <a:ext cx="901080" cy="124200"/>
              <a:chOff x="4304160" y="2092320"/>
              <a:chExt cx="901080" cy="124200"/>
            </a:xfrm>
          </p:grpSpPr>
          <p:sp>
            <p:nvSpPr>
              <p:cNvPr id="576" name=""/>
              <p:cNvSpPr/>
              <p:nvPr/>
            </p:nvSpPr>
            <p:spPr>
              <a:xfrm>
                <a:off x="430416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9056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6880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4152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rot="3418800">
              <a:off x="4976640" y="18561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5968800" y="2092320"/>
              <a:ext cx="1178280" cy="124200"/>
              <a:chOff x="5968800" y="2092320"/>
              <a:chExt cx="1178280" cy="124200"/>
            </a:xfrm>
          </p:grpSpPr>
          <p:sp>
            <p:nvSpPr>
              <p:cNvPr id="582" name=""/>
              <p:cNvSpPr/>
              <p:nvPr/>
            </p:nvSpPr>
            <p:spPr>
              <a:xfrm>
                <a:off x="596880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81840" y="209304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6852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06392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 rot="3418800">
              <a:off x="66412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8234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5190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652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608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298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236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192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1452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711440" y="2271600"/>
          <a:ext cx="6400800" cy="2971800"/>
        </p:xfrm>
        <a:graphic>
          <a:graphicData uri="http://schemas.openxmlformats.org/drawingml/2006/table">
            <a:tbl>
              <a:tblPr/>
              <a:tblGrid>
                <a:gridCol w="1442880"/>
                <a:gridCol w="1009800"/>
                <a:gridCol w="985680"/>
                <a:gridCol w="986040"/>
                <a:gridCol w="988920"/>
                <a:gridCol w="98748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133280" y="1405080"/>
            <a:ext cx="6701040" cy="4630680"/>
            <a:chOff x="1133280" y="1405080"/>
            <a:chExt cx="6701040" cy="4630680"/>
          </a:xfrm>
        </p:grpSpPr>
        <p:sp>
          <p:nvSpPr>
            <p:cNvPr id="599" name=""/>
            <p:cNvSpPr/>
            <p:nvPr/>
          </p:nvSpPr>
          <p:spPr>
            <a:xfrm>
              <a:off x="2189160" y="4453920"/>
              <a:ext cx="5205240" cy="1184400"/>
            </a:xfrm>
            <a:prstGeom prst="ellipse">
              <a:avLst/>
            </a:prstGeom>
            <a:solidFill>
              <a:srgbClr val="777777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1458360" y="239832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601600">
              <a:off x="1514160" y="224316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01600">
              <a:off x="1429200" y="223632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20602200">
              <a:off x="1410480" y="225180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01600">
              <a:off x="1436400" y="224388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rot="20602200">
              <a:off x="1418040" y="224100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01600">
              <a:off x="2939400" y="292788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61160" y="3141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20200" y="2264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7480" y="270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6181560" y="321444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539200">
              <a:off x="1438200" y="226476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522320" y="367596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57480" y="365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47120" y="4383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88440" y="4237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0601600">
              <a:off x="3038400" y="3170160"/>
              <a:ext cx="2523240" cy="1045800"/>
            </a:xfrm>
            <a:prstGeom prst="ellipse">
              <a:avLst/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694400" y="405504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599840" y="1752480"/>
            <a:ext cx="3747960" cy="3874680"/>
            <a:chOff x="1599840" y="1752480"/>
            <a:chExt cx="3747960" cy="3874680"/>
          </a:xfrm>
        </p:grpSpPr>
        <p:sp>
          <p:nvSpPr>
            <p:cNvPr id="621" name=""/>
            <p:cNvSpPr/>
            <p:nvPr/>
          </p:nvSpPr>
          <p:spPr>
            <a:xfrm flipH="1">
              <a:off x="1599840" y="5626080"/>
              <a:ext cx="16606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599840" y="4845600"/>
              <a:ext cx="21423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600200" y="4035960"/>
              <a:ext cx="25164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600200" y="3238560"/>
              <a:ext cx="29448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00200" y="2436840"/>
              <a:ext cx="33724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599840" y="1752480"/>
              <a:ext cx="37479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13320" y="1752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13320" y="243684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13320" y="324612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13320" y="405576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13320" y="4865400"/>
              <a:ext cx="144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65520" y="194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520" y="2734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6552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520" y="4317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552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348000" y="1752480"/>
            <a:ext cx="4549320" cy="3878280"/>
            <a:chOff x="3348000" y="1752480"/>
            <a:chExt cx="4549320" cy="3878280"/>
          </a:xfrm>
        </p:grpSpPr>
        <p:sp>
          <p:nvSpPr>
            <p:cNvPr id="638" name="未知"/>
            <p:cNvSpPr/>
            <p:nvPr/>
          </p:nvSpPr>
          <p:spPr>
            <a:xfrm>
              <a:off x="7095240" y="4440240"/>
              <a:ext cx="802080" cy="11887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3711240" y="4440240"/>
              <a:ext cx="3738960" cy="506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3348000" y="4944600"/>
              <a:ext cx="4127400" cy="686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6676200" y="3767760"/>
              <a:ext cx="70920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4136400" y="3767760"/>
              <a:ext cx="2808720" cy="3790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3780720" y="414540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6257160" y="3102120"/>
              <a:ext cx="620640" cy="9349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4558680" y="3102120"/>
              <a:ext cx="187524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4197600" y="3353040"/>
              <a:ext cx="2426400" cy="68364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5833440" y="2426400"/>
              <a:ext cx="534240" cy="81396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4988520" y="2426400"/>
              <a:ext cx="935640" cy="12204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4620240" y="2547000"/>
              <a:ext cx="1580040" cy="69300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5406480" y="1752480"/>
              <a:ext cx="45144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5040360" y="1752480"/>
              <a:ext cx="73260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46920" y="2118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46920" y="2845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46920" y="3634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6920" y="4425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133720" y="2133720"/>
            <a:ext cx="4724280" cy="685800"/>
            <a:chOff x="2133720" y="2133720"/>
            <a:chExt cx="4724280" cy="685800"/>
          </a:xfrm>
        </p:grpSpPr>
        <p:sp>
          <p:nvSpPr>
            <p:cNvPr id="141" name=""/>
            <p:cNvSpPr/>
            <p:nvPr/>
          </p:nvSpPr>
          <p:spPr>
            <a:xfrm>
              <a:off x="251460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d88a"/>
                </a:gs>
                <a:gs pos="50000">
                  <a:srgbClr val="f1f5e5"/>
                </a:gs>
                <a:gs pos="100000">
                  <a:srgbClr val="c4d88a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2133720"/>
              <a:ext cx="685800" cy="685800"/>
            </a:xfrm>
            <a:prstGeom prst="diamond">
              <a:avLst/>
            </a:prstGeom>
            <a:solidFill>
              <a:srgbClr val="c4d88a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4320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960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133720" y="2971800"/>
            <a:ext cx="4724280" cy="685800"/>
            <a:chOff x="2133720" y="2971800"/>
            <a:chExt cx="4724280" cy="685800"/>
          </a:xfrm>
        </p:grpSpPr>
        <p:sp>
          <p:nvSpPr>
            <p:cNvPr id="146" name=""/>
            <p:cNvSpPr/>
            <p:nvPr/>
          </p:nvSpPr>
          <p:spPr>
            <a:xfrm>
              <a:off x="251460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cbc7"/>
                </a:gs>
                <a:gs pos="50000">
                  <a:srgbClr val="e0f3f2"/>
                </a:gs>
                <a:gs pos="100000">
                  <a:srgbClr val="75cbc7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2971800"/>
              <a:ext cx="685800" cy="685800"/>
            </a:xfrm>
            <a:prstGeom prst="diamond">
              <a:avLst/>
            </a:prstGeom>
            <a:solidFill>
              <a:srgbClr val="75cbc7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960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33720" y="3809880"/>
            <a:ext cx="4724280" cy="685800"/>
            <a:chOff x="2133720" y="3809880"/>
            <a:chExt cx="4724280" cy="685800"/>
          </a:xfrm>
        </p:grpSpPr>
        <p:sp>
          <p:nvSpPr>
            <p:cNvPr id="151" name=""/>
            <p:cNvSpPr/>
            <p:nvPr/>
          </p:nvSpPr>
          <p:spPr>
            <a:xfrm>
              <a:off x="25146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33"/>
                </a:gs>
                <a:gs pos="50000">
                  <a:srgbClr val="ddddd2"/>
                </a:gs>
                <a:gs pos="100000">
                  <a:srgbClr val="666633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3809880"/>
              <a:ext cx="685800" cy="685800"/>
            </a:xfrm>
            <a:prstGeom prst="diamond">
              <a:avLst/>
            </a:prstGeom>
            <a:solidFill>
              <a:srgbClr val="666633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9600" y="39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33720" y="4724280"/>
            <a:ext cx="4724280" cy="685800"/>
            <a:chOff x="2133720" y="4724280"/>
            <a:chExt cx="4724280" cy="685800"/>
          </a:xfrm>
        </p:grpSpPr>
        <p:sp>
          <p:nvSpPr>
            <p:cNvPr id="156" name=""/>
            <p:cNvSpPr/>
            <p:nvPr/>
          </p:nvSpPr>
          <p:spPr>
            <a:xfrm>
              <a:off x="251460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33720" y="472428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960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66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6D6-0819-42B4-9E55-0BF9D7613E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209680" y="342900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5cbc7"/>
                    </a:gs>
                    <a:gs pos="100000">
                      <a:srgbClr val="666633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5cbc7"/>
                  </a:gs>
                  <a:gs pos="100000">
                    <a:srgbClr val="666633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590840"/>
            <a:ext cx="725976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e5b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cdbd"/>
              </a:gs>
              <a:gs pos="100000">
                <a:srgbClr val="66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69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70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3118"/>
                  </a:gs>
                  <a:gs pos="100000">
                    <a:srgbClr val="6666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33"/>
                  </a:gs>
                  <a:gs pos="100000">
                    <a:srgbClr val="babaa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bea"/>
                </a:gs>
                <a:gs pos="100000">
                  <a:srgbClr val="75cbc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48235"/>
                  </a:srgbClr>
                </a:gs>
                <a:gs pos="100000">
                  <a:srgbClr val="5ca0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5d5d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323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243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4d88a"/>
                </a:gs>
                <a:gs pos="100000">
                  <a:srgbClr val="454c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2a2a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73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63636">
                    <a:alpha val="12156"/>
                  </a:srgbClr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6363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a7a7a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7a7a7">
                    <a:alpha val="12156"/>
                  </a:srgbClr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1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19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663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361b"/>
                  </a:gs>
                  <a:gs pos="50000">
                    <a:srgbClr val="666633"/>
                  </a:gs>
                  <a:gs pos="100000">
                    <a:srgbClr val="3636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9e3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0f9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57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633f"/>
                </a:gs>
                <a:gs pos="50000">
                  <a:srgbClr val="c4d88a"/>
                </a:gs>
                <a:gs pos="100000">
                  <a:srgbClr val="5a6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c4d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75c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d9c63"/>
                </a:gs>
                <a:gs pos="50000">
                  <a:srgbClr val="c4d88a"/>
                </a:gs>
                <a:gs pos="100000">
                  <a:srgbClr val="8d9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4924"/>
                </a:gs>
                <a:gs pos="50000">
                  <a:srgbClr val="666633"/>
                </a:gs>
                <a:gs pos="100000">
                  <a:srgbClr val="4949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b86e00"/>
                </a:gs>
                <a:gs pos="50000">
                  <a:srgbClr val="ff9900"/>
                </a:gs>
                <a:gs pos="100000">
                  <a:srgbClr val="b8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54928f"/>
                </a:gs>
                <a:gs pos="50000">
                  <a:srgbClr val="75cbc7"/>
                </a:gs>
                <a:gs pos="100000">
                  <a:srgbClr val="5492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5073480" y="1523880"/>
            <a:ext cx="1467000" cy="11559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737345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4320" y="295740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4d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281952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633f"/>
              </a:gs>
              <a:gs pos="50000">
                <a:srgbClr val="c4d88a"/>
              </a:gs>
              <a:gs pos="100000">
                <a:srgbClr val="5a63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333400" y="2895480"/>
            <a:ext cx="73080" cy="1447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742560" y="2886120"/>
            <a:ext cx="71640" cy="14436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34240" y="245592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9880" y="2313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2f17"/>
              </a:gs>
              <a:gs pos="50000">
                <a:srgbClr val="666633"/>
              </a:gs>
              <a:gs pos="100000">
                <a:srgbClr val="2f2f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835040" y="2384280"/>
            <a:ext cx="7164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253200" y="2384280"/>
            <a:ext cx="7128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2492280" y="2025720"/>
            <a:ext cx="1467000" cy="11570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c36b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13200" y="27907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f9e3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27800" y="22953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14400" y="3219480"/>
            <a:ext cx="2295360" cy="2903040"/>
            <a:chOff x="914400" y="3219480"/>
            <a:chExt cx="2295360" cy="2903040"/>
          </a:xfrm>
        </p:grpSpPr>
        <p:sp>
          <p:nvSpPr>
            <p:cNvPr id="284" name=""/>
            <p:cNvSpPr/>
            <p:nvPr/>
          </p:nvSpPr>
          <p:spPr>
            <a:xfrm>
              <a:off x="914400" y="3366000"/>
              <a:ext cx="2295360" cy="27565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6520"/>
                <a:gd name="textAreaBottom" fmla="*/ 2725200 h 2756520"/>
              </a:gdLst>
              <a:ahLst/>
              <a:rect l="textAreaLeft" t="textAreaTop" r="textAreaRight" b="textAreaBottom"/>
              <a:pathLst>
                <a:path w="21600" h="25939">
                  <a:moveTo>
                    <a:pt x="1013" y="0"/>
                  </a:moveTo>
                  <a:arcTo wR="1013" hR="1013" stAng="16200000" swAng="-5400000"/>
                  <a:lnTo>
                    <a:pt x="0" y="24926"/>
                  </a:lnTo>
                  <a:arcTo wR="1013" hR="1013" stAng="10800000" swAng="-5400000"/>
                  <a:lnTo>
                    <a:pt x="20587" y="2593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0400" y="3241800"/>
              <a:ext cx="1863720" cy="250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23b00"/>
                </a:gs>
                <a:gs pos="50000">
                  <a:srgbClr val="ff9900"/>
                </a:gs>
                <a:gs pos="100000">
                  <a:srgbClr val="62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813760" y="3303720"/>
              <a:ext cx="7164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231200" y="3303720"/>
              <a:ext cx="7308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8600" y="3219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f9e3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359388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505320" y="319104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29:2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3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