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60F-1427-480E-BECB-29737B99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ECF-C1E7-4719-82A8-C31E62D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884-46B4-403D-8BDC-1F911CF1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EA0-9A23-4902-97DB-0AC1FFD6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4EA-F556-4DA5-816F-47CAA52E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417-82D9-4A4B-92E9-1A295AF4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317-CFCE-4D16-93E8-0408786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378-BE8B-4075-BB75-547542E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17A-D1EA-4117-8806-D8AAD6A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1A6-081A-48FD-AB14-284AABC0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1A3-ECC5-4A4C-964B-00C8D946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49B-29DA-466D-8569-2537451B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4"/>
          <p:cNvSpPr/>
          <p:nvPr/>
        </p:nvSpPr>
        <p:spPr>
          <a:xfrm>
            <a:off x="0" y="-1440"/>
            <a:ext cx="9144000" cy="1742760"/>
          </a:xfrm>
          <a:prstGeom prst="pie">
            <a:avLst/>
          </a:prstGeom>
          <a:gradFill rotWithShape="0">
            <a:gsLst>
              <a:gs pos="0">
                <a:srgbClr val="2041a2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1" name="Rectangle 34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1cae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0" y="-1440"/>
            <a:ext cx="9158400" cy="13507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" name="Group 36"/>
          <p:cNvGrpSpPr/>
          <p:nvPr/>
        </p:nvGrpSpPr>
        <p:grpSpPr>
          <a:xfrm>
            <a:off x="250920" y="5832360"/>
            <a:ext cx="720360" cy="792000"/>
            <a:chOff x="250920" y="5832360"/>
            <a:chExt cx="720360" cy="792000"/>
          </a:xfrm>
        </p:grpSpPr>
        <p:grpSp>
          <p:nvGrpSpPr>
            <p:cNvPr id="6" name="Group 37"/>
            <p:cNvGrpSpPr/>
            <p:nvPr/>
          </p:nvGrpSpPr>
          <p:grpSpPr>
            <a:xfrm>
              <a:off x="250920" y="5832360"/>
              <a:ext cx="720360" cy="771120"/>
              <a:chOff x="250920" y="5832360"/>
              <a:chExt cx="720360" cy="771120"/>
            </a:xfrm>
          </p:grpSpPr>
          <p:sp>
            <p:nvSpPr>
              <p:cNvPr id="7" name="Oval 38"/>
              <p:cNvSpPr/>
              <p:nvPr/>
            </p:nvSpPr>
            <p:spPr>
              <a:xfrm>
                <a:off x="250920" y="6038640"/>
                <a:ext cx="179280" cy="546120"/>
              </a:xfrm>
              <a:prstGeom prst="ellipse">
                <a:avLst/>
              </a:prstGeom>
              <a:solidFill>
                <a:srgbClr val="1cae4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8" name="Oval 39"/>
              <p:cNvSpPr/>
              <p:nvPr/>
            </p:nvSpPr>
            <p:spPr>
              <a:xfrm>
                <a:off x="456120" y="5832360"/>
                <a:ext cx="308880" cy="771120"/>
              </a:xfrm>
              <a:prstGeom prst="ellipse">
                <a:avLst/>
              </a:prstGeom>
              <a:solidFill>
                <a:srgbClr val="9ac763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9" name="Oval 40"/>
              <p:cNvSpPr/>
              <p:nvPr/>
            </p:nvSpPr>
            <p:spPr>
              <a:xfrm>
                <a:off x="792000" y="6038640"/>
                <a:ext cx="179280" cy="546120"/>
              </a:xfrm>
              <a:prstGeom prst="ellipse">
                <a:avLst/>
              </a:prstGeom>
              <a:solidFill>
                <a:srgbClr val="1cae4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0" name="Freeform 41"/>
            <p:cNvSpPr/>
            <p:nvPr/>
          </p:nvSpPr>
          <p:spPr>
            <a:xfrm>
              <a:off x="545760" y="6247440"/>
              <a:ext cx="147960" cy="37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" name="Freeform 42"/>
            <p:cNvSpPr/>
            <p:nvPr/>
          </p:nvSpPr>
          <p:spPr>
            <a:xfrm>
              <a:off x="831600" y="6329880"/>
              <a:ext cx="88200" cy="25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2" name="Freeform 43"/>
            <p:cNvSpPr/>
            <p:nvPr/>
          </p:nvSpPr>
          <p:spPr>
            <a:xfrm>
              <a:off x="311760" y="6378480"/>
              <a:ext cx="65880" cy="21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1" descr=""/>
          <p:cNvPicPr/>
          <p:nvPr/>
        </p:nvPicPr>
        <p:blipFill>
          <a:blip r:embed="rId2"/>
          <a:stretch/>
        </p:blipFill>
        <p:spPr>
          <a:xfrm>
            <a:off x="0" y="4076640"/>
            <a:ext cx="9144000" cy="2808360"/>
          </a:xfrm>
          <a:prstGeom prst="rect">
            <a:avLst/>
          </a:prstGeom>
          <a:ln w="0">
            <a:noFill/>
          </a:ln>
        </p:spPr>
      </p:pic>
      <p:pic>
        <p:nvPicPr>
          <p:cNvPr id="50" name="Object 2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641680"/>
          </a:xfrm>
          <a:prstGeom prst="rect">
            <a:avLst/>
          </a:prstGeom>
          <a:ln w="0">
            <a:noFill/>
          </a:ln>
        </p:spPr>
      </p:pic>
      <p:sp>
        <p:nvSpPr>
          <p:cNvPr id="51" name="Oval 32"/>
          <p:cNvSpPr/>
          <p:nvPr/>
        </p:nvSpPr>
        <p:spPr>
          <a:xfrm>
            <a:off x="7667640" y="438120"/>
            <a:ext cx="1162080" cy="11620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383-0DD4-44BA-93EF-0FE54BFF519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5640" y="1628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179c"/>
                </a:solidFill>
                <a:latin typeface="Arial"/>
              </a:rPr>
              <a:t>大树工作汇报</a:t>
            </a:r>
            <a:r>
              <a:rPr b="0" lang="en-US" sz="4000" spc="-1" strike="noStrike">
                <a:solidFill>
                  <a:srgbClr val="14179c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14179c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14179c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7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8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9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cae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1c378a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5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66ff">
                    <a:alpha val="0"/>
                  </a:srgbClr>
                </a:gs>
                <a:gs pos="100000">
                  <a:srgbClr val="204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6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ffffff"/>
                </a:gs>
                <a:gs pos="100000">
                  <a:srgbClr val="9ac7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8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ac76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9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536c36"/>
                </a:gs>
                <a:gs pos="100000">
                  <a:srgbClr val="9ac7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0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ac763">
                    <a:alpha val="0"/>
                  </a:srgbClr>
                </a:gs>
                <a:gs pos="100000">
                  <a:srgbClr val="627e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72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3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74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75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76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77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cae49"/>
                </a:gs>
                <a:gs pos="50000">
                  <a:srgbClr val="ffffff"/>
                </a:gs>
                <a:gs pos="100000">
                  <a:srgbClr val="1cae4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8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d5122"/>
                </a:gs>
                <a:gs pos="100000">
                  <a:srgbClr val="1cae4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9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cae49"/>
                </a:gs>
                <a:gs pos="50000">
                  <a:srgbClr val="0f5e28"/>
                </a:gs>
                <a:gs pos="100000">
                  <a:srgbClr val="1cae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80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cae49">
                    <a:alpha val="0"/>
                  </a:srgbClr>
                </a:gs>
                <a:gs pos="100000">
                  <a:srgbClr val="126f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82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3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4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5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6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8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9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90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91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92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3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4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96" name="Rectangle 3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7" name="Rectangle 4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99" name="Group 6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00" name="Group 7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01" name="Oval 8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763"/>
                    </a:gs>
                    <a:gs pos="100000">
                      <a:srgbClr val="2530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9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ac7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Text Box 10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1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05" name="Group 12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06" name="Oval 13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ae49"/>
                    </a:gs>
                    <a:gs pos="100000">
                      <a:srgbClr val="072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4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cae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15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6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10" name="Group 17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11" name="Oval 18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7b1b"/>
                    </a:gs>
                    <a:gs pos="100000">
                      <a:srgbClr val="914e1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9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57b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20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1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15" name="Group 22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16" name="Oval 23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1a34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4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Text Box 2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19" name="Oval 26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0" name="Oval 27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5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6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2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6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0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2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ffffff"/>
                </a:gs>
                <a:gs pos="100000">
                  <a:srgbClr val="9ac7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6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ac76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536c36"/>
                </a:gs>
                <a:gs pos="100000">
                  <a:srgbClr val="9ac7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8" name="Oval 2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ac763">
                    <a:alpha val="0"/>
                  </a:srgbClr>
                </a:gs>
                <a:gs pos="100000">
                  <a:srgbClr val="627e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9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35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52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5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5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5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564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4179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179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Group 85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86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0" name="AutoShape 87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1" name="AutoShape 88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2" name="AutoShape 89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3" name="AutoShape 90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4" name="AutoShape 91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365" name="Group 92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93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67" name="Oval 94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68" name="Oval 95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69" name="Oval 96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70" name="Oval 97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71" name="Text Box 98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2" name="Text Box 99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73" name="Group 100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01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5" name="AutoShape 102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6" name="AutoShape 103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7" name="AutoShape 104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3" name="Text Box 110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4" name="Text Box 111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5" name="AutoShape 112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6" name="AutoShape 113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87" name="Group 114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115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9" name="AutoShape 116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0" name="AutoShape 117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1" name="AutoShape 118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392" name="Group 119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3" name="Oval 120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4" name="Oval 121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5" name="Oval 122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6" name="Oval 123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7" name="Oval 124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98" name="Text Box 125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9" name="Text Box 126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400" name="AutoShape 127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401" name="AutoShape 128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3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4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5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06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93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8" name="Group 59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9" name="Group 60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10" name="Freeform 61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62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63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3" name="Freeform 64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65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Group 66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6" name="Oval 67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17" name="Oval 6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18" name="Oval 69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19" name="Oval 70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20" name="Oval 71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Group 72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22" name="Oval 73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4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5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6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Text Box 77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27" name="Text Box 78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94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9" name="Group 41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0" name="Group 42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1" name="Freeform 43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44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45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4" name="Freeform 46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47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Group 48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7" name="Oval 49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38" name="Oval 5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39" name="Oval 51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40" name="Oval 52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3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Group 54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3" name="Oval 55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56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57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58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48" name="Text Box 80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95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0" name="Group 6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1" name="Group 7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2" name="Freeform 8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9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10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5" name="Freeform 11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2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8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59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60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4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69" name="Text Box 82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1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2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3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6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Oval 31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79" name="Oval 3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grpSp>
            <p:nvGrpSpPr>
              <p:cNvPr id="483" name="Group 36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4" name="Oval 37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85" name="Oval 38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86" name="Oval 39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87" name="Oval 40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9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85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1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92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93" name="Text Box 88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94" name="Text Box 89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cxnSp>
            <p:nvCxnSpPr>
              <p:cNvPr id="495" name="AutoShape 90"/>
              <p:cNvCxnSpPr>
                <a:stCxn id="491" idx="3"/>
                <a:endCxn id="49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774c5"/>
                </a:solidFill>
                <a:miter/>
                <a:tailEnd len="med" type="triangle" w="med"/>
              </a:ln>
            </p:spPr>
          </p:cxnSp>
          <p:cxnSp>
            <p:nvCxnSpPr>
              <p:cNvPr id="496" name="AutoShape 91"/>
              <p:cNvCxnSpPr>
                <a:stCxn id="492" idx="3"/>
                <a:endCxn id="49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774c5"/>
                </a:solidFill>
                <a:miter/>
                <a:tailEnd len="med" type="triangle" w="med"/>
              </a:ln>
            </p:spPr>
          </p:cxnSp>
          <p:cxnSp>
            <p:nvCxnSpPr>
              <p:cNvPr id="497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774c5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0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01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2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1cae49"/>
                  </a:gs>
                  <a:gs pos="100000">
                    <a:srgbClr val="14793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03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1cae49">
                      <a:alpha val="0"/>
                    </a:srgbClr>
                  </a:gs>
                  <a:gs pos="50000">
                    <a:srgbClr val="83d39c"/>
                  </a:gs>
                  <a:gs pos="100000">
                    <a:srgbClr val="1cae4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04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05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506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7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08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9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90ff"/>
                  </a:gs>
                  <a:gs pos="100000">
                    <a:srgbClr val="33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0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3366ff">
                      <a:alpha val="0"/>
                    </a:srgbClr>
                  </a:gs>
                  <a:gs pos="100000">
                    <a:srgbClr val="a9be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1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12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4179c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513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4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15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6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b9c"/>
                  </a:gs>
                  <a:gs pos="100000">
                    <a:srgbClr val="9ac7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7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9ac763">
                      <a:alpha val="0"/>
                    </a:srgbClr>
                  </a:gs>
                  <a:gs pos="100000">
                    <a:srgbClr val="cee4b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8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19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525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6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27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8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29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0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1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32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cae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33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4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5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39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0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41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43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44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cae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545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141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4179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179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225576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4179c"/>
                      </a:solidFill>
                    </a:lnR>
                    <a:lnT>
                      <a:noFill/>
                    </a:lnT>
                    <a:lnB w="5760">
                      <a:solidFill>
                        <a:srgbClr val="14179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558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59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6464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0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1" name="Arc 7"/>
            <p:cNvSpPr/>
            <p:nvPr/>
          </p:nvSpPr>
          <p:spPr>
            <a:xfrm rot="20601600">
              <a:off x="4128840" y="19051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7799ff"/>
                </a:gs>
                <a:gs pos="100000">
                  <a:srgbClr val="3366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2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prstGeom prst="pie">
              <a:avLst/>
            </a:prstGeom>
            <a:gradFill rotWithShape="0">
              <a:gsLst>
                <a:gs pos="0">
                  <a:srgbClr val="116a2c"/>
                </a:gs>
                <a:gs pos="100000">
                  <a:srgbClr val="1cae4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3" name="Arc 9"/>
            <p:cNvSpPr/>
            <p:nvPr/>
          </p:nvSpPr>
          <p:spPr>
            <a:xfrm rot="20601600">
              <a:off x="2653920" y="1987560"/>
              <a:ext cx="3133800" cy="1417680"/>
            </a:xfrm>
            <a:prstGeom prst="pie">
              <a:avLst/>
            </a:prstGeom>
            <a:gradFill rotWithShape="0">
              <a:gsLst>
                <a:gs pos="0">
                  <a:srgbClr val="30616a"/>
                </a:gs>
                <a:gs pos="100000">
                  <a:srgbClr val="5cb8ca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4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7d430f"/>
                </a:gs>
                <a:gs pos="100000">
                  <a:srgbClr val="e57b1b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50000">
                  <a:srgbClr val="b2b2b2"/>
                </a:gs>
                <a:gs pos="100000">
                  <a:srgbClr val="ecec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8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69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570" name="Freeform 16"/>
              <p:cNvSpPr/>
              <p:nvPr/>
            </p:nvSpPr>
            <p:spPr>
              <a:xfrm>
                <a:off x="5448240" y="3448440"/>
                <a:ext cx="1773000" cy="1776240"/>
              </a:xfrm>
              <a:prstGeom prst="pie">
                <a:avLst/>
              </a:prstGeom>
              <a:gradFill rotWithShape="0">
                <a:gsLst>
                  <a:gs pos="0">
                    <a:srgbClr val="9ac763"/>
                  </a:gs>
                  <a:gs pos="100000">
                    <a:srgbClr val="5e79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71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prstGeom prst="pie">
                <a:avLst/>
              </a:prstGeom>
              <a:gradFill rotWithShape="0">
                <a:gsLst>
                  <a:gs pos="0">
                    <a:srgbClr val="475c2e"/>
                  </a:gs>
                  <a:gs pos="100000">
                    <a:srgbClr val="9ac763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72" name="Freeform 18"/>
              <p:cNvSpPr/>
              <p:nvPr/>
            </p:nvSpPr>
            <p:spPr>
              <a:xfrm>
                <a:off x="4582800" y="3924720"/>
                <a:ext cx="924120" cy="1311120"/>
              </a:xfrm>
              <a:prstGeom prst="pie">
                <a:avLst/>
              </a:prstGeom>
              <a:gradFill rotWithShape="0">
                <a:gsLst>
                  <a:gs pos="0">
                    <a:srgbClr val="475c2e"/>
                  </a:gs>
                  <a:gs pos="100000">
                    <a:srgbClr val="9ac7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73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74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4427640" y="3990960"/>
              <a:ext cx="838080" cy="1108080"/>
            </a:xfrm>
            <a:prstGeom prst="pie">
              <a:avLst/>
            </a:prstGeom>
            <a:solidFill>
              <a:srgbClr val="14179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76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8" name="Group 33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79" name="AutoShape 3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2362320" y="144792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137431"/>
                </a:gs>
                <a:gs pos="100000">
                  <a:srgbClr val="1cae4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81" name="Text Box 5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82" name="Group 29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83" name="Group 6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84" name="Group 7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85" name="Oval 8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57b1b"/>
                      </a:gs>
                      <a:gs pos="100000">
                        <a:srgbClr val="914e1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9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57b1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" name="Text Box 10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Oval 11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2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90" name="Group 12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91" name="Group 13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92" name="Oval 14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ac763"/>
                      </a:gs>
                      <a:gs pos="100000">
                        <a:srgbClr val="2530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15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ac76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Text Box 16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Oval 17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30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97" name="Group 18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98" name="Oval 19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1a34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0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21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601" name="Oval 22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31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03" name="Group 23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04" name="Group 24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05" name="Oval 25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cae49"/>
                      </a:gs>
                      <a:gs pos="100000">
                        <a:srgbClr val="0e59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26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cae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Text Box 27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Oval 28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8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7b1b"/>
                </a:gs>
                <a:gs pos="100000">
                  <a:srgbClr val="f9e3cf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57b1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02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3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cae49"/>
                </a:gs>
                <a:gs pos="100000">
                  <a:srgbClr val="cfeed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cae4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8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774c5"/>
                </a:gs>
                <a:gs pos="100000">
                  <a:srgbClr val="cae2f3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9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3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c763"/>
                </a:gs>
                <a:gs pos="100000">
                  <a:srgbClr val="eaf3d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4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ac7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4179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3"/>
          <p:cNvSpPr txBox="1"/>
          <p:nvPr/>
        </p:nvSpPr>
        <p:spPr>
          <a:xfrm>
            <a:off x="2133720" y="22860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774c5"/>
                    </a:gs>
                    <a:gs pos="100000">
                      <a:srgbClr val="9ac763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14179c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774c5"/>
                  </a:gs>
                  <a:gs pos="100000">
                    <a:srgbClr val="9ac763"/>
                  </a:gs>
                </a:gsLst>
                <a:lin ang="10800000"/>
              </a:gradFill>
              <a:effectLst>
                <a:outerShdw dist="89604" dir="2700000" blurRad="0" rotWithShape="0">
                  <a:srgbClr val="14179c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519200"/>
            <a:ext cx="8064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179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14179c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14179c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4179c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0774c5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774c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4179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23" name="Freeform 6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eeab6e"/>
              </a:gs>
              <a:gs pos="100000">
                <a:srgbClr val="e57b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7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327c"/>
                    </a:gs>
                    <a:gs pos="100000">
                      <a:srgbClr val="3366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a5bb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cae49"/>
                  </a:gs>
                  <a:gs pos="100000">
                    <a:srgbClr val="0d512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0e3bf"/>
                  </a:gs>
                  <a:gs pos="100000">
                    <a:srgbClr val="1cae4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3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cae49">
                      <a:alpha val="48235"/>
                    </a:srgbClr>
                  </a:gs>
                  <a:gs pos="100000">
                    <a:srgbClr val="168a3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1cae49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3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6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38" name="Freeform 8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beceff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1" name="Freeform 4"/>
            <p:cNvSpPr/>
            <p:nvPr/>
          </p:nvSpPr>
          <p:spPr>
            <a:xfrm rot="20241600">
              <a:off x="139212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8e8e8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2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3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cae49"/>
                </a:gs>
                <a:gs pos="100000">
                  <a:srgbClr val="0937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57b1b"/>
                </a:gs>
                <a:gs pos="100000">
                  <a:srgbClr val="522c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100000">
                  <a:srgbClr val="3545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4179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cxnSp>
          <p:nvCxnSpPr>
            <p:cNvPr id="154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4179c"/>
              </a:solidFill>
              <a:miter/>
            </a:ln>
          </p:spPr>
        </p:cxnSp>
        <p:sp>
          <p:nvSpPr>
            <p:cNvPr id="155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4179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179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182f76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9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0" name="AutoShape 5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c8e8"/>
                  </a:gs>
                  <a:gs pos="100000">
                    <a:srgbClr val="0774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1" name="AutoShape 6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c8e8"/>
                  </a:gs>
                  <a:gs pos="100000">
                    <a:srgbClr val="0774c5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2" name="AutoShape 7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c8e8"/>
                  </a:gs>
                  <a:gs pos="100000">
                    <a:srgbClr val="0774c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3" name="Oval 8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4" name="Oval 9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5" name="Oval 1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6" name="Oval 11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7" name="Oval 1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1c378a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8" name="Oval 13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89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2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5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6" name="Line 4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4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5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6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18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prstGeom prst="pie">
                <a:avLst/>
              </a:prstGeom>
              <a:gradFill rotWithShape="0">
                <a:gsLst>
                  <a:gs pos="0">
                    <a:srgbClr val="e57b1b"/>
                  </a:gs>
                  <a:gs pos="50000">
                    <a:srgbClr val="6a390d"/>
                  </a:gs>
                  <a:gs pos="100000">
                    <a:srgbClr val="e57b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prstGeom prst="pie">
                <a:avLst/>
              </a:prstGeom>
              <a:solidFill>
                <a:srgbClr val="e57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182f76"/>
                  </a:gs>
                  <a:gs pos="100000">
                    <a:srgbClr val="33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prstGeom prst="pie">
                <a:avLst/>
              </a:prstGeom>
              <a:gradFill rotWithShape="0">
                <a:gsLst>
                  <a:gs pos="0">
                    <a:srgbClr val="9ac763"/>
                  </a:gs>
                  <a:gs pos="50000">
                    <a:srgbClr val="475c2e"/>
                  </a:gs>
                  <a:gs pos="100000">
                    <a:srgbClr val="9ac7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prstGeom prst="pie">
                <a:avLst/>
              </a:prstGeom>
              <a:gradFill rotWithShape="0">
                <a:gsLst>
                  <a:gs pos="0">
                    <a:srgbClr val="1cae49"/>
                  </a:gs>
                  <a:gs pos="50000">
                    <a:srgbClr val="0d5122"/>
                  </a:gs>
                  <a:gs pos="100000">
                    <a:srgbClr val="1cae4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prstGeom prst="pie">
                <a:avLst/>
              </a:prstGeom>
              <a:solidFill>
                <a:srgbClr val="1ca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e57b1b"/>
                  </a:gs>
                  <a:gs pos="50000">
                    <a:srgbClr val="a65914"/>
                  </a:gs>
                  <a:gs pos="100000">
                    <a:srgbClr val="e57b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254ab9"/>
                  </a:gs>
                  <a:gs pos="100000">
                    <a:srgbClr val="33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prstGeom prst="pie">
                <a:avLst/>
              </a:prstGeom>
              <a:solidFill>
                <a:srgbClr val="9ac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3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ac763"/>
                  </a:gs>
                  <a:gs pos="50000">
                    <a:srgbClr val="709048"/>
                  </a:gs>
                  <a:gs pos="100000">
                    <a:srgbClr val="9ac7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3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cae49"/>
                  </a:gs>
                  <a:gs pos="50000">
                    <a:srgbClr val="147e35"/>
                  </a:gs>
                  <a:gs pos="100000">
                    <a:srgbClr val="1cae4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24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4" name="Freeform 3"/>
            <p:cNvSpPr/>
            <p:nvPr/>
          </p:nvSpPr>
          <p:spPr>
            <a:xfrm>
              <a:off x="5073480" y="1219320"/>
              <a:ext cx="1467000" cy="11552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4574f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57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6" name="AutoShape 5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a390d"/>
                </a:gs>
                <a:gs pos="50000">
                  <a:srgbClr val="e57b1b"/>
                </a:gs>
                <a:gs pos="100000">
                  <a:srgbClr val="6a39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7" name="AutoShape 6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8" name="AutoShape 7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9" name="AutoShape 8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0" name="AutoShape 9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2f76"/>
                </a:gs>
                <a:gs pos="5000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1" name="AutoShape 10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2" name="AutoShape 11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2492280" y="1720440"/>
              <a:ext cx="1467000" cy="1157040"/>
            </a:xfrm>
            <a:prstGeom prst="pie">
              <a:avLst/>
            </a:prstGeom>
            <a:gradFill rotWithShape="0">
              <a:gsLst>
                <a:gs pos="0">
                  <a:srgbClr val="9ac763"/>
                </a:gs>
                <a:gs pos="100000">
                  <a:srgbClr val="c5dfa5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5" name="Text Box 14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46" name="Group 15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7" name="AutoShape 16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ac7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48" name="AutoShape 17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4d26"/>
                  </a:gs>
                  <a:gs pos="50000">
                    <a:srgbClr val="9ac763"/>
                  </a:gs>
                  <a:gs pos="100000">
                    <a:srgbClr val="3c4d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49" name="AutoShape 18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50" name="AutoShape 19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51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52" name="Text Box 21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53" name="Text Box 22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0:45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9:02Z</dcterms:modified>
  <cp:revision>4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