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gif" ContentType="image/gif"/>
  <Override PartName="/ppt/media/image2.gif" ContentType="image/gif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E2DF0-4633-445F-B0C5-12E05427F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F1DEE-5C54-40FE-94D8-763F769B9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51E3E-FC07-4DA0-8DDB-897FF342F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66572-9B67-41CF-8310-A8ECBC4C9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4C5FB-BC70-4EB8-876F-D05F9BFDF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00639-AFFF-48FE-9614-EABFEF876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9E891-A352-4A15-BCDE-5BE40BB1B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191F0-C7B1-41CE-86CF-A2795CC7B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02221-09E9-42E6-A8B1-933AD245F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9C8A1-35C5-46A3-A51B-62D050E01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49724-937B-4DA0-BC46-63FD999CD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A0C10-3548-4EDD-B4C8-7B407DD43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2C698-DC9B-446D-A1BC-5A11DE825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F37D4-01D8-4586-8272-0D98DA06F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1DAD1-D3C1-4401-B4F7-826A1D954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9FFA9-F794-4E5D-AC6E-0BA0CFEB4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9A11D-2AF5-4FA0-BFEA-EF52F2640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06C95-8D02-440E-B5C2-CD8DD5BEF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02C96-EA68-41F6-ADC5-F3961209C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4E412-9B9E-4D4E-9706-592207355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936D2-61CD-4525-A011-7E554C757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247BC-8223-46CD-85DC-1AE793790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60E2E-3F88-453F-919F-C56DA15EA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D0E82-ECAD-426B-ABE3-3A8373C69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F1F42-9890-437A-956E-CF9535B805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89EBB-8820-4929-B830-5212DE6177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36360" y="64548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动态卡通鼠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76C93-CAD1-4AE6-A640-BA54C148F88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85800" y="328608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31T00:19:15Z</dcterms:created>
  <dc:creator>幻灯片之家：www.eeppt.com</dc:creator>
  <dc:description>幻灯片之家：www.eeppt.com</dc:description>
  <cp:keywords>幻灯片之家：www.eeppt.com</cp:keywords>
  <dc:language>en-US</dc:language>
  <cp:lastModifiedBy/>
  <dcterms:modified xsi:type="dcterms:W3CDTF">2015-09-18T13:16:36Z</dcterms:modified>
  <cp:revision>2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