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29E-B774-46E1-ABA0-9178479F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99D-E72D-45AF-B3D2-1883A5C0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508-5301-44EC-8C26-1915C08C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0A4-245B-456E-8563-9E6954A0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B28E-EDFD-49BF-A546-EDE01D7A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C58E-3C73-4518-82A3-86650A4D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F855-9D5B-47BF-9DFB-E8480AB3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D815-9E8C-45D1-84B0-E95399BD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DF0D-A757-44A1-93DB-E92250C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1BEE-F915-4579-B3D5-F4AD2A4C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B043-2117-44BC-A86E-F7761190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B54-E8C2-49FC-AE22-8E806016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A30F-B3D2-4958-8E65-067AABB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3C7D-71B7-44F2-96E7-E5904BA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A239-DCA3-4CCE-850D-6A2DE142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19F0-07D2-46A8-A647-79AE3EDE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C201-0013-4240-BDA5-59CD5449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7AB-A5EE-4191-8EE3-D2AC58F2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BB0-5D6B-4DD1-BAD7-E39A16E2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CCF-FE88-4942-BB59-01545D0F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165-C73A-4FBD-B123-7DB847E5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EA8-F098-4F88-89AA-C37FAD08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053-ED1F-48C3-BD1B-A3E86F11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4BC-414D-4021-B988-E959F232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FEA0-FEBD-4D73-BE53-65554131F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4ACC-E06E-4802-924A-6A035A9E9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1.jpg"/>
          <p:cNvPicPr/>
          <p:nvPr/>
        </p:nvPicPr>
        <p:blipFill>
          <a:blip r:embed="rId1"/>
          <a:stretch/>
        </p:blipFill>
        <p:spPr>
          <a:xfrm>
            <a:off x="0" y="15840"/>
            <a:ext cx="7543800" cy="5645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5866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、科学掌握地震知识有备无患受用一生。地震是一种突发的自然灾害，人们大多是在毫无防备的情况下遭遇地震。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7360" y="2286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地震知识卡通</a:t>
            </a:r>
            <a:r>
              <a:rPr b="0" lang="en-US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、争做青年志愿者互助减灾保平安。防震减灾是一项社会公益事业，维系着每一个社区和家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" descr="9.jpg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273640"/>
          </a:xfrm>
          <a:prstGeom prst="rect">
            <a:avLst/>
          </a:prstGeom>
          <a:ln w="0">
            <a:noFill/>
          </a:ln>
        </p:spPr>
      </p:pic>
      <p:sp>
        <p:nvSpPr>
          <p:cNvPr id="11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、谣言止于智者轻信源于无知。地震谣言的制造和传播是另外一种与地震有关的灾害，地震谣传如果蔓延开来，轻则会使一些人惶惶不安，影响正常的工作和生活；重则有可能出现大量搭建防震棚、抢购物品、人员外流、停工停产等事件，影响社会安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内容占位符 3" descr="2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67120" y="914400"/>
            <a:ext cx="1219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、新屋设防旧房加固防患未然有保护。通常房屋的抗震加固要从加强抗震强度，提高房屋结构的稳定性和变形能力三个方面入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3" descr="3.jpg"/>
          <p:cNvPicPr/>
          <p:nvPr/>
        </p:nvPicPr>
        <p:blipFill>
          <a:blip r:embed="rId1"/>
          <a:stretch/>
        </p:blipFill>
        <p:spPr>
          <a:xfrm>
            <a:off x="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、家中常备应急箱化险为夷派用场。处于地震多发区和地震重点监视防御区的家庭，应该准备一个防震应急包，把它放在随手可以拿到的地方，以便地震发生时能够随身携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" descr="4.jpg"/>
          <p:cNvPicPr/>
          <p:nvPr/>
        </p:nvPicPr>
        <p:blipFill>
          <a:blip r:embed="rId1"/>
          <a:stretch/>
        </p:blipFill>
        <p:spPr>
          <a:xfrm>
            <a:off x="152280" y="838080"/>
            <a:ext cx="899172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、遇到地震要冷静逃生不可乘电梯。发生地震的时候，如果正好在室内，应保持镇定并选择较理想的地方就近躲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" descr="5.jpg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5638680"/>
          </a:xfrm>
          <a:prstGeom prst="rect">
            <a:avLst/>
          </a:prstGeom>
          <a:ln w="0">
            <a:noFill/>
          </a:ln>
        </p:spPr>
      </p:pic>
      <p:sp>
        <p:nvSpPr>
          <p:cNvPr id="9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6400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67480" y="990720"/>
            <a:ext cx="1524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、教室避震就近藏盲目乱跑无希望。在学校等人员集中场所遇到地震时，如果正在上课，学生应听从老师的指挥，迅速抱头、闭眼、就近躲在各自的课桌底下沿边角处，待地震过后再有次序地撤离到外面的空地上，切勿盲目乱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3" descr="6.jpg"/>
          <p:cNvPicPr/>
          <p:nvPr/>
        </p:nvPicPr>
        <p:blipFill>
          <a:blip r:embed="rId1"/>
          <a:stretch/>
        </p:blipFill>
        <p:spPr>
          <a:xfrm>
            <a:off x="228600" y="152280"/>
            <a:ext cx="6724800" cy="5913720"/>
          </a:xfrm>
          <a:prstGeom prst="rect">
            <a:avLst/>
          </a:prstGeom>
          <a:ln w="0">
            <a:noFill/>
          </a:ln>
        </p:spPr>
      </p:pic>
      <p:sp>
        <p:nvSpPr>
          <p:cNvPr id="10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8520" y="1143000"/>
            <a:ext cx="175284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、身在高楼勿近窗结实支撑物下藏、地震到来时，如果正好在公共场所，千万不要紧张慌乱，到处乱跑。应用手或其他物品保护好头部，就近躲在结实的支撑物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" descr="7.jpg"/>
          <p:cNvPicPr/>
          <p:nvPr/>
        </p:nvPicPr>
        <p:blipFill>
          <a:blip r:embed="rId1"/>
          <a:stretch/>
        </p:blipFill>
        <p:spPr>
          <a:xfrm>
            <a:off x="0" y="503280"/>
            <a:ext cx="7162920" cy="6095880"/>
          </a:xfrm>
          <a:prstGeom prst="rect">
            <a:avLst/>
          </a:prstGeom>
          <a:ln w="0">
            <a:noFill/>
          </a:ln>
        </p:spPr>
      </p:pic>
      <p:sp>
        <p:nvSpPr>
          <p:cNvPr id="10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52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67480" y="807840"/>
            <a:ext cx="152424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、抓住一线光芒带来无限生机。黑暗的埋压环境，让遇险人员看不到周围，自救无处下手，这时应该冷静下来，仔细观察一下周围有没有光的缝隙，只要是透亮的地方，哪怕再小，也很可能是压埋物体最薄弱的地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3" descr="8.jpg"/>
          <p:cNvPicPr/>
          <p:nvPr/>
        </p:nvPicPr>
        <p:blipFill>
          <a:blip r:embed="rId1"/>
          <a:stretch/>
        </p:blipFill>
        <p:spPr>
          <a:xfrm>
            <a:off x="304920" y="762120"/>
            <a:ext cx="6840360" cy="5526000"/>
          </a:xfrm>
          <a:prstGeom prst="rect">
            <a:avLst/>
          </a:prstGeom>
          <a:ln w="0">
            <a:noFill/>
          </a:ln>
        </p:spPr>
      </p:pic>
      <p:sp>
        <p:nvSpPr>
          <p:cNvPr id="10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E30E-E504-438C-9E91-35D71C7FF4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7:51:2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7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