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0" y="6308640"/>
            <a:ext cx="594036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998720" y="26028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儿童城堡卡通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extBox 1" descr=""/>
          <p:cNvPicPr/>
          <p:nvPr/>
        </p:nvPicPr>
        <p:blipFill>
          <a:blip r:embed="rId1"/>
          <a:stretch/>
        </p:blipFill>
        <p:spPr>
          <a:xfrm>
            <a:off x="-115920" y="42840"/>
            <a:ext cx="440676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82600" y="1052640"/>
            <a:ext cx="74581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08000" y="6437160"/>
            <a:ext cx="1187280" cy="40500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微软雅黑"/>
                <a:ea typeface="微软雅黑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" descr=""/>
          <p:cNvPicPr/>
          <p:nvPr/>
        </p:nvPicPr>
        <p:blipFill>
          <a:blip r:embed="rId1"/>
          <a:stretch/>
        </p:blipFill>
        <p:spPr>
          <a:xfrm>
            <a:off x="1974960" y="3071880"/>
            <a:ext cx="5413320" cy="138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2709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3:14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