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E72-2027-4CA0-B543-A318C913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655776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1760" y="3495240"/>
            <a:ext cx="655776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77C-D647-4165-B73F-8E793DA2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760" y="349524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62360" y="349524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DCF-B8F0-4073-8281-419D8BD6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19000" y="322560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836600" y="322560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1760" y="349524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619000" y="349524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836600" y="349524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A76-5B68-4CCD-B119-5A5FC44B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7D12-C8E6-4C9F-8956-ACDEC25C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01760" y="3225600"/>
            <a:ext cx="65577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E597-CF3C-4A4E-9F79-71B42F3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65577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118C-B341-454C-A472-B911F7C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307B-CFAC-49E3-AF28-CB2CF742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0C14-0D3C-436E-B22D-8930C914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5840" y="2046240"/>
            <a:ext cx="6635880" cy="52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BC1C-7CF7-40AC-B79D-3101D9D3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1760" y="349524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E4CD-98B1-4900-B062-2008B34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1760" y="3225600"/>
            <a:ext cx="65577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DA8-6FA4-41FE-A40E-4F68286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62360" y="349524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E1C6-51B2-4F0A-9601-5A22CE0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760" y="3495240"/>
            <a:ext cx="655776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DCAF-904A-4B46-B55C-5B18F3E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655776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1760" y="3495240"/>
            <a:ext cx="655776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1EA6-7909-4D62-8150-100AEC85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01760" y="349524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762360" y="349524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A7F-4CA8-49E2-BCD0-720F1C0E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19000" y="322560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36600" y="322560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01760" y="349524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619000" y="349524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836600" y="3495240"/>
            <a:ext cx="211140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3CB8-E938-4C7C-96C4-BF28FB34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65577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CCF-25F4-4480-AA22-C0D802B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78E-52B3-4FC6-A59D-FDCC5B40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6FF-6AEE-4535-8A07-DF2C7FFA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75840" y="2046240"/>
            <a:ext cx="6635880" cy="52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D8A-006E-452B-8CA8-DD8ADDB6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1760" y="349524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BC4-4958-4B76-9862-9BC0218B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62360" y="349524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C0E-115A-4C99-8F42-CFF472C9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7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62360" y="3225600"/>
            <a:ext cx="320004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1760" y="3495240"/>
            <a:ext cx="6557760" cy="2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842-2BB7-47E2-91D0-5280A7B8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530520"/>
            <a:ext cx="2603520" cy="33274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297000" y="657648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716200" y="6566040"/>
            <a:ext cx="3649680" cy="2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730560" y="6568920"/>
            <a:ext cx="21337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4017-5EF2-4957-96BE-0D54EE4C17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595440" y="1450440"/>
            <a:ext cx="809136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57240" y="1103400"/>
            <a:ext cx="6543720" cy="39600"/>
          </a:xfrm>
          <a:custGeom>
            <a:avLst/>
            <a:gdLst/>
            <a:ahLst/>
            <a:rect l="l" t="t" r="r" b="b"/>
            <a:pathLst>
              <a:path w="4122" h="25">
                <a:moveTo>
                  <a:pt x="4122" y="0"/>
                </a:moveTo>
                <a:lnTo>
                  <a:pt x="0" y="3"/>
                </a:lnTo>
                <a:lnTo>
                  <a:pt x="37" y="25"/>
                </a:lnTo>
                <a:lnTo>
                  <a:pt x="4109" y="25"/>
                </a:lnTo>
                <a:lnTo>
                  <a:pt x="4122" y="0"/>
                </a:lnTo>
                <a:close/>
              </a:path>
            </a:pathLst>
          </a:custGeom>
          <a:gradFill rotWithShape="0">
            <a:gsLst>
              <a:gs pos="0">
                <a:srgbClr val="000050"/>
              </a:gs>
              <a:gs pos="100000">
                <a:srgbClr val="0000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535800" y="98280"/>
            <a:ext cx="1015920" cy="1079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42080" y="7794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259080"/>
            <a:ext cx="2814480" cy="359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58920" y="6394320"/>
            <a:ext cx="2133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295704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40A3-99C6-46AC-9609-978C057BA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8040" y="295200"/>
            <a:ext cx="12924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375840" y="2046240"/>
            <a:ext cx="66358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1720" y="4237200"/>
            <a:ext cx="7570800" cy="99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1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宋体"/>
              </a:rPr>
              <a:t>儿童耳科医疗幻灯片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56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5040" y="4559400"/>
            <a:ext cx="4191120" cy="50760"/>
          </a:xfrm>
          <a:custGeom>
            <a:avLst/>
            <a:gdLst/>
            <a:ahLst/>
            <a:rect l="l" t="t" r="r" b="b"/>
            <a:pathLst>
              <a:path w="2832" h="64">
                <a:moveTo>
                  <a:pt x="16" y="64"/>
                </a:moveTo>
                <a:lnTo>
                  <a:pt x="2832" y="56"/>
                </a:lnTo>
                <a:lnTo>
                  <a:pt x="2736" y="0"/>
                </a:lnTo>
                <a:lnTo>
                  <a:pt x="2792" y="32"/>
                </a:lnTo>
                <a:lnTo>
                  <a:pt x="0" y="32"/>
                </a:lnTo>
                <a:lnTo>
                  <a:pt x="16" y="64"/>
                </a:lnTo>
                <a:close/>
              </a:path>
            </a:pathLst>
          </a:custGeom>
          <a:gradFill rotWithShape="0">
            <a:gsLst>
              <a:gs pos="0">
                <a:srgbClr val="000050"/>
              </a:gs>
              <a:gs pos="100000">
                <a:srgbClr val="000066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1487400">
            <a:off x="1881000" y="1910880"/>
            <a:ext cx="3614400" cy="213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rot="287400">
            <a:off x="3155760" y="2279160"/>
            <a:ext cx="1104840" cy="1327320"/>
          </a:xfrm>
          <a:custGeom>
            <a:avLst/>
            <a:gdLst/>
            <a:ahLst/>
            <a:rect l="l" t="t" r="r" b="b"/>
            <a:pathLst>
              <a:path w="964" h="1116">
                <a:moveTo>
                  <a:pt x="0" y="4"/>
                </a:moveTo>
                <a:lnTo>
                  <a:pt x="948" y="1116"/>
                </a:lnTo>
                <a:lnTo>
                  <a:pt x="964" y="1092"/>
                </a:lnTo>
                <a:lnTo>
                  <a:pt x="28" y="0"/>
                </a:lnTo>
                <a:lnTo>
                  <a:pt x="0" y="4"/>
                </a:ln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dc7654"/>
              </a:gs>
              <a:gs pos="100000">
                <a:srgbClr val="cc3300"/>
              </a:gs>
            </a:gsLst>
            <a:lin ang="5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36760" y="357012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55920" y="350532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656240" y="357012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974960" y="2343240"/>
            <a:ext cx="1361160" cy="1321560"/>
            <a:chOff x="1974960" y="2343240"/>
            <a:chExt cx="1361160" cy="1321560"/>
          </a:xfrm>
        </p:grpSpPr>
        <p:sp>
          <p:nvSpPr>
            <p:cNvPr id="400" name=""/>
            <p:cNvSpPr/>
            <p:nvPr/>
          </p:nvSpPr>
          <p:spPr>
            <a:xfrm>
              <a:off x="1974960" y="23432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ad23"/>
                </a:gs>
                <a:gs pos="100000">
                  <a:srgbClr val="68781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60640" y="24289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bd693"/>
                </a:gs>
                <a:gs pos="50000">
                  <a:srgbClr val="96ad23">
                    <a:alpha val="0"/>
                  </a:srgbClr>
                </a:gs>
                <a:gs pos="100000">
                  <a:srgbClr val="cbd6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22010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754440" y="2343240"/>
            <a:ext cx="1361520" cy="1321560"/>
            <a:chOff x="3754440" y="2343240"/>
            <a:chExt cx="1361520" cy="1321560"/>
          </a:xfrm>
        </p:grpSpPr>
        <p:sp>
          <p:nvSpPr>
            <p:cNvPr id="404" name=""/>
            <p:cNvSpPr/>
            <p:nvPr/>
          </p:nvSpPr>
          <p:spPr>
            <a:xfrm>
              <a:off x="3754440" y="23432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973b9"/>
                </a:gs>
                <a:gs pos="100000">
                  <a:srgbClr val="274f8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40120" y="24289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ebadc"/>
                </a:gs>
                <a:gs pos="50000">
                  <a:srgbClr val="3973b9">
                    <a:alpha val="0"/>
                  </a:srgbClr>
                </a:gs>
                <a:gs pos="100000">
                  <a:srgbClr val="9ebad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541840" y="2352600"/>
            <a:ext cx="1361520" cy="1321920"/>
            <a:chOff x="5541840" y="2352600"/>
            <a:chExt cx="1361520" cy="1321920"/>
          </a:xfrm>
        </p:grpSpPr>
        <p:sp>
          <p:nvSpPr>
            <p:cNvPr id="407" name=""/>
            <p:cNvSpPr/>
            <p:nvPr/>
          </p:nvSpPr>
          <p:spPr>
            <a:xfrm>
              <a:off x="5541840" y="235260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639b9"/>
                </a:gs>
                <a:gs pos="100000">
                  <a:srgbClr val="7e2780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27520" y="243828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9edc"/>
                </a:gs>
                <a:gs pos="50000">
                  <a:srgbClr val="b639b9">
                    <a:alpha val="0"/>
                  </a:srgbClr>
                </a:gs>
                <a:gs pos="100000">
                  <a:srgbClr val="da9ed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936240" y="272412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53880" y="273384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27040" y="143028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25520" y="5157720"/>
            <a:ext cx="6238800" cy="9763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57240">
            <a:solidFill>
              <a:srgbClr val="96ad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89040" y="53132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5896080" y="316080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73640" y="274644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36760" y="274788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27240" y="2448000"/>
            <a:ext cx="434988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1a35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76240" y="244620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87818"/>
              </a:gs>
              <a:gs pos="100000">
                <a:srgbClr val="96ad23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25640" y="311004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4480" y="247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29280" y="333072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9640" y="14130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38560" y="332748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63640" y="5448240"/>
            <a:ext cx="60498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969920" y="213372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9ccff"/>
              </a:gs>
              <a:gs pos="100000">
                <a:srgbClr val="f3da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398760" y="227952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82800" y="26384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085760" y="198756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92240" y="267336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69920" y="409572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60680" y="420048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1600" y="459108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1104840" y="3892680"/>
            <a:ext cx="1727280" cy="17269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111320" y="460224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03320" y="237168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81649"/>
              </a:gs>
              <a:gs pos="50000">
                <a:srgbClr val="b639b9"/>
              </a:gs>
              <a:gs pos="100000">
                <a:srgbClr val="48164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076480" y="272088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3973b9"/>
              </a:gs>
              <a:gs pos="50000">
                <a:srgbClr val="b7cce5"/>
              </a:gs>
              <a:gs pos="100000">
                <a:srgbClr val="3973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82960" y="3051000"/>
            <a:ext cx="263520" cy="190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3973b9"/>
              </a:gs>
              <a:gs pos="50000">
                <a:srgbClr val="b7cce5"/>
              </a:gs>
              <a:gs pos="100000">
                <a:srgbClr val="3973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967200" y="336708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973b9"/>
              </a:gs>
              <a:gs pos="50000">
                <a:srgbClr val="b7cce5"/>
              </a:gs>
              <a:gs pos="100000">
                <a:srgbClr val="3973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35640" y="402444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3973b9"/>
              </a:gs>
              <a:gs pos="50000">
                <a:srgbClr val="b7cce5"/>
              </a:gs>
              <a:gs pos="100000">
                <a:srgbClr val="3973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124600" y="374976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3973b9"/>
              </a:gs>
              <a:gs pos="50000">
                <a:srgbClr val="b7cce5"/>
              </a:gs>
              <a:gs pos="100000">
                <a:srgbClr val="3973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12880" y="19922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52840" y="200664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87840" y="2011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79800" y="2003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34040" y="200196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2960" y="306396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92320" y="355428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35160" y="4121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348000" y="46864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84720" y="534024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"/>
          <p:cNvCxnSpPr>
            <a:stCxn id="439" idx="3"/>
            <a:endCxn id="449" idx="0"/>
          </p:cNvCxnSpPr>
          <p:nvPr/>
        </p:nvCxnSpPr>
        <p:spPr>
          <a:xfrm rot="5400000">
            <a:off x="1891440" y="276516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55" name=""/>
          <p:cNvCxnSpPr>
            <a:stCxn id="440" idx="3"/>
            <a:endCxn id="450" idx="0"/>
          </p:cNvCxnSpPr>
          <p:nvPr/>
        </p:nvCxnSpPr>
        <p:spPr>
          <a:xfrm rot="5400000">
            <a:off x="2609280" y="304956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56" name=""/>
          <p:cNvCxnSpPr>
            <a:stCxn id="441" idx="3"/>
            <a:endCxn id="451" idx="0"/>
          </p:cNvCxnSpPr>
          <p:nvPr/>
        </p:nvCxnSpPr>
        <p:spPr>
          <a:xfrm rot="5400000">
            <a:off x="3529800" y="350496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57" name=""/>
          <p:cNvCxnSpPr>
            <a:stCxn id="443" idx="3"/>
            <a:endCxn id="452" idx="0"/>
          </p:cNvCxnSpPr>
          <p:nvPr/>
        </p:nvCxnSpPr>
        <p:spPr>
          <a:xfrm rot="5400000">
            <a:off x="4704480" y="404496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58" name=""/>
          <p:cNvCxnSpPr>
            <a:stCxn id="442" idx="3"/>
            <a:endCxn id="453" idx="0"/>
          </p:cNvCxnSpPr>
          <p:nvPr/>
        </p:nvCxnSpPr>
        <p:spPr>
          <a:xfrm rot="5400000">
            <a:off x="5747760" y="447012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335640" y="241632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96ad23"/>
              </a:gs>
              <a:gs pos="50000">
                <a:srgbClr val="d8e0af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24600" y="241452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96ad23"/>
              </a:gs>
              <a:gs pos="50000">
                <a:srgbClr val="d8e0af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67200" y="241128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96ad23"/>
              </a:gs>
              <a:gs pos="50000">
                <a:srgbClr val="d8e0af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82960" y="241776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96ad23"/>
              </a:gs>
              <a:gs pos="50000">
                <a:srgbClr val="d8e0af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076480" y="241920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96ad23"/>
              </a:gs>
              <a:gs pos="50000">
                <a:srgbClr val="d8e0af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186120" y="310428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28600" y="430200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5400000">
            <a:off x="2513160" y="310428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56000" y="430200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5400000">
            <a:off x="4875480" y="3104280"/>
            <a:ext cx="382104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16520" y="430200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202440" y="238608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1477800" y="238608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3803760" y="236052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608120" y="266544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286680" y="266544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33720" y="266544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216320" y="377352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847880" y="377352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6564240" y="377352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341360" y="1808280"/>
            <a:ext cx="1724040" cy="482040"/>
            <a:chOff x="1341360" y="1808280"/>
            <a:chExt cx="1724040" cy="482040"/>
          </a:xfrm>
        </p:grpSpPr>
        <p:sp>
          <p:nvSpPr>
            <p:cNvPr id="483" name=""/>
            <p:cNvSpPr/>
            <p:nvPr/>
          </p:nvSpPr>
          <p:spPr>
            <a:xfrm>
              <a:off x="1442880" y="208584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41360" y="1808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6ad23"/>
                </a:gs>
                <a:gs pos="100000">
                  <a:srgbClr val="cbd6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341360" y="2951280"/>
            <a:ext cx="1724040" cy="482040"/>
            <a:chOff x="1341360" y="2951280"/>
            <a:chExt cx="1724040" cy="482040"/>
          </a:xfrm>
        </p:grpSpPr>
        <p:sp>
          <p:nvSpPr>
            <p:cNvPr id="486" name=""/>
            <p:cNvSpPr/>
            <p:nvPr/>
          </p:nvSpPr>
          <p:spPr>
            <a:xfrm>
              <a:off x="1442880" y="322884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41360" y="2951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3973b9"/>
                </a:gs>
                <a:gs pos="100000">
                  <a:srgbClr val="98b6d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341360" y="4094280"/>
            <a:ext cx="1724040" cy="482040"/>
            <a:chOff x="1341360" y="4094280"/>
            <a:chExt cx="1724040" cy="482040"/>
          </a:xfrm>
        </p:grpSpPr>
        <p:sp>
          <p:nvSpPr>
            <p:cNvPr id="489" name=""/>
            <p:cNvSpPr/>
            <p:nvPr/>
          </p:nvSpPr>
          <p:spPr>
            <a:xfrm>
              <a:off x="1442880" y="437184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1360" y="4094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b639b9"/>
                </a:gs>
                <a:gs pos="100000">
                  <a:srgbClr val="e3b6e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341360" y="5237280"/>
            <a:ext cx="1724040" cy="482040"/>
            <a:chOff x="1341360" y="5237280"/>
            <a:chExt cx="1724040" cy="482040"/>
          </a:xfrm>
        </p:grpSpPr>
        <p:sp>
          <p:nvSpPr>
            <p:cNvPr id="492" name=""/>
            <p:cNvSpPr/>
            <p:nvPr/>
          </p:nvSpPr>
          <p:spPr>
            <a:xfrm>
              <a:off x="1442880" y="551484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41360" y="523728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ea9c00"/>
                </a:gs>
                <a:gs pos="100000">
                  <a:srgbClr val="f8e6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94" name=""/>
          <p:cNvCxnSpPr>
            <a:stCxn id="483" idx="0"/>
            <a:endCxn id="487" idx="0"/>
          </p:cNvCxnSpPr>
          <p:nvPr/>
        </p:nvCxnSpPr>
        <p:spPr>
          <a:xfrm>
            <a:off x="2198520" y="2234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95" name=""/>
          <p:cNvCxnSpPr>
            <a:stCxn id="486" idx="0"/>
            <a:endCxn id="490" idx="0"/>
          </p:cNvCxnSpPr>
          <p:nvPr/>
        </p:nvCxnSpPr>
        <p:spPr>
          <a:xfrm>
            <a:off x="2198520" y="3377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496" name=""/>
          <p:cNvCxnSpPr>
            <a:stCxn id="489" idx="0"/>
            <a:endCxn id="493" idx="0"/>
          </p:cNvCxnSpPr>
          <p:nvPr/>
        </p:nvCxnSpPr>
        <p:spPr>
          <a:xfrm>
            <a:off x="2198520" y="4520880"/>
            <a:ext cx="5760" cy="716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497" name=""/>
          <p:cNvSpPr/>
          <p:nvPr/>
        </p:nvSpPr>
        <p:spPr>
          <a:xfrm>
            <a:off x="2255760" y="252108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55760" y="376560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255760" y="488268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63000" y="1682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63000" y="2825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63000" y="3968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63000" y="511164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129840" y="239544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24000" y="24321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63520" y="3438360"/>
            <a:ext cx="3003840" cy="2771280"/>
            <a:chOff x="1163520" y="3438360"/>
            <a:chExt cx="3003840" cy="2771280"/>
          </a:xfrm>
        </p:grpSpPr>
        <p:grpSp>
          <p:nvGrpSpPr>
            <p:cNvPr id="508" name=""/>
            <p:cNvGrpSpPr/>
            <p:nvPr/>
          </p:nvGrpSpPr>
          <p:grpSpPr>
            <a:xfrm>
              <a:off x="1338120" y="4627080"/>
              <a:ext cx="2706840" cy="1582560"/>
              <a:chOff x="1338120" y="4627080"/>
              <a:chExt cx="2706840" cy="1582560"/>
            </a:xfrm>
          </p:grpSpPr>
          <p:sp>
            <p:nvSpPr>
              <p:cNvPr id="509" name=""/>
              <p:cNvSpPr/>
              <p:nvPr/>
            </p:nvSpPr>
            <p:spPr>
              <a:xfrm>
                <a:off x="1338120" y="51598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389320" y="50788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b63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38120" y="4627080"/>
                <a:ext cx="2706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1280160" y="4240440"/>
              <a:ext cx="2802600" cy="1582560"/>
              <a:chOff x="1280160" y="4240440"/>
              <a:chExt cx="2802600" cy="1582560"/>
            </a:xfrm>
          </p:grpSpPr>
          <p:sp>
            <p:nvSpPr>
              <p:cNvPr id="513" name=""/>
              <p:cNvSpPr/>
              <p:nvPr/>
            </p:nvSpPr>
            <p:spPr>
              <a:xfrm>
                <a:off x="1280160" y="47732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368800" y="46922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96a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280160" y="42404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1221480" y="3840120"/>
              <a:ext cx="2903040" cy="1582560"/>
              <a:chOff x="1221480" y="3840120"/>
              <a:chExt cx="2903040" cy="1582560"/>
            </a:xfrm>
          </p:grpSpPr>
          <p:sp>
            <p:nvSpPr>
              <p:cNvPr id="517" name=""/>
              <p:cNvSpPr/>
              <p:nvPr/>
            </p:nvSpPr>
            <p:spPr>
              <a:xfrm>
                <a:off x="1221480" y="43729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349000" y="4291920"/>
                <a:ext cx="17755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ea9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21480" y="3840120"/>
                <a:ext cx="29030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1163520" y="3438360"/>
              <a:ext cx="3003840" cy="1582560"/>
              <a:chOff x="1163520" y="3438360"/>
              <a:chExt cx="3003840" cy="1582560"/>
            </a:xfrm>
          </p:grpSpPr>
          <p:sp>
            <p:nvSpPr>
              <p:cNvPr id="521" name=""/>
              <p:cNvSpPr/>
              <p:nvPr/>
            </p:nvSpPr>
            <p:spPr>
              <a:xfrm>
                <a:off x="1163520" y="39711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30280" y="3890160"/>
                <a:ext cx="18370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397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163520" y="3438360"/>
                <a:ext cx="30038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905360" y="2746440"/>
            <a:ext cx="391644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73b9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90960" y="3459240"/>
            <a:ext cx="3900600" cy="5223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9c00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883040" y="480528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639b9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83040" y="4160880"/>
            <a:ext cx="388008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ad23"/>
                </a:solidFill>
                <a:latin typeface="Arial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1055800">
            <a:off x="732960" y="3638520"/>
            <a:ext cx="393840" cy="1920960"/>
          </a:xfrm>
          <a:prstGeom prst="upArrow">
            <a:avLst>
              <a:gd name="adj1" fmla="val 50194"/>
              <a:gd name="adj2" fmla="val 74924"/>
            </a:avLst>
          </a:prstGeom>
          <a:gradFill rotWithShape="0">
            <a:gsLst>
              <a:gs pos="0">
                <a:srgbClr val="3973b9"/>
              </a:gs>
              <a:gs pos="100000">
                <a:srgbClr val="ffffff"/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4920" y="571356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873000" y="1473120"/>
            <a:ext cx="244800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130480" y="3014640"/>
            <a:ext cx="4905360" cy="2425320"/>
            <a:chOff x="2130480" y="3014640"/>
            <a:chExt cx="4905360" cy="2425320"/>
          </a:xfrm>
        </p:grpSpPr>
        <p:sp>
          <p:nvSpPr>
            <p:cNvPr id="533" name=""/>
            <p:cNvSpPr/>
            <p:nvPr/>
          </p:nvSpPr>
          <p:spPr>
            <a:xfrm>
              <a:off x="2130480" y="3164760"/>
              <a:ext cx="4905360" cy="2275200"/>
            </a:xfrm>
            <a:prstGeom prst="donut">
              <a:avLst>
                <a:gd name="adj" fmla="val 13949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30480" y="3022200"/>
              <a:ext cx="4905360" cy="2275560"/>
            </a:xfrm>
            <a:prstGeom prst="donut">
              <a:avLst>
                <a:gd name="adj" fmla="val 13949"/>
              </a:avLst>
            </a:prstGeom>
            <a:gradFill rotWithShape="0">
              <a:gsLst>
                <a:gs pos="0">
                  <a:srgbClr val="3973b9"/>
                </a:gs>
                <a:gs pos="50000">
                  <a:srgbClr val="b639b9"/>
                </a:gs>
                <a:gs pos="100000">
                  <a:srgbClr val="3973b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563000" y="3014640"/>
              <a:ext cx="0" cy="4651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4400" y="3665160"/>
              <a:ext cx="0" cy="1486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61240" y="3645720"/>
              <a:ext cx="0" cy="1591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5961240" y="3431880"/>
              <a:ext cx="497520" cy="2138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2671920" y="3440520"/>
              <a:ext cx="489600" cy="2214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245760" y="4844160"/>
              <a:ext cx="376920" cy="27036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03480" y="4791240"/>
              <a:ext cx="472680" cy="23436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3237840" y="511092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169680" y="5023080"/>
              <a:ext cx="9000" cy="1422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3689280" y="284148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08720" y="279720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668840" y="514044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640200" y="4103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03320" y="4103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0040" y="2406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81440" y="2406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218360" y="3940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21040" y="5695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1680" y="386388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00440" y="39067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382920" y="3573360"/>
            <a:ext cx="2340000" cy="66384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663840"/>
              <a:gd name="textAreaBottom" fmla="*/ 664200 h 663840"/>
            </a:gdLst>
            <a:ahLst/>
            <a:rect l="textAreaLeft" t="textAreaTop" r="textAreaRight" b="textAreaBottom"/>
            <a:pathLst>
              <a:path w="21600" h="21600">
                <a:moveTo>
                  <a:pt x="2330" y="10769"/>
                </a:moveTo>
                <a:arcTo wR="-8470" hR="-8470" stAng="-10787419" swAng="-10704052"/>
                <a:lnTo>
                  <a:pt x="5" y="10459"/>
                </a:lnTo>
                <a:arcTo wR="10800" hR="10800" stAng="-10691471" swAng="10704052"/>
                <a:lnTo>
                  <a:pt x="24300" y="10849"/>
                </a:lnTo>
                <a:lnTo>
                  <a:pt x="20421" y="14700"/>
                </a:lnTo>
                <a:lnTo>
                  <a:pt x="16570" y="10821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7f54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61760" y="4204440"/>
            <a:ext cx="2392200" cy="621000"/>
          </a:xfrm>
          <a:custGeom>
            <a:avLst/>
            <a:gdLst>
              <a:gd name="textAreaLeft" fmla="*/ -360 w 2392200"/>
              <a:gd name="textAreaRight" fmla="*/ 2392200 w 2392200"/>
              <a:gd name="textAreaTop" fmla="*/ -360 h 621000"/>
              <a:gd name="textAreaBottom" fmla="*/ 621000 h 621000"/>
            </a:gdLst>
            <a:ahLst/>
            <a:rect l="textAreaLeft" t="textAreaTop" r="textAreaRight" b="textAreaBottom"/>
            <a:pathLst>
              <a:path w="21600" h="21600">
                <a:moveTo>
                  <a:pt x="2226" y="10832"/>
                </a:moveTo>
                <a:arcTo wR="-8574" hR="-8574" stAng="10787169" swAng="-10678640"/>
                <a:lnTo>
                  <a:pt x="5" y="10459"/>
                </a:lnTo>
                <a:arcTo wR="10800" hR="10800" stAng="-10691471" swAng="10678640"/>
                <a:lnTo>
                  <a:pt x="24300" y="10750"/>
                </a:lnTo>
                <a:lnTo>
                  <a:pt x="20501" y="14577"/>
                </a:lnTo>
                <a:lnTo>
                  <a:pt x="16674" y="10778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9b6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92000" y="14968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3440" y="531036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53280" y="53085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69120" y="16765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2400" y="165276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8280" y="1908000"/>
            <a:ext cx="1022400" cy="48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 rot="5400000">
            <a:off x="3361320" y="19368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ea9c00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679840" y="559584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9670200">
            <a:off x="2999160" y="527544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b639b9"/>
          </a:solidFill>
          <a:ln w="9360">
            <a:solidFill>
              <a:srgbClr val="969696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630760" y="560880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48400" y="19414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5400000">
            <a:off x="5971680" y="553752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3973b9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29920" y="198108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3973b9"/>
          </a:solidFill>
          <a:ln w="9360">
            <a:solidFill>
              <a:srgbClr val="3973b9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638440" y="19447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40400" y="5648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98840" y="564192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549760" y="19861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0800" y="16984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00760" y="534528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63560" y="538308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34240" y="16984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708640" y="1967400"/>
            <a:ext cx="3855960" cy="3857040"/>
            <a:chOff x="2708640" y="1967400"/>
            <a:chExt cx="3855960" cy="3857040"/>
          </a:xfrm>
        </p:grpSpPr>
        <p:sp>
          <p:nvSpPr>
            <p:cNvPr id="580" name=""/>
            <p:cNvSpPr/>
            <p:nvPr/>
          </p:nvSpPr>
          <p:spPr>
            <a:xfrm>
              <a:off x="3111480" y="2383920"/>
              <a:ext cx="3040920" cy="3021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99cc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3111480" y="2379600"/>
              <a:ext cx="3051360" cy="30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3111480" y="2379600"/>
              <a:ext cx="3035880" cy="30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39" y="1"/>
                  </a:moveTo>
                  <a:arcTo wR="10800" hR="10800" stAng="-5451245" swAng="31779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39" y="1"/>
                  </a:moveTo>
                  <a:arcTo wR="10800" hR="10800" stAng="-5451245" swAng="3177992"/>
                </a:path>
              </a:pathLst>
            </a:custGeom>
            <a:solidFill>
              <a:srgbClr val="3973b9">
                <a:alpha val="70000"/>
              </a:srgbClr>
            </a:solidFill>
            <a:ln w="9360">
              <a:solidFill>
                <a:srgbClr val="3973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5400000">
              <a:off x="3116160" y="2377080"/>
              <a:ext cx="3040200" cy="303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32" y="2384"/>
                  </a:moveTo>
                  <a:arcTo wR="10800" hR="10800" stAng="-7728407" swAng="5716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32" y="2384"/>
                  </a:moveTo>
                  <a:arcTo wR="10800" hR="10800" stAng="-7728407" swAng="5716793"/>
                </a:path>
              </a:pathLst>
            </a:custGeom>
            <a:solidFill>
              <a:srgbClr val="3973b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 rot="5400000">
              <a:off x="3123000" y="2381760"/>
              <a:ext cx="3024000" cy="303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1240"/>
                  </a:moveTo>
                  <a:arcTo wR="10800" hR="10800" stAng="10660061" swAng="10878067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1240"/>
                  </a:moveTo>
                  <a:arcTo wR="10800" hR="10800" stAng="10660061" swAng="10878067"/>
                </a:path>
              </a:pathLst>
            </a:custGeom>
            <a:solidFill>
              <a:srgbClr val="ea9c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075120" y="3926880"/>
              <a:ext cx="1736280" cy="1637280"/>
              <a:chOff x="3075120" y="3926880"/>
              <a:chExt cx="1736280" cy="1637280"/>
            </a:xfrm>
          </p:grpSpPr>
          <p:sp>
            <p:nvSpPr>
              <p:cNvPr id="586" name=""/>
              <p:cNvSpPr/>
              <p:nvPr/>
            </p:nvSpPr>
            <p:spPr>
              <a:xfrm flipV="1" rot="19510800">
                <a:off x="3481560" y="3886560"/>
                <a:ext cx="339840" cy="153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 rot="18694800">
                <a:off x="3635280" y="4089240"/>
                <a:ext cx="339840" cy="1530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 rot="18399600">
                <a:off x="3747600" y="418284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17867400">
                <a:off x="3885120" y="4291560"/>
                <a:ext cx="339840" cy="153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 rot="9670200">
              <a:off x="3117600" y="2376000"/>
              <a:ext cx="3037680" cy="30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20" y="364"/>
                  </a:moveTo>
                  <a:arcTo wR="10800" hR="10800" stAng="-6294958" swAng="1879222"/>
                  <a:lnTo>
                    <a:pt x="10800" y="10800"/>
                  </a:lnTo>
                  <a:close/>
                </a:path>
                <a:path fill="none" w="21600" h="21600">
                  <a:moveTo>
                    <a:pt x="8020" y="364"/>
                  </a:moveTo>
                  <a:arcTo wR="10800" hR="10800" stAng="-6294958" swAng="1879222"/>
                </a:path>
              </a:pathLst>
            </a:custGeom>
            <a:gradFill rotWithShape="0">
              <a:gsLst>
                <a:gs pos="0">
                  <a:srgbClr val="b639b9">
                    <a:alpha val="70196"/>
                  </a:srgbClr>
                </a:gs>
                <a:gs pos="100000">
                  <a:srgbClr val="531a55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14440" y="3392640"/>
              <a:ext cx="1035000" cy="10346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44960" y="3668760"/>
              <a:ext cx="8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40960" y="384840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64160" y="279144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64160" y="47548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4416120" y="2382840"/>
              <a:ext cx="1679400" cy="1388520"/>
              <a:chOff x="4416120" y="2382840"/>
              <a:chExt cx="1679400" cy="138852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4782600" y="2382840"/>
                <a:ext cx="1312920" cy="1388520"/>
                <a:chOff x="4782600" y="2382840"/>
                <a:chExt cx="1312920" cy="1388520"/>
              </a:xfrm>
            </p:grpSpPr>
            <p:sp>
              <p:nvSpPr>
                <p:cNvPr id="598" name=""/>
                <p:cNvSpPr/>
                <p:nvPr/>
              </p:nvSpPr>
              <p:spPr>
                <a:xfrm flipV="1" rot="8983800">
                  <a:off x="5532840" y="2561400"/>
                  <a:ext cx="27252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 rot="8167800">
                  <a:off x="5423400" y="2390040"/>
                  <a:ext cx="27252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V="1" rot="7872600">
                  <a:off x="5339160" y="2307960"/>
                  <a:ext cx="27252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 rot="7340400">
                  <a:off x="5236200" y="2213280"/>
                  <a:ext cx="272520" cy="122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416120" y="2390040"/>
                <a:ext cx="1604880" cy="966240"/>
                <a:chOff x="4416120" y="2390040"/>
                <a:chExt cx="1604880" cy="966240"/>
              </a:xfrm>
            </p:grpSpPr>
            <p:sp>
              <p:nvSpPr>
                <p:cNvPr id="603" name=""/>
                <p:cNvSpPr/>
                <p:nvPr/>
              </p:nvSpPr>
              <p:spPr>
                <a:xfrm flipV="1" rot="7630800">
                  <a:off x="5312880" y="2263680"/>
                  <a:ext cx="273960" cy="122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 rot="6814800">
                  <a:off x="5145840" y="2147400"/>
                  <a:ext cx="273600" cy="122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 rot="6519600">
                  <a:off x="5037120" y="2104560"/>
                  <a:ext cx="273960" cy="122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 rot="5987400">
                  <a:off x="4905360" y="2055960"/>
                  <a:ext cx="273960" cy="122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3332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 rot="16200000">
            <a:off x="1733400" y="536832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639b9"/>
              </a:gs>
              <a:gs pos="100000">
                <a:srgbClr val="892a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 rot="16200000">
            <a:off x="936360" y="518724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6ad23"/>
              </a:gs>
              <a:gs pos="100000">
                <a:srgbClr val="7182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2688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101600" y="2257560"/>
            <a:ext cx="6857640" cy="1493280"/>
            <a:chOff x="1101600" y="2257560"/>
            <a:chExt cx="6857640" cy="1493280"/>
          </a:xfrm>
        </p:grpSpPr>
        <p:sp>
          <p:nvSpPr>
            <p:cNvPr id="613" name=""/>
            <p:cNvSpPr/>
            <p:nvPr/>
          </p:nvSpPr>
          <p:spPr>
            <a:xfrm>
              <a:off x="1117440" y="225756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01600" y="230868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495440" y="2347920"/>
            <a:ext cx="1238400" cy="1265040"/>
            <a:chOff x="1495440" y="2347920"/>
            <a:chExt cx="1238400" cy="1265040"/>
          </a:xfrm>
        </p:grpSpPr>
        <p:sp>
          <p:nvSpPr>
            <p:cNvPr id="616" name=""/>
            <p:cNvSpPr/>
            <p:nvPr/>
          </p:nvSpPr>
          <p:spPr>
            <a:xfrm>
              <a:off x="1495440" y="2390400"/>
              <a:ext cx="1238400" cy="1222560"/>
            </a:xfrm>
            <a:prstGeom prst="ellipse">
              <a:avLst/>
            </a:prstGeom>
            <a:solidFill>
              <a:srgbClr val="96ad23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1600560" y="2347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"/>
          <p:cNvSpPr/>
          <p:nvPr/>
        </p:nvSpPr>
        <p:spPr>
          <a:xfrm>
            <a:off x="1764000" y="2836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995560" y="2751120"/>
            <a:ext cx="696960" cy="442800"/>
          </a:xfrm>
          <a:prstGeom prst="rightArrow">
            <a:avLst>
              <a:gd name="adj1" fmla="val 49380"/>
              <a:gd name="adj2" fmla="val 38883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921120" y="2324160"/>
            <a:ext cx="1238400" cy="1264680"/>
            <a:chOff x="3921120" y="2324160"/>
            <a:chExt cx="1238400" cy="1264680"/>
          </a:xfrm>
        </p:grpSpPr>
        <p:sp>
          <p:nvSpPr>
            <p:cNvPr id="621" name=""/>
            <p:cNvSpPr/>
            <p:nvPr/>
          </p:nvSpPr>
          <p:spPr>
            <a:xfrm>
              <a:off x="3921120" y="2366640"/>
              <a:ext cx="1238400" cy="1222200"/>
            </a:xfrm>
            <a:prstGeom prst="ellipse">
              <a:avLst/>
            </a:prstGeom>
            <a:solidFill>
              <a:srgbClr val="3973b9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2"/>
            <a:stretch/>
          </p:blipFill>
          <p:spPr>
            <a:xfrm>
              <a:off x="4026240" y="232416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"/>
          <p:cNvSpPr/>
          <p:nvPr/>
        </p:nvSpPr>
        <p:spPr>
          <a:xfrm>
            <a:off x="41878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292720" y="276696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6372360" y="2324160"/>
            <a:ext cx="1236600" cy="1264680"/>
            <a:chOff x="6372360" y="2324160"/>
            <a:chExt cx="1236600" cy="1264680"/>
          </a:xfrm>
        </p:grpSpPr>
        <p:sp>
          <p:nvSpPr>
            <p:cNvPr id="626" name=""/>
            <p:cNvSpPr/>
            <p:nvPr/>
          </p:nvSpPr>
          <p:spPr>
            <a:xfrm>
              <a:off x="6372360" y="2366640"/>
              <a:ext cx="1236600" cy="1222200"/>
            </a:xfrm>
            <a:prstGeom prst="ellipse">
              <a:avLst/>
            </a:prstGeom>
            <a:solidFill>
              <a:srgbClr val="b639b9"/>
            </a:solidFill>
            <a:ln w="6336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3"/>
            <a:stretch/>
          </p:blipFill>
          <p:spPr>
            <a:xfrm>
              <a:off x="6477120" y="232416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/>
          <p:cNvSpPr/>
          <p:nvPr/>
        </p:nvSpPr>
        <p:spPr>
          <a:xfrm>
            <a:off x="6637680" y="281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33680" y="56088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 rot="16200000">
            <a:off x="4255560" y="518724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639b9"/>
              </a:gs>
              <a:gs pos="100000">
                <a:srgbClr val="892a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 rot="16200000">
            <a:off x="3376800" y="493920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6ad23"/>
              </a:gs>
              <a:gs pos="100000">
                <a:srgbClr val="7182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45120" y="560880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 rot="16200000">
            <a:off x="6641640" y="497196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639b9"/>
              </a:gs>
              <a:gs pos="100000">
                <a:srgbClr val="892a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 rot="16200000">
            <a:off x="5753160" y="4694760"/>
            <a:ext cx="18957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96ad23"/>
              </a:gs>
              <a:gs pos="100000">
                <a:srgbClr val="7182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164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575400" y="589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03440" y="4605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243160" y="50626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356000" y="44179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938840" y="492588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959520" y="396396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597800" y="449280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197000" y="154152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639b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042920" y="5603760"/>
            <a:ext cx="3306960" cy="48744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11600" y="5576760"/>
            <a:ext cx="3305160" cy="48600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ontent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47680" y="2655720"/>
            <a:ext cx="3106800" cy="3076560"/>
            <a:chOff x="1147680" y="2655720"/>
            <a:chExt cx="3106800" cy="3076560"/>
          </a:xfrm>
        </p:grpSpPr>
        <p:sp>
          <p:nvSpPr>
            <p:cNvPr id="100" name=""/>
            <p:cNvSpPr/>
            <p:nvPr/>
          </p:nvSpPr>
          <p:spPr>
            <a:xfrm>
              <a:off x="3757680" y="26589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4d4d4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92200" y="265572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4d4d4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47680" y="285408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74f80"/>
                </a:gs>
                <a:gs pos="50000">
                  <a:srgbClr val="3973b9"/>
                </a:gs>
                <a:gs pos="100000">
                  <a:srgbClr val="274f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7680" y="338760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1436d"/>
                </a:gs>
                <a:gs pos="50000">
                  <a:srgbClr val="3973b9"/>
                </a:gs>
                <a:gs pos="100000">
                  <a:srgbClr val="2143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7680" y="39211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74f80"/>
                </a:gs>
                <a:gs pos="50000">
                  <a:srgbClr val="3973b9"/>
                </a:gs>
                <a:gs pos="100000">
                  <a:srgbClr val="274f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7680" y="445428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1436d"/>
                </a:gs>
                <a:gs pos="50000">
                  <a:srgbClr val="3973b9"/>
                </a:gs>
                <a:gs pos="100000">
                  <a:srgbClr val="2143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7680" y="498780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274f80"/>
                </a:gs>
                <a:gs pos="50000">
                  <a:srgbClr val="3973b9"/>
                </a:gs>
                <a:gs pos="100000">
                  <a:srgbClr val="274f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73320" y="153684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68840" y="2651040"/>
            <a:ext cx="3191040" cy="3081240"/>
            <a:chOff x="4668840" y="2651040"/>
            <a:chExt cx="3191040" cy="3081240"/>
          </a:xfrm>
        </p:grpSpPr>
        <p:sp>
          <p:nvSpPr>
            <p:cNvPr id="109" name=""/>
            <p:cNvSpPr/>
            <p:nvPr/>
          </p:nvSpPr>
          <p:spPr>
            <a:xfrm>
              <a:off x="7399440" y="26510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4d4d4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6880" y="26589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4d4d4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68840" y="28591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87818"/>
                </a:gs>
                <a:gs pos="50000">
                  <a:srgbClr val="96ad23"/>
                </a:gs>
                <a:gs pos="100000">
                  <a:srgbClr val="6878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68840" y="339228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86614"/>
                </a:gs>
                <a:gs pos="50000">
                  <a:srgbClr val="96ad23"/>
                </a:gs>
                <a:gs pos="100000">
                  <a:srgbClr val="5866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68840" y="392580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87818"/>
                </a:gs>
                <a:gs pos="50000">
                  <a:srgbClr val="96ad23"/>
                </a:gs>
                <a:gs pos="100000">
                  <a:srgbClr val="6878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68840" y="44593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586614"/>
                </a:gs>
                <a:gs pos="50000">
                  <a:srgbClr val="96ad23"/>
                </a:gs>
                <a:gs pos="100000">
                  <a:srgbClr val="5866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8840" y="499248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687818"/>
                </a:gs>
                <a:gs pos="50000">
                  <a:srgbClr val="96ad23"/>
                </a:gs>
                <a:gs pos="100000">
                  <a:srgbClr val="6878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009880" y="56624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75320" y="56228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19640" y="346860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689280" y="214776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Your text 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343240" y="4525920"/>
            <a:ext cx="11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03800" y="4546440"/>
            <a:ext cx="11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ad2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6ad2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73b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973b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639b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b639b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5400000">
            <a:off x="7412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3973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175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348444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b639b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607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rot="5400000">
            <a:off x="618948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ea9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6580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673" name="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0668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39b9">
                    <a:alpha val="90196"/>
                  </a:srgbClr>
                </a:gs>
                <a:gs pos="50000">
                  <a:srgbClr val="e5bbe6"/>
                </a:gs>
                <a:gs pos="100000">
                  <a:srgbClr val="b639b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677" name="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358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9c00">
                    <a:alpha val="90196"/>
                  </a:srgbClr>
                </a:gs>
                <a:gs pos="50000">
                  <a:srgbClr val="f6dca8"/>
                </a:gs>
                <a:gs pos="100000">
                  <a:srgbClr val="ea9c00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681" name="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42942"/>
                </a:gs>
                <a:gs pos="50000">
                  <a:srgbClr val="3973b9"/>
                </a:gs>
                <a:gs pos="100000">
                  <a:srgbClr val="142942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604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73b9">
                    <a:alpha val="90196"/>
                  </a:srgbClr>
                </a:gs>
                <a:gs pos="50000">
                  <a:srgbClr val="bbcee6"/>
                </a:gs>
                <a:gs pos="100000">
                  <a:srgbClr val="3973b9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973b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639b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9c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65200" y="2511360"/>
            <a:ext cx="7740720" cy="619200"/>
          </a:xfrm>
          <a:prstGeom prst="rect">
            <a:avLst/>
          </a:pr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54040" y="2511360"/>
            <a:ext cx="2053440" cy="618840"/>
            <a:chOff x="554040" y="2511360"/>
            <a:chExt cx="2053440" cy="618840"/>
          </a:xfrm>
        </p:grpSpPr>
        <p:sp>
          <p:nvSpPr>
            <p:cNvPr id="690" name=""/>
            <p:cNvSpPr/>
            <p:nvPr/>
          </p:nvSpPr>
          <p:spPr>
            <a:xfrm>
              <a:off x="554040" y="2511360"/>
              <a:ext cx="1915920" cy="618840"/>
            </a:xfrm>
            <a:prstGeom prst="rect">
              <a:avLst/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5400000">
              <a:off x="2367720" y="272628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97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2468520" y="26431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6360" y="26179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0402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68880" y="26780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07280" y="2643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5104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b4c465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3212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49ccd"/>
              </a:gs>
              <a:gs pos="100000">
                <a:srgbClr val="3973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22920" y="326088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749ccd"/>
              </a:gs>
              <a:gs pos="100000">
                <a:srgbClr val="3973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765840" y="326088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749ccd"/>
              </a:gs>
              <a:gs pos="100000">
                <a:srgbClr val="3973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stCxn id="698" idx="3"/>
            <a:endCxn id="699" idx="1"/>
          </p:cNvCxnSpPr>
          <p:nvPr/>
        </p:nvCxnSpPr>
        <p:spPr>
          <a:xfrm>
            <a:off x="1965240" y="38174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03" name=""/>
          <p:cNvCxnSpPr>
            <a:stCxn id="699" idx="3"/>
            <a:endCxn id="700" idx="1"/>
          </p:cNvCxnSpPr>
          <p:nvPr/>
        </p:nvCxnSpPr>
        <p:spPr>
          <a:xfrm>
            <a:off x="3946680" y="38174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704" name=""/>
          <p:cNvCxnSpPr>
            <a:stCxn id="700" idx="3"/>
            <a:endCxn id="701" idx="1"/>
          </p:cNvCxnSpPr>
          <p:nvPr/>
        </p:nvCxnSpPr>
        <p:spPr>
          <a:xfrm>
            <a:off x="5937120" y="38174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705" name=""/>
          <p:cNvSpPr/>
          <p:nvPr/>
        </p:nvSpPr>
        <p:spPr>
          <a:xfrm>
            <a:off x="95400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43360" y="35863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5288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905520" y="3586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9688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540160" y="446580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436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02320" y="446580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09720" y="172548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Block Diagra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 rot="18480600">
            <a:off x="1344960" y="3627720"/>
            <a:ext cx="3256200" cy="44136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1887480" y="285912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4979880" y="290520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4202280" y="2854440"/>
            <a:ext cx="625320" cy="2103480"/>
            <a:chOff x="4202280" y="2854440"/>
            <a:chExt cx="625320" cy="2103480"/>
          </a:xfrm>
        </p:grpSpPr>
        <p:sp>
          <p:nvSpPr>
            <p:cNvPr id="719" name=""/>
            <p:cNvSpPr/>
            <p:nvPr/>
          </p:nvSpPr>
          <p:spPr>
            <a:xfrm>
              <a:off x="4202280" y="28544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97040" y="33274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386080" y="3089160"/>
            <a:ext cx="587160" cy="74160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5996160" y="3205080"/>
            <a:ext cx="529920" cy="56052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990720" y="4255920"/>
            <a:ext cx="174924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065240" y="4335480"/>
            <a:ext cx="159552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1122480" y="4392720"/>
            <a:ext cx="1492200" cy="145728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1122480" y="439272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242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242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274760" y="442116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83280" y="425592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156360" y="433548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6215040" y="43927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6215040" y="4392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53542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535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367320" y="442116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320520" y="5403960"/>
            <a:ext cx="1310040" cy="522000"/>
            <a:chOff x="6320520" y="5403960"/>
            <a:chExt cx="1310040" cy="522000"/>
          </a:xfrm>
        </p:grpSpPr>
        <p:grpSp>
          <p:nvGrpSpPr>
            <p:cNvPr id="734" name=""/>
            <p:cNvGrpSpPr/>
            <p:nvPr/>
          </p:nvGrpSpPr>
          <p:grpSpPr>
            <a:xfrm>
              <a:off x="6549840" y="5403960"/>
              <a:ext cx="1080720" cy="491400"/>
              <a:chOff x="6549840" y="5403960"/>
              <a:chExt cx="1080720" cy="491400"/>
            </a:xfrm>
          </p:grpSpPr>
          <p:sp>
            <p:nvSpPr>
              <p:cNvPr id="735" name=""/>
              <p:cNvSpPr/>
              <p:nvPr/>
            </p:nvSpPr>
            <p:spPr>
              <a:xfrm flipH="1" flipV="1" rot="3964800">
                <a:off x="7138080" y="52563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 rot="4780200">
                <a:off x="7017480" y="53042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 rot="5076000">
                <a:off x="6942600" y="531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 rot="5608200">
                <a:off x="6852240" y="53236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6320520" y="5410080"/>
              <a:ext cx="1080000" cy="515880"/>
              <a:chOff x="6320520" y="5410080"/>
              <a:chExt cx="1080000" cy="515880"/>
            </a:xfrm>
          </p:grpSpPr>
          <p:sp>
            <p:nvSpPr>
              <p:cNvPr id="740" name=""/>
              <p:cNvSpPr/>
              <p:nvPr/>
            </p:nvSpPr>
            <p:spPr>
              <a:xfrm flipH="1" flipV="1" rot="5317800">
                <a:off x="6909840" y="53222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 rot="6133800">
                <a:off x="6778800" y="53208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6429000">
                <a:off x="6706080" y="53024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 rot="6961200">
                <a:off x="6619680" y="52747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"/>
          <p:cNvSpPr/>
          <p:nvPr/>
        </p:nvSpPr>
        <p:spPr>
          <a:xfrm>
            <a:off x="3611520" y="425592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84600" y="433548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4f4f4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3743280" y="4392720"/>
            <a:ext cx="1490760" cy="145728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3743280" y="439272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235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235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895560" y="442116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3848760" y="5403960"/>
            <a:ext cx="1310040" cy="522000"/>
            <a:chOff x="3848760" y="5403960"/>
            <a:chExt cx="1310040" cy="522000"/>
          </a:xfrm>
        </p:grpSpPr>
        <p:grpSp>
          <p:nvGrpSpPr>
            <p:cNvPr id="750" name=""/>
            <p:cNvGrpSpPr/>
            <p:nvPr/>
          </p:nvGrpSpPr>
          <p:grpSpPr>
            <a:xfrm>
              <a:off x="4078080" y="5403960"/>
              <a:ext cx="1080720" cy="491400"/>
              <a:chOff x="4078080" y="5403960"/>
              <a:chExt cx="1080720" cy="491400"/>
            </a:xfrm>
          </p:grpSpPr>
          <p:sp>
            <p:nvSpPr>
              <p:cNvPr id="751" name=""/>
              <p:cNvSpPr/>
              <p:nvPr/>
            </p:nvSpPr>
            <p:spPr>
              <a:xfrm flipH="1" flipV="1" rot="3964800">
                <a:off x="4666320" y="52563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 flipV="1" rot="4780200">
                <a:off x="4545720" y="53042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flipV="1" rot="5076000">
                <a:off x="4470840" y="531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 rot="5608200">
                <a:off x="4380480" y="53236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3848760" y="5410080"/>
              <a:ext cx="1080000" cy="515880"/>
              <a:chOff x="3848760" y="5410080"/>
              <a:chExt cx="1080000" cy="515880"/>
            </a:xfrm>
          </p:grpSpPr>
          <p:sp>
            <p:nvSpPr>
              <p:cNvPr id="756" name=""/>
              <p:cNvSpPr/>
              <p:nvPr/>
            </p:nvSpPr>
            <p:spPr>
              <a:xfrm flipH="1" flipV="1" rot="5317800">
                <a:off x="4438080" y="53222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 flipV="1" rot="6133800">
                <a:off x="4307040" y="53208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 flipV="1" rot="6429000">
                <a:off x="4234320" y="53024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 rot="6961200">
                <a:off x="4147920" y="52747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 rot="3050400">
            <a:off x="4367520" y="3628080"/>
            <a:ext cx="3256200" cy="4410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3863160" y="49449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15360" y="49449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339600" y="49449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633680" y="226548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216800" y="5403960"/>
            <a:ext cx="1310040" cy="522000"/>
            <a:chOff x="1216800" y="5403960"/>
            <a:chExt cx="1310040" cy="522000"/>
          </a:xfrm>
        </p:grpSpPr>
        <p:grpSp>
          <p:nvGrpSpPr>
            <p:cNvPr id="766" name=""/>
            <p:cNvGrpSpPr/>
            <p:nvPr/>
          </p:nvGrpSpPr>
          <p:grpSpPr>
            <a:xfrm>
              <a:off x="1446120" y="5403960"/>
              <a:ext cx="1080720" cy="491400"/>
              <a:chOff x="1446120" y="5403960"/>
              <a:chExt cx="1080720" cy="491400"/>
            </a:xfrm>
          </p:grpSpPr>
          <p:sp>
            <p:nvSpPr>
              <p:cNvPr id="767" name=""/>
              <p:cNvSpPr/>
              <p:nvPr/>
            </p:nvSpPr>
            <p:spPr>
              <a:xfrm flipH="1" flipV="1" rot="3964800">
                <a:off x="2034360" y="52563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 rot="4780200">
                <a:off x="1913760" y="53042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5076000">
                <a:off x="1838880" y="531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 rot="5608200">
                <a:off x="1748520" y="53236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1216800" y="5410080"/>
              <a:ext cx="1080000" cy="515880"/>
              <a:chOff x="1216800" y="5410080"/>
              <a:chExt cx="1080000" cy="515880"/>
            </a:xfrm>
          </p:grpSpPr>
          <p:sp>
            <p:nvSpPr>
              <p:cNvPr id="772" name=""/>
              <p:cNvSpPr/>
              <p:nvPr/>
            </p:nvSpPr>
            <p:spPr>
              <a:xfrm flipH="1" flipV="1" rot="5317800">
                <a:off x="1806120" y="53222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 rot="6133800">
                <a:off x="1675080" y="53208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 rot="6429000">
                <a:off x="1602360" y="53024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 flipV="1" rot="6961200">
                <a:off x="1515960" y="52747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6" name=""/>
          <p:cNvGrpSpPr/>
          <p:nvPr/>
        </p:nvGrpSpPr>
        <p:grpSpPr>
          <a:xfrm>
            <a:off x="2286000" y="1533600"/>
            <a:ext cx="4266720" cy="617400"/>
            <a:chOff x="2286000" y="1533600"/>
            <a:chExt cx="4266720" cy="617400"/>
          </a:xfrm>
        </p:grpSpPr>
        <p:grpSp>
          <p:nvGrpSpPr>
            <p:cNvPr id="777" name=""/>
            <p:cNvGrpSpPr/>
            <p:nvPr/>
          </p:nvGrpSpPr>
          <p:grpSpPr>
            <a:xfrm>
              <a:off x="2286000" y="1533600"/>
              <a:ext cx="4266720" cy="617400"/>
              <a:chOff x="2286000" y="1533600"/>
              <a:chExt cx="4266720" cy="617400"/>
            </a:xfrm>
          </p:grpSpPr>
          <p:sp>
            <p:nvSpPr>
              <p:cNvPr id="778" name=""/>
              <p:cNvSpPr/>
              <p:nvPr/>
            </p:nvSpPr>
            <p:spPr>
              <a:xfrm>
                <a:off x="2286000" y="153360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8a8ca"/>
                  </a:gs>
                  <a:gs pos="50000">
                    <a:srgbClr val="000066">
                      <a:alpha val="90196"/>
                    </a:srgbClr>
                  </a:gs>
                  <a:gs pos="100000">
                    <a:srgbClr val="a8a8c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348640" y="158616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9c00">
                      <a:alpha val="90196"/>
                    </a:srgbClr>
                  </a:gs>
                  <a:gs pos="50000">
                    <a:srgbClr val="f3ce82"/>
                  </a:gs>
                  <a:gs pos="100000">
                    <a:srgbClr val="ea9c00">
                      <a:alpha val="9019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2638440" y="172872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3-D Pie Char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743840" y="860760"/>
            <a:ext cx="4982040" cy="3742200"/>
            <a:chOff x="1743840" y="860760"/>
            <a:chExt cx="4982040" cy="3742200"/>
          </a:xfrm>
        </p:grpSpPr>
        <p:sp>
          <p:nvSpPr>
            <p:cNvPr id="783" name=""/>
            <p:cNvSpPr/>
            <p:nvPr/>
          </p:nvSpPr>
          <p:spPr>
            <a:xfrm>
              <a:off x="2774880" y="3392640"/>
              <a:ext cx="3765600" cy="88416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0601600">
              <a:off x="2284200" y="1983960"/>
              <a:ext cx="390060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0601600">
              <a:off x="2322000" y="1876320"/>
              <a:ext cx="3765600" cy="1947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20601600">
              <a:off x="2265480" y="1870200"/>
              <a:ext cx="3857400" cy="194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973b9"/>
                </a:gs>
                <a:gs pos="100000">
                  <a:srgbClr val="80a5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rot="20602200">
              <a:off x="2301120" y="1864080"/>
              <a:ext cx="3819600" cy="196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96ad23"/>
                </a:gs>
                <a:gs pos="100000">
                  <a:srgbClr val="68781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0601600">
              <a:off x="2267280" y="1874160"/>
              <a:ext cx="3846240" cy="18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832985"/>
                </a:gs>
                <a:gs pos="100000">
                  <a:srgbClr val="b639b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rot="20602200">
              <a:off x="2275560" y="1868760"/>
              <a:ext cx="3860280" cy="195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1a3555"/>
                </a:gs>
                <a:gs pos="100000">
                  <a:srgbClr val="3973b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25960" y="2830680"/>
              <a:ext cx="1187280" cy="11858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a9c00"/>
                </a:gs>
                <a:gs pos="100000">
                  <a:srgbClr val="f4d1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20539200">
              <a:off x="2021400" y="1473480"/>
              <a:ext cx="4426920" cy="251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ea9c00"/>
                </a:gs>
                <a:gs pos="100000">
                  <a:srgbClr val="6b4700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356000" y="3057480"/>
              <a:ext cx="696960" cy="98280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a9c00"/>
                </a:gs>
                <a:gs pos="100000">
                  <a:srgbClr val="f4d1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20601600">
              <a:off x="3311280" y="2352240"/>
              <a:ext cx="1824120" cy="893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82280" y="28544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72880" y="20448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90320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07760" y="35164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02000" y="3201840"/>
              <a:ext cx="584280" cy="71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20601600">
              <a:off x="3379680" y="2521080"/>
              <a:ext cx="175104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"/>
          <p:cNvCxnSpPr/>
          <p:nvPr/>
        </p:nvCxnSpPr>
        <p:spPr>
          <a:xfrm flipV="1" rot="10800000">
            <a:off x="569196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"/>
          <p:cNvCxnSpPr/>
          <p:nvPr/>
        </p:nvCxnSpPr>
        <p:spPr>
          <a:xfrm>
            <a:off x="2494080" y="233208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/>
          <p:nvPr/>
        </p:nvCxnSpPr>
        <p:spPr>
          <a:xfrm>
            <a:off x="392256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"/>
          <p:cNvCxnSpPr/>
          <p:nvPr/>
        </p:nvCxnSpPr>
        <p:spPr>
          <a:xfrm rot="10800000">
            <a:off x="588420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"/>
          <p:cNvCxnSpPr>
            <a:stCxn id="809" idx="3"/>
          </p:cNvCxnSpPr>
          <p:nvPr/>
        </p:nvCxnSpPr>
        <p:spPr>
          <a:xfrm flipV="1">
            <a:off x="3200040" y="3938400"/>
            <a:ext cx="34380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812" name="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813" name="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29528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4290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54328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29528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c8c8c8"/>
                </a:gs>
                <a:gs pos="100000">
                  <a:srgbClr val="9696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3425760" y="4487400"/>
              <a:ext cx="187200" cy="2062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5343120" y="4492440"/>
              <a:ext cx="190440" cy="2224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16200000">
            <a:off x="3263760" y="1488960"/>
            <a:ext cx="1908000" cy="50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rot="16200000">
            <a:off x="3433680" y="1363680"/>
            <a:ext cx="1712520" cy="484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d1dba1"/>
              </a:gs>
              <a:gs pos="100000">
                <a:srgbClr val="96ad2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16200000">
            <a:off x="3350520" y="1477080"/>
            <a:ext cx="1755360" cy="477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2" y="20932"/>
                </a:moveTo>
                <a:arcTo wR="10800" hR="10800" stAng="6615024" swAng="18750034"/>
                <a:lnTo>
                  <a:pt x="10800" y="10800"/>
                </a:lnTo>
                <a:close/>
              </a:path>
              <a:path fill="none" w="21600" h="21600">
                <a:moveTo>
                  <a:pt x="7062" y="20932"/>
                </a:moveTo>
                <a:arcTo wR="10800" hR="10800" stAng="6615024" swAng="18750034"/>
              </a:path>
            </a:pathLst>
          </a:custGeom>
          <a:gradFill rotWithShape="0">
            <a:gsLst>
              <a:gs pos="0">
                <a:srgbClr val="aec5e1"/>
              </a:gs>
              <a:gs pos="100000">
                <a:srgbClr val="3973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602320" y="37130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88280" y="4146480"/>
            <a:ext cx="0" cy="142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188880" y="3836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523880" y="2792880"/>
            <a:ext cx="5842440" cy="2289600"/>
            <a:chOff x="1523880" y="2792880"/>
            <a:chExt cx="5842440" cy="2289600"/>
          </a:xfrm>
        </p:grpSpPr>
        <p:sp>
          <p:nvSpPr>
            <p:cNvPr id="836" name=""/>
            <p:cNvSpPr/>
            <p:nvPr/>
          </p:nvSpPr>
          <p:spPr>
            <a:xfrm rot="16200000">
              <a:off x="3300120" y="1016280"/>
              <a:ext cx="2289600" cy="584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5d1d5e"/>
                </a:gs>
                <a:gs pos="100000">
                  <a:srgbClr val="b63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26040" y="3163680"/>
              <a:ext cx="277560" cy="366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b63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"/>
          <p:cNvSpPr/>
          <p:nvPr/>
        </p:nvSpPr>
        <p:spPr>
          <a:xfrm rot="16200000">
            <a:off x="3313800" y="810720"/>
            <a:ext cx="2291760" cy="585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e0af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362320" y="3124080"/>
            <a:ext cx="11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191120" y="4122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786280" y="50896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038480" y="50292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162560" y="39402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0" y="3581280"/>
            <a:ext cx="2028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71400" y="507672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" y="4724280"/>
            <a:ext cx="151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058840" y="36576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4343400" y="2133720"/>
            <a:ext cx="701640" cy="1295280"/>
            <a:chOff x="4343400" y="2133720"/>
            <a:chExt cx="701640" cy="1295280"/>
          </a:xfrm>
        </p:grpSpPr>
        <p:sp>
          <p:nvSpPr>
            <p:cNvPr id="849" name=""/>
            <p:cNvSpPr/>
            <p:nvPr/>
          </p:nvSpPr>
          <p:spPr>
            <a:xfrm>
              <a:off x="4343400" y="238680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550760" y="213372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39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105520" y="2133720"/>
            <a:ext cx="660240" cy="1314000"/>
            <a:chOff x="5105520" y="2133720"/>
            <a:chExt cx="660240" cy="1314000"/>
          </a:xfrm>
        </p:grpSpPr>
        <p:sp>
          <p:nvSpPr>
            <p:cNvPr id="852" name=""/>
            <p:cNvSpPr/>
            <p:nvPr/>
          </p:nvSpPr>
          <p:spPr>
            <a:xfrm>
              <a:off x="5105520" y="236340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01360" y="213372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5d6d5"/>
                </a:gs>
                <a:gs pos="100000">
                  <a:srgbClr val="f0b5b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971720" y="125244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454f1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6b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639b9"/>
              </a:gs>
              <a:gs pos="100000">
                <a:srgbClr val="531a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1a355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73b9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9c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165320" y="1871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380960" y="38149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16200000">
            <a:off x="2795760" y="2338920"/>
            <a:ext cx="1315440" cy="351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2904840" y="2266560"/>
            <a:ext cx="1196640" cy="33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f5d492"/>
              </a:gs>
              <a:gs pos="100000">
                <a:srgbClr val="ea9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rot="16200000">
            <a:off x="2852640" y="2354760"/>
            <a:ext cx="1194840" cy="334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da9ed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rot="16200000">
            <a:off x="2844360" y="2343600"/>
            <a:ext cx="1226520" cy="333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aec5e1"/>
              </a:gs>
              <a:gs pos="100000">
                <a:srgbClr val="3973b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241880" y="40942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675320" y="382896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38560" y="4210200"/>
            <a:ext cx="0" cy="1602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680000" y="4433760"/>
            <a:ext cx="0" cy="11268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734920" y="3994200"/>
            <a:ext cx="87948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rot="16200000">
            <a:off x="2813400" y="2022480"/>
            <a:ext cx="1599120" cy="408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4c5811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343480" y="35244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rot="16200000">
            <a:off x="2822400" y="1881720"/>
            <a:ext cx="1600200" cy="40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96ad23"/>
              </a:gs>
              <a:gs pos="100000">
                <a:srgbClr val="d4dda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164040" y="332568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"/>
          <p:cNvCxnSpPr>
            <a:endCxn id="887" idx="3"/>
          </p:cNvCxnSpPr>
          <p:nvPr/>
        </p:nvCxnSpPr>
        <p:spPr>
          <a:xfrm flipV="1" rot="10800000">
            <a:off x="3975840" y="275724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889" name=""/>
          <p:cNvCxnSpPr>
            <a:endCxn id="880" idx="3"/>
          </p:cNvCxnSpPr>
          <p:nvPr/>
        </p:nvCxnSpPr>
        <p:spPr>
          <a:xfrm rot="10800000">
            <a:off x="5139720" y="398088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890" name=""/>
          <p:cNvSpPr/>
          <p:nvPr/>
        </p:nvSpPr>
        <p:spPr>
          <a:xfrm>
            <a:off x="3433680" y="4194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6070680" y="2573280"/>
            <a:ext cx="1758960" cy="418680"/>
            <a:chOff x="6070680" y="2573280"/>
            <a:chExt cx="1758960" cy="418680"/>
          </a:xfrm>
        </p:grpSpPr>
        <p:sp>
          <p:nvSpPr>
            <p:cNvPr id="892" name=""/>
            <p:cNvSpPr/>
            <p:nvPr/>
          </p:nvSpPr>
          <p:spPr>
            <a:xfrm>
              <a:off x="6174360" y="28144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70680" y="25732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96ad23"/>
                </a:gs>
                <a:gs pos="100000">
                  <a:srgbClr val="c4d1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070680" y="3921120"/>
            <a:ext cx="1758960" cy="418680"/>
            <a:chOff x="6070680" y="3921120"/>
            <a:chExt cx="1758960" cy="418680"/>
          </a:xfrm>
        </p:grpSpPr>
        <p:sp>
          <p:nvSpPr>
            <p:cNvPr id="895" name=""/>
            <p:cNvSpPr/>
            <p:nvPr/>
          </p:nvSpPr>
          <p:spPr>
            <a:xfrm>
              <a:off x="6174360" y="4162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70680" y="3921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ea9c00"/>
                </a:gs>
                <a:gs pos="100000">
                  <a:srgbClr val="f3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357800" y="4807080"/>
            <a:ext cx="1758960" cy="418680"/>
            <a:chOff x="4357800" y="4807080"/>
            <a:chExt cx="1758960" cy="418680"/>
          </a:xfrm>
        </p:grpSpPr>
        <p:sp>
          <p:nvSpPr>
            <p:cNvPr id="898" name=""/>
            <p:cNvSpPr/>
            <p:nvPr/>
          </p:nvSpPr>
          <p:spPr>
            <a:xfrm>
              <a:off x="4461480" y="50482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357800" y="480708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b639b9"/>
                </a:gs>
                <a:gs pos="100000">
                  <a:srgbClr val="dca4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452600" y="5016600"/>
            <a:ext cx="1758960" cy="418680"/>
            <a:chOff x="1452600" y="5016600"/>
            <a:chExt cx="1758960" cy="418680"/>
          </a:xfrm>
        </p:grpSpPr>
        <p:sp>
          <p:nvSpPr>
            <p:cNvPr id="901" name=""/>
            <p:cNvSpPr/>
            <p:nvPr/>
          </p:nvSpPr>
          <p:spPr>
            <a:xfrm>
              <a:off x="1556280" y="5257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52600" y="5016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3973b9"/>
                </a:gs>
                <a:gs pos="100000">
                  <a:srgbClr val="c7d7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03" name=""/>
          <p:cNvCxnSpPr>
            <a:stCxn id="899" idx="0"/>
            <a:endCxn id="879" idx="3"/>
          </p:cNvCxnSpPr>
          <p:nvPr/>
        </p:nvCxnSpPr>
        <p:spPr>
          <a:xfrm flipV="1" rot="16200000">
            <a:off x="4818240" y="4387680"/>
            <a:ext cx="561240" cy="277200"/>
          </a:xfrm>
          <a:prstGeom prst="bentConnector2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cxnSp>
        <p:nvCxnSpPr>
          <p:cNvPr id="904" name=""/>
          <p:cNvCxnSpPr>
            <a:stCxn id="902" idx="3"/>
            <a:endCxn id="890" idx="2"/>
          </p:cNvCxnSpPr>
          <p:nvPr/>
        </p:nvCxnSpPr>
        <p:spPr>
          <a:xfrm flipV="1">
            <a:off x="3211560" y="4498200"/>
            <a:ext cx="511920" cy="702360"/>
          </a:xfrm>
          <a:prstGeom prst="bentConnector2">
            <a:avLst/>
          </a:prstGeom>
          <a:ln w="9360">
            <a:solidFill>
              <a:srgbClr val="3973b9"/>
            </a:solidFill>
            <a:miter/>
            <a:tailEnd len="med" type="triangle" w="med"/>
          </a:ln>
        </p:spPr>
      </p:cxnSp>
      <p:sp>
        <p:nvSpPr>
          <p:cNvPr id="905" name=""/>
          <p:cNvSpPr/>
          <p:nvPr/>
        </p:nvSpPr>
        <p:spPr>
          <a:xfrm>
            <a:off x="6334560" y="43178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375600" y="29703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626360" y="523080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367360" y="2705040"/>
            <a:ext cx="863280" cy="1123200"/>
            <a:chOff x="2367360" y="2705040"/>
            <a:chExt cx="863280" cy="1123200"/>
          </a:xfrm>
        </p:grpSpPr>
        <p:grpSp>
          <p:nvGrpSpPr>
            <p:cNvPr id="909" name=""/>
            <p:cNvGrpSpPr/>
            <p:nvPr/>
          </p:nvGrpSpPr>
          <p:grpSpPr>
            <a:xfrm>
              <a:off x="2367360" y="2707200"/>
              <a:ext cx="858240" cy="1121040"/>
              <a:chOff x="2367360" y="2707200"/>
              <a:chExt cx="858240" cy="1121040"/>
            </a:xfrm>
          </p:grpSpPr>
          <p:sp>
            <p:nvSpPr>
              <p:cNvPr id="910" name=""/>
              <p:cNvSpPr/>
              <p:nvPr/>
            </p:nvSpPr>
            <p:spPr>
              <a:xfrm>
                <a:off x="2367360" y="314676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599200" y="270720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372760" y="314280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c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40880" y="318600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604240" y="270504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b60"/>
                </a:gs>
                <a:gs pos="50000">
                  <a:srgbClr val="00a4ac"/>
                </a:gs>
                <a:gs pos="100000">
                  <a:srgbClr val="005b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646360" y="271296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586600" y="2710440"/>
              <a:ext cx="299160" cy="311040"/>
              <a:chOff x="2586600" y="2710440"/>
              <a:chExt cx="299160" cy="311040"/>
            </a:xfrm>
          </p:grpSpPr>
          <p:grpSp>
            <p:nvGrpSpPr>
              <p:cNvPr id="917" name=""/>
              <p:cNvGrpSpPr/>
              <p:nvPr/>
            </p:nvGrpSpPr>
            <p:grpSpPr>
              <a:xfrm>
                <a:off x="2594160" y="2710440"/>
                <a:ext cx="291600" cy="237240"/>
                <a:chOff x="2594160" y="2710440"/>
                <a:chExt cx="291600" cy="237240"/>
              </a:xfrm>
            </p:grpSpPr>
            <p:sp>
              <p:nvSpPr>
                <p:cNvPr id="918" name=""/>
                <p:cNvSpPr/>
                <p:nvPr/>
              </p:nvSpPr>
              <p:spPr>
                <a:xfrm flipH="1" rot="15040200">
                  <a:off x="2726640" y="268200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rot="14224200">
                  <a:off x="2692800" y="2694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 rot="13928400">
                  <a:off x="2676600" y="271044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rot="13396200">
                  <a:off x="2657880" y="27291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2586600" y="2728800"/>
                <a:ext cx="235800" cy="292680"/>
                <a:chOff x="2586600" y="2728800"/>
                <a:chExt cx="235800" cy="292680"/>
              </a:xfrm>
            </p:grpSpPr>
            <p:sp>
              <p:nvSpPr>
                <p:cNvPr id="923" name=""/>
                <p:cNvSpPr/>
                <p:nvPr/>
              </p:nvSpPr>
              <p:spPr>
                <a:xfrm flipH="1" rot="13687200">
                  <a:off x="2670120" y="272376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 rot="12871200">
                  <a:off x="2644560" y="274860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 rot="12576000">
                  <a:off x="2635200" y="27691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rot="12043800">
                  <a:off x="2625480" y="279396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7" name=""/>
            <p:cNvGrpSpPr/>
            <p:nvPr/>
          </p:nvGrpSpPr>
          <p:grpSpPr>
            <a:xfrm>
              <a:off x="2430360" y="3174480"/>
              <a:ext cx="372600" cy="449640"/>
              <a:chOff x="2430360" y="3174480"/>
              <a:chExt cx="372600" cy="44964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2430360" y="3174480"/>
                <a:ext cx="372600" cy="352440"/>
                <a:chOff x="2430360" y="3174480"/>
                <a:chExt cx="372600" cy="352440"/>
              </a:xfrm>
            </p:grpSpPr>
            <p:sp>
              <p:nvSpPr>
                <p:cNvPr id="929" name=""/>
                <p:cNvSpPr/>
                <p:nvPr/>
              </p:nvSpPr>
              <p:spPr>
                <a:xfrm flipH="1" rot="14424600">
                  <a:off x="2600640" y="313056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 rot="13608600">
                  <a:off x="2556000" y="31590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 rot="13313400">
                  <a:off x="2534760" y="318132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rot="12781200">
                  <a:off x="2511000" y="321012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2432880" y="3199320"/>
                <a:ext cx="266400" cy="424800"/>
                <a:chOff x="2432880" y="3199320"/>
                <a:chExt cx="266400" cy="424800"/>
              </a:xfrm>
            </p:grpSpPr>
            <p:sp>
              <p:nvSpPr>
                <p:cNvPr id="934" name=""/>
                <p:cNvSpPr/>
                <p:nvPr/>
              </p:nvSpPr>
              <p:spPr>
                <a:xfrm flipH="1" rot="13071600">
                  <a:off x="2525400" y="31914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 rot="12256200">
                  <a:off x="2494800" y="32353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 rot="11960400">
                  <a:off x="2484000" y="32641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rot="11428200">
                  <a:off x="2472120" y="32986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38" name=""/>
          <p:cNvSpPr/>
          <p:nvPr/>
        </p:nvSpPr>
        <p:spPr>
          <a:xfrm>
            <a:off x="1971000" y="38289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904400" y="2705040"/>
            <a:ext cx="864000" cy="1123200"/>
            <a:chOff x="1904400" y="2705040"/>
            <a:chExt cx="864000" cy="1123200"/>
          </a:xfrm>
        </p:grpSpPr>
        <p:grpSp>
          <p:nvGrpSpPr>
            <p:cNvPr id="940" name=""/>
            <p:cNvGrpSpPr/>
            <p:nvPr/>
          </p:nvGrpSpPr>
          <p:grpSpPr>
            <a:xfrm>
              <a:off x="1904400" y="2707200"/>
              <a:ext cx="859680" cy="1121040"/>
              <a:chOff x="1904400" y="2707200"/>
              <a:chExt cx="859680" cy="1121040"/>
            </a:xfrm>
          </p:grpSpPr>
          <p:sp>
            <p:nvSpPr>
              <p:cNvPr id="941" name=""/>
              <p:cNvSpPr/>
              <p:nvPr/>
            </p:nvSpPr>
            <p:spPr>
              <a:xfrm>
                <a:off x="1904400" y="314676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136600" y="2707200"/>
                <a:ext cx="41760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1909440" y="314280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26321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77920" y="318600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41280" y="270504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b2d"/>
                </a:gs>
                <a:gs pos="50000">
                  <a:srgbClr val="93c052"/>
                </a:gs>
                <a:gs pos="100000">
                  <a:srgbClr val="526b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83760" y="271296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2123640" y="2710440"/>
              <a:ext cx="300240" cy="311400"/>
              <a:chOff x="2123640" y="2710440"/>
              <a:chExt cx="300240" cy="31140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2131560" y="2710440"/>
                <a:ext cx="292320" cy="237600"/>
                <a:chOff x="2131560" y="2710440"/>
                <a:chExt cx="292320" cy="237600"/>
              </a:xfrm>
            </p:grpSpPr>
            <p:sp>
              <p:nvSpPr>
                <p:cNvPr id="949" name=""/>
                <p:cNvSpPr/>
                <p:nvPr/>
              </p:nvSpPr>
              <p:spPr>
                <a:xfrm flipH="1" rot="15040200">
                  <a:off x="2264040" y="268128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 rot="14224200">
                  <a:off x="2229120" y="26949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 rot="13928400">
                  <a:off x="2213640" y="271008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 rot="13396200">
                  <a:off x="2194920" y="272916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2123640" y="2729160"/>
                <a:ext cx="235800" cy="292680"/>
                <a:chOff x="2123640" y="2729160"/>
                <a:chExt cx="235800" cy="292680"/>
              </a:xfrm>
            </p:grpSpPr>
            <p:sp>
              <p:nvSpPr>
                <p:cNvPr id="954" name=""/>
                <p:cNvSpPr/>
                <p:nvPr/>
              </p:nvSpPr>
              <p:spPr>
                <a:xfrm flipH="1" rot="13687200">
                  <a:off x="2207520" y="272376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rot="12871200">
                  <a:off x="2181240" y="27489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rot="12576000">
                  <a:off x="2172240" y="2769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 rot="12043800">
                  <a:off x="2161800" y="279360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8" name=""/>
            <p:cNvGrpSpPr/>
            <p:nvPr/>
          </p:nvGrpSpPr>
          <p:grpSpPr>
            <a:xfrm>
              <a:off x="1967400" y="3174480"/>
              <a:ext cx="372600" cy="450360"/>
              <a:chOff x="1967400" y="3174480"/>
              <a:chExt cx="372600" cy="45036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1967400" y="3174480"/>
                <a:ext cx="372600" cy="352800"/>
                <a:chOff x="1967400" y="3174480"/>
                <a:chExt cx="372600" cy="352800"/>
              </a:xfrm>
            </p:grpSpPr>
            <p:sp>
              <p:nvSpPr>
                <p:cNvPr id="960" name=""/>
                <p:cNvSpPr/>
                <p:nvPr/>
              </p:nvSpPr>
              <p:spPr>
                <a:xfrm flipH="1" rot="14424600">
                  <a:off x="2138040" y="3130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rot="13608600">
                  <a:off x="2093400" y="315864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rot="13313400">
                  <a:off x="2071080" y="318132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rot="12781200">
                  <a:off x="2047680" y="320940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1969200" y="3199320"/>
                <a:ext cx="266400" cy="425520"/>
                <a:chOff x="1969200" y="3199320"/>
                <a:chExt cx="266400" cy="425520"/>
              </a:xfrm>
            </p:grpSpPr>
            <p:sp>
              <p:nvSpPr>
                <p:cNvPr id="965" name=""/>
                <p:cNvSpPr/>
                <p:nvPr/>
              </p:nvSpPr>
              <p:spPr>
                <a:xfrm flipH="1" rot="13071600">
                  <a:off x="2061720" y="31914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 rot="12256200">
                  <a:off x="2031480" y="323460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rot="11960400">
                  <a:off x="2020320" y="326412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 rot="11428200">
                  <a:off x="2009160" y="32994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9" name=""/>
          <p:cNvSpPr/>
          <p:nvPr/>
        </p:nvSpPr>
        <p:spPr>
          <a:xfrm>
            <a:off x="1744920" y="5435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Organiz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829480" y="2664000"/>
            <a:ext cx="1711080" cy="536040"/>
            <a:chOff x="5829480" y="2664000"/>
            <a:chExt cx="1711080" cy="536040"/>
          </a:xfrm>
        </p:grpSpPr>
        <p:sp>
          <p:nvSpPr>
            <p:cNvPr id="972" name=""/>
            <p:cNvSpPr/>
            <p:nvPr/>
          </p:nvSpPr>
          <p:spPr>
            <a:xfrm>
              <a:off x="582948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85576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708012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91660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3973b9"/>
              </a:gs>
              <a:gs pos="100000">
                <a:srgbClr val="29538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853920" y="3908520"/>
            <a:ext cx="2273400" cy="536040"/>
            <a:chOff x="853920" y="3908520"/>
            <a:chExt cx="2273400" cy="536040"/>
          </a:xfrm>
        </p:grpSpPr>
        <p:sp>
          <p:nvSpPr>
            <p:cNvPr id="977" name=""/>
            <p:cNvSpPr/>
            <p:nvPr/>
          </p:nvSpPr>
          <p:spPr>
            <a:xfrm>
              <a:off x="853920" y="390852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a9c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88840" y="394092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a9c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5899320" y="3908520"/>
            <a:ext cx="2273040" cy="536040"/>
            <a:chOff x="5899320" y="3908520"/>
            <a:chExt cx="2273040" cy="536040"/>
          </a:xfrm>
        </p:grpSpPr>
        <p:sp>
          <p:nvSpPr>
            <p:cNvPr id="980" name=""/>
            <p:cNvSpPr/>
            <p:nvPr/>
          </p:nvSpPr>
          <p:spPr>
            <a:xfrm>
              <a:off x="5899320" y="390852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3973b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4240" y="39409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973b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3373560" y="3917880"/>
            <a:ext cx="2273040" cy="536400"/>
            <a:chOff x="3373560" y="3917880"/>
            <a:chExt cx="2273040" cy="536400"/>
          </a:xfrm>
        </p:grpSpPr>
        <p:sp>
          <p:nvSpPr>
            <p:cNvPr id="983" name=""/>
            <p:cNvSpPr/>
            <p:nvPr/>
          </p:nvSpPr>
          <p:spPr>
            <a:xfrm>
              <a:off x="3373560" y="39178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6ad2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08480" y="395028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96ad2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3656160" y="2664000"/>
            <a:ext cx="1711080" cy="536040"/>
            <a:chOff x="3656160" y="2664000"/>
            <a:chExt cx="1711080" cy="536040"/>
          </a:xfrm>
        </p:grpSpPr>
        <p:sp>
          <p:nvSpPr>
            <p:cNvPr id="986" name=""/>
            <p:cNvSpPr/>
            <p:nvPr/>
          </p:nvSpPr>
          <p:spPr>
            <a:xfrm>
              <a:off x="3656160" y="2664000"/>
              <a:ext cx="171108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682440" y="269640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714840" y="1649520"/>
            <a:ext cx="1596960" cy="536040"/>
            <a:chOff x="3714840" y="1649520"/>
            <a:chExt cx="1596960" cy="536040"/>
          </a:xfrm>
        </p:grpSpPr>
        <p:sp>
          <p:nvSpPr>
            <p:cNvPr id="989" name=""/>
            <p:cNvSpPr/>
            <p:nvPr/>
          </p:nvSpPr>
          <p:spPr>
            <a:xfrm>
              <a:off x="3714840" y="164952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39320" y="168192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87300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97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03688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ea9c00"/>
              </a:gs>
              <a:gs pos="100000">
                <a:srgbClr val="a97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3" name=""/>
          <p:cNvCxnSpPr/>
          <p:nvPr/>
        </p:nvCxnSpPr>
        <p:spPr>
          <a:xfrm flipH="1">
            <a:off x="5385600" y="29048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77" idx="0"/>
            <a:endCxn id="986" idx="2"/>
          </p:cNvCxnSpPr>
          <p:nvPr/>
        </p:nvCxnSpPr>
        <p:spPr>
          <a:xfrm flipH="1" flipV="1" rot="5400000">
            <a:off x="2896920" y="229356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5" name=""/>
          <p:cNvCxnSpPr>
            <a:stCxn id="980" idx="0"/>
            <a:endCxn id="986" idx="2"/>
          </p:cNvCxnSpPr>
          <p:nvPr/>
        </p:nvCxnSpPr>
        <p:spPr>
          <a:xfrm flipV="1" rot="16200000">
            <a:off x="5419080" y="229140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010040" y="1730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838840" y="276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940360" y="3998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80920" y="39895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7328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932120" y="49309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403440" y="399564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390840" y="4595760"/>
            <a:ext cx="108576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c7d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554360" y="4595760"/>
            <a:ext cx="1086120" cy="1263600"/>
          </a:xfrm>
          <a:prstGeom prst="rect">
            <a:avLst/>
          </a:prstGeom>
          <a:gradFill rotWithShape="0">
            <a:gsLst>
              <a:gs pos="0">
                <a:srgbClr val="96ad23"/>
              </a:gs>
              <a:gs pos="100000">
                <a:srgbClr val="6c7d19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2907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4960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81652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975360" y="49309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786120" y="273996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0" name=""/>
          <p:cNvCxnSpPr>
            <a:stCxn id="989" idx="2"/>
            <a:endCxn id="986" idx="0"/>
          </p:cNvCxnSpPr>
          <p:nvPr/>
        </p:nvCxnSpPr>
        <p:spPr>
          <a:xfrm flipH="1">
            <a:off x="4510800" y="2185920"/>
            <a:ext cx="2520" cy="4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986" idx="2"/>
            <a:endCxn id="983" idx="0"/>
          </p:cNvCxnSpPr>
          <p:nvPr/>
        </p:nvCxnSpPr>
        <p:spPr>
          <a:xfrm rot="5400000">
            <a:off x="4151520" y="355788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4854600" y="2087640"/>
            <a:ext cx="2712960" cy="7268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973b9"/>
              </a:gs>
              <a:gs pos="100000">
                <a:srgbClr val="274f8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878120" y="200016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9ccd"/>
              </a:gs>
              <a:gs pos="100000">
                <a:srgbClr val="3973b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1227240" y="1969920"/>
            <a:ext cx="1130040" cy="1124280"/>
            <a:chOff x="1227240" y="1969920"/>
            <a:chExt cx="1130040" cy="1124280"/>
          </a:xfrm>
        </p:grpSpPr>
        <p:grpSp>
          <p:nvGrpSpPr>
            <p:cNvPr id="1015" name=""/>
            <p:cNvGrpSpPr/>
            <p:nvPr/>
          </p:nvGrpSpPr>
          <p:grpSpPr>
            <a:xfrm>
              <a:off x="1227240" y="1969920"/>
              <a:ext cx="1130040" cy="1124280"/>
              <a:chOff x="1227240" y="1969920"/>
              <a:chExt cx="1130040" cy="1124280"/>
            </a:xfrm>
          </p:grpSpPr>
          <p:sp>
            <p:nvSpPr>
              <p:cNvPr id="1016" name=""/>
              <p:cNvSpPr/>
              <p:nvPr/>
            </p:nvSpPr>
            <p:spPr>
              <a:xfrm>
                <a:off x="1227240" y="1969920"/>
                <a:ext cx="1130040" cy="11242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257120" y="1992240"/>
                <a:ext cx="1077480" cy="107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301400" y="2036880"/>
                <a:ext cx="98856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331280" y="2059560"/>
                <a:ext cx="928800" cy="93024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343880" y="2073960"/>
                <a:ext cx="899280" cy="90108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>
              <a:off x="1360800" y="2093400"/>
              <a:ext cx="875880" cy="873720"/>
            </a:xfrm>
            <a:prstGeom prst="ellipse">
              <a:avLst/>
            </a:prstGeom>
            <a:gradFill rotWithShape="0">
              <a:gsLst>
                <a:gs pos="0">
                  <a:srgbClr val="1a3555"/>
                </a:gs>
                <a:gs pos="100000">
                  <a:srgbClr val="3973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312200" y="234144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449440" y="21686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118120" y="215892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854600" y="3403440"/>
            <a:ext cx="2712960" cy="72900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ea9c00"/>
              </a:gs>
              <a:gs pos="100000">
                <a:srgbClr val="a26c0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878120" y="331776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fb84b"/>
              </a:gs>
              <a:gs pos="100000">
                <a:srgbClr val="ea9c0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227240" y="3287880"/>
            <a:ext cx="1130040" cy="1123920"/>
            <a:chOff x="1227240" y="3287880"/>
            <a:chExt cx="1130040" cy="1123920"/>
          </a:xfrm>
        </p:grpSpPr>
        <p:grpSp>
          <p:nvGrpSpPr>
            <p:cNvPr id="1028" name=""/>
            <p:cNvGrpSpPr/>
            <p:nvPr/>
          </p:nvGrpSpPr>
          <p:grpSpPr>
            <a:xfrm>
              <a:off x="1227240" y="3287880"/>
              <a:ext cx="1130040" cy="1123920"/>
              <a:chOff x="1227240" y="3287880"/>
              <a:chExt cx="1130040" cy="1123920"/>
            </a:xfrm>
          </p:grpSpPr>
          <p:sp>
            <p:nvSpPr>
              <p:cNvPr id="1029" name=""/>
              <p:cNvSpPr/>
              <p:nvPr/>
            </p:nvSpPr>
            <p:spPr>
              <a:xfrm>
                <a:off x="1227240" y="328788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257120" y="331020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301400" y="3354840"/>
                <a:ext cx="98856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331280" y="337752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343880" y="33919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"/>
            <p:cNvSpPr/>
            <p:nvPr/>
          </p:nvSpPr>
          <p:spPr>
            <a:xfrm>
              <a:off x="1360800" y="3411360"/>
              <a:ext cx="875880" cy="873360"/>
            </a:xfrm>
            <a:prstGeom prst="ellipse">
              <a:avLst/>
            </a:prstGeom>
            <a:gradFill rotWithShape="0">
              <a:gsLst>
                <a:gs pos="0">
                  <a:srgbClr val="6b4700"/>
                </a:gs>
                <a:gs pos="100000">
                  <a:srgbClr val="ea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1312200" y="36576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49440" y="348624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118120" y="347652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54600" y="4757760"/>
            <a:ext cx="2712960" cy="72864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b639b9"/>
              </a:gs>
              <a:gs pos="100000">
                <a:srgbClr val="7e2780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78120" y="46720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a73cd"/>
              </a:gs>
              <a:gs pos="100000">
                <a:srgbClr val="b639b9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1227240" y="4641840"/>
            <a:ext cx="1130040" cy="1123920"/>
            <a:chOff x="1227240" y="4641840"/>
            <a:chExt cx="1130040" cy="1123920"/>
          </a:xfrm>
        </p:grpSpPr>
        <p:grpSp>
          <p:nvGrpSpPr>
            <p:cNvPr id="1041" name=""/>
            <p:cNvGrpSpPr/>
            <p:nvPr/>
          </p:nvGrpSpPr>
          <p:grpSpPr>
            <a:xfrm>
              <a:off x="1227240" y="4641840"/>
              <a:ext cx="1130040" cy="1123920"/>
              <a:chOff x="1227240" y="4641840"/>
              <a:chExt cx="1130040" cy="1123920"/>
            </a:xfrm>
          </p:grpSpPr>
          <p:sp>
            <p:nvSpPr>
              <p:cNvPr id="1042" name=""/>
              <p:cNvSpPr/>
              <p:nvPr/>
            </p:nvSpPr>
            <p:spPr>
              <a:xfrm>
                <a:off x="1227240" y="4641840"/>
                <a:ext cx="113004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257120" y="4664160"/>
                <a:ext cx="107748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301400" y="4708800"/>
                <a:ext cx="98856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331280" y="4731480"/>
                <a:ext cx="92880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343880" y="474588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360800" y="4765320"/>
              <a:ext cx="875880" cy="873360"/>
            </a:xfrm>
            <a:prstGeom prst="ellipse">
              <a:avLst/>
            </a:prstGeom>
            <a:gradFill rotWithShape="0">
              <a:gsLst>
                <a:gs pos="0">
                  <a:srgbClr val="531a55"/>
                </a:gs>
                <a:gs pos="100000">
                  <a:srgbClr val="b639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1312200" y="50115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449440" y="484020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118120" y="4829040"/>
            <a:ext cx="224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Hot Tip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4720" y="1800000"/>
            <a:ext cx="725328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: www.themegallery.com, Medical Perspectives (Eye Wi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使用规范说明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639b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5D0-40F2-4C44-BA7A-DD4C12F5EF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93360" y="1881000"/>
            <a:ext cx="467532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1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Thank You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10040" y="244008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760640" y="2279520"/>
            <a:ext cx="468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692800">
            <a:off x="845640" y="211284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b639b9"/>
              </a:gs>
              <a:gs pos="100000">
                <a:srgbClr val="c86cca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8892800">
            <a:off x="871920" y="21117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 rot="18907200">
            <a:off x="84312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96ad23"/>
              </a:gs>
              <a:gs pos="100000">
                <a:srgbClr val="b0c15c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 rot="2692800">
            <a:off x="871560" y="207396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3973b9"/>
              </a:gs>
              <a:gs pos="100000">
                <a:srgbClr val="6c97ca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18739200">
            <a:off x="2107440" y="383616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1880" y="4086360"/>
            <a:ext cx="247680" cy="247680"/>
          </a:xfrm>
          <a:prstGeom prst="donut">
            <a:avLst>
              <a:gd name="adj" fmla="val 25000"/>
            </a:avLst>
          </a:prstGeom>
          <a:solidFill>
            <a:srgbClr val="3973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1880" y="4419720"/>
            <a:ext cx="247680" cy="247680"/>
          </a:xfrm>
          <a:prstGeom prst="donut">
            <a:avLst>
              <a:gd name="adj" fmla="val 25000"/>
            </a:avLst>
          </a:prstGeom>
          <a:solidFill>
            <a:srgbClr val="ea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1880" y="4724280"/>
            <a:ext cx="247680" cy="247680"/>
          </a:xfrm>
          <a:prstGeom prst="donut">
            <a:avLst>
              <a:gd name="adj" fmla="val 25000"/>
            </a:avLst>
          </a:prstGeom>
          <a:solidFill>
            <a:srgbClr val="b63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1880" y="5029200"/>
            <a:ext cx="247680" cy="247680"/>
          </a:xfrm>
          <a:prstGeom prst="donut">
            <a:avLst>
              <a:gd name="adj" fmla="val 25000"/>
            </a:avLst>
          </a:prstGeom>
          <a:solidFill>
            <a:srgbClr val="96a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04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04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04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04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3840" y="2970360"/>
            <a:ext cx="355752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21600" y="207324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6160" y="205596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968560" y="2809800"/>
            <a:ext cx="517680" cy="582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746680" y="2732040"/>
            <a:ext cx="517680" cy="582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3525840" y="2079720"/>
            <a:ext cx="2182680" cy="2182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27080" y="283536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4680" y="2863800"/>
            <a:ext cx="16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9960" y="28256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7680" y="4624560"/>
            <a:ext cx="61390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639b9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914560" y="1547640"/>
            <a:ext cx="1169280" cy="1175400"/>
            <a:chOff x="2914560" y="1547640"/>
            <a:chExt cx="1169280" cy="1175400"/>
          </a:xfrm>
        </p:grpSpPr>
        <p:sp>
          <p:nvSpPr>
            <p:cNvPr id="165" name="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b639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0" name="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3476520" y="2021400"/>
                  <a:ext cx="591480" cy="694440"/>
                  <a:chOff x="3476520" y="2021400"/>
                  <a:chExt cx="591480" cy="6944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flipV="1" rot="2344200">
                    <a:off x="3760920" y="2108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flipV="1" rot="2640000">
                    <a:off x="3723840" y="2149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flipV="1" rot="3172200">
                    <a:off x="3678120" y="2197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flipV="1" rot="3697200">
                    <a:off x="363636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1" name=""/>
            <p:cNvGrpSpPr/>
            <p:nvPr/>
          </p:nvGrpSpPr>
          <p:grpSpPr>
            <a:xfrm>
              <a:off x="3406320" y="2051280"/>
              <a:ext cx="677520" cy="617760"/>
              <a:chOff x="3406320" y="2051280"/>
              <a:chExt cx="677520" cy="617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562200" y="2051280"/>
                <a:ext cx="521640" cy="611640"/>
                <a:chOff x="3562200" y="2051280"/>
                <a:chExt cx="521640" cy="611640"/>
              </a:xfrm>
            </p:grpSpPr>
            <p:sp>
              <p:nvSpPr>
                <p:cNvPr id="183" name=""/>
                <p:cNvSpPr/>
                <p:nvPr/>
              </p:nvSpPr>
              <p:spPr>
                <a:xfrm flipH="1" flipV="1" rot="1528800">
                  <a:off x="3852720" y="2053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 rot="2344200">
                  <a:off x="3812760" y="2126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 rot="2640000">
                  <a:off x="3780000" y="2163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 flipV="1" rot="3172200">
                  <a:off x="3739680" y="2205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406320" y="2218680"/>
                <a:ext cx="655200" cy="450360"/>
                <a:chOff x="3406320" y="2218680"/>
                <a:chExt cx="655200" cy="450360"/>
              </a:xfrm>
            </p:grpSpPr>
            <p:sp>
              <p:nvSpPr>
                <p:cNvPr id="188" name=""/>
                <p:cNvSpPr/>
                <p:nvPr/>
              </p:nvSpPr>
              <p:spPr>
                <a:xfrm flipH="1" flipV="1" rot="2881800">
                  <a:off x="3767760" y="218088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 flipV="1" rot="3697200">
                  <a:off x="3702240" y="2235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 rot="3993000">
                  <a:off x="3658680" y="2256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 rot="4525200">
                  <a:off x="3604680" y="2278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2" name="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830240" y="2830680"/>
            <a:ext cx="1169280" cy="1175400"/>
            <a:chOff x="1830240" y="2830680"/>
            <a:chExt cx="1169280" cy="1175400"/>
          </a:xfrm>
        </p:grpSpPr>
        <p:sp>
          <p:nvSpPr>
            <p:cNvPr id="194" name="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1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3973b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9" name="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2392200" y="3304440"/>
                  <a:ext cx="591480" cy="694440"/>
                  <a:chOff x="2392200" y="3304440"/>
                  <a:chExt cx="591480" cy="6944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 rot="2344200">
                    <a:off x="2676600" y="3391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 rot="2640000">
                    <a:off x="2639520" y="3432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 rot="3172200">
                    <a:off x="2593800" y="348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 flipV="1" rot="3697200">
                    <a:off x="255204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0" name=""/>
            <p:cNvGrpSpPr/>
            <p:nvPr/>
          </p:nvGrpSpPr>
          <p:grpSpPr>
            <a:xfrm>
              <a:off x="2322000" y="3334320"/>
              <a:ext cx="677520" cy="617760"/>
              <a:chOff x="2322000" y="3334320"/>
              <a:chExt cx="677520" cy="61776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2477880" y="3334320"/>
                <a:ext cx="521640" cy="611640"/>
                <a:chOff x="2477880" y="3334320"/>
                <a:chExt cx="521640" cy="61164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flipV="1" rot="1528800">
                  <a:off x="2768400" y="3336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flipV="1" rot="2344200">
                  <a:off x="2728440" y="34099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 rot="2640000">
                  <a:off x="2695680" y="3446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 flipV="1" rot="3172200">
                  <a:off x="2655360" y="34887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322000" y="3501720"/>
                <a:ext cx="655200" cy="450360"/>
                <a:chOff x="2322000" y="3501720"/>
                <a:chExt cx="655200" cy="450360"/>
              </a:xfrm>
            </p:grpSpPr>
            <p:sp>
              <p:nvSpPr>
                <p:cNvPr id="217" name=""/>
                <p:cNvSpPr/>
                <p:nvPr/>
              </p:nvSpPr>
              <p:spPr>
                <a:xfrm flipH="1" flipV="1" rot="2881800">
                  <a:off x="2683440" y="346392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 rot="3697200">
                  <a:off x="2617920" y="3518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flipV="1" rot="3993000">
                  <a:off x="2574360" y="3539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 rot="4525200">
                  <a:off x="2520360" y="3561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943360" y="5178600"/>
            <a:ext cx="1168560" cy="1175400"/>
            <a:chOff x="2943360" y="5178600"/>
            <a:chExt cx="1168560" cy="1175400"/>
          </a:xfrm>
        </p:grpSpPr>
        <p:sp>
          <p:nvSpPr>
            <p:cNvPr id="223" name="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2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96ad2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7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8" name="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3504960" y="5652360"/>
                  <a:ext cx="591480" cy="694440"/>
                  <a:chOff x="3504960" y="5652360"/>
                  <a:chExt cx="591480" cy="6944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flipV="1" rot="2344200">
                    <a:off x="3789360" y="5739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flipV="1" rot="2640000">
                    <a:off x="3752280" y="5780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 flipV="1" rot="3172200">
                    <a:off x="3706560" y="5828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 flipV="1" rot="3697200">
                    <a:off x="366480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"/>
            <p:cNvGrpSpPr/>
            <p:nvPr/>
          </p:nvGrpSpPr>
          <p:grpSpPr>
            <a:xfrm>
              <a:off x="3435120" y="5682240"/>
              <a:ext cx="676800" cy="617400"/>
              <a:chOff x="3435120" y="5682240"/>
              <a:chExt cx="676800" cy="61740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3591000" y="5682240"/>
                <a:ext cx="520920" cy="611280"/>
                <a:chOff x="3591000" y="5682240"/>
                <a:chExt cx="520920" cy="611280"/>
              </a:xfrm>
            </p:grpSpPr>
            <p:sp>
              <p:nvSpPr>
                <p:cNvPr id="241" name=""/>
                <p:cNvSpPr/>
                <p:nvPr/>
              </p:nvSpPr>
              <p:spPr>
                <a:xfrm flipH="1" flipV="1" rot="1528800">
                  <a:off x="3880800" y="56840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flipV="1" rot="2344200">
                  <a:off x="3841560" y="5758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 rot="2640000">
                  <a:off x="3808800" y="5794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flipV="1" rot="3172200">
                  <a:off x="3768120" y="5836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435120" y="5850720"/>
                <a:ext cx="654480" cy="448920"/>
                <a:chOff x="3435120" y="5850720"/>
                <a:chExt cx="654480" cy="448920"/>
              </a:xfrm>
            </p:grpSpPr>
            <p:sp>
              <p:nvSpPr>
                <p:cNvPr id="246" name=""/>
                <p:cNvSpPr/>
                <p:nvPr/>
              </p:nvSpPr>
              <p:spPr>
                <a:xfrm flipH="1" flipV="1" rot="2881800">
                  <a:off x="3796200" y="58129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 rot="3697200">
                  <a:off x="3731760" y="58658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 flipV="1" rot="3993000">
                  <a:off x="3687840" y="58870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 flipV="1" rot="4525200">
                  <a:off x="3633840" y="59108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187960" y="3719520"/>
            <a:ext cx="1169280" cy="1175400"/>
            <a:chOff x="5187960" y="3719520"/>
            <a:chExt cx="1169280" cy="1175400"/>
          </a:xfrm>
        </p:grpSpPr>
        <p:sp>
          <p:nvSpPr>
            <p:cNvPr id="252" name="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96969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7" name="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749920" y="4193280"/>
                  <a:ext cx="591480" cy="694440"/>
                  <a:chOff x="5749920" y="4193280"/>
                  <a:chExt cx="591480" cy="6944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H="1" flipV="1" rot="2344200">
                    <a:off x="6034320" y="4280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 rot="2640000">
                    <a:off x="5997240" y="4321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 rot="3172200">
                    <a:off x="5951520" y="4368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 rot="3697200">
                    <a:off x="590976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8" name=""/>
            <p:cNvGrpSpPr/>
            <p:nvPr/>
          </p:nvGrpSpPr>
          <p:grpSpPr>
            <a:xfrm>
              <a:off x="5679720" y="4223160"/>
              <a:ext cx="677520" cy="617760"/>
              <a:chOff x="5679720" y="4223160"/>
              <a:chExt cx="677520" cy="6177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5835600" y="4223160"/>
                <a:ext cx="521640" cy="611640"/>
                <a:chOff x="5835600" y="4223160"/>
                <a:chExt cx="521640" cy="611640"/>
              </a:xfrm>
            </p:grpSpPr>
            <p:sp>
              <p:nvSpPr>
                <p:cNvPr id="270" name=""/>
                <p:cNvSpPr/>
                <p:nvPr/>
              </p:nvSpPr>
              <p:spPr>
                <a:xfrm flipH="1" flipV="1" rot="1528800">
                  <a:off x="6126120" y="42249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2344200">
                  <a:off x="6086160" y="42987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2640000">
                  <a:off x="6053400" y="4335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3172200">
                  <a:off x="6013080" y="4377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679720" y="4390560"/>
                <a:ext cx="655200" cy="450360"/>
                <a:chOff x="5679720" y="4390560"/>
                <a:chExt cx="655200" cy="450360"/>
              </a:xfrm>
            </p:grpSpPr>
            <p:sp>
              <p:nvSpPr>
                <p:cNvPr id="275" name=""/>
                <p:cNvSpPr/>
                <p:nvPr/>
              </p:nvSpPr>
              <p:spPr>
                <a:xfrm flipH="1" flipV="1" rot="2881800">
                  <a:off x="6041160" y="435276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 rot="3697200">
                  <a:off x="5975640" y="4407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 rot="3993000">
                  <a:off x="5932080" y="4428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 rot="4525200">
                  <a:off x="5878080" y="44506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181480" y="1557360"/>
            <a:ext cx="1169280" cy="1175400"/>
            <a:chOff x="5181480" y="1557360"/>
            <a:chExt cx="1169280" cy="1175400"/>
          </a:xfrm>
        </p:grpSpPr>
        <p:sp>
          <p:nvSpPr>
            <p:cNvPr id="281" name="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28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ea9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5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6" name="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5743440" y="2031120"/>
                  <a:ext cx="591480" cy="694440"/>
                  <a:chOff x="5743440" y="2031120"/>
                  <a:chExt cx="591480" cy="694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 rot="2344200">
                    <a:off x="6027840" y="2117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 flipV="1" rot="2640000">
                    <a:off x="5990760" y="2159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flipV="1" rot="3172200">
                    <a:off x="5945040" y="2206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 rot="3697200">
                    <a:off x="590328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7" name=""/>
            <p:cNvGrpSpPr/>
            <p:nvPr/>
          </p:nvGrpSpPr>
          <p:grpSpPr>
            <a:xfrm>
              <a:off x="5673240" y="2061000"/>
              <a:ext cx="677520" cy="617760"/>
              <a:chOff x="5673240" y="2061000"/>
              <a:chExt cx="677520" cy="61776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829120" y="2061000"/>
                <a:ext cx="521640" cy="611640"/>
                <a:chOff x="5829120" y="2061000"/>
                <a:chExt cx="521640" cy="611640"/>
              </a:xfrm>
            </p:grpSpPr>
            <p:sp>
              <p:nvSpPr>
                <p:cNvPr id="299" name=""/>
                <p:cNvSpPr/>
                <p:nvPr/>
              </p:nvSpPr>
              <p:spPr>
                <a:xfrm flipH="1" flipV="1" rot="1528800">
                  <a:off x="6119640" y="2062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 flipV="1" rot="2344200">
                  <a:off x="6079680" y="21366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2640000">
                  <a:off x="6046920" y="21733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3172200">
                  <a:off x="6006600" y="2215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673240" y="2228400"/>
                <a:ext cx="655200" cy="450360"/>
                <a:chOff x="5673240" y="2228400"/>
                <a:chExt cx="655200" cy="450360"/>
              </a:xfrm>
            </p:grpSpPr>
            <p:sp>
              <p:nvSpPr>
                <p:cNvPr id="304" name=""/>
                <p:cNvSpPr/>
                <p:nvPr/>
              </p:nvSpPr>
              <p:spPr>
                <a:xfrm flipH="1" flipV="1" rot="2881800">
                  <a:off x="6034680" y="219060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 rot="3697200">
                  <a:off x="5969160" y="2244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 rot="3993000">
                  <a:off x="5925600" y="2266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 rot="4525200">
                  <a:off x="5871600" y="2288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10" name="" descr="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 rot="4977000">
              <a:off x="4530960" y="3383640"/>
              <a:ext cx="569880" cy="56880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>
                    <a:alpha val="50196"/>
                  </a:srgbClr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508640" y="3446280"/>
              <a:ext cx="226440" cy="500400"/>
              <a:chOff x="4508640" y="3446280"/>
              <a:chExt cx="226440" cy="5004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4515120" y="3539160"/>
                <a:ext cx="219960" cy="407520"/>
                <a:chOff x="4515120" y="3539160"/>
                <a:chExt cx="219960" cy="40752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flipV="1" rot="8941800">
                  <a:off x="4587120" y="3646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9757200">
                  <a:off x="4563000" y="36025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 rot="10053000">
                  <a:off x="4556160" y="35744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10585200">
                  <a:off x="454896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508640" y="3446280"/>
                <a:ext cx="169560" cy="422280"/>
                <a:chOff x="4508640" y="3446280"/>
                <a:chExt cx="169560" cy="422280"/>
              </a:xfrm>
            </p:grpSpPr>
            <p:sp>
              <p:nvSpPr>
                <p:cNvPr id="319" name=""/>
                <p:cNvSpPr/>
                <p:nvPr/>
              </p:nvSpPr>
              <p:spPr>
                <a:xfrm flipH="1" flipV="1" rot="10294800">
                  <a:off x="4550400" y="3561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11110200">
                  <a:off x="4545720" y="351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 rot="11406000">
                  <a:off x="4550760" y="34848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 rot="11938200">
                  <a:off x="4555440" y="3449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"/>
            <p:cNvSpPr/>
            <p:nvPr/>
          </p:nvSpPr>
          <p:spPr>
            <a:xfrm flipH="1" rot="1129200">
              <a:off x="4496400" y="333936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ea9c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96969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b639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3973b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96ad2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36590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22208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43400" y="3430440"/>
            <a:ext cx="44197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 rot="16200000">
            <a:off x="2801160" y="3763080"/>
            <a:ext cx="21254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639b9">
                  <a:alpha val="70196"/>
                </a:srgbClr>
              </a:gs>
              <a:gs pos="100000">
                <a:srgbClr val="531a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 rot="16200000">
            <a:off x="3313440" y="229140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973b9">
                  <a:alpha val="70196"/>
                </a:srgbClr>
              </a:gs>
              <a:gs pos="100000">
                <a:srgbClr val="1a35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 rot="16200000">
            <a:off x="2151720" y="400968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639b9">
                  <a:alpha val="70196"/>
                </a:srgbClr>
              </a:gs>
              <a:gs pos="100000">
                <a:srgbClr val="531a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 rot="16200000">
            <a:off x="2417400" y="278532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973b9">
                  <a:alpha val="70196"/>
                </a:srgbClr>
              </a:gs>
              <a:gs pos="100000">
                <a:srgbClr val="1a35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 rot="16200000">
            <a:off x="1473840" y="427104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639b9">
                  <a:alpha val="70196"/>
                </a:srgbClr>
              </a:gs>
              <a:gs pos="100000">
                <a:srgbClr val="531a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 rot="16200000">
            <a:off x="1502640" y="328212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973b9">
                  <a:alpha val="70196"/>
                </a:srgbClr>
              </a:gs>
              <a:gs pos="100000">
                <a:srgbClr val="1a35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 rot="16200000">
            <a:off x="774000" y="448452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639b9">
                  <a:alpha val="70196"/>
                </a:srgbClr>
              </a:gs>
              <a:gs pos="100000">
                <a:srgbClr val="531a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 rot="16200000">
            <a:off x="589320" y="37090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973b9">
                  <a:alpha val="70196"/>
                </a:srgbClr>
              </a:gs>
              <a:gs pos="100000">
                <a:srgbClr val="1a35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960480" y="267480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64720" y="3228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87040" y="27367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09360" y="223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14400" y="1752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12680" y="541800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74840" y="546264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49160" y="37400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63560" y="3251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76520" y="278460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56000" y="2279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5080" y="349200"/>
            <a:ext cx="77756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151000" y="2346480"/>
          <a:ext cx="5692680" cy="32097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625320" y="2421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5320" y="3502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5320" y="4549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52800" y="2460600"/>
            <a:ext cx="968400" cy="274680"/>
          </a:xfrm>
          <a:prstGeom prst="rect">
            <a:avLst/>
          </a:prstGeom>
          <a:gradFill rotWithShape="0">
            <a:gsLst>
              <a:gs pos="0">
                <a:srgbClr val="87aad4"/>
              </a:gs>
              <a:gs pos="100000">
                <a:srgbClr val="3973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52800" y="3021120"/>
            <a:ext cx="849240" cy="274680"/>
          </a:xfrm>
          <a:prstGeom prst="rect">
            <a:avLst/>
          </a:prstGeom>
          <a:gradFill rotWithShape="0">
            <a:gsLst>
              <a:gs pos="0">
                <a:srgbClr val="f1c265"/>
              </a:gs>
              <a:gs pos="100000">
                <a:srgbClr val="ea9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52800" y="3564000"/>
            <a:ext cx="419040" cy="274680"/>
          </a:xfrm>
          <a:prstGeom prst="rect">
            <a:avLst/>
          </a:prstGeom>
          <a:gradFill rotWithShape="0">
            <a:gsLst>
              <a:gs pos="0">
                <a:srgbClr val="bfcc7a"/>
              </a:gs>
              <a:gs pos="100000">
                <a:srgbClr val="96ad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52800" y="4067280"/>
            <a:ext cx="1315800" cy="274680"/>
          </a:xfrm>
          <a:prstGeom prst="rect">
            <a:avLst/>
          </a:prstGeom>
          <a:gradFill rotWithShape="0">
            <a:gsLst>
              <a:gs pos="0">
                <a:srgbClr val="d287d4"/>
              </a:gs>
              <a:gs pos="100000">
                <a:srgbClr val="b639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52800" y="4621320"/>
            <a:ext cx="3573360" cy="274680"/>
          </a:xfrm>
          <a:prstGeom prst="rect">
            <a:avLst/>
          </a:prstGeom>
          <a:gradFill rotWithShape="0">
            <a:gsLst>
              <a:gs pos="0">
                <a:srgbClr val="a2a2fe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52800" y="5154480"/>
            <a:ext cx="4725720" cy="274680"/>
          </a:xfrm>
          <a:prstGeom prst="rect">
            <a:avLst/>
          </a:prstGeom>
          <a:gradFill rotWithShape="0">
            <a:gsLst>
              <a:gs pos="0">
                <a:srgbClr val="cca3cb"/>
              </a:gs>
              <a:gs pos="100000">
                <a:srgbClr val="ad67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0920" y="55976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87880" y="24415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65560" y="3013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692440" y="3546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98920" y="4060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37400" y="46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78600" y="514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24360" y="118908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3:29:1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