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A4C-73B7-4A3F-866B-44DA026A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A1F-5E4C-4CBB-81ED-827AC056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619-83DA-4BB5-B539-D208D221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3DD-E054-49AA-A162-DB59DC80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45BB-0C14-4C21-9A5E-DE630D42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0D4F-C633-4D50-AAE1-01FC9668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12BA-ECFF-439F-80A7-73B228C4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BDB1-F3F4-4E54-A1B4-8A322EB4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19AE-2131-4F3B-A6F5-AFE93DEA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CF7D-4134-4DF4-864A-4F16FA46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6694-BCAC-455D-9AD6-92CA9300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481-7EF6-4236-942E-D29F5446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3F5F-5291-4BD6-8E7E-2F34ABDC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8F94-A31E-4B8F-81BA-A2DFADE2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2EA5-426D-4D01-9B2B-CBD70115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6A81-9354-491A-98F4-1977718D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6AE0-24B5-4815-B12E-C70F777E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FCE-F9BF-4D7D-B206-14788725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091-8211-4A08-8D5B-C398E780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D1C-8332-4AAC-87B9-9FE34CD1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787-7D5E-45A4-9551-1336849F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9FE-4D43-461B-9CE5-75490D77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1B2-CE1F-4392-8594-3C0DB92B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2DA-CEC4-4066-ACC2-2DB84AE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7F10-4745-41BC-A700-D07B347CACAD}" type="slidenum">
              <a:rPr b="1" lang="en-US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galleon"/>
          <p:cNvPicPr/>
          <p:nvPr/>
        </p:nvPicPr>
        <p:blipFill>
          <a:blip r:embed="rId3"/>
          <a:stretch/>
        </p:blipFill>
        <p:spPr>
          <a:xfrm>
            <a:off x="6095880" y="3581280"/>
            <a:ext cx="329724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C491-6A3C-4396-A1E1-F5F649A0CBEC}" type="slidenum">
              <a:rPr b="0" lang="en-US" sz="1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Gentle Breez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7" descr="galleon"/>
          <p:cNvPicPr/>
          <p:nvPr/>
        </p:nvPicPr>
        <p:blipFill>
          <a:blip r:embed="rId2"/>
          <a:stretch/>
        </p:blipFill>
        <p:spPr>
          <a:xfrm>
            <a:off x="-512640" y="1219320"/>
            <a:ext cx="554184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81200" y="114300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帆船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4189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Impact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68A9-0FAE-4DCE-A5C2-08D4CF349FDC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4189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30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