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7DB-8611-4EC7-81A7-548B11D8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1F7-0262-4049-8107-25819C03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9F0-FBE4-4FAA-980D-35AA86EA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018-919C-4198-B01C-88CB6C1B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0884-2CE0-4E06-A678-0C6B3C32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DF50-CD96-4E1C-83E1-B423B37F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56F7-126F-4A26-A8FF-99B6D7E3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9142-613E-4EFE-9B2E-5A386571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2F6A-21D6-4990-B8A8-82A2EE71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AD47-F2F1-4118-8588-3F4B81A1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4E86-0E28-4423-AD57-48D64A15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B82-E070-4623-8FAF-490A1150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C941-DADD-4D82-A9AA-B368C8C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AAE0-40D5-4C9F-B19D-2F110BCF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5655-DD9B-4E2B-AE0E-533F500C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5A6D-717B-49CC-AB08-F22CD42D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1388-4B77-4E34-85EB-F1ECAD52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095-6A95-47C9-BF4A-16725F29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689-F4B3-47DD-B855-D625E491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DE9-76C4-4D0C-B24E-EEAEF7E9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A84-B1BD-4876-B3C8-FAC3E5FA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38E-4D39-4FD0-B759-4550C0CE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012-C727-4F34-B5CC-219231F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9DF-3B64-4CEF-93AF-2CA3EE4A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c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bc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bc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bc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eaebc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eaebc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76CC-135D-45A8-AF62-A5CEC45E7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5257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bc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413D-2435-46F1-9B40-9549C52DA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bc7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bc7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eaebc7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bc7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aebc7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eaebc7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bc7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bc7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eaebc7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bc7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bc7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bc7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bc7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bc7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bc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5257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bc7"/>
                </a:solidFill>
                <a:latin typeface="Times New Roman"/>
              </a:rPr>
              <a:t>Leather</a:t>
            </a:r>
            <a:br>
              <a:rPr sz="5400"/>
            </a:br>
            <a:r>
              <a:rPr b="0" lang="en-US" sz="5400" spc="-1" strike="noStrike">
                <a:solidFill>
                  <a:srgbClr val="eaebc7"/>
                </a:solidFill>
                <a:latin typeface="Times New Roman"/>
              </a:rPr>
              <a:t>Weather</a:t>
            </a:r>
            <a:endParaRPr b="0" lang="en-US" sz="5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4193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bc7"/>
                </a:solidFill>
                <a:latin typeface="Times New Roman"/>
              </a:rPr>
              <a:t>Your Subtitle Goes Here</a:t>
            </a:r>
            <a:endParaRPr b="0" lang="en-US" sz="20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3160" y="5335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复古城市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c7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bc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bc7"/>
                </a:solidFill>
                <a:latin typeface="Times New Roman"/>
              </a:rPr>
              <a:t>Your Subtopics Go Here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c7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Subtopics Go Here</a:t>
            </a: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3200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bc7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bc7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967-76E4-4963-91C8-917A3921AD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ero"/>
              </a:rPr>
              <a:t>elements</a:t>
            </a:r>
            <a:endParaRPr b="0" lang="en-US" sz="6000" spc="-1" strike="noStrike">
              <a:solidFill>
                <a:srgbClr val="eaebc7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48520" y="394344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394344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76720" y="394344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6:44:3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