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5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1303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3"/>
          <p:cNvSpPr/>
          <p:nvPr/>
        </p:nvSpPr>
        <p:spPr>
          <a:xfrm>
            <a:off x="324000" y="1916280"/>
            <a:ext cx="8569080" cy="23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241000" y="256536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粉黑可爱工作报告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4960440" y="4422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位名称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260320" y="4956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826920" y="1601640"/>
            <a:ext cx="7170840" cy="4543560"/>
            <a:chOff x="826920" y="1601640"/>
            <a:chExt cx="7170840" cy="4543560"/>
          </a:xfrm>
        </p:grpSpPr>
        <p:sp>
          <p:nvSpPr>
            <p:cNvPr id="47" name="AutoShape 21"/>
            <p:cNvSpPr/>
            <p:nvPr/>
          </p:nvSpPr>
          <p:spPr>
            <a:xfrm>
              <a:off x="826920" y="4714560"/>
              <a:ext cx="4290120" cy="1430640"/>
            </a:xfrm>
            <a:prstGeom prst="flowChartTermina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 22"/>
            <p:cNvSpPr/>
            <p:nvPr/>
          </p:nvSpPr>
          <p:spPr>
            <a:xfrm>
              <a:off x="904320" y="4809240"/>
              <a:ext cx="1239120" cy="124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Oval 23"/>
            <p:cNvSpPr/>
            <p:nvPr/>
          </p:nvSpPr>
          <p:spPr>
            <a:xfrm>
              <a:off x="3785040" y="4809240"/>
              <a:ext cx="1239120" cy="124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AutoShape 24"/>
            <p:cNvSpPr/>
            <p:nvPr/>
          </p:nvSpPr>
          <p:spPr>
            <a:xfrm>
              <a:off x="2277000" y="3159000"/>
              <a:ext cx="4287960" cy="1428480"/>
            </a:xfrm>
            <a:prstGeom prst="flowChartTermina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Oval 25"/>
            <p:cNvSpPr/>
            <p:nvPr/>
          </p:nvSpPr>
          <p:spPr>
            <a:xfrm>
              <a:off x="3802320" y="3253680"/>
              <a:ext cx="1239120" cy="123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AutoShape 26"/>
            <p:cNvSpPr/>
            <p:nvPr/>
          </p:nvSpPr>
          <p:spPr>
            <a:xfrm>
              <a:off x="3707640" y="1601640"/>
              <a:ext cx="4290120" cy="1430640"/>
            </a:xfrm>
            <a:prstGeom prst="flowChartTermina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Oval 27"/>
            <p:cNvSpPr/>
            <p:nvPr/>
          </p:nvSpPr>
          <p:spPr>
            <a:xfrm>
              <a:off x="3785040" y="1695960"/>
              <a:ext cx="1239120" cy="124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Oval 28"/>
            <p:cNvSpPr/>
            <p:nvPr/>
          </p:nvSpPr>
          <p:spPr>
            <a:xfrm>
              <a:off x="6668280" y="1695960"/>
              <a:ext cx="1239120" cy="124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五边形 12"/>
          <p:cNvSpPr/>
          <p:nvPr/>
        </p:nvSpPr>
        <p:spPr>
          <a:xfrm>
            <a:off x="0" y="333360"/>
            <a:ext cx="4572000" cy="100800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9" y="0"/>
                </a:lnTo>
                <a:lnTo>
                  <a:pt x="21600" y="10800"/>
                </a:lnTo>
                <a:lnTo>
                  <a:pt x="192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1098360" y="512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5457960" y="2116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2785320" y="3673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5326920" y="3573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2577600" y="5229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3995640" y="2116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6906600" y="206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4042800" y="3673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1129680" y="5229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4116600" y="5237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647280" y="1719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5"/>
          <p:cNvSpPr/>
          <p:nvPr/>
        </p:nvSpPr>
        <p:spPr>
          <a:xfrm>
            <a:off x="557280" y="2181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6"/>
          <p:cNvSpPr/>
          <p:nvPr/>
        </p:nvSpPr>
        <p:spPr>
          <a:xfrm>
            <a:off x="6758280" y="45752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7"/>
          <p:cNvSpPr/>
          <p:nvPr/>
        </p:nvSpPr>
        <p:spPr>
          <a:xfrm>
            <a:off x="6668280" y="503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4920" y="134136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波形 4"/>
          <p:cNvSpPr/>
          <p:nvPr/>
        </p:nvSpPr>
        <p:spPr>
          <a:xfrm>
            <a:off x="3708360" y="1700280"/>
            <a:ext cx="4680000" cy="2233440"/>
          </a:xfrm>
          <a:custGeom>
            <a:avLst/>
            <a:gdLst>
              <a:gd name="textAreaLeft" fmla="*/ 0 w 4680000"/>
              <a:gd name="textAreaRight" fmla="*/ 4680360 w 4680000"/>
              <a:gd name="textAreaTop" fmla="*/ 558360 h 2233440"/>
              <a:gd name="textAreaBottom" fmla="*/ 16750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6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6255720" y="22766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4960440" y="4422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位名称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5260320" y="4956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45:38Z</dcterms:created>
  <dc:creator>幻灯片之家:www.eeppt.com</dc:creator>
  <dc:description>幻灯片之家:www.eeppt.com</dc:description>
  <cp:keywords>幻灯片之家:www.eeppt.com</cp:keywords>
  <dc:language>en-US</dc:language>
  <cp:lastModifiedBy/>
  <dcterms:modified xsi:type="dcterms:W3CDTF">2015-09-18T13:23:26Z</dcterms:modified>
  <cp:revision>3</cp:revision>
  <dc:subject>幻灯片之家:www.eeppt.com</dc:subject>
  <dc:title>幻灯片之家: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