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199-8916-4292-9FF8-41B78BB4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076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47320"/>
            <a:ext cx="8076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E53-0FFB-4836-91D7-4F90C6FB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4732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84732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BAB-C22A-4AB6-A518-FA23FC2C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297144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297144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4732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84732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84732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3AF-141C-4057-A7C3-6F694182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A12E-C309-4D45-A6D2-D7657D9C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29714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4837-E7D5-42C4-B846-2B5D237D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A075-9ADB-42A8-8C9D-B305C3EE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930E-B965-452A-837D-6F49CBEA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D497-494D-4653-AB85-C04431FE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17B2-7148-4EC8-A944-46606075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84732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28DC-1AB9-4CC3-9371-68DF66C3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29714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7B5-48A9-4BA7-A654-E8D33015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384732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F9FE-A709-4D45-AA7D-9A03AD20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847320"/>
            <a:ext cx="8076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B35D-2C32-4D85-B418-779C8479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076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847320"/>
            <a:ext cx="8076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A4D8-B247-43E3-B2B5-1A45BDD2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84732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384732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FB71-0591-4B11-B2CD-E2444343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297144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297144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84732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84732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384732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74EC-99C7-477B-BCA1-F53E34FC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4E5-4C1B-44C1-B6E7-D3943BD5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5F9-C3E6-48CC-84E5-48581746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15F-DB31-4CFB-8ACD-0093FC94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434-3718-4D42-8E48-6EAD8494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4732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D38-A4A8-4584-9E41-629D62DB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84732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306-5CC5-4B83-AF25-82703119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47320"/>
            <a:ext cx="8076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3FF-A85B-4C3A-B7B7-44BCCCE3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092C-F223-4A28-9112-EFE6EE668F5C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392E-BCA8-42FA-AB56-DDA3BA6C447A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2" marL="914400" algn="ctr">
              <a:spcBef>
                <a:spcPts val="601"/>
              </a:spcBef>
              <a:buClr>
                <a:srgbClr val="5d3603"/>
              </a:buClr>
              <a:buFont typeface="Eras Bold IT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2400" spc="-1" strike="noStrike">
              <a:solidFill>
                <a:srgbClr val="5d3603"/>
              </a:solidFill>
              <a:latin typeface="Eras Bold ITC"/>
            </a:endParaRPr>
          </a:p>
          <a:p>
            <a:pPr lvl="3" marL="1371600" algn="ctr">
              <a:spcBef>
                <a:spcPts val="499"/>
              </a:spcBef>
              <a:buClr>
                <a:srgbClr val="5d3603"/>
              </a:buClr>
              <a:buFont typeface="Eras Bold IT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2000" spc="-1" strike="noStrike">
              <a:solidFill>
                <a:srgbClr val="5d3603"/>
              </a:solidFill>
              <a:latin typeface="Eras Bold ITC"/>
            </a:endParaRPr>
          </a:p>
          <a:p>
            <a:pPr lvl="4" marL="1828800" algn="ctr">
              <a:spcBef>
                <a:spcPts val="499"/>
              </a:spcBef>
              <a:buClr>
                <a:srgbClr val="5d3603"/>
              </a:buClr>
              <a:buFont typeface="Eras Bold IT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2000" spc="-1" strike="noStrike">
              <a:solidFill>
                <a:srgbClr val="5d3603"/>
              </a:solidFill>
              <a:latin typeface="Eras Bold IT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2000" spc="-1" strike="noStrike">
              <a:solidFill>
                <a:srgbClr val="5d3603"/>
              </a:solidFill>
              <a:latin typeface="Eras Bold IT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2000" spc="-1" strike="noStrike">
              <a:solidFill>
                <a:srgbClr val="5d3603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pperplate Gothic Bold"/>
              </a:rPr>
              <a:t>Autumn Myst</a:t>
            </a: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29714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Your Subtitle Goes Her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84" name="leaves" descr=""/>
          <p:cNvPicPr/>
          <p:nvPr/>
        </p:nvPicPr>
        <p:blipFill>
          <a:blip r:embed="rId2"/>
          <a:stretch/>
        </p:blipFill>
        <p:spPr>
          <a:xfrm>
            <a:off x="5334120" y="4343400"/>
            <a:ext cx="3614760" cy="2389320"/>
          </a:xfrm>
          <a:prstGeom prst="rect">
            <a:avLst/>
          </a:prstGeom>
          <a:ln w="0">
            <a:noFill/>
          </a:ln>
        </p:spPr>
      </p:pic>
      <p:pic>
        <p:nvPicPr>
          <p:cNvPr id="85" name="leaves" descr=""/>
          <p:cNvPicPr/>
          <p:nvPr/>
        </p:nvPicPr>
        <p:blipFill>
          <a:blip r:embed="rId3"/>
          <a:stretch/>
        </p:blipFill>
        <p:spPr>
          <a:xfrm>
            <a:off x="304920" y="4411800"/>
            <a:ext cx="3429000" cy="2263680"/>
          </a:xfrm>
          <a:prstGeom prst="rect">
            <a:avLst/>
          </a:prstGeom>
          <a:ln w="0">
            <a:noFill/>
          </a:ln>
        </p:spPr>
      </p:pic>
      <p:pic>
        <p:nvPicPr>
          <p:cNvPr id="86" name="leaf" descr=""/>
          <p:cNvPicPr/>
          <p:nvPr/>
        </p:nvPicPr>
        <p:blipFill>
          <a:blip r:embed="rId4"/>
          <a:stretch/>
        </p:blipFill>
        <p:spPr>
          <a:xfrm>
            <a:off x="3962520" y="4952880"/>
            <a:ext cx="1752480" cy="1703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07320" y="549360"/>
            <a:ext cx="434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枫叶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会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Your Topic Goes Her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Your sub topics go her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1" name="leaf" descr=""/>
          <p:cNvPicPr/>
          <p:nvPr/>
        </p:nvPicPr>
        <p:blipFill>
          <a:blip r:embed="rId2"/>
          <a:stretch/>
        </p:blipFill>
        <p:spPr>
          <a:xfrm>
            <a:off x="152280" y="4419720"/>
            <a:ext cx="2286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pperplate Gothic Bold"/>
              </a:rPr>
              <a:t>Transitional Page</a:t>
            </a: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29714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Your Topic Goes Her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Your sub topics go her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6" name="leaf" descr=""/>
          <p:cNvPicPr/>
          <p:nvPr/>
        </p:nvPicPr>
        <p:blipFill>
          <a:blip r:embed="rId2"/>
          <a:stretch/>
        </p:blipFill>
        <p:spPr>
          <a:xfrm>
            <a:off x="152280" y="4419720"/>
            <a:ext cx="2286000" cy="2220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4360" y="249228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pperplate Gothic Bold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：</a:t>
            </a:r>
            <a:endParaRPr b="0" lang="en-US" sz="14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Eras Bold ITC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Eras Bold ITC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特别说明：</a:t>
            </a:r>
            <a:endParaRPr b="0" lang="en-US" sz="14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：</a:t>
            </a:r>
            <a:endParaRPr b="0" lang="en-US" sz="14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788-F451-455C-9310-87A79D8D9F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pperplate Gothic Bold"/>
              </a:rPr>
              <a:t>Elements</a:t>
            </a: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3520" y="29714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www.animationfactory.com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103" name="autumn_myst_prt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2438280" cy="1951200"/>
          </a:xfrm>
          <a:prstGeom prst="rect">
            <a:avLst/>
          </a:prstGeom>
          <a:ln w="0">
            <a:noFill/>
          </a:ln>
        </p:spPr>
      </p:pic>
      <p:pic>
        <p:nvPicPr>
          <p:cNvPr id="104" name="autumn_myst_qx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438280" cy="1951200"/>
          </a:xfrm>
          <a:prstGeom prst="rect">
            <a:avLst/>
          </a:prstGeom>
          <a:ln w="0">
            <a:noFill/>
          </a:ln>
        </p:spPr>
      </p:pic>
      <p:pic>
        <p:nvPicPr>
          <p:cNvPr id="105" name="autumn_myst_sld" descr=""/>
          <p:cNvPicPr/>
          <p:nvPr/>
        </p:nvPicPr>
        <p:blipFill>
          <a:blip r:embed="rId3"/>
          <a:stretch/>
        </p:blipFill>
        <p:spPr>
          <a:xfrm>
            <a:off x="3352680" y="3809880"/>
            <a:ext cx="2438640" cy="1951200"/>
          </a:xfrm>
          <a:prstGeom prst="rect">
            <a:avLst/>
          </a:prstGeom>
          <a:ln w="0">
            <a:noFill/>
          </a:ln>
        </p:spPr>
      </p:pic>
      <p:pic>
        <p:nvPicPr>
          <p:cNvPr id="106" name="leaf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1752840" cy="1703520"/>
          </a:xfrm>
          <a:prstGeom prst="rect">
            <a:avLst/>
          </a:prstGeom>
          <a:ln w="0">
            <a:noFill/>
          </a:ln>
        </p:spPr>
      </p:pic>
      <p:pic>
        <p:nvPicPr>
          <p:cNvPr id="107" name="leaves" descr=""/>
          <p:cNvPicPr/>
          <p:nvPr/>
        </p:nvPicPr>
        <p:blipFill>
          <a:blip r:embed="rId5"/>
          <a:stretch/>
        </p:blipFill>
        <p:spPr>
          <a:xfrm>
            <a:off x="2971800" y="428760"/>
            <a:ext cx="2743200" cy="1812960"/>
          </a:xfrm>
          <a:prstGeom prst="rect">
            <a:avLst/>
          </a:prstGeom>
          <a:ln w="0">
            <a:noFill/>
          </a:ln>
        </p:spPr>
      </p:pic>
      <p:pic>
        <p:nvPicPr>
          <p:cNvPr id="108" name="leaves" descr=""/>
          <p:cNvPicPr/>
          <p:nvPr/>
        </p:nvPicPr>
        <p:blipFill>
          <a:blip r:embed="rId6"/>
          <a:stretch/>
        </p:blipFill>
        <p:spPr>
          <a:xfrm>
            <a:off x="5943600" y="480960"/>
            <a:ext cx="262404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6:19:30Z</dcterms:created>
  <dc:creator>幻灯片之家：www.eeppt.com</dc:creator>
  <dc:description/>
  <cp:keywords>幻灯片之家：www.eeppt.com</cp:keywords>
  <dc:language>en-US</dc:language>
  <cp:lastModifiedBy/>
  <dcterms:modified xsi:type="dcterms:W3CDTF">2015-09-18T13:20:5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