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7F2E-123E-4B25-89DF-57EC5FC0C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ED63-E4B4-409E-89EA-9594FBC7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C6FF-11C7-4975-94FE-5A450AF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720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4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9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40720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04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5408-97FC-4E88-86DB-E46FFDE50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E4DA1-45C6-4A50-B0F2-0112538F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49C8-5699-4809-890F-566B149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55F9-8637-42A9-AD77-129DD201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402E2-09FC-4353-BB29-1B328030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2A804-B61C-4A69-8043-A0B8993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60958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C5D83-29E2-4F33-A4A5-242E1A9C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C019-7005-47F0-8DCC-937F425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5679-103E-40DB-8CFD-EAFC65F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9A69-809A-48A0-8FC0-464D158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A562C-0225-4EAC-A42D-8971DC0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CF2D-264B-4332-A6B4-A5FF070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74F98-9C64-4C1A-93B4-14587A0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0720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04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9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40720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04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A17C0-EDA8-43B1-A354-6048D1AB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62D0-BEB5-46D1-B274-A2A38C9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A552-9AC8-4FBB-8548-145585D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E621-33D6-4206-87C9-3BAEF689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60958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A7C7-9AA9-496E-B1DD-845B170A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4693-7357-4EE2-A9F5-6CF80CD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7943-C947-40C3-B015-BE69126F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448F-6040-4629-A810-37B0247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5597-CCDB-4651-9CB8-E28086C0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05F-597E-4D7A-AC97-523360484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95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分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幻灯片免费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1240" y="2685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638680" cy="3767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75" name="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8ac8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95b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3a52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d23516"/>
                </a:gs>
                <a:gs pos="100000">
                  <a:srgbClr val="60180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d23516"/>
                </a:gs>
                <a:gs pos="100000">
                  <a:srgbClr val="e48a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90cad6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bbcee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b4d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8d497"/>
                </a:gs>
                <a:gs pos="100000">
                  <a:srgbClr val="7fb2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d23516"/>
                </a:gs>
                <a:gs pos="50000">
                  <a:srgbClr val="e5907f"/>
                </a:gs>
                <a:gs pos="100000">
                  <a:srgbClr val="d235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04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29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14400" y="2590920"/>
          <a:ext cx="7315200" cy="273204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44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49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57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62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70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2280" y="1981080"/>
            <a:ext cx="8838720" cy="3963240"/>
            <a:chOff x="152280" y="1981080"/>
            <a:chExt cx="8838720" cy="3963240"/>
          </a:xfrm>
        </p:grpSpPr>
        <p:grpSp>
          <p:nvGrpSpPr>
            <p:cNvPr id="383" name=""/>
            <p:cNvGrpSpPr/>
            <p:nvPr/>
          </p:nvGrpSpPr>
          <p:grpSpPr>
            <a:xfrm>
              <a:off x="152280" y="3205080"/>
              <a:ext cx="8838720" cy="147240"/>
              <a:chOff x="152280" y="3205080"/>
              <a:chExt cx="8838720" cy="147240"/>
            </a:xfrm>
          </p:grpSpPr>
          <p:sp>
            <p:nvSpPr>
              <p:cNvPr id="384" name=""/>
              <p:cNvSpPr/>
              <p:nvPr/>
            </p:nvSpPr>
            <p:spPr>
              <a:xfrm>
                <a:off x="152280" y="3205080"/>
                <a:ext cx="883872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2280" y="3245040"/>
                <a:ext cx="8838720" cy="10728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960480" y="2673360"/>
              <a:ext cx="1929240" cy="3205080"/>
              <a:chOff x="960480" y="2673360"/>
              <a:chExt cx="1929240" cy="320508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379160" y="3496320"/>
                <a:ext cx="1510560" cy="2382120"/>
                <a:chOff x="1379160" y="3496320"/>
                <a:chExt cx="1510560" cy="238212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1379160" y="3654000"/>
                  <a:ext cx="1400400" cy="2224440"/>
                  <a:chOff x="1379160" y="3654000"/>
                  <a:chExt cx="1400400" cy="2224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3876600">
                    <a:off x="964800" y="452016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3876600">
                    <a:off x="2304360" y="538164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815480" y="3496320"/>
                  <a:ext cx="1074240" cy="1706760"/>
                  <a:chOff x="1815480" y="3496320"/>
                  <a:chExt cx="1074240" cy="1706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 rot="3876600">
                    <a:off x="1497240" y="4160520"/>
                    <a:ext cx="1710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 rot="3876600">
                    <a:off x="2509560" y="4829400"/>
                    <a:ext cx="26856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960480" y="2673360"/>
                <a:ext cx="1271160" cy="1282320"/>
                <a:chOff x="960480" y="2673360"/>
                <a:chExt cx="1271160" cy="12823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960480" y="2673360"/>
                  <a:ext cx="127116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960480" y="2673360"/>
                  <a:ext cx="127116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044360" y="2756520"/>
                  <a:ext cx="110268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44360" y="2759400"/>
                  <a:ext cx="110268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9080" y="2813400"/>
                  <a:ext cx="99324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1114560" y="2828520"/>
                  <a:ext cx="962640" cy="972360"/>
                  <a:chOff x="1114560" y="2828520"/>
                  <a:chExt cx="962640" cy="9723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114560" y="2828520"/>
                    <a:ext cx="96264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126800" y="2833920"/>
                    <a:ext cx="93960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136880" y="2843280"/>
                    <a:ext cx="89352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189080" y="2868120"/>
                    <a:ext cx="79416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"/>
              <p:cNvSpPr/>
              <p:nvPr/>
            </p:nvSpPr>
            <p:spPr>
              <a:xfrm rot="3925800">
                <a:off x="1330560" y="446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925800">
                <a:off x="179100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711160" y="2673360"/>
              <a:ext cx="1930680" cy="3205080"/>
              <a:chOff x="2711160" y="2673360"/>
              <a:chExt cx="1930680" cy="320508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3130920" y="3495960"/>
                <a:ext cx="1510920" cy="2382480"/>
                <a:chOff x="3130920" y="3495960"/>
                <a:chExt cx="1510920" cy="238248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3130920" y="3654000"/>
                  <a:ext cx="1400400" cy="2224440"/>
                  <a:chOff x="3130920" y="3654000"/>
                  <a:chExt cx="1400400" cy="22244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876600">
                    <a:off x="2716560" y="452016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876600">
                    <a:off x="4055760" y="538164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567240" y="3495960"/>
                  <a:ext cx="1074600" cy="1707120"/>
                  <a:chOff x="3567240" y="3495960"/>
                  <a:chExt cx="1074600" cy="1707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3876600">
                    <a:off x="3249000" y="416052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4261320" y="482940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2711160" y="2673360"/>
                <a:ext cx="1271520" cy="1282320"/>
                <a:chOff x="2711160" y="2673360"/>
                <a:chExt cx="1271520" cy="12823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711160" y="267336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11160" y="267336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795400" y="2756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795400" y="275940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849760" y="281340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2865240" y="2828520"/>
                  <a:ext cx="963000" cy="972360"/>
                  <a:chOff x="2865240" y="2828520"/>
                  <a:chExt cx="963000" cy="972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2865240" y="282852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877480" y="283392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887560" y="284328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939760" y="286812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 rot="3925800">
                <a:off x="3080520" y="4461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925800">
                <a:off x="353736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521240" y="2673360"/>
              <a:ext cx="1929240" cy="3205800"/>
              <a:chOff x="4521240" y="2673360"/>
              <a:chExt cx="1929240" cy="32058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937400" y="3493440"/>
                <a:ext cx="1513080" cy="2385720"/>
                <a:chOff x="4937400" y="3493440"/>
                <a:chExt cx="1513080" cy="23857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4937400" y="3651840"/>
                  <a:ext cx="1402560" cy="2227320"/>
                  <a:chOff x="4937400" y="3651840"/>
                  <a:chExt cx="1402560" cy="22273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876600">
                    <a:off x="4523040" y="4518360"/>
                    <a:ext cx="2230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876600">
                    <a:off x="5863680" y="5380920"/>
                    <a:ext cx="35064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5374440" y="3493440"/>
                  <a:ext cx="1076040" cy="1708920"/>
                  <a:chOff x="5374440" y="3493440"/>
                  <a:chExt cx="1076040" cy="1708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V="1" rot="3876600">
                    <a:off x="5056560" y="4158000"/>
                    <a:ext cx="171180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6069600" y="4827960"/>
                    <a:ext cx="26892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521240" y="2673360"/>
                <a:ext cx="1273320" cy="1283760"/>
                <a:chOff x="4521240" y="2673360"/>
                <a:chExt cx="1273320" cy="1283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521240" y="2673360"/>
                  <a:ext cx="1273320" cy="128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521240" y="2673360"/>
                  <a:ext cx="1273320" cy="128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605480" y="2756520"/>
                  <a:ext cx="1104480" cy="11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605480" y="2759400"/>
                  <a:ext cx="1104480" cy="11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60200" y="2813400"/>
                  <a:ext cx="99504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4675320" y="2828880"/>
                  <a:ext cx="964440" cy="973440"/>
                  <a:chOff x="4675320" y="2828880"/>
                  <a:chExt cx="964440" cy="9734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4675320" y="2828880"/>
                    <a:ext cx="964440" cy="9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687560" y="2834280"/>
                    <a:ext cx="941040" cy="94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697640" y="2843640"/>
                    <a:ext cx="894960" cy="88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749840" y="2868480"/>
                    <a:ext cx="795600" cy="720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"/>
              <p:cNvSpPr/>
              <p:nvPr/>
            </p:nvSpPr>
            <p:spPr>
              <a:xfrm rot="3925800">
                <a:off x="4900680" y="446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3925800">
                <a:off x="535932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300720" y="2531880"/>
              <a:ext cx="2121480" cy="3412440"/>
              <a:chOff x="6300720" y="2531880"/>
              <a:chExt cx="2121480" cy="341244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6909120" y="3558600"/>
                <a:ext cx="1513080" cy="2385720"/>
                <a:chOff x="6909120" y="3558600"/>
                <a:chExt cx="1513080" cy="238572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909120" y="3717000"/>
                  <a:ext cx="1402560" cy="2227320"/>
                  <a:chOff x="6909120" y="3717000"/>
                  <a:chExt cx="1402560" cy="22273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3876600">
                    <a:off x="6494760" y="4583520"/>
                    <a:ext cx="2230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3876600">
                    <a:off x="7835400" y="5446080"/>
                    <a:ext cx="35064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346160" y="3558600"/>
                  <a:ext cx="1076040" cy="1708920"/>
                  <a:chOff x="7346160" y="3558600"/>
                  <a:chExt cx="1076040" cy="17089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 rot="3876600">
                    <a:off x="7028280" y="4223160"/>
                    <a:ext cx="171180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8041320" y="4893120"/>
                    <a:ext cx="26892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>
                <a:off x="6300720" y="2531880"/>
                <a:ext cx="1529280" cy="1539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00720" y="2531880"/>
                <a:ext cx="1529280" cy="153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02240" y="2631960"/>
                <a:ext cx="1329120" cy="1337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04040" y="2635200"/>
                <a:ext cx="1328760" cy="1337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68840" y="2700000"/>
                <a:ext cx="1195920" cy="120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6486480" y="2719080"/>
                <a:ext cx="1160280" cy="1166400"/>
                <a:chOff x="6486480" y="2719080"/>
                <a:chExt cx="1160280" cy="1166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486480" y="2719080"/>
                  <a:ext cx="1160280" cy="116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501240" y="2725560"/>
                  <a:ext cx="113220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513120" y="2736720"/>
                  <a:ext cx="1076760" cy="106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76120" y="2766600"/>
                  <a:ext cx="957240" cy="86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rot="3925800">
                <a:off x="6855840" y="4606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7311240" y="4331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25064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960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5920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72520" y="1981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1898640" y="2182320"/>
              <a:ext cx="108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3655440" y="2182320"/>
              <a:ext cx="1072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>
              <a:stCxn id="471" idx="3"/>
              <a:endCxn id="472" idx="1"/>
            </p:cNvCxnSpPr>
            <p:nvPr/>
          </p:nvCxnSpPr>
          <p:spPr>
            <a:xfrm>
              <a:off x="5406840" y="2182680"/>
              <a:ext cx="1077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6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80" name=""/>
            <p:cNvSpPr/>
            <p:nvPr/>
          </p:nvSpPr>
          <p:spPr>
            <a:xfrm>
              <a:off x="5552280" y="280188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94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solidFill>
              <a:srgbClr val="36a1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47560" y="2057400"/>
            <a:ext cx="6428880" cy="3649320"/>
            <a:chOff x="1447560" y="2057400"/>
            <a:chExt cx="6428880" cy="3649320"/>
          </a:xfrm>
        </p:grpSpPr>
        <p:sp>
          <p:nvSpPr>
            <p:cNvPr id="525" name=""/>
            <p:cNvSpPr/>
            <p:nvPr/>
          </p:nvSpPr>
          <p:spPr>
            <a:xfrm flipH="1">
              <a:off x="1447920" y="5702760"/>
              <a:ext cx="171216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447560" y="4968360"/>
              <a:ext cx="220860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447920" y="4206600"/>
              <a:ext cx="259416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447560" y="3456000"/>
              <a:ext cx="3035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447920" y="2701440"/>
              <a:ext cx="3476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447560" y="2057400"/>
              <a:ext cx="3863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7520" y="2057400"/>
              <a:ext cx="1440" cy="644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7520" y="270144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7520" y="346320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67520" y="422496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67520" y="4986720"/>
              <a:ext cx="1440" cy="70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20080" y="2236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0080" y="29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0080" y="3724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20080" y="4469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0080" y="521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186360" y="2057400"/>
              <a:ext cx="4690080" cy="3649320"/>
              <a:chOff x="3186360" y="2057400"/>
              <a:chExt cx="4690080" cy="3649320"/>
            </a:xfrm>
          </p:grpSpPr>
          <p:sp>
            <p:nvSpPr>
              <p:cNvPr id="542" name=""/>
              <p:cNvSpPr/>
              <p:nvPr/>
            </p:nvSpPr>
            <p:spPr>
              <a:xfrm>
                <a:off x="7049520" y="4586760"/>
                <a:ext cx="826920" cy="111888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560760" y="4586760"/>
                <a:ext cx="3854520" cy="47664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204060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86360" y="5061240"/>
                <a:ext cx="4254840" cy="64548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7698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17520" y="3953880"/>
                <a:ext cx="731160" cy="101304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99240" y="3953880"/>
                <a:ext cx="2895840" cy="35676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632760" y="4309200"/>
                <a:ext cx="3361680" cy="65772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85520" y="3327480"/>
                <a:ext cx="639720" cy="87984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54a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434480" y="3327480"/>
                <a:ext cx="1933200" cy="2376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183048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62240" y="3563640"/>
                <a:ext cx="2501280" cy="64332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9db5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48840" y="2691360"/>
                <a:ext cx="550800" cy="7660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a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77640" y="2691360"/>
                <a:ext cx="964440" cy="1148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674d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97840" y="2805120"/>
                <a:ext cx="1629000" cy="65232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7ee4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08200" y="2057400"/>
                <a:ext cx="465480" cy="6483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85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31280" y="2057400"/>
                <a:ext cx="755280" cy="6483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b0c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48280" y="24019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48280" y="30855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48280" y="38286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48280" y="4571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48280" y="53168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29560" y="1212480"/>
            <a:ext cx="7431480" cy="4917960"/>
            <a:chOff x="529560" y="1212480"/>
            <a:chExt cx="7431480" cy="4917960"/>
          </a:xfrm>
        </p:grpSpPr>
        <p:sp>
          <p:nvSpPr>
            <p:cNvPr id="565" name=""/>
            <p:cNvSpPr/>
            <p:nvPr/>
          </p:nvSpPr>
          <p:spPr>
            <a:xfrm>
              <a:off x="218772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146196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51740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38276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3496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20602200">
              <a:off x="143820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4000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0602200">
              <a:off x="142380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450684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440028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29560" y="1509840"/>
              <a:ext cx="6918480" cy="4356720"/>
              <a:chOff x="529560" y="1509840"/>
              <a:chExt cx="6918480" cy="4356720"/>
            </a:xfrm>
          </p:grpSpPr>
          <p:sp>
            <p:nvSpPr>
              <p:cNvPr id="576" name=""/>
              <p:cNvSpPr/>
              <p:nvPr/>
            </p:nvSpPr>
            <p:spPr>
              <a:xfrm rot="20712600">
                <a:off x="78228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712600">
                <a:off x="418608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712600">
                <a:off x="556200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003680" y="1212480"/>
              <a:ext cx="6957360" cy="4863240"/>
              <a:chOff x="1003680" y="1212480"/>
              <a:chExt cx="6957360" cy="4863240"/>
            </a:xfrm>
          </p:grpSpPr>
          <p:sp>
            <p:nvSpPr>
              <p:cNvPr id="580" name=""/>
              <p:cNvSpPr/>
              <p:nvPr/>
            </p:nvSpPr>
            <p:spPr>
              <a:xfrm rot="20601600">
                <a:off x="607356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39200">
                <a:off x="132372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601600">
                <a:off x="475776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rot="20601600">
              <a:off x="297972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305604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1608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588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708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5848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1096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9240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52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28880" y="1905120"/>
            <a:ext cx="5081040" cy="568080"/>
            <a:chOff x="1928880" y="1905120"/>
            <a:chExt cx="5081040" cy="568080"/>
          </a:xfrm>
        </p:grpSpPr>
        <p:sp>
          <p:nvSpPr>
            <p:cNvPr id="90" name=""/>
            <p:cNvSpPr/>
            <p:nvPr/>
          </p:nvSpPr>
          <p:spPr>
            <a:xfrm>
              <a:off x="2209680" y="23590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928880" y="2215080"/>
              <a:ext cx="258480" cy="258120"/>
              <a:chOff x="1928880" y="2215080"/>
              <a:chExt cx="258480" cy="258120"/>
            </a:xfrm>
          </p:grpSpPr>
          <p:sp>
            <p:nvSpPr>
              <p:cNvPr id="92" name=""/>
              <p:cNvSpPr/>
              <p:nvPr/>
            </p:nvSpPr>
            <p:spPr>
              <a:xfrm rot="2700000">
                <a:off x="1966680" y="22528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8900000">
                <a:off x="1965960" y="2252880"/>
                <a:ext cx="182880" cy="18216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016440" y="19051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96" name="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98" name="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01644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2" name="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4" name="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01644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08" name="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0" name="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01644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D1BA-F21A-438F-B082-E09382FAA9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907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36a1b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36a1b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8077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0" name=""/>
            <p:cNvSpPr/>
            <p:nvPr/>
          </p:nvSpPr>
          <p:spPr>
            <a:xfrm>
              <a:off x="1320840" y="2155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5b9ed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3" name=""/>
            <p:cNvSpPr/>
            <p:nvPr/>
          </p:nvSpPr>
          <p:spPr>
            <a:xfrm>
              <a:off x="1320840" y="3298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8ac8d4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6" name=""/>
            <p:cNvSpPr/>
            <p:nvPr/>
          </p:nvSpPr>
          <p:spPr>
            <a:xfrm>
              <a:off x="1320840" y="4441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7399b"/>
                </a:gs>
                <a:gs pos="50000">
                  <a:srgbClr val="8b8cc4"/>
                </a:gs>
                <a:gs pos="100000">
                  <a:srgbClr val="3739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29" name=""/>
            <p:cNvSpPr/>
            <p:nvPr/>
          </p:nvSpPr>
          <p:spPr>
            <a:xfrm>
              <a:off x="1320840" y="5584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4d191"/>
                </a:gs>
                <a:gs pos="100000">
                  <a:srgbClr val="7fb2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" name=""/>
          <p:cNvCxnSpPr>
            <a:stCxn id="120" idx="0"/>
            <a:endCxn id="124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>
            <a:stCxn id="123" idx="0"/>
            <a:endCxn id="127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>
            <a:stCxn id="126" idx="0"/>
            <a:endCxn id="130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0600" y="1752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40600" y="2895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0600" y="4038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40600" y="5181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19320" y="1752480"/>
            <a:ext cx="6324480" cy="4190760"/>
            <a:chOff x="1219320" y="1752480"/>
            <a:chExt cx="6324480" cy="4190760"/>
          </a:xfrm>
        </p:grpSpPr>
        <p:sp>
          <p:nvSpPr>
            <p:cNvPr id="146" name=""/>
            <p:cNvSpPr/>
            <p:nvPr/>
          </p:nvSpPr>
          <p:spPr>
            <a:xfrm>
              <a:off x="5387760" y="3398040"/>
              <a:ext cx="2156040" cy="254520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5200"/>
                <a:gd name="textAreaBottom" fmla="*/ 2440080 h 2545200"/>
              </a:gdLst>
              <a:ahLst/>
              <a:rect l="textAreaLeft" t="textAreaTop" r="textAreaRight" b="textAreaBottom"/>
              <a:pathLst>
                <a:path w="21600" h="25498">
                  <a:moveTo>
                    <a:pt x="3600" y="0"/>
                  </a:moveTo>
                  <a:arcTo wR="3600" hR="3600" stAng="16200000" swAng="-5400000"/>
                  <a:lnTo>
                    <a:pt x="0" y="21898"/>
                  </a:lnTo>
                  <a:arcTo wR="3600" hR="3600" stAng="10800000" swAng="-5400000"/>
                  <a:lnTo>
                    <a:pt x="18000" y="25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1400" y="3584160"/>
              <a:ext cx="194040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3398040"/>
              <a:ext cx="2156040" cy="254520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5200"/>
                <a:gd name="textAreaBottom" fmla="*/ 2440080 h 2545200"/>
              </a:gdLst>
              <a:ahLst/>
              <a:rect l="textAreaLeft" t="textAreaTop" r="textAreaRight" b="textAreaBottom"/>
              <a:pathLst>
                <a:path w="21600" h="25498">
                  <a:moveTo>
                    <a:pt x="3600" y="0"/>
                  </a:moveTo>
                  <a:arcTo wR="3600" hR="3600" stAng="16200000" swAng="-5400000"/>
                  <a:lnTo>
                    <a:pt x="0" y="21898"/>
                  </a:lnTo>
                  <a:arcTo wR="3600" hR="3600" stAng="10800000" swAng="-5400000"/>
                  <a:lnTo>
                    <a:pt x="18000" y="25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8960" y="3588840"/>
              <a:ext cx="1922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0600" y="3305520"/>
              <a:ext cx="851760" cy="11847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bee0e6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39040" y="3305520"/>
              <a:ext cx="851760" cy="11847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8f5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016080" y="1752480"/>
              <a:ext cx="2828160" cy="1527840"/>
              <a:chOff x="3016080" y="1752480"/>
              <a:chExt cx="2828160" cy="15278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016080" y="1888560"/>
                <a:ext cx="2828160" cy="1391760"/>
                <a:chOff x="3016080" y="1888560"/>
                <a:chExt cx="2828160" cy="1391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47040" y="1932840"/>
                  <a:ext cx="279720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d58"/>
                    </a:gs>
                    <a:gs pos="100000">
                      <a:srgbClr val="36a1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16080" y="1888560"/>
                  <a:ext cx="279720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b242"/>
                    </a:gs>
                    <a:gs pos="100000">
                      <a:srgbClr val="c5dca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148920" y="1752480"/>
                <a:ext cx="253152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82040" y="1759680"/>
                <a:ext cx="2470320" cy="1248480"/>
              </a:xfrm>
              <a:prstGeom prst="ellipse">
                <a:avLst/>
              </a:prstGeom>
              <a:gradFill rotWithShape="0">
                <a:gsLst>
                  <a:gs pos="0">
                    <a:srgbClr val="bed4f4"/>
                  </a:gs>
                  <a:gs pos="100000">
                    <a:srgbClr val="4987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7240" y="1771920"/>
                <a:ext cx="235080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48235"/>
                    </a:srgbClr>
                  </a:gs>
                  <a:gs pos="100000">
                    <a:srgbClr val="396a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1800" y="1797480"/>
                <a:ext cx="2069280" cy="9453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770640" y="19432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167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36a1b6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876400">
              <a:off x="354456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7652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704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1432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0648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376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826600">
              <a:off x="170172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25400" y="3448080"/>
              <a:ext cx="1370880" cy="1441080"/>
              <a:chOff x="1625400" y="3448080"/>
              <a:chExt cx="1370880" cy="1441080"/>
            </a:xfrm>
          </p:grpSpPr>
          <p:sp>
            <p:nvSpPr>
              <p:cNvPr id="177" name=""/>
              <p:cNvSpPr/>
              <p:nvPr/>
            </p:nvSpPr>
            <p:spPr>
              <a:xfrm>
                <a:off x="162540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340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563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00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8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52388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984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280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2360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760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971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9072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276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22480" y="162252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2860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65320" y="164772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296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828800"/>
            <a:ext cx="6629400" cy="4035600"/>
            <a:chOff x="1066680" y="1828800"/>
            <a:chExt cx="6629400" cy="4035600"/>
          </a:xfrm>
        </p:grpSpPr>
        <p:sp>
          <p:nvSpPr>
            <p:cNvPr id="196" name=""/>
            <p:cNvSpPr/>
            <p:nvPr/>
          </p:nvSpPr>
          <p:spPr>
            <a:xfrm>
              <a:off x="3588480" y="40521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480" y="35474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8480" y="30430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83840" y="326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83840" y="3765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3840" y="4269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0120" y="28267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3868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664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3864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21160" y="28267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800" y="18288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7160" y="2466720"/>
              <a:ext cx="165708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1520" y="1966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54680" y="52768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520" y="5496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35920" y="470052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6920" y="16765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4987e3"/>
              </a:gs>
              <a:gs pos="100000">
                <a:srgbClr val="f8fa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50000">
                <a:srgbClr val="85aeeb"/>
              </a:gs>
              <a:gs pos="100000">
                <a:srgbClr val="4987e3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50000">
                <a:srgbClr val="78bfcd"/>
              </a:gs>
              <a:gs pos="100000">
                <a:srgbClr val="36a1b6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fb242"/>
              </a:gs>
              <a:gs pos="50000">
                <a:srgbClr val="a9ca80"/>
              </a:gs>
              <a:gs pos="100000">
                <a:srgbClr val="7fb242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362320"/>
            <a:ext cx="7162560" cy="2895120"/>
            <a:chOff x="914400" y="2362320"/>
            <a:chExt cx="7162560" cy="2895120"/>
          </a:xfrm>
        </p:grpSpPr>
        <p:sp>
          <p:nvSpPr>
            <p:cNvPr id="226" name=""/>
            <p:cNvSpPr/>
            <p:nvPr/>
          </p:nvSpPr>
          <p:spPr>
            <a:xfrm>
              <a:off x="29419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494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94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2280" y="2502000"/>
              <a:ext cx="1761840" cy="178020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1800" y="25128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7320" y="25909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36232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b24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236232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fb24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46520" y="24958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45f23"/>
                </a:gs>
                <a:gs pos="50000">
                  <a:srgbClr val="7fb242"/>
                </a:gs>
                <a:gs pos="100000">
                  <a:srgbClr val="445f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8320" y="249912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7fb242">
                    <a:alpha val="0"/>
                  </a:srgbClr>
                </a:gs>
                <a:gs pos="100000">
                  <a:srgbClr val="5070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4720" y="258516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160280" y="2608920"/>
              <a:ext cx="1535760" cy="1551600"/>
              <a:chOff x="1160280" y="2608920"/>
              <a:chExt cx="1535760" cy="1551600"/>
            </a:xfrm>
          </p:grpSpPr>
          <p:sp>
            <p:nvSpPr>
              <p:cNvPr id="239" name=""/>
              <p:cNvSpPr/>
              <p:nvPr/>
            </p:nvSpPr>
            <p:spPr>
              <a:xfrm>
                <a:off x="116028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7972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9556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7908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4826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98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826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512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27487a"/>
                </a:gs>
                <a:gs pos="50000">
                  <a:srgbClr val="4987e3"/>
                </a:gs>
                <a:gs pos="100000">
                  <a:srgbClr val="274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16560" y="250524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5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2960" y="25909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728520" y="2608920"/>
              <a:ext cx="1535760" cy="1551600"/>
              <a:chOff x="3728520" y="2608920"/>
              <a:chExt cx="1535760" cy="155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372852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4796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380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4732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305760" y="2608920"/>
              <a:ext cx="1535760" cy="1551600"/>
              <a:chOff x="6305760" y="2608920"/>
              <a:chExt cx="1535760" cy="1551600"/>
            </a:xfrm>
          </p:grpSpPr>
          <p:sp>
            <p:nvSpPr>
              <p:cNvPr id="254" name=""/>
              <p:cNvSpPr/>
              <p:nvPr/>
            </p:nvSpPr>
            <p:spPr>
              <a:xfrm>
                <a:off x="630576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2520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34104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456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96048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2584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0920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4404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840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9276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59:2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