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3B8-EA94-4CDF-A750-5B9242FC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1E6-03DF-4D09-81DF-2B0CEB0A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56D-94B8-4712-813B-250D6B5C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7E2-2CE3-424E-8056-8CB451C1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6A9-BC40-45DA-9CD7-FBEA2677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12C-F452-4A3F-9C01-6B4BF006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A21-EF2D-4B49-804E-C2E2BFC1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86B-0D54-41F4-83DA-56E5C7AB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FD1-45C8-49C7-AE61-A6339FE2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6DF-4AF8-4DB7-97CB-E42DAAC3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5F1-9DE1-48F8-91AA-C0039B9A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311-D184-4C62-9AC6-4BA82F6E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F6D4-F54A-4BFF-9E07-B128873FC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109440" y="-82440"/>
          <a:ext cx="9321840" cy="6991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9440" y="-82440"/>
                    <a:ext cx="9321840" cy="69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637000" y="62197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680" y="98280"/>
            <a:ext cx="534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广播专业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个人求职简历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0520" y="15840"/>
          <a:ext cx="910296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5840"/>
                    <a:ext cx="910296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522440" y="1393920"/>
          <a:ext cx="6095880" cy="40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4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0520" y="15840"/>
          <a:ext cx="910296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5840"/>
                    <a:ext cx="910296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806-3B78-44B4-8630-C8A6C7392C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64600" cy="6950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08080" y="1719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22:32:2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9:41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