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jpeg" ContentType="image/jpe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3.jpeg" ContentType="image/jpeg"/>
  <Override PartName="/ppt/media/image36.png" ContentType="image/png"/>
  <Override PartName="/ppt/media/image35.png" ContentType="image/png"/>
  <Override PartName="/ppt/media/image34.png" ContentType="image/png"/>
  <Override PartName="/ppt/media/image33.png" ContentType="image/png"/>
  <Override PartName="/ppt/media/image31.png" ContentType="image/png"/>
  <Override PartName="/ppt/media/image48.png" ContentType="image/png"/>
  <Override PartName="/ppt/media/image11.png" ContentType="image/png"/>
  <Override PartName="/ppt/media/image39.png" ContentType="image/png"/>
  <Override PartName="/ppt/media/image9.png" ContentType="image/png"/>
  <Override PartName="/ppt/media/image86.png" ContentType="image/png"/>
  <Override PartName="/ppt/media/image49.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13.png" ContentType="image/png"/>
  <Override PartName="/ppt/media/image38.png" ContentType="image/png"/>
  <Override PartName="/ppt/media/image8.png" ContentType="image/png"/>
  <Override PartName="/ppt/media/image85.png" ContentType="image/png"/>
  <Override PartName="/ppt/media/image24.png" ContentType="image/png"/>
  <Override PartName="/ppt/media/image23.png" ContentType="image/png"/>
  <Override PartName="/ppt/media/image60.png" ContentType="image/png"/>
  <Override PartName="/ppt/media/image62.png" ContentType="image/png"/>
  <Override PartName="/ppt/media/image63.png" ContentType="image/png"/>
  <Override PartName="/ppt/media/image92.png" ContentType="image/png"/>
  <Override PartName="/ppt/media/image27.png" ContentType="image/png"/>
  <Override PartName="/ppt/media/image64.png" ContentType="image/png"/>
  <Override PartName="/ppt/media/image28.png" ContentType="image/png"/>
  <Override PartName="/ppt/media/image70.png" ContentType="image/png"/>
  <Override PartName="/ppt/media/image65.png" ContentType="image/png"/>
  <Override PartName="/ppt/media/image29.png" ContentType="image/png"/>
  <Override PartName="/ppt/media/image6.jpeg" ContentType="image/jpeg"/>
  <Override PartName="/ppt/media/image71.png" ContentType="image/png"/>
  <Override PartName="/ppt/media/image66.png" ContentType="image/png"/>
  <Override PartName="/ppt/media/image67.png" ContentType="image/png"/>
  <Override PartName="/ppt/media/image30.png" ContentType="image/png"/>
  <Override PartName="/ppt/media/image26.png" ContentType="image/png"/>
  <Override PartName="/ppt/media/image91.png" ContentType="image/png"/>
  <Override PartName="/ppt/media/image89.png" ContentType="image/png"/>
  <Override PartName="/ppt/media/image77.png" ContentType="image/png"/>
  <Override PartName="/ppt/media/image40.png" ContentType="image/png"/>
  <Override PartName="/ppt/media/image88.png" ContentType="image/png"/>
  <Override PartName="/ppt/media/image76.png" ContentType="image/png"/>
  <Override PartName="/ppt/media/image87.png" ContentType="image/png"/>
  <Override PartName="/ppt/media/image50.png" ContentType="image/png"/>
  <Override PartName="/ppt/media/image75.png" ContentType="image/png"/>
  <Override PartName="/ppt/media/image79.png" ContentType="image/png"/>
  <Override PartName="/ppt/media/image78.png" ContentType="image/png"/>
  <Override PartName="/ppt/media/image74.png" ContentType="image/png"/>
  <Override PartName="/ppt/media/image73.png" ContentType="image/png"/>
  <Override PartName="/ppt/media/image72.png" ContentType="image/png"/>
  <Override PartName="/ppt/media/image68.png" ContentType="image/png"/>
  <Override PartName="/ppt/media/image69.png" ContentType="image/png"/>
  <Override PartName="/ppt/media/image93.jpeg" ContentType="image/jpeg"/>
  <Override PartName="/ppt/media/image32.png" ContentType="image/png"/>
  <Override PartName="/ppt/media/image22.png" ContentType="image/png"/>
  <Override PartName="/ppt/media/image59.png" ContentType="image/png"/>
  <Override PartName="/ppt/media/image58.png" ContentType="image/png"/>
  <Override PartName="/ppt/media/image20.png" ContentType="image/png"/>
  <Override PartName="/ppt/media/image57.png" ContentType="image/png"/>
  <Override PartName="/ppt/media/image18.png" ContentType="image/png"/>
  <Override PartName="/ppt/media/image83.png" ContentType="image/png"/>
  <Override PartName="/ppt/media/image82.png" ContentType="image/png"/>
  <Override PartName="/ppt/media/image17.png" ContentType="image/png"/>
  <Override PartName="/ppt/media/image81.png" ContentType="image/png"/>
  <Override PartName="/ppt/media/image16.png" ContentType="image/png"/>
  <Override PartName="/ppt/media/image80.png" ContentType="image/png"/>
  <Override PartName="/ppt/media/image15.png" ContentType="image/png"/>
  <Override PartName="/ppt/media/image90.png" ContentType="image/png"/>
  <Override PartName="/ppt/media/image25.png" ContentType="image/png"/>
  <Override PartName="/ppt/media/image2.png" ContentType="image/png"/>
  <Override PartName="/ppt/media/image14.png" ContentType="image/png"/>
  <Override PartName="/ppt/media/image5.jpeg" ContentType="image/jpeg"/>
  <Override PartName="/ppt/media/image61.png" ContentType="image/png"/>
  <Override PartName="/ppt/media/image10.png" ContentType="image/png"/>
  <Override PartName="/ppt/media/image21.png" ContentType="image/png"/>
  <Override PartName="/ppt/media/image1.jpeg" ContentType="image/jpeg"/>
  <Override PartName="/ppt/media/image4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CBBE5F-CDF3-4EB4-B1FC-FCF3188CDD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FCA82-747F-4A0D-A7F2-D7CB2A355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549C40-E701-477B-B131-170C5FCA3C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8C4C69-01E7-48BE-83FF-6E8C566A42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A70C9C-B3BC-4A92-AF2B-AB462EDA3E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60258D-A2B7-488A-9A70-D53B51D800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8EE3A6-DF71-4440-8280-5D405C97B1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C1F345-E7C7-4388-B270-987CC0F020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E8503E-6D48-4F4B-A364-F412B99D77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E27BA0-1F36-4AC3-8D68-CF0C03B951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205999-5FA7-4DF7-96A9-14B713D89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B99AC-9E75-4BD0-B13C-7E786A658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92614-135F-48E7-A88D-9B6A682B40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FEB011-9495-48EA-8DBC-86E6060F44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C22049-855E-49A9-B8F5-9CFC5E4E98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93D4F5-D41F-4066-85E6-C6B4B4AD17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D1CD04-C9F7-4EC1-BCDD-78075338E0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1560B1-A08E-4F6E-94B6-3E8EE032A6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83F403-D174-45EC-8108-6CEE22D128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BC807B-52CB-4300-BF71-7E23E81FD7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B137FF-93DC-4051-9394-F9C4E24319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D6B791-BE21-403F-ABEE-2638AEE2C6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CA453-3553-4F21-AAD2-5E6C446F1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5FD643-89A8-4BE6-B9C3-5EE669C3A5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68E69C-72E9-4DF4-80F3-EB7BC840A9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836BC1-AAF6-437A-8818-9CB8728F68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AFCB90-32B4-413E-91AB-7264B673B6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4FA3BE-5A0B-4C33-8956-46FB3574D2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FF1DB7-00FC-436E-B8FC-063E454448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4"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1584BC-58E4-4C4F-9E90-A43A78E44C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8D0345-2A8A-43D5-838B-3C8E90E4AB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5E03D0-CDDD-4442-8353-1B1EC4A719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B5080B-7E10-482A-BEF0-4ED7578A2A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1398B-C13C-4B63-A9DC-8368F65B3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10BA7D-BDBD-435A-89F1-6970915988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41ED2E-1028-422D-AF0E-045D1D1DE3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8063BB-20E6-4DCB-91A4-7C1D26AF4F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AB4ADF-A0A6-45A0-B48C-3E0A47D690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F2122A-45CE-4FFC-B54F-B5E4C74F1F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0682B0-5DF2-432B-8425-AD2E863F76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0"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32D47F-3058-4CC6-98F7-A26998503A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FD446B-4F28-46A2-BBD8-308BF6905F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8"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3"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7D27A2-251A-4C80-803C-DBE48E1117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9CA1A-4BD3-4856-8775-9F3D7658A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8"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0"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7"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1"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2"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5"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6"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7"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2"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B9A60-B098-484F-BF8C-B4360A15E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7"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9"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63905-7235-451D-AFDA-DD24E4915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700C0-16A1-42CE-825A-D23739063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18874-0843-4541-A032-9C7B5C8391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9640" y="198864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EDA00-7932-4BBB-82B8-112603E27968}"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5" name="그룹 9"/>
          <p:cNvGrpSpPr/>
          <p:nvPr/>
        </p:nvGrpSpPr>
        <p:grpSpPr>
          <a:xfrm>
            <a:off x="7056360" y="6200640"/>
            <a:ext cx="1516320" cy="432000"/>
            <a:chOff x="7056360" y="6200640"/>
            <a:chExt cx="1516320" cy="432000"/>
          </a:xfrm>
        </p:grpSpPr>
        <p:sp>
          <p:nvSpPr>
            <p:cNvPr id="6" name="WordArt 25"/>
            <p:cNvSpPr txBox="1"/>
            <p:nvPr/>
          </p:nvSpPr>
          <p:spPr>
            <a:xfrm>
              <a:off x="7422120" y="6200640"/>
              <a:ext cx="1150560" cy="28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63000"/>
                    </a:srgbClr>
                  </a:solidFill>
                  <a:latin typeface="Impact"/>
                </a:rPr>
                <a:t>' LOGO '</a:t>
              </a:r>
              <a:endParaRPr b="0" lang="en-US" sz="1400" spc="-1" strike="noStrike">
                <a:ln w="0">
                  <a:noFill/>
                </a:ln>
                <a:solidFill>
                  <a:srgbClr val="000000">
                    <a:alpha val="63000"/>
                  </a:srgbClr>
                </a:solidFill>
                <a:latin typeface="Impact"/>
                <a:ea typeface="Impact"/>
              </a:endParaRPr>
            </a:p>
          </p:txBody>
        </p:sp>
        <p:pic>
          <p:nvPicPr>
            <p:cNvPr id="7" name="WordArt 26" descr=""/>
            <p:cNvPicPr/>
            <p:nvPr/>
          </p:nvPicPr>
          <p:blipFill>
            <a:blip r:embed="rId3"/>
            <a:stretch/>
          </p:blipFill>
          <p:spPr>
            <a:xfrm>
              <a:off x="7056360" y="6548400"/>
              <a:ext cx="1447920" cy="8424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28760" y="152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title text format</a:t>
            </a:r>
            <a:endParaRPr b="1" lang="en-US" sz="3200" spc="-1" strike="noStrike">
              <a:solidFill>
                <a:srgbClr val="ffffff"/>
              </a:solidFill>
              <a:latin typeface="Times New Roman"/>
            </a:endParaRPr>
          </a:p>
        </p:txBody>
      </p:sp>
      <p:sp>
        <p:nvSpPr>
          <p:cNvPr id="45"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59B19-3CAD-40DC-988A-42D642517ED6}"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49" name="WordArt 25"/>
          <p:cNvSpPr txBox="1"/>
          <p:nvPr/>
        </p:nvSpPr>
        <p:spPr>
          <a:xfrm>
            <a:off x="396720" y="638028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Impact"/>
              </a:rPr>
              <a:t>' LOGO '</a:t>
            </a:r>
            <a:endParaRPr b="0" lang="en-US" sz="1400" spc="-1" strike="noStrike">
              <a:ln w="0">
                <a:noFill/>
              </a:ln>
              <a:solidFill>
                <a:srgbClr val="000000">
                  <a:alpha val="80000"/>
                </a:srgbClr>
              </a:solidFill>
              <a:latin typeface="Impact"/>
              <a:ea typeface="Impact"/>
            </a:endParaRPr>
          </a:p>
        </p:txBody>
      </p:sp>
      <p:sp>
        <p:nvSpPr>
          <p:cNvPr id="50" name="WordArt 26"/>
          <p:cNvSpPr txBox="1"/>
          <p:nvPr/>
        </p:nvSpPr>
        <p:spPr>
          <a:xfrm>
            <a:off x="1546200" y="65959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OMPANY LOGOTYPE INSERT</a:t>
            </a:r>
            <a:endParaRPr b="1" lang="en-US" sz="800" spc="-1" strike="noStrike">
              <a:ln w="0">
                <a:noFill/>
              </a:ln>
              <a:solidFill>
                <a:srgbClr val="000000">
                  <a:alpha val="80000"/>
                </a:srgbClr>
              </a:solidFill>
              <a:latin typeface="Arial"/>
              <a:ea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88"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4CD8B-E694-4B04-8229-7965F1168CA1}"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91" name="PlaceHolder 5"/>
          <p:cNvSpPr>
            <a:spLocks noGrp="1"/>
          </p:cNvSpPr>
          <p:nvPr>
            <p:ph type="title"/>
          </p:nvPr>
        </p:nvSpPr>
        <p:spPr>
          <a:xfrm>
            <a:off x="428760" y="152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title text format</a:t>
            </a:r>
            <a:endParaRPr b="1" lang="en-US" sz="3200" spc="-1" strike="noStrike">
              <a:solidFill>
                <a:srgbClr val="ffffff"/>
              </a:solidFill>
              <a:latin typeface="Times New Roman"/>
            </a:endParaRPr>
          </a:p>
        </p:txBody>
      </p:sp>
      <p:sp>
        <p:nvSpPr>
          <p:cNvPr id="92" name="WordArt 25"/>
          <p:cNvSpPr txBox="1"/>
          <p:nvPr/>
        </p:nvSpPr>
        <p:spPr>
          <a:xfrm>
            <a:off x="396720" y="638028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Impact"/>
              </a:rPr>
              <a:t>' LOGO '</a:t>
            </a:r>
            <a:endParaRPr b="0" lang="en-US" sz="1400" spc="-1" strike="noStrike">
              <a:ln w="0">
                <a:noFill/>
              </a:ln>
              <a:solidFill>
                <a:srgbClr val="000000">
                  <a:alpha val="80000"/>
                </a:srgbClr>
              </a:solidFill>
              <a:latin typeface="Impact"/>
              <a:ea typeface="Impact"/>
            </a:endParaRPr>
          </a:p>
        </p:txBody>
      </p:sp>
      <p:sp>
        <p:nvSpPr>
          <p:cNvPr id="93" name="WordArt 26"/>
          <p:cNvSpPr txBox="1"/>
          <p:nvPr/>
        </p:nvSpPr>
        <p:spPr>
          <a:xfrm>
            <a:off x="1546200" y="65959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OMPANY LOGOTYPE INSERT</a:t>
            </a:r>
            <a:endParaRPr b="1" lang="en-US" sz="800" spc="-1" strike="noStrike">
              <a:ln w="0">
                <a:noFill/>
              </a:ln>
              <a:solidFill>
                <a:srgbClr val="000000">
                  <a:alpha val="80000"/>
                </a:srgbClr>
              </a:solidFill>
              <a:latin typeface="Arial"/>
              <a:ea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0"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1"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2"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3" name="PlaceHolder 4"/>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34"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80355-8372-4380-ABED-F9F83C7E9C4E}"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135" name="그룹 8"/>
          <p:cNvGrpSpPr/>
          <p:nvPr/>
        </p:nvGrpSpPr>
        <p:grpSpPr>
          <a:xfrm>
            <a:off x="6299280" y="6380280"/>
            <a:ext cx="2593800" cy="288720"/>
            <a:chOff x="6299280" y="6380280"/>
            <a:chExt cx="2593800" cy="288720"/>
          </a:xfrm>
        </p:grpSpPr>
        <p:sp>
          <p:nvSpPr>
            <p:cNvPr id="136" name="WordArt 25"/>
            <p:cNvSpPr txBox="1"/>
            <p:nvPr/>
          </p:nvSpPr>
          <p:spPr>
            <a:xfrm>
              <a:off x="7740720" y="638028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Impact"/>
                </a:rPr>
                <a:t>' LOGO '</a:t>
              </a:r>
              <a:endParaRPr b="0" lang="en-US" sz="1400" spc="-1" strike="noStrike">
                <a:ln w="0">
                  <a:noFill/>
                </a:ln>
                <a:solidFill>
                  <a:srgbClr val="404040"/>
                </a:solidFill>
                <a:latin typeface="Impact"/>
                <a:ea typeface="Impact"/>
              </a:endParaRPr>
            </a:p>
          </p:txBody>
        </p:sp>
        <p:sp>
          <p:nvSpPr>
            <p:cNvPr id="137" name="WordArt 26"/>
            <p:cNvSpPr txBox="1"/>
            <p:nvPr/>
          </p:nvSpPr>
          <p:spPr>
            <a:xfrm>
              <a:off x="6299280" y="659592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ln w="0">
                    <a:noFill/>
                  </a:ln>
                  <a:solidFill>
                    <a:srgbClr val="404040"/>
                  </a:solidFill>
                  <a:latin typeface="Arial"/>
                </a:rPr>
                <a:t>COMPANY LOGOTYPE INSERT</a:t>
              </a:r>
              <a:endParaRPr b="1" lang="en-US" sz="1100" spc="-1" strike="noStrike">
                <a:ln w="0">
                  <a:noFill/>
                </a:ln>
                <a:solidFill>
                  <a:srgbClr val="404040"/>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10920" y="333360"/>
            <a:ext cx="682308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75" name="WordArt 25"/>
          <p:cNvSpPr txBox="1"/>
          <p:nvPr/>
        </p:nvSpPr>
        <p:spPr>
          <a:xfrm>
            <a:off x="396720" y="638028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Impact"/>
              </a:rPr>
              <a:t>' LOGO '</a:t>
            </a:r>
            <a:endParaRPr b="0" lang="en-US" sz="1400" spc="-1" strike="noStrike">
              <a:ln w="0">
                <a:noFill/>
              </a:ln>
              <a:solidFill>
                <a:srgbClr val="000000">
                  <a:alpha val="80000"/>
                </a:srgbClr>
              </a:solidFill>
              <a:latin typeface="Impact"/>
              <a:ea typeface="Impact"/>
            </a:endParaRPr>
          </a:p>
        </p:txBody>
      </p:sp>
      <p:sp>
        <p:nvSpPr>
          <p:cNvPr id="176" name="WordArt 26"/>
          <p:cNvSpPr txBox="1"/>
          <p:nvPr/>
        </p:nvSpPr>
        <p:spPr>
          <a:xfrm>
            <a:off x="1546200" y="65959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OMPANY LOGOTYPE INSERT</a:t>
            </a:r>
            <a:endParaRPr b="1" lang="en-US" sz="800" spc="-1" strike="noStrike">
              <a:ln w="0">
                <a:noFill/>
              </a:ln>
              <a:solidFill>
                <a:srgbClr val="000000">
                  <a:alpha val="80000"/>
                </a:srgbClr>
              </a:solidFill>
              <a:latin typeface="Arial"/>
              <a:ea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8.png"/><Relationship Id="rId1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hyperlink" Target="http://www.eeppt.com" TargetMode="External"/><Relationship Id="rId6"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image" Target="../media/image53.png"/><Relationship Id="rId8" Type="http://schemas.openxmlformats.org/officeDocument/2006/relationships/image" Target="../media/image54.png"/><Relationship Id="rId9" Type="http://schemas.openxmlformats.org/officeDocument/2006/relationships/image" Target="../media/image55.png"/><Relationship Id="rId10" Type="http://schemas.openxmlformats.org/officeDocument/2006/relationships/image" Target="../media/image56.png"/><Relationship Id="rId11" Type="http://schemas.openxmlformats.org/officeDocument/2006/relationships/image" Target="../media/image57.png"/><Relationship Id="rId1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8.png"/><Relationship Id="rId3" Type="http://schemas.openxmlformats.org/officeDocument/2006/relationships/image" Target="../media/image58.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image" Target="../media/image59.png"/><Relationship Id="rId7" Type="http://schemas.openxmlformats.org/officeDocument/2006/relationships/image" Target="../media/image59.png"/><Relationship Id="rId8"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0.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image" Target="../media/image66.png"/><Relationship Id="rId6" Type="http://schemas.openxmlformats.org/officeDocument/2006/relationships/image" Target="../media/image67.png"/><Relationship Id="rId7" Type="http://schemas.openxmlformats.org/officeDocument/2006/relationships/image" Target="../media/image68.png"/><Relationship Id="rId8" Type="http://schemas.openxmlformats.org/officeDocument/2006/relationships/image" Target="../media/image69.png"/><Relationship Id="rId9" Type="http://schemas.openxmlformats.org/officeDocument/2006/relationships/image" Target="../media/image70.png"/><Relationship Id="rId10" Type="http://schemas.openxmlformats.org/officeDocument/2006/relationships/image" Target="../media/image71.png"/><Relationship Id="rId11" Type="http://schemas.openxmlformats.org/officeDocument/2006/relationships/image" Target="../media/image72.png"/><Relationship Id="rId12" Type="http://schemas.openxmlformats.org/officeDocument/2006/relationships/image" Target="../media/image73.png"/><Relationship Id="rId13" Type="http://schemas.openxmlformats.org/officeDocument/2006/relationships/image" Target="../media/image74.png"/><Relationship Id="rId14" Type="http://schemas.openxmlformats.org/officeDocument/2006/relationships/image" Target="../media/image75.png"/><Relationship Id="rId15" Type="http://schemas.openxmlformats.org/officeDocument/2006/relationships/image" Target="../media/image76.png"/><Relationship Id="rId16" Type="http://schemas.openxmlformats.org/officeDocument/2006/relationships/image" Target="../media/image77.png"/><Relationship Id="rId17" Type="http://schemas.openxmlformats.org/officeDocument/2006/relationships/image" Target="../media/image78.png"/><Relationship Id="rId18" Type="http://schemas.openxmlformats.org/officeDocument/2006/relationships/image" Target="../media/image79.png"/><Relationship Id="rId19" Type="http://schemas.openxmlformats.org/officeDocument/2006/relationships/image" Target="../media/image80.png"/><Relationship Id="rId20" Type="http://schemas.openxmlformats.org/officeDocument/2006/relationships/image" Target="../media/image81.png"/><Relationship Id="rId21" Type="http://schemas.openxmlformats.org/officeDocument/2006/relationships/image" Target="../media/image82.png"/><Relationship Id="rId22" Type="http://schemas.openxmlformats.org/officeDocument/2006/relationships/hyperlink" Target="http://www.eeppt.com" TargetMode="External"/><Relationship Id="rId2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3.png"/><Relationship Id="rId3" Type="http://schemas.openxmlformats.org/officeDocument/2006/relationships/image" Target="../media/image84.png"/><Relationship Id="rId4" Type="http://schemas.openxmlformats.org/officeDocument/2006/relationships/image" Target="../media/image85.png"/><Relationship Id="rId5" Type="http://schemas.openxmlformats.org/officeDocument/2006/relationships/image" Target="../media/image86.png"/><Relationship Id="rId6" Type="http://schemas.openxmlformats.org/officeDocument/2006/relationships/image" Target="../media/image87.png"/><Relationship Id="rId7" Type="http://schemas.openxmlformats.org/officeDocument/2006/relationships/image" Target="../media/image88.png"/><Relationship Id="rId8" Type="http://schemas.openxmlformats.org/officeDocument/2006/relationships/image" Target="../media/image89.png"/><Relationship Id="rId9" Type="http://schemas.openxmlformats.org/officeDocument/2006/relationships/image" Target="../media/image90.png"/><Relationship Id="rId10" Type="http://schemas.openxmlformats.org/officeDocument/2006/relationships/image" Target="../media/image91.png"/><Relationship Id="rId11" Type="http://schemas.openxmlformats.org/officeDocument/2006/relationships/image" Target="../media/image92.png"/><Relationship Id="rId12" Type="http://schemas.openxmlformats.org/officeDocument/2006/relationships/image" Target="../media/image92.png"/><Relationship Id="rId13" Type="http://schemas.openxmlformats.org/officeDocument/2006/relationships/image" Target="../media/image92.png"/><Relationship Id="rId14" Type="http://schemas.openxmlformats.org/officeDocument/2006/relationships/image" Target="../media/image92.png"/><Relationship Id="rId15" Type="http://schemas.openxmlformats.org/officeDocument/2006/relationships/image" Target="../media/image92.png"/><Relationship Id="rId16" Type="http://schemas.openxmlformats.org/officeDocument/2006/relationships/image" Target="../media/image92.png"/><Relationship Id="rId17"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9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9.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8.png"/><Relationship Id="rId6" Type="http://schemas.openxmlformats.org/officeDocument/2006/relationships/image" Target="../media/image10.png"/><Relationship Id="rId7" Type="http://schemas.openxmlformats.org/officeDocument/2006/relationships/image" Target="../media/image8.png"/><Relationship Id="rId8" Type="http://schemas.openxmlformats.org/officeDocument/2006/relationships/image" Target="../media/image11.png"/><Relationship Id="rId9" Type="http://schemas.openxmlformats.org/officeDocument/2006/relationships/image" Target="../media/image8.png"/><Relationship Id="rId10" Type="http://schemas.openxmlformats.org/officeDocument/2006/relationships/image" Target="../media/image12.png"/><Relationship Id="rId11" Type="http://schemas.openxmlformats.org/officeDocument/2006/relationships/image" Target="../media/image8.png"/><Relationship Id="rId1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5.png"/><Relationship Id="rId7" Type="http://schemas.openxmlformats.org/officeDocument/2006/relationships/image" Target="../media/image17.png"/><Relationship Id="rId8" Type="http://schemas.openxmlformats.org/officeDocument/2006/relationships/image" Target="../media/image15.png"/><Relationship Id="rId9" Type="http://schemas.openxmlformats.org/officeDocument/2006/relationships/image" Target="../media/image18.png"/><Relationship Id="rId10" Type="http://schemas.openxmlformats.org/officeDocument/2006/relationships/image" Target="../media/image15.png"/><Relationship Id="rId11" Type="http://schemas.openxmlformats.org/officeDocument/2006/relationships/hyperlink" Target="http://www.eeppt.com" TargetMode="External"/><Relationship Id="rId1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1.png"/><Relationship Id="rId7"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Rectangle 56"/>
          <p:cNvSpPr/>
          <p:nvPr/>
        </p:nvSpPr>
        <p:spPr>
          <a:xfrm>
            <a:off x="1044720" y="4869000"/>
            <a:ext cx="7416720" cy="749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HY헤드라인M"/>
              </a:rPr>
              <a:t>恭贺新禧古典元素新年</a:t>
            </a:r>
            <a:r>
              <a:rPr b="1" lang="en-US" sz="4000" spc="-1" strike="noStrike">
                <a:solidFill>
                  <a:srgbClr val="000000"/>
                </a:solidFill>
                <a:latin typeface="Times New Roman"/>
                <a:ea typeface="HY헤드라인M"/>
              </a:rPr>
              <a:t>PPT</a:t>
            </a:r>
            <a:r>
              <a:rPr b="1" lang="en-US" sz="4000" spc="-1" strike="noStrike">
                <a:solidFill>
                  <a:srgbClr val="000000"/>
                </a:solidFill>
                <a:latin typeface="Times New Roman"/>
                <a:ea typeface="HY헤드라인M"/>
              </a:rPr>
              <a:t>模板</a:t>
            </a:r>
            <a:endParaRPr b="0" lang="en-US" sz="4000" spc="-1" strike="noStrike">
              <a:solidFill>
                <a:srgbClr val="000000"/>
              </a:solidFill>
              <a:latin typeface="Gulim"/>
            </a:endParaRPr>
          </a:p>
        </p:txBody>
      </p:sp>
      <p:sp>
        <p:nvSpPr>
          <p:cNvPr id="214" name="TextBox 3"/>
          <p:cNvSpPr/>
          <p:nvPr/>
        </p:nvSpPr>
        <p:spPr>
          <a:xfrm>
            <a:off x="2519280" y="873000"/>
            <a:ext cx="900360" cy="344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5500" spc="-1" strike="noStrike">
                <a:solidFill>
                  <a:srgbClr val="262626"/>
                </a:solidFill>
                <a:latin typeface="GungsuhChe"/>
                <a:ea typeface="GungsuhChe"/>
              </a:rPr>
              <a:t>謹</a:t>
            </a:r>
            <a:endParaRPr b="0" lang="en-US" sz="55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5500" spc="-1" strike="noStrike">
                <a:solidFill>
                  <a:srgbClr val="262626"/>
                </a:solidFill>
                <a:latin typeface="GungsuhChe"/>
                <a:ea typeface="GungsuhChe"/>
              </a:rPr>
              <a:t>賀</a:t>
            </a:r>
            <a:endParaRPr b="0" lang="en-US" sz="55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5500" spc="-1" strike="noStrike">
                <a:solidFill>
                  <a:srgbClr val="262626"/>
                </a:solidFill>
                <a:latin typeface="GungsuhChe"/>
                <a:ea typeface="GungsuhChe"/>
              </a:rPr>
              <a:t>新</a:t>
            </a:r>
            <a:endParaRPr b="0" lang="en-US" sz="55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5500" spc="-1" strike="noStrike">
                <a:solidFill>
                  <a:srgbClr val="262626"/>
                </a:solidFill>
                <a:latin typeface="GungsuhChe"/>
                <a:ea typeface="GungsuhChe"/>
              </a:rPr>
              <a:t>年</a:t>
            </a:r>
            <a:endParaRPr b="0" lang="en-US" sz="5500" spc="-1" strike="noStrike">
              <a:solidFill>
                <a:srgbClr val="000000"/>
              </a:solidFill>
              <a:latin typeface="Gulim"/>
            </a:endParaRPr>
          </a:p>
        </p:txBody>
      </p:sp>
      <p:sp>
        <p:nvSpPr>
          <p:cNvPr id="215" name=""/>
          <p:cNvSpPr/>
          <p:nvPr/>
        </p:nvSpPr>
        <p:spPr>
          <a:xfrm>
            <a:off x="3636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399" name="그룹 3"/>
          <p:cNvGrpSpPr/>
          <p:nvPr/>
        </p:nvGrpSpPr>
        <p:grpSpPr>
          <a:xfrm>
            <a:off x="857160" y="1484280"/>
            <a:ext cx="8131320" cy="4428720"/>
            <a:chOff x="857160" y="1484280"/>
            <a:chExt cx="8131320" cy="4428720"/>
          </a:xfrm>
        </p:grpSpPr>
        <p:pic>
          <p:nvPicPr>
            <p:cNvPr id="400" name="Picture 275" descr="Untitled-1"/>
            <p:cNvPicPr/>
            <p:nvPr/>
          </p:nvPicPr>
          <p:blipFill>
            <a:blip r:embed="rId2">
              <a:lum bright="100000"/>
            </a:blip>
            <a:stretch/>
          </p:blipFill>
          <p:spPr>
            <a:xfrm flipH="1" rot="9585000">
              <a:off x="1523520" y="2482200"/>
              <a:ext cx="528480" cy="720720"/>
            </a:xfrm>
            <a:prstGeom prst="rect">
              <a:avLst/>
            </a:prstGeom>
            <a:ln w="0">
              <a:noFill/>
            </a:ln>
          </p:spPr>
        </p:pic>
        <p:pic>
          <p:nvPicPr>
            <p:cNvPr id="401" name="Picture 276" descr="Untitled-1"/>
            <p:cNvPicPr/>
            <p:nvPr/>
          </p:nvPicPr>
          <p:blipFill>
            <a:blip r:embed="rId3">
              <a:lum bright="100000"/>
            </a:blip>
            <a:stretch/>
          </p:blipFill>
          <p:spPr>
            <a:xfrm flipH="1" rot="9585000">
              <a:off x="1809000" y="3482640"/>
              <a:ext cx="528480" cy="720720"/>
            </a:xfrm>
            <a:prstGeom prst="rect">
              <a:avLst/>
            </a:prstGeom>
            <a:ln w="0">
              <a:noFill/>
            </a:ln>
          </p:spPr>
        </p:pic>
        <p:pic>
          <p:nvPicPr>
            <p:cNvPr id="402" name="Picture 277" descr="Untitled-1"/>
            <p:cNvPicPr/>
            <p:nvPr/>
          </p:nvPicPr>
          <p:blipFill>
            <a:blip r:embed="rId4">
              <a:lum bright="100000"/>
            </a:blip>
            <a:stretch/>
          </p:blipFill>
          <p:spPr>
            <a:xfrm flipH="1" rot="9585000">
              <a:off x="2112480" y="4490640"/>
              <a:ext cx="528480" cy="720720"/>
            </a:xfrm>
            <a:prstGeom prst="rect">
              <a:avLst/>
            </a:prstGeom>
            <a:ln w="0">
              <a:noFill/>
            </a:ln>
          </p:spPr>
        </p:pic>
        <p:grpSp>
          <p:nvGrpSpPr>
            <p:cNvPr id="403" name="그룹 61"/>
            <p:cNvGrpSpPr/>
            <p:nvPr/>
          </p:nvGrpSpPr>
          <p:grpSpPr>
            <a:xfrm>
              <a:off x="1630080" y="1484280"/>
              <a:ext cx="6429600" cy="1428480"/>
              <a:chOff x="1630080" y="1484280"/>
              <a:chExt cx="6429600" cy="1428480"/>
            </a:xfrm>
          </p:grpSpPr>
          <p:sp>
            <p:nvSpPr>
              <p:cNvPr id="404" name="모서리가 둥근 직사각형 48"/>
              <p:cNvSpPr/>
              <p:nvPr/>
            </p:nvSpPr>
            <p:spPr>
              <a:xfrm>
                <a:off x="1630080" y="205560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5" name="그룹 51"/>
              <p:cNvGrpSpPr/>
              <p:nvPr/>
            </p:nvGrpSpPr>
            <p:grpSpPr>
              <a:xfrm>
                <a:off x="1915560" y="1484280"/>
                <a:ext cx="5507280" cy="1143000"/>
                <a:chOff x="1915560" y="1484280"/>
                <a:chExt cx="5507280" cy="1143000"/>
              </a:xfrm>
            </p:grpSpPr>
            <p:grpSp>
              <p:nvGrpSpPr>
                <p:cNvPr id="406" name="그룹 49"/>
                <p:cNvGrpSpPr/>
                <p:nvPr/>
              </p:nvGrpSpPr>
              <p:grpSpPr>
                <a:xfrm>
                  <a:off x="2842200" y="1612440"/>
                  <a:ext cx="4580640" cy="886320"/>
                  <a:chOff x="2842200" y="1612440"/>
                  <a:chExt cx="4580640" cy="886320"/>
                </a:xfrm>
              </p:grpSpPr>
              <p:sp>
                <p:nvSpPr>
                  <p:cNvPr id="407" name="AutoShape 50"/>
                  <p:cNvSpPr/>
                  <p:nvPr/>
                </p:nvSpPr>
                <p:spPr>
                  <a:xfrm>
                    <a:off x="2842200" y="161244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408" name="AutoShape 51"/>
                  <p:cNvSpPr/>
                  <p:nvPr/>
                </p:nvSpPr>
                <p:spPr>
                  <a:xfrm>
                    <a:off x="2991240" y="166032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09" name="그룹 50"/>
                <p:cNvGrpSpPr/>
                <p:nvPr/>
              </p:nvGrpSpPr>
              <p:grpSpPr>
                <a:xfrm>
                  <a:off x="1915560" y="1484280"/>
                  <a:ext cx="1149120" cy="1143000"/>
                  <a:chOff x="1915560" y="1484280"/>
                  <a:chExt cx="1149120" cy="1143000"/>
                </a:xfrm>
              </p:grpSpPr>
              <p:grpSp>
                <p:nvGrpSpPr>
                  <p:cNvPr id="410" name="그룹 39"/>
                  <p:cNvGrpSpPr/>
                  <p:nvPr/>
                </p:nvGrpSpPr>
                <p:grpSpPr>
                  <a:xfrm>
                    <a:off x="1915560" y="1484280"/>
                    <a:ext cx="1149120" cy="1143000"/>
                    <a:chOff x="1915560" y="1484280"/>
                    <a:chExt cx="1149120" cy="1143000"/>
                  </a:xfrm>
                </p:grpSpPr>
                <p:grpSp>
                  <p:nvGrpSpPr>
                    <p:cNvPr id="411" name="Group 53"/>
                    <p:cNvGrpSpPr/>
                    <p:nvPr/>
                  </p:nvGrpSpPr>
                  <p:grpSpPr>
                    <a:xfrm>
                      <a:off x="1915560" y="1484280"/>
                      <a:ext cx="1149120" cy="1143000"/>
                      <a:chOff x="1915560" y="1484280"/>
                      <a:chExt cx="1149120" cy="1143000"/>
                    </a:xfrm>
                  </p:grpSpPr>
                  <p:grpSp>
                    <p:nvGrpSpPr>
                      <p:cNvPr id="412" name="Oval 54"/>
                      <p:cNvGrpSpPr/>
                      <p:nvPr/>
                    </p:nvGrpSpPr>
                    <p:grpSpPr>
                      <a:xfrm>
                        <a:off x="1915560" y="1484280"/>
                        <a:ext cx="1149120" cy="1143000"/>
                        <a:chOff x="1915560" y="1484280"/>
                        <a:chExt cx="1149120" cy="1143000"/>
                      </a:xfrm>
                    </p:grpSpPr>
                    <p:pic>
                      <p:nvPicPr>
                        <p:cNvPr id="413" name="Oval 54" descr=""/>
                        <p:cNvPicPr/>
                        <p:nvPr/>
                      </p:nvPicPr>
                      <p:blipFill>
                        <a:blip r:embed="rId5"/>
                        <a:stretch/>
                      </p:blipFill>
                      <p:spPr>
                        <a:xfrm>
                          <a:off x="1915560" y="1484280"/>
                          <a:ext cx="1149120" cy="1143000"/>
                        </a:xfrm>
                        <a:prstGeom prst="rect">
                          <a:avLst/>
                        </a:prstGeom>
                        <a:ln w="0">
                          <a:noFill/>
                        </a:ln>
                      </p:spPr>
                    </p:pic>
                    <p:sp>
                      <p:nvSpPr>
                        <p:cNvPr id="414" name=""/>
                        <p:cNvSpPr/>
                        <p:nvPr/>
                      </p:nvSpPr>
                      <p:spPr>
                        <a:xfrm>
                          <a:off x="2112840" y="1672920"/>
                          <a:ext cx="62784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15" name="Oval 55"/>
                      <p:cNvSpPr/>
                      <p:nvPr/>
                    </p:nvSpPr>
                    <p:spPr>
                      <a:xfrm>
                        <a:off x="2158560" y="1653840"/>
                        <a:ext cx="14904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16" name="Freeform 56"/>
                    <p:cNvSpPr/>
                    <p:nvPr/>
                  </p:nvSpPr>
                  <p:spPr>
                    <a:xfrm>
                      <a:off x="1976040" y="150228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17" name="WordArt 251"/>
                  <p:cNvSpPr txBox="1"/>
                  <p:nvPr/>
                </p:nvSpPr>
                <p:spPr>
                  <a:xfrm>
                    <a:off x="2089080" y="193752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4000"/>
                            </a:srgbClr>
                          </a:outerShdw>
                        </a:effectLst>
                        <a:latin typeface="굴림"/>
                      </a:rPr>
                      <a:t>2008. 05</a:t>
                    </a:r>
                    <a:endParaRPr b="0" lang="en-US" sz="1400" spc="-1" strike="noStrike">
                      <a:ln w="0">
                        <a:noFill/>
                      </a:ln>
                      <a:solidFill>
                        <a:srgbClr val="ffffff"/>
                      </a:solidFill>
                      <a:effectLst>
                        <a:outerShdw dist="17819" dir="2700000" blurRad="0" rotWithShape="0">
                          <a:srgbClr val="ffffff">
                            <a:alpha val="34000"/>
                          </a:srgbClr>
                        </a:outerShdw>
                      </a:effectLst>
                      <a:latin typeface="굴림"/>
                      <a:ea typeface="굴림"/>
                    </a:endParaRPr>
                  </a:p>
                </p:txBody>
              </p:sp>
            </p:grpSp>
          </p:grpSp>
        </p:grpSp>
        <p:sp>
          <p:nvSpPr>
            <p:cNvPr id="418" name="모서리가 둥근 직사각형 8"/>
            <p:cNvSpPr/>
            <p:nvPr/>
          </p:nvSpPr>
          <p:spPr>
            <a:xfrm>
              <a:off x="1987200" y="305568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9" name="그룹 84"/>
            <p:cNvGrpSpPr/>
            <p:nvPr/>
          </p:nvGrpSpPr>
          <p:grpSpPr>
            <a:xfrm>
              <a:off x="2273040" y="2484360"/>
              <a:ext cx="5507280" cy="1143000"/>
              <a:chOff x="2273040" y="2484360"/>
              <a:chExt cx="5507280" cy="1143000"/>
            </a:xfrm>
          </p:grpSpPr>
          <p:grpSp>
            <p:nvGrpSpPr>
              <p:cNvPr id="420" name="그룹 85"/>
              <p:cNvGrpSpPr/>
              <p:nvPr/>
            </p:nvGrpSpPr>
            <p:grpSpPr>
              <a:xfrm>
                <a:off x="3199680" y="2612520"/>
                <a:ext cx="4580640" cy="886320"/>
                <a:chOff x="3199680" y="2612520"/>
                <a:chExt cx="4580640" cy="886320"/>
              </a:xfrm>
            </p:grpSpPr>
            <p:sp>
              <p:nvSpPr>
                <p:cNvPr id="421" name="AutoShape 50"/>
                <p:cNvSpPr/>
                <p:nvPr/>
              </p:nvSpPr>
              <p:spPr>
                <a:xfrm>
                  <a:off x="3199680" y="261252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422" name="AutoShape 51"/>
                <p:cNvSpPr/>
                <p:nvPr/>
              </p:nvSpPr>
              <p:spPr>
                <a:xfrm>
                  <a:off x="3348720" y="266040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23" name="그룹 86"/>
              <p:cNvGrpSpPr/>
              <p:nvPr/>
            </p:nvGrpSpPr>
            <p:grpSpPr>
              <a:xfrm>
                <a:off x="2273040" y="2484360"/>
                <a:ext cx="1149120" cy="1143000"/>
                <a:chOff x="2273040" y="2484360"/>
                <a:chExt cx="1149120" cy="1143000"/>
              </a:xfrm>
            </p:grpSpPr>
            <p:grpSp>
              <p:nvGrpSpPr>
                <p:cNvPr id="424" name="그룹 87"/>
                <p:cNvGrpSpPr/>
                <p:nvPr/>
              </p:nvGrpSpPr>
              <p:grpSpPr>
                <a:xfrm>
                  <a:off x="2273040" y="2484360"/>
                  <a:ext cx="1149120" cy="1143000"/>
                  <a:chOff x="2273040" y="2484360"/>
                  <a:chExt cx="1149120" cy="1143000"/>
                </a:xfrm>
              </p:grpSpPr>
              <p:grpSp>
                <p:nvGrpSpPr>
                  <p:cNvPr id="425" name="Group 53"/>
                  <p:cNvGrpSpPr/>
                  <p:nvPr/>
                </p:nvGrpSpPr>
                <p:grpSpPr>
                  <a:xfrm>
                    <a:off x="2273040" y="2484360"/>
                    <a:ext cx="1149120" cy="1143000"/>
                    <a:chOff x="2273040" y="2484360"/>
                    <a:chExt cx="1149120" cy="1143000"/>
                  </a:xfrm>
                </p:grpSpPr>
                <p:grpSp>
                  <p:nvGrpSpPr>
                    <p:cNvPr id="426" name="Oval 54"/>
                    <p:cNvGrpSpPr/>
                    <p:nvPr/>
                  </p:nvGrpSpPr>
                  <p:grpSpPr>
                    <a:xfrm>
                      <a:off x="2273040" y="2484360"/>
                      <a:ext cx="1149120" cy="1143000"/>
                      <a:chOff x="2273040" y="2484360"/>
                      <a:chExt cx="1149120" cy="1143000"/>
                    </a:xfrm>
                  </p:grpSpPr>
                  <p:pic>
                    <p:nvPicPr>
                      <p:cNvPr id="427" name="Oval 54" descr=""/>
                      <p:cNvPicPr/>
                      <p:nvPr/>
                    </p:nvPicPr>
                    <p:blipFill>
                      <a:blip r:embed="rId6"/>
                      <a:stretch/>
                    </p:blipFill>
                    <p:spPr>
                      <a:xfrm>
                        <a:off x="2273040" y="2484360"/>
                        <a:ext cx="1149120" cy="1143000"/>
                      </a:xfrm>
                      <a:prstGeom prst="rect">
                        <a:avLst/>
                      </a:prstGeom>
                      <a:ln w="0">
                        <a:noFill/>
                      </a:ln>
                    </p:spPr>
                  </p:pic>
                  <p:sp>
                    <p:nvSpPr>
                      <p:cNvPr id="428" name=""/>
                      <p:cNvSpPr/>
                      <p:nvPr/>
                    </p:nvSpPr>
                    <p:spPr>
                      <a:xfrm>
                        <a:off x="2469240" y="2669400"/>
                        <a:ext cx="630360" cy="62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29" name="Oval 55"/>
                    <p:cNvSpPr/>
                    <p:nvPr/>
                  </p:nvSpPr>
                  <p:spPr>
                    <a:xfrm>
                      <a:off x="2515320" y="2650320"/>
                      <a:ext cx="149400" cy="1490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30" name="Freeform 56"/>
                  <p:cNvSpPr/>
                  <p:nvPr/>
                </p:nvSpPr>
                <p:spPr>
                  <a:xfrm>
                    <a:off x="2333520" y="250236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31" name="WordArt 251"/>
                <p:cNvSpPr txBox="1"/>
                <p:nvPr/>
              </p:nvSpPr>
              <p:spPr>
                <a:xfrm>
                  <a:off x="2446560" y="293760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4000"/>
                          </a:srgbClr>
                        </a:outerShdw>
                      </a:effectLst>
                      <a:latin typeface="굴림"/>
                    </a:rPr>
                    <a:t>2006. 05</a:t>
                  </a:r>
                  <a:endParaRPr b="0" lang="en-US" sz="1400" spc="-1" strike="noStrike">
                    <a:ln w="0">
                      <a:noFill/>
                    </a:ln>
                    <a:solidFill>
                      <a:srgbClr val="ffffff"/>
                    </a:solidFill>
                    <a:effectLst>
                      <a:outerShdw dist="17819" dir="2700000" blurRad="0" rotWithShape="0">
                        <a:srgbClr val="ffffff">
                          <a:alpha val="34000"/>
                        </a:srgbClr>
                      </a:outerShdw>
                    </a:effectLst>
                    <a:latin typeface="굴림"/>
                    <a:ea typeface="굴림"/>
                  </a:endParaRPr>
                </a:p>
              </p:txBody>
            </p:sp>
          </p:grpSp>
        </p:grpSp>
        <p:grpSp>
          <p:nvGrpSpPr>
            <p:cNvPr id="432" name="그룹 95"/>
            <p:cNvGrpSpPr/>
            <p:nvPr/>
          </p:nvGrpSpPr>
          <p:grpSpPr>
            <a:xfrm>
              <a:off x="2273040" y="3484440"/>
              <a:ext cx="6429600" cy="1428480"/>
              <a:chOff x="2273040" y="3484440"/>
              <a:chExt cx="6429600" cy="1428480"/>
            </a:xfrm>
          </p:grpSpPr>
          <p:sp>
            <p:nvSpPr>
              <p:cNvPr id="433" name="모서리가 둥근 직사각형 26"/>
              <p:cNvSpPr/>
              <p:nvPr/>
            </p:nvSpPr>
            <p:spPr>
              <a:xfrm>
                <a:off x="2273040" y="405576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34" name="그룹 97"/>
              <p:cNvGrpSpPr/>
              <p:nvPr/>
            </p:nvGrpSpPr>
            <p:grpSpPr>
              <a:xfrm>
                <a:off x="2558520" y="3484440"/>
                <a:ext cx="5507280" cy="1143000"/>
                <a:chOff x="2558520" y="3484440"/>
                <a:chExt cx="5507280" cy="1143000"/>
              </a:xfrm>
            </p:grpSpPr>
            <p:grpSp>
              <p:nvGrpSpPr>
                <p:cNvPr id="435" name="그룹 98"/>
                <p:cNvGrpSpPr/>
                <p:nvPr/>
              </p:nvGrpSpPr>
              <p:grpSpPr>
                <a:xfrm>
                  <a:off x="3485160" y="3612600"/>
                  <a:ext cx="4580640" cy="886320"/>
                  <a:chOff x="3485160" y="3612600"/>
                  <a:chExt cx="4580640" cy="886320"/>
                </a:xfrm>
              </p:grpSpPr>
              <p:sp>
                <p:nvSpPr>
                  <p:cNvPr id="436" name="AutoShape 50"/>
                  <p:cNvSpPr/>
                  <p:nvPr/>
                </p:nvSpPr>
                <p:spPr>
                  <a:xfrm>
                    <a:off x="3485160" y="361260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437" name="AutoShape 51"/>
                  <p:cNvSpPr/>
                  <p:nvPr/>
                </p:nvSpPr>
                <p:spPr>
                  <a:xfrm>
                    <a:off x="3634200" y="366048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38" name="그룹 99"/>
                <p:cNvGrpSpPr/>
                <p:nvPr/>
              </p:nvGrpSpPr>
              <p:grpSpPr>
                <a:xfrm>
                  <a:off x="2558520" y="3484440"/>
                  <a:ext cx="1149120" cy="1143000"/>
                  <a:chOff x="2558520" y="3484440"/>
                  <a:chExt cx="1149120" cy="1143000"/>
                </a:xfrm>
              </p:grpSpPr>
              <p:grpSp>
                <p:nvGrpSpPr>
                  <p:cNvPr id="439" name="그룹 100"/>
                  <p:cNvGrpSpPr/>
                  <p:nvPr/>
                </p:nvGrpSpPr>
                <p:grpSpPr>
                  <a:xfrm>
                    <a:off x="2558520" y="3484440"/>
                    <a:ext cx="1149120" cy="1143000"/>
                    <a:chOff x="2558520" y="3484440"/>
                    <a:chExt cx="1149120" cy="1143000"/>
                  </a:xfrm>
                </p:grpSpPr>
                <p:grpSp>
                  <p:nvGrpSpPr>
                    <p:cNvPr id="440" name="Group 53"/>
                    <p:cNvGrpSpPr/>
                    <p:nvPr/>
                  </p:nvGrpSpPr>
                  <p:grpSpPr>
                    <a:xfrm>
                      <a:off x="2558520" y="3484440"/>
                      <a:ext cx="1149120" cy="1143000"/>
                      <a:chOff x="2558520" y="3484440"/>
                      <a:chExt cx="1149120" cy="1143000"/>
                    </a:xfrm>
                  </p:grpSpPr>
                  <p:grpSp>
                    <p:nvGrpSpPr>
                      <p:cNvPr id="441" name="Oval 54"/>
                      <p:cNvGrpSpPr/>
                      <p:nvPr/>
                    </p:nvGrpSpPr>
                    <p:grpSpPr>
                      <a:xfrm>
                        <a:off x="2558520" y="3484440"/>
                        <a:ext cx="1149120" cy="1143000"/>
                        <a:chOff x="2558520" y="3484440"/>
                        <a:chExt cx="1149120" cy="1143000"/>
                      </a:xfrm>
                    </p:grpSpPr>
                    <p:pic>
                      <p:nvPicPr>
                        <p:cNvPr id="442" name="Oval 54" descr=""/>
                        <p:cNvPicPr/>
                        <p:nvPr/>
                      </p:nvPicPr>
                      <p:blipFill>
                        <a:blip r:embed="rId7"/>
                        <a:stretch/>
                      </p:blipFill>
                      <p:spPr>
                        <a:xfrm>
                          <a:off x="2558520" y="3484440"/>
                          <a:ext cx="1149120" cy="1143000"/>
                        </a:xfrm>
                        <a:prstGeom prst="rect">
                          <a:avLst/>
                        </a:prstGeom>
                        <a:ln w="0">
                          <a:noFill/>
                        </a:ln>
                      </p:spPr>
                    </p:pic>
                    <p:sp>
                      <p:nvSpPr>
                        <p:cNvPr id="443" name=""/>
                        <p:cNvSpPr/>
                        <p:nvPr/>
                      </p:nvSpPr>
                      <p:spPr>
                        <a:xfrm>
                          <a:off x="2754360" y="3669480"/>
                          <a:ext cx="630360" cy="62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44" name="Oval 55"/>
                      <p:cNvSpPr/>
                      <p:nvPr/>
                    </p:nvSpPr>
                    <p:spPr>
                      <a:xfrm>
                        <a:off x="2800080" y="3651120"/>
                        <a:ext cx="149400" cy="1486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45" name="Freeform 56"/>
                    <p:cNvSpPr/>
                    <p:nvPr/>
                  </p:nvSpPr>
                  <p:spPr>
                    <a:xfrm>
                      <a:off x="2619000" y="350244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46" name="WordArt 251"/>
                  <p:cNvSpPr txBox="1"/>
                  <p:nvPr/>
                </p:nvSpPr>
                <p:spPr>
                  <a:xfrm>
                    <a:off x="2732040" y="393768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4000"/>
                            </a:srgbClr>
                          </a:outerShdw>
                        </a:effectLst>
                        <a:latin typeface="굴림"/>
                      </a:rPr>
                      <a:t>2004. 05</a:t>
                    </a:r>
                    <a:endParaRPr b="0" lang="en-US" sz="1400" spc="-1" strike="noStrike">
                      <a:ln w="0">
                        <a:noFill/>
                      </a:ln>
                      <a:solidFill>
                        <a:srgbClr val="ffffff"/>
                      </a:solidFill>
                      <a:effectLst>
                        <a:outerShdw dist="17819" dir="2700000" blurRad="0" rotWithShape="0">
                          <a:srgbClr val="ffffff">
                            <a:alpha val="34000"/>
                          </a:srgbClr>
                        </a:outerShdw>
                      </a:effectLst>
                      <a:latin typeface="굴림"/>
                      <a:ea typeface="굴림"/>
                    </a:endParaRPr>
                  </a:p>
                </p:txBody>
              </p:sp>
            </p:grpSp>
          </p:grpSp>
        </p:grpSp>
        <p:grpSp>
          <p:nvGrpSpPr>
            <p:cNvPr id="447" name="그룹 108"/>
            <p:cNvGrpSpPr/>
            <p:nvPr/>
          </p:nvGrpSpPr>
          <p:grpSpPr>
            <a:xfrm>
              <a:off x="2558880" y="4484520"/>
              <a:ext cx="6429600" cy="1428480"/>
              <a:chOff x="2558880" y="4484520"/>
              <a:chExt cx="6429600" cy="1428480"/>
            </a:xfrm>
          </p:grpSpPr>
          <p:sp>
            <p:nvSpPr>
              <p:cNvPr id="448" name="모서리가 둥근 직사각형 14"/>
              <p:cNvSpPr/>
              <p:nvPr/>
            </p:nvSpPr>
            <p:spPr>
              <a:xfrm>
                <a:off x="2558880" y="505584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49" name="그룹 110"/>
              <p:cNvGrpSpPr/>
              <p:nvPr/>
            </p:nvGrpSpPr>
            <p:grpSpPr>
              <a:xfrm>
                <a:off x="2844360" y="4484520"/>
                <a:ext cx="5507280" cy="1143000"/>
                <a:chOff x="2844360" y="4484520"/>
                <a:chExt cx="5507280" cy="1143000"/>
              </a:xfrm>
            </p:grpSpPr>
            <p:grpSp>
              <p:nvGrpSpPr>
                <p:cNvPr id="450" name="그룹 111"/>
                <p:cNvGrpSpPr/>
                <p:nvPr/>
              </p:nvGrpSpPr>
              <p:grpSpPr>
                <a:xfrm>
                  <a:off x="3771000" y="4612680"/>
                  <a:ext cx="4580640" cy="886320"/>
                  <a:chOff x="3771000" y="4612680"/>
                  <a:chExt cx="4580640" cy="886320"/>
                </a:xfrm>
              </p:grpSpPr>
              <p:sp>
                <p:nvSpPr>
                  <p:cNvPr id="451" name="AutoShape 50"/>
                  <p:cNvSpPr/>
                  <p:nvPr/>
                </p:nvSpPr>
                <p:spPr>
                  <a:xfrm>
                    <a:off x="3771000" y="461268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452" name="AutoShape 51"/>
                  <p:cNvSpPr/>
                  <p:nvPr/>
                </p:nvSpPr>
                <p:spPr>
                  <a:xfrm>
                    <a:off x="3920040" y="466056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53" name="그룹 112"/>
                <p:cNvGrpSpPr/>
                <p:nvPr/>
              </p:nvGrpSpPr>
              <p:grpSpPr>
                <a:xfrm>
                  <a:off x="2844360" y="4484520"/>
                  <a:ext cx="1149120" cy="1143000"/>
                  <a:chOff x="2844360" y="4484520"/>
                  <a:chExt cx="1149120" cy="1143000"/>
                </a:xfrm>
              </p:grpSpPr>
              <p:grpSp>
                <p:nvGrpSpPr>
                  <p:cNvPr id="454" name="그룹 113"/>
                  <p:cNvGrpSpPr/>
                  <p:nvPr/>
                </p:nvGrpSpPr>
                <p:grpSpPr>
                  <a:xfrm>
                    <a:off x="2844360" y="4484520"/>
                    <a:ext cx="1149120" cy="1143000"/>
                    <a:chOff x="2844360" y="4484520"/>
                    <a:chExt cx="1149120" cy="1143000"/>
                  </a:xfrm>
                </p:grpSpPr>
                <p:grpSp>
                  <p:nvGrpSpPr>
                    <p:cNvPr id="455" name="Group 53"/>
                    <p:cNvGrpSpPr/>
                    <p:nvPr/>
                  </p:nvGrpSpPr>
                  <p:grpSpPr>
                    <a:xfrm>
                      <a:off x="2844360" y="4484520"/>
                      <a:ext cx="1149120" cy="1143000"/>
                      <a:chOff x="2844360" y="4484520"/>
                      <a:chExt cx="1149120" cy="1143000"/>
                    </a:xfrm>
                  </p:grpSpPr>
                  <p:grpSp>
                    <p:nvGrpSpPr>
                      <p:cNvPr id="456" name="Oval 54"/>
                      <p:cNvGrpSpPr/>
                      <p:nvPr/>
                    </p:nvGrpSpPr>
                    <p:grpSpPr>
                      <a:xfrm>
                        <a:off x="2844360" y="4484520"/>
                        <a:ext cx="1149120" cy="1143000"/>
                        <a:chOff x="2844360" y="4484520"/>
                        <a:chExt cx="1149120" cy="1143000"/>
                      </a:xfrm>
                    </p:grpSpPr>
                    <p:pic>
                      <p:nvPicPr>
                        <p:cNvPr id="457" name="Oval 54" descr=""/>
                        <p:cNvPicPr/>
                        <p:nvPr/>
                      </p:nvPicPr>
                      <p:blipFill>
                        <a:blip r:embed="rId8"/>
                        <a:stretch/>
                      </p:blipFill>
                      <p:spPr>
                        <a:xfrm>
                          <a:off x="2844360" y="4484520"/>
                          <a:ext cx="1149120" cy="1143000"/>
                        </a:xfrm>
                        <a:prstGeom prst="rect">
                          <a:avLst/>
                        </a:prstGeom>
                        <a:ln w="0">
                          <a:noFill/>
                        </a:ln>
                      </p:spPr>
                    </p:pic>
                    <p:sp>
                      <p:nvSpPr>
                        <p:cNvPr id="458" name=""/>
                        <p:cNvSpPr/>
                        <p:nvPr/>
                      </p:nvSpPr>
                      <p:spPr>
                        <a:xfrm>
                          <a:off x="3039480" y="4669920"/>
                          <a:ext cx="630360" cy="62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59" name="Oval 55"/>
                      <p:cNvSpPr/>
                      <p:nvPr/>
                    </p:nvSpPr>
                    <p:spPr>
                      <a:xfrm>
                        <a:off x="3085200" y="4651200"/>
                        <a:ext cx="149400" cy="1486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60" name="Freeform 56"/>
                    <p:cNvSpPr/>
                    <p:nvPr/>
                  </p:nvSpPr>
                  <p:spPr>
                    <a:xfrm>
                      <a:off x="2904840" y="450252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61" name="WordArt 251"/>
                  <p:cNvSpPr txBox="1"/>
                  <p:nvPr/>
                </p:nvSpPr>
                <p:spPr>
                  <a:xfrm>
                    <a:off x="3017880" y="493776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4000"/>
                            </a:srgbClr>
                          </a:outerShdw>
                        </a:effectLst>
                        <a:latin typeface="굴림"/>
                      </a:rPr>
                      <a:t>2001. 05</a:t>
                    </a:r>
                    <a:endParaRPr b="0" lang="en-US" sz="1400" spc="-1" strike="noStrike">
                      <a:ln w="0">
                        <a:noFill/>
                      </a:ln>
                      <a:solidFill>
                        <a:srgbClr val="ffffff"/>
                      </a:solidFill>
                      <a:effectLst>
                        <a:outerShdw dist="17819" dir="2700000" blurRad="0" rotWithShape="0">
                          <a:srgbClr val="ffffff">
                            <a:alpha val="34000"/>
                          </a:srgbClr>
                        </a:outerShdw>
                      </a:effectLst>
                      <a:latin typeface="굴림"/>
                      <a:ea typeface="굴림"/>
                    </a:endParaRPr>
                  </a:p>
                </p:txBody>
              </p:sp>
            </p:grpSp>
          </p:grpSp>
        </p:grpSp>
        <p:sp>
          <p:nvSpPr>
            <p:cNvPr id="462" name="WordArt 230"/>
            <p:cNvSpPr txBox="1"/>
            <p:nvPr/>
          </p:nvSpPr>
          <p:spPr>
            <a:xfrm>
              <a:off x="857160" y="3073320"/>
              <a:ext cx="24264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000000">
                        <a:alpha val="34000"/>
                      </a:srgbClr>
                    </a:outerShdw>
                  </a:effectLst>
                  <a:latin typeface="굴림"/>
                </a:rPr>
                <a:t>T</a:t>
              </a:r>
              <a:endParaRPr b="0" lang="en-US" sz="1400" spc="-1" strike="noStrike">
                <a:ln w="0">
                  <a:noFill/>
                </a:ln>
                <a:solidFill>
                  <a:srgbClr val="ffffff"/>
                </a:solidFill>
                <a:effectLst>
                  <a:outerShdw dist="17819" dir="2700000" blurRad="0" rotWithShape="0">
                    <a:srgbClr val="000000">
                      <a:alpha val="34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000000">
                        <a:alpha val="34000"/>
                      </a:srgbClr>
                    </a:outerShdw>
                  </a:effectLst>
                  <a:latin typeface="굴림"/>
                </a:rPr>
                <a:t>E</a:t>
              </a:r>
              <a:endParaRPr b="0" lang="en-US" sz="1400" spc="-1" strike="noStrike">
                <a:ln w="0">
                  <a:noFill/>
                </a:ln>
                <a:solidFill>
                  <a:srgbClr val="ffffff"/>
                </a:solidFill>
                <a:effectLst>
                  <a:outerShdw dist="17819" dir="2700000" blurRad="0" rotWithShape="0">
                    <a:srgbClr val="000000">
                      <a:alpha val="34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000000">
                        <a:alpha val="34000"/>
                      </a:srgbClr>
                    </a:outerShdw>
                  </a:effectLst>
                  <a:latin typeface="굴림"/>
                </a:rPr>
                <a:t>X</a:t>
              </a:r>
              <a:endParaRPr b="0" lang="en-US" sz="1400" spc="-1" strike="noStrike">
                <a:ln w="0">
                  <a:noFill/>
                </a:ln>
                <a:solidFill>
                  <a:srgbClr val="ffffff"/>
                </a:solidFill>
                <a:effectLst>
                  <a:outerShdw dist="17819" dir="2700000" blurRad="0" rotWithShape="0">
                    <a:srgbClr val="000000">
                      <a:alpha val="34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000000">
                        <a:alpha val="34000"/>
                      </a:srgbClr>
                    </a:outerShdw>
                  </a:effectLst>
                  <a:latin typeface="굴림"/>
                </a:rPr>
                <a:t>T</a:t>
              </a:r>
              <a:endParaRPr b="0" lang="en-US" sz="1400" spc="-1" strike="noStrike">
                <a:ln w="0">
                  <a:noFill/>
                </a:ln>
                <a:solidFill>
                  <a:srgbClr val="ffffff"/>
                </a:solidFill>
                <a:effectLst>
                  <a:outerShdw dist="17819" dir="2700000" blurRad="0" rotWithShape="0">
                    <a:srgbClr val="000000">
                      <a:alpha val="34000"/>
                    </a:srgbClr>
                  </a:outerShdw>
                </a:effectLst>
                <a:latin typeface="굴림"/>
                <a:ea typeface="굴림"/>
              </a:endParaRPr>
            </a:p>
          </p:txBody>
        </p:sp>
        <p:sp>
          <p:nvSpPr>
            <p:cNvPr id="463" name="Line 231"/>
            <p:cNvSpPr/>
            <p:nvPr/>
          </p:nvSpPr>
          <p:spPr>
            <a:xfrm flipV="1">
              <a:off x="1201320" y="1884240"/>
              <a:ext cx="4680" cy="3672000"/>
            </a:xfrm>
            <a:prstGeom prst="line">
              <a:avLst/>
            </a:prstGeom>
            <a:ln w="15840">
              <a:solidFill>
                <a:srgbClr val="4b300d"/>
              </a:solidFill>
              <a:prstDash val="dash"/>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28760" y="152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itle Style</a:t>
            </a:r>
            <a:endParaRPr b="1" lang="en-US" sz="3200" spc="-1" strike="noStrike">
              <a:solidFill>
                <a:srgbClr val="ffffff"/>
              </a:solidFill>
              <a:latin typeface="Times New Roman"/>
            </a:endParaRPr>
          </a:p>
        </p:txBody>
      </p:sp>
      <p:sp>
        <p:nvSpPr>
          <p:cNvPr id="465" name=""/>
          <p:cNvSpPr txBox="1"/>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grpSp>
        <p:nvGrpSpPr>
          <p:cNvPr id="466" name="그룹 21"/>
          <p:cNvGrpSpPr/>
          <p:nvPr/>
        </p:nvGrpSpPr>
        <p:grpSpPr>
          <a:xfrm>
            <a:off x="750960" y="1357200"/>
            <a:ext cx="7997760" cy="4735800"/>
            <a:chOff x="750960" y="1357200"/>
            <a:chExt cx="7997760" cy="4735800"/>
          </a:xfrm>
        </p:grpSpPr>
        <p:grpSp>
          <p:nvGrpSpPr>
            <p:cNvPr id="467" name="AutoShape 127"/>
            <p:cNvGrpSpPr/>
            <p:nvPr/>
          </p:nvGrpSpPr>
          <p:grpSpPr>
            <a:xfrm>
              <a:off x="750960" y="1357200"/>
              <a:ext cx="7997760" cy="4735800"/>
              <a:chOff x="750960" y="1357200"/>
              <a:chExt cx="7997760" cy="4735800"/>
            </a:xfrm>
          </p:grpSpPr>
          <p:pic>
            <p:nvPicPr>
              <p:cNvPr id="468" name="AutoShape 127" descr=""/>
              <p:cNvPicPr/>
              <p:nvPr/>
            </p:nvPicPr>
            <p:blipFill>
              <a:blip r:embed="rId2"/>
              <a:stretch/>
            </p:blipFill>
            <p:spPr>
              <a:xfrm>
                <a:off x="750960" y="1357200"/>
                <a:ext cx="7997760" cy="4735800"/>
              </a:xfrm>
              <a:prstGeom prst="rect">
                <a:avLst/>
              </a:prstGeom>
              <a:ln w="0">
                <a:noFill/>
              </a:ln>
            </p:spPr>
          </p:pic>
          <p:sp>
            <p:nvSpPr>
              <p:cNvPr id="469" name=""/>
              <p:cNvSpPr/>
              <p:nvPr/>
            </p:nvSpPr>
            <p:spPr>
              <a:xfrm>
                <a:off x="925200" y="1522080"/>
                <a:ext cx="7482240" cy="4224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70" name="AutoShape 44"/>
            <p:cNvSpPr/>
            <p:nvPr/>
          </p:nvSpPr>
          <p:spPr>
            <a:xfrm>
              <a:off x="4717440" y="1704960"/>
              <a:ext cx="3492360" cy="186876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1" name="AutoShape 45"/>
            <p:cNvSpPr/>
            <p:nvPr/>
          </p:nvSpPr>
          <p:spPr>
            <a:xfrm>
              <a:off x="1082160" y="1704960"/>
              <a:ext cx="3492360" cy="186876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2" name="AutoShape 46"/>
            <p:cNvSpPr/>
            <p:nvPr/>
          </p:nvSpPr>
          <p:spPr>
            <a:xfrm>
              <a:off x="1153080" y="1778400"/>
              <a:ext cx="3348000" cy="61020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3" name="AutoShape 47"/>
            <p:cNvSpPr/>
            <p:nvPr/>
          </p:nvSpPr>
          <p:spPr>
            <a:xfrm>
              <a:off x="4717440" y="3719880"/>
              <a:ext cx="3492360" cy="186876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4" name="AutoShape 48"/>
            <p:cNvSpPr/>
            <p:nvPr/>
          </p:nvSpPr>
          <p:spPr>
            <a:xfrm>
              <a:off x="1082160" y="3719880"/>
              <a:ext cx="3492360" cy="186876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5" name="AutoShape 49"/>
            <p:cNvSpPr/>
            <p:nvPr/>
          </p:nvSpPr>
          <p:spPr>
            <a:xfrm>
              <a:off x="4790160" y="1778400"/>
              <a:ext cx="3348000" cy="61020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6" name="AutoShape 50"/>
            <p:cNvSpPr/>
            <p:nvPr/>
          </p:nvSpPr>
          <p:spPr>
            <a:xfrm>
              <a:off x="1153080" y="3791160"/>
              <a:ext cx="3348000" cy="61020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7" name="AutoShape 51"/>
            <p:cNvSpPr/>
            <p:nvPr/>
          </p:nvSpPr>
          <p:spPr>
            <a:xfrm>
              <a:off x="4790160" y="3791160"/>
              <a:ext cx="3348000" cy="61020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8" name="Oval 52"/>
            <p:cNvSpPr/>
            <p:nvPr/>
          </p:nvSpPr>
          <p:spPr>
            <a:xfrm>
              <a:off x="2845440" y="1849680"/>
              <a:ext cx="3600360" cy="35946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79" name="Group 53"/>
            <p:cNvGrpSpPr/>
            <p:nvPr/>
          </p:nvGrpSpPr>
          <p:grpSpPr>
            <a:xfrm>
              <a:off x="3491280" y="2496240"/>
              <a:ext cx="2314440" cy="2297880"/>
              <a:chOff x="3491280" y="2496240"/>
              <a:chExt cx="2314440" cy="2297880"/>
            </a:xfrm>
          </p:grpSpPr>
          <p:grpSp>
            <p:nvGrpSpPr>
              <p:cNvPr id="480" name="Oval 54"/>
              <p:cNvGrpSpPr/>
              <p:nvPr/>
            </p:nvGrpSpPr>
            <p:grpSpPr>
              <a:xfrm>
                <a:off x="3491280" y="2496240"/>
                <a:ext cx="2314440" cy="2297880"/>
                <a:chOff x="3491280" y="2496240"/>
                <a:chExt cx="2314440" cy="2297880"/>
              </a:xfrm>
            </p:grpSpPr>
            <p:pic>
              <p:nvPicPr>
                <p:cNvPr id="481" name="Oval 54" descr=""/>
                <p:cNvPicPr/>
                <p:nvPr/>
              </p:nvPicPr>
              <p:blipFill>
                <a:blip r:embed="rId3"/>
                <a:stretch/>
              </p:blipFill>
              <p:spPr>
                <a:xfrm>
                  <a:off x="3491280" y="2496240"/>
                  <a:ext cx="2314440" cy="2297880"/>
                </a:xfrm>
                <a:prstGeom prst="rect">
                  <a:avLst/>
                </a:prstGeom>
                <a:ln w="0">
                  <a:noFill/>
                </a:ln>
              </p:spPr>
            </p:pic>
            <p:sp>
              <p:nvSpPr>
                <p:cNvPr id="482" name=""/>
                <p:cNvSpPr/>
                <p:nvPr/>
              </p:nvSpPr>
              <p:spPr>
                <a:xfrm>
                  <a:off x="3859920" y="2854800"/>
                  <a:ext cx="1431720" cy="1419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83" name="Oval 55"/>
              <p:cNvSpPr/>
              <p:nvPr/>
            </p:nvSpPr>
            <p:spPr>
              <a:xfrm>
                <a:off x="3963240" y="2812320"/>
                <a:ext cx="339840" cy="3362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84" name="Freeform 56"/>
            <p:cNvSpPr/>
            <p:nvPr/>
          </p:nvSpPr>
          <p:spPr>
            <a:xfrm>
              <a:off x="3613680" y="2532960"/>
              <a:ext cx="2073240" cy="690840"/>
            </a:xfrm>
            <a:custGeom>
              <a:avLst/>
              <a:gdLst>
                <a:gd name="textAreaLeft" fmla="*/ 0 w 2073240"/>
                <a:gd name="textAreaRight" fmla="*/ 2073240 w 2073240"/>
                <a:gd name="textAreaTop" fmla="*/ 0 h 690840"/>
                <a:gd name="textAreaBottom" fmla="*/ 691200 h 6908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85" name="Text Box 57"/>
            <p:cNvSpPr/>
            <p:nvPr/>
          </p:nvSpPr>
          <p:spPr>
            <a:xfrm>
              <a:off x="3776400" y="3276360"/>
              <a:ext cx="175500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mmense</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Appeal</a:t>
              </a:r>
              <a:endParaRPr b="0" lang="en-US" sz="1400" spc="-1" strike="noStrike">
                <a:solidFill>
                  <a:srgbClr val="000000"/>
                </a:solidFill>
                <a:latin typeface="Gulim"/>
              </a:endParaRPr>
            </a:p>
          </p:txBody>
        </p:sp>
        <p:sp>
          <p:nvSpPr>
            <p:cNvPr id="486" name="Text Box 58"/>
            <p:cNvSpPr/>
            <p:nvPr/>
          </p:nvSpPr>
          <p:spPr>
            <a:xfrm>
              <a:off x="1191600" y="3826080"/>
              <a:ext cx="2409840" cy="12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btle Tou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ndy Design in contemporary colors and styles - PowerPoint Templates &amp; Backgrounds, PowerPoint Diagrams &amp; Charts for your Presentation</a:t>
              </a:r>
              <a:endParaRPr b="0" lang="en-US" sz="1200" spc="-1" strike="noStrike">
                <a:solidFill>
                  <a:srgbClr val="000000"/>
                </a:solidFill>
                <a:latin typeface="Gulim"/>
              </a:endParaRPr>
            </a:p>
          </p:txBody>
        </p:sp>
        <p:sp>
          <p:nvSpPr>
            <p:cNvPr id="487" name="Text Box 59"/>
            <p:cNvSpPr/>
            <p:nvPr/>
          </p:nvSpPr>
          <p:spPr>
            <a:xfrm>
              <a:off x="1191600" y="1797120"/>
              <a:ext cx="291456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488" name="Text Box 60"/>
            <p:cNvSpPr/>
            <p:nvPr/>
          </p:nvSpPr>
          <p:spPr>
            <a:xfrm>
              <a:off x="5833440" y="3826080"/>
              <a:ext cx="2266920" cy="1280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 Premade PowerPoint Templates, Professional quality templates in a couple of clicks away!</a:t>
              </a:r>
              <a:endParaRPr b="0" lang="en-US" sz="1200" spc="-1" strike="noStrike">
                <a:solidFill>
                  <a:srgbClr val="000000"/>
                </a:solidFill>
                <a:latin typeface="Gulim"/>
              </a:endParaRPr>
            </a:p>
          </p:txBody>
        </p:sp>
        <p:sp>
          <p:nvSpPr>
            <p:cNvPr id="489" name="Text Box 61"/>
            <p:cNvSpPr/>
            <p:nvPr/>
          </p:nvSpPr>
          <p:spPr>
            <a:xfrm>
              <a:off x="4969440" y="1797480"/>
              <a:ext cx="3130560" cy="109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 PowerPoint</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 Animation PowerPoint Templates &amp; Backgrounds for Your Impressive Presentation</a:t>
              </a:r>
              <a:endParaRPr b="0" lang="en-US" sz="12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0" name="Picture 68" descr="D:\리폼\국토생명과학\img\손.png"/>
          <p:cNvPicPr/>
          <p:nvPr/>
        </p:nvPicPr>
        <p:blipFill>
          <a:blip r:embed="rId2"/>
          <a:stretch/>
        </p:blipFill>
        <p:spPr>
          <a:xfrm>
            <a:off x="142920" y="5197320"/>
            <a:ext cx="8786880" cy="2479680"/>
          </a:xfrm>
          <a:prstGeom prst="rect">
            <a:avLst/>
          </a:prstGeom>
          <a:ln w="0">
            <a:noFill/>
          </a:ln>
        </p:spPr>
      </p:pic>
      <p:pic>
        <p:nvPicPr>
          <p:cNvPr id="491" name="Picture 54" descr="Untitled-1"/>
          <p:cNvPicPr/>
          <p:nvPr/>
        </p:nvPicPr>
        <p:blipFill>
          <a:blip r:embed="rId3"/>
          <a:stretch/>
        </p:blipFill>
        <p:spPr>
          <a:xfrm rot="375000">
            <a:off x="1027080" y="-963720"/>
            <a:ext cx="7089840" cy="7310520"/>
          </a:xfrm>
          <a:prstGeom prst="rect">
            <a:avLst/>
          </a:prstGeom>
          <a:ln w="0">
            <a:noFill/>
          </a:ln>
        </p:spPr>
      </p:pic>
      <p:grpSp>
        <p:nvGrpSpPr>
          <p:cNvPr id="492" name="그룹 45"/>
          <p:cNvGrpSpPr/>
          <p:nvPr/>
        </p:nvGrpSpPr>
        <p:grpSpPr>
          <a:xfrm>
            <a:off x="1458360" y="-63360"/>
            <a:ext cx="6063120" cy="5714640"/>
            <a:chOff x="1458360" y="-63360"/>
            <a:chExt cx="6063120" cy="5714640"/>
          </a:xfrm>
        </p:grpSpPr>
        <p:grpSp>
          <p:nvGrpSpPr>
            <p:cNvPr id="493" name="Group 17"/>
            <p:cNvGrpSpPr/>
            <p:nvPr/>
          </p:nvGrpSpPr>
          <p:grpSpPr>
            <a:xfrm>
              <a:off x="1458360" y="297000"/>
              <a:ext cx="6063120" cy="5354280"/>
              <a:chOff x="1458360" y="297000"/>
              <a:chExt cx="6063120" cy="5354280"/>
            </a:xfrm>
          </p:grpSpPr>
          <p:sp>
            <p:nvSpPr>
              <p:cNvPr id="494" name="Line 18"/>
              <p:cNvSpPr/>
              <p:nvPr/>
            </p:nvSpPr>
            <p:spPr>
              <a:xfrm>
                <a:off x="7223760" y="30470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95" name="Line 19"/>
              <p:cNvSpPr/>
              <p:nvPr/>
            </p:nvSpPr>
            <p:spPr>
              <a:xfrm>
                <a:off x="7223760" y="30470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496" name="Group 20"/>
              <p:cNvGrpSpPr/>
              <p:nvPr/>
            </p:nvGrpSpPr>
            <p:grpSpPr>
              <a:xfrm>
                <a:off x="2660040" y="1516680"/>
                <a:ext cx="3323160" cy="2803680"/>
                <a:chOff x="2660040" y="1516680"/>
                <a:chExt cx="3323160" cy="2803680"/>
              </a:xfrm>
            </p:grpSpPr>
            <p:grpSp>
              <p:nvGrpSpPr>
                <p:cNvPr id="497" name="Group 21"/>
                <p:cNvGrpSpPr/>
                <p:nvPr/>
              </p:nvGrpSpPr>
              <p:grpSpPr>
                <a:xfrm>
                  <a:off x="2660040" y="1516680"/>
                  <a:ext cx="3323160" cy="2803680"/>
                  <a:chOff x="2660040" y="1516680"/>
                  <a:chExt cx="3323160" cy="2803680"/>
                </a:xfrm>
              </p:grpSpPr>
              <p:grpSp>
                <p:nvGrpSpPr>
                  <p:cNvPr id="498" name="Oval 22"/>
                  <p:cNvGrpSpPr/>
                  <p:nvPr/>
                </p:nvGrpSpPr>
                <p:grpSpPr>
                  <a:xfrm>
                    <a:off x="2660040" y="1516680"/>
                    <a:ext cx="3323160" cy="2803680"/>
                    <a:chOff x="2660040" y="1516680"/>
                    <a:chExt cx="3323160" cy="2803680"/>
                  </a:xfrm>
                </p:grpSpPr>
                <p:pic>
                  <p:nvPicPr>
                    <p:cNvPr id="499" name="Oval 22" descr=""/>
                    <p:cNvPicPr/>
                    <p:nvPr/>
                  </p:nvPicPr>
                  <p:blipFill>
                    <a:blip r:embed="rId4"/>
                    <a:stretch/>
                  </p:blipFill>
                  <p:spPr>
                    <a:xfrm>
                      <a:off x="2660040" y="1516680"/>
                      <a:ext cx="3323160" cy="2803680"/>
                    </a:xfrm>
                    <a:prstGeom prst="rect">
                      <a:avLst/>
                    </a:prstGeom>
                    <a:ln w="0">
                      <a:noFill/>
                    </a:ln>
                  </p:spPr>
                </p:pic>
                <p:sp>
                  <p:nvSpPr>
                    <p:cNvPr id="500" name=""/>
                    <p:cNvSpPr/>
                    <p:nvPr/>
                  </p:nvSpPr>
                  <p:spPr>
                    <a:xfrm>
                      <a:off x="3180600" y="1946160"/>
                      <a:ext cx="2121840" cy="17917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01" name="Oval 23"/>
                  <p:cNvSpPr/>
                  <p:nvPr/>
                </p:nvSpPr>
                <p:spPr>
                  <a:xfrm>
                    <a:off x="3334680" y="1892520"/>
                    <a:ext cx="503640" cy="424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02" name="Freeform 24"/>
                <p:cNvSpPr/>
                <p:nvPr/>
              </p:nvSpPr>
              <p:spPr>
                <a:xfrm>
                  <a:off x="2883960" y="1562040"/>
                  <a:ext cx="2840040" cy="800640"/>
                </a:xfrm>
                <a:custGeom>
                  <a:avLst/>
                  <a:gdLst>
                    <a:gd name="textAreaLeft" fmla="*/ 0 w 2840040"/>
                    <a:gd name="textAreaRight" fmla="*/ 2840400 w 2840040"/>
                    <a:gd name="textAreaTop" fmla="*/ 0 h 800640"/>
                    <a:gd name="textAreaBottom" fmla="*/ 801000 h 8006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503" name="Line 26"/>
              <p:cNvSpPr/>
              <p:nvPr/>
            </p:nvSpPr>
            <p:spPr>
              <a:xfrm>
                <a:off x="7521480" y="309600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04" name="Line 27"/>
              <p:cNvSpPr/>
              <p:nvPr/>
            </p:nvSpPr>
            <p:spPr>
              <a:xfrm>
                <a:off x="7521480" y="309600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05" name="Freeform 28"/>
              <p:cNvSpPr/>
              <p:nvPr/>
            </p:nvSpPr>
            <p:spPr>
              <a:xfrm>
                <a:off x="1521000" y="523800"/>
                <a:ext cx="5569560" cy="2457720"/>
              </a:xfrm>
              <a:custGeom>
                <a:avLst/>
                <a:gdLst>
                  <a:gd name="textAreaLeft" fmla="*/ 0 w 5569560"/>
                  <a:gd name="textAreaRight" fmla="*/ 5569920 w 5569560"/>
                  <a:gd name="textAreaTop" fmla="*/ 0 h 2457720"/>
                  <a:gd name="textAreaBottom" fmla="*/ 2458080 h 2457720"/>
                </a:gdLst>
                <a:ahLst/>
                <a:rect l="textAreaLeft" t="textAreaTop" r="textAreaRight" b="textAreaBottom"/>
                <a:pathLst>
                  <a:path w="2547" h="1312">
                    <a:moveTo>
                      <a:pt x="1273" y="0"/>
                    </a:moveTo>
                    <a:lnTo>
                      <a:pt x="1273" y="0"/>
                    </a:lnTo>
                    <a:lnTo>
                      <a:pt x="1209" y="2"/>
                    </a:lnTo>
                    <a:lnTo>
                      <a:pt x="1145" y="7"/>
                    </a:lnTo>
                    <a:lnTo>
                      <a:pt x="1085" y="14"/>
                    </a:lnTo>
                    <a:lnTo>
                      <a:pt x="1023" y="25"/>
                    </a:lnTo>
                    <a:lnTo>
                      <a:pt x="962" y="37"/>
                    </a:lnTo>
                    <a:lnTo>
                      <a:pt x="903" y="53"/>
                    </a:lnTo>
                    <a:lnTo>
                      <a:pt x="846" y="73"/>
                    </a:lnTo>
                    <a:lnTo>
                      <a:pt x="790" y="94"/>
                    </a:lnTo>
                    <a:lnTo>
                      <a:pt x="734" y="119"/>
                    </a:lnTo>
                    <a:lnTo>
                      <a:pt x="681" y="146"/>
                    </a:lnTo>
                    <a:lnTo>
                      <a:pt x="628" y="174"/>
                    </a:lnTo>
                    <a:lnTo>
                      <a:pt x="578" y="206"/>
                    </a:lnTo>
                    <a:lnTo>
                      <a:pt x="528" y="240"/>
                    </a:lnTo>
                    <a:lnTo>
                      <a:pt x="480" y="276"/>
                    </a:lnTo>
                    <a:lnTo>
                      <a:pt x="436" y="313"/>
                    </a:lnTo>
                    <a:lnTo>
                      <a:pt x="391" y="354"/>
                    </a:lnTo>
                    <a:lnTo>
                      <a:pt x="349" y="397"/>
                    </a:lnTo>
                    <a:lnTo>
                      <a:pt x="309" y="439"/>
                    </a:lnTo>
                    <a:lnTo>
                      <a:pt x="272" y="485"/>
                    </a:lnTo>
                    <a:lnTo>
                      <a:pt x="235" y="533"/>
                    </a:lnTo>
                    <a:lnTo>
                      <a:pt x="203" y="583"/>
                    </a:lnTo>
                    <a:lnTo>
                      <a:pt x="171" y="633"/>
                    </a:lnTo>
                    <a:lnTo>
                      <a:pt x="142" y="686"/>
                    </a:lnTo>
                    <a:lnTo>
                      <a:pt x="116" y="740"/>
                    </a:lnTo>
                    <a:lnTo>
                      <a:pt x="91" y="795"/>
                    </a:lnTo>
                    <a:lnTo>
                      <a:pt x="69" y="852"/>
                    </a:lnTo>
                    <a:lnTo>
                      <a:pt x="52" y="909"/>
                    </a:lnTo>
                    <a:lnTo>
                      <a:pt x="36" y="969"/>
                    </a:lnTo>
                    <a:lnTo>
                      <a:pt x="21" y="1028"/>
                    </a:lnTo>
                    <a:lnTo>
                      <a:pt x="11" y="1090"/>
                    </a:lnTo>
                    <a:lnTo>
                      <a:pt x="4" y="1152"/>
                    </a:lnTo>
                    <a:lnTo>
                      <a:pt x="0" y="1215"/>
                    </a:lnTo>
                    <a:lnTo>
                      <a:pt x="0" y="1215"/>
                    </a:lnTo>
                    <a:lnTo>
                      <a:pt x="194" y="1312"/>
                    </a:lnTo>
                    <a:lnTo>
                      <a:pt x="194" y="1312"/>
                    </a:lnTo>
                    <a:lnTo>
                      <a:pt x="393" y="1213"/>
                    </a:lnTo>
                    <a:lnTo>
                      <a:pt x="393" y="1213"/>
                    </a:lnTo>
                    <a:lnTo>
                      <a:pt x="397" y="1170"/>
                    </a:lnTo>
                    <a:lnTo>
                      <a:pt x="402" y="1127"/>
                    </a:lnTo>
                    <a:lnTo>
                      <a:pt x="411" y="1087"/>
                    </a:lnTo>
                    <a:lnTo>
                      <a:pt x="420" y="1046"/>
                    </a:lnTo>
                    <a:lnTo>
                      <a:pt x="432" y="1006"/>
                    </a:lnTo>
                    <a:lnTo>
                      <a:pt x="446" y="967"/>
                    </a:lnTo>
                    <a:lnTo>
                      <a:pt x="461" y="928"/>
                    </a:lnTo>
                    <a:lnTo>
                      <a:pt x="478" y="891"/>
                    </a:lnTo>
                    <a:lnTo>
                      <a:pt x="496" y="855"/>
                    </a:lnTo>
                    <a:lnTo>
                      <a:pt x="518" y="820"/>
                    </a:lnTo>
                    <a:lnTo>
                      <a:pt x="539" y="784"/>
                    </a:lnTo>
                    <a:lnTo>
                      <a:pt x="562" y="752"/>
                    </a:lnTo>
                    <a:lnTo>
                      <a:pt x="587" y="720"/>
                    </a:lnTo>
                    <a:lnTo>
                      <a:pt x="614" y="688"/>
                    </a:lnTo>
                    <a:lnTo>
                      <a:pt x="640" y="660"/>
                    </a:lnTo>
                    <a:lnTo>
                      <a:pt x="670" y="631"/>
                    </a:lnTo>
                    <a:lnTo>
                      <a:pt x="701" y="603"/>
                    </a:lnTo>
                    <a:lnTo>
                      <a:pt x="731" y="578"/>
                    </a:lnTo>
                    <a:lnTo>
                      <a:pt x="765" y="553"/>
                    </a:lnTo>
                    <a:lnTo>
                      <a:pt x="798" y="532"/>
                    </a:lnTo>
                    <a:lnTo>
                      <a:pt x="832" y="510"/>
                    </a:lnTo>
                    <a:lnTo>
                      <a:pt x="868" y="491"/>
                    </a:lnTo>
                    <a:lnTo>
                      <a:pt x="905" y="473"/>
                    </a:lnTo>
                    <a:lnTo>
                      <a:pt x="943" y="455"/>
                    </a:lnTo>
                    <a:lnTo>
                      <a:pt x="982" y="441"/>
                    </a:lnTo>
                    <a:lnTo>
                      <a:pt x="1021" y="429"/>
                    </a:lnTo>
                    <a:lnTo>
                      <a:pt x="1062" y="418"/>
                    </a:lnTo>
                    <a:lnTo>
                      <a:pt x="1103" y="409"/>
                    </a:lnTo>
                    <a:lnTo>
                      <a:pt x="1143" y="402"/>
                    </a:lnTo>
                    <a:lnTo>
                      <a:pt x="1186" y="397"/>
                    </a:lnTo>
                    <a:lnTo>
                      <a:pt x="1229" y="393"/>
                    </a:lnTo>
                    <a:lnTo>
                      <a:pt x="1273" y="393"/>
                    </a:lnTo>
                    <a:lnTo>
                      <a:pt x="1273" y="393"/>
                    </a:lnTo>
                    <a:lnTo>
                      <a:pt x="1316" y="393"/>
                    </a:lnTo>
                    <a:lnTo>
                      <a:pt x="1359" y="397"/>
                    </a:lnTo>
                    <a:lnTo>
                      <a:pt x="1401" y="402"/>
                    </a:lnTo>
                    <a:lnTo>
                      <a:pt x="1444" y="409"/>
                    </a:lnTo>
                    <a:lnTo>
                      <a:pt x="1485" y="418"/>
                    </a:lnTo>
                    <a:lnTo>
                      <a:pt x="1526" y="429"/>
                    </a:lnTo>
                    <a:lnTo>
                      <a:pt x="1565" y="441"/>
                    </a:lnTo>
                    <a:lnTo>
                      <a:pt x="1604" y="457"/>
                    </a:lnTo>
                    <a:lnTo>
                      <a:pt x="1641" y="473"/>
                    </a:lnTo>
                    <a:lnTo>
                      <a:pt x="1679" y="491"/>
                    </a:lnTo>
                    <a:lnTo>
                      <a:pt x="1714" y="510"/>
                    </a:lnTo>
                    <a:lnTo>
                      <a:pt x="1748" y="532"/>
                    </a:lnTo>
                    <a:lnTo>
                      <a:pt x="1782" y="555"/>
                    </a:lnTo>
                    <a:lnTo>
                      <a:pt x="1816" y="578"/>
                    </a:lnTo>
                    <a:lnTo>
                      <a:pt x="1846" y="605"/>
                    </a:lnTo>
                    <a:lnTo>
                      <a:pt x="1876" y="631"/>
                    </a:lnTo>
                    <a:lnTo>
                      <a:pt x="1906" y="660"/>
                    </a:lnTo>
                    <a:lnTo>
                      <a:pt x="1933" y="690"/>
                    </a:lnTo>
                    <a:lnTo>
                      <a:pt x="1960" y="720"/>
                    </a:lnTo>
                    <a:lnTo>
                      <a:pt x="1985" y="752"/>
                    </a:lnTo>
                    <a:lnTo>
                      <a:pt x="2008" y="786"/>
                    </a:lnTo>
                    <a:lnTo>
                      <a:pt x="2029" y="822"/>
                    </a:lnTo>
                    <a:lnTo>
                      <a:pt x="2050" y="857"/>
                    </a:lnTo>
                    <a:lnTo>
                      <a:pt x="2068" y="893"/>
                    </a:lnTo>
                    <a:lnTo>
                      <a:pt x="2086" y="930"/>
                    </a:lnTo>
                    <a:lnTo>
                      <a:pt x="2100" y="969"/>
                    </a:lnTo>
                    <a:lnTo>
                      <a:pt x="2114" y="1008"/>
                    </a:lnTo>
                    <a:lnTo>
                      <a:pt x="2125" y="1047"/>
                    </a:lnTo>
                    <a:lnTo>
                      <a:pt x="2136" y="1088"/>
                    </a:lnTo>
                    <a:lnTo>
                      <a:pt x="2143" y="1131"/>
                    </a:lnTo>
                    <a:lnTo>
                      <a:pt x="2150" y="1172"/>
                    </a:lnTo>
                    <a:lnTo>
                      <a:pt x="2154" y="1215"/>
                    </a:lnTo>
                    <a:lnTo>
                      <a:pt x="2328" y="1127"/>
                    </a:lnTo>
                    <a:lnTo>
                      <a:pt x="2351" y="1117"/>
                    </a:lnTo>
                    <a:lnTo>
                      <a:pt x="2547" y="1213"/>
                    </a:lnTo>
                    <a:lnTo>
                      <a:pt x="2547" y="1213"/>
                    </a:lnTo>
                    <a:lnTo>
                      <a:pt x="2541" y="1151"/>
                    </a:lnTo>
                    <a:lnTo>
                      <a:pt x="2534" y="1088"/>
                    </a:lnTo>
                    <a:lnTo>
                      <a:pt x="2523" y="1028"/>
                    </a:lnTo>
                    <a:lnTo>
                      <a:pt x="2511" y="967"/>
                    </a:lnTo>
                    <a:lnTo>
                      <a:pt x="2495" y="909"/>
                    </a:lnTo>
                    <a:lnTo>
                      <a:pt x="2475" y="850"/>
                    </a:lnTo>
                    <a:lnTo>
                      <a:pt x="2454" y="793"/>
                    </a:lnTo>
                    <a:lnTo>
                      <a:pt x="2429" y="738"/>
                    </a:lnTo>
                    <a:lnTo>
                      <a:pt x="2403" y="685"/>
                    </a:lnTo>
                    <a:lnTo>
                      <a:pt x="2374" y="633"/>
                    </a:lnTo>
                    <a:lnTo>
                      <a:pt x="2344" y="581"/>
                    </a:lnTo>
                    <a:lnTo>
                      <a:pt x="2310" y="532"/>
                    </a:lnTo>
                    <a:lnTo>
                      <a:pt x="2275" y="485"/>
                    </a:lnTo>
                    <a:lnTo>
                      <a:pt x="2235" y="439"/>
                    </a:lnTo>
                    <a:lnTo>
                      <a:pt x="2196" y="395"/>
                    </a:lnTo>
                    <a:lnTo>
                      <a:pt x="2154" y="354"/>
                    </a:lnTo>
                    <a:lnTo>
                      <a:pt x="2109" y="313"/>
                    </a:lnTo>
                    <a:lnTo>
                      <a:pt x="2065" y="276"/>
                    </a:lnTo>
                    <a:lnTo>
                      <a:pt x="2017" y="240"/>
                    </a:lnTo>
                    <a:lnTo>
                      <a:pt x="1967" y="206"/>
                    </a:lnTo>
                    <a:lnTo>
                      <a:pt x="1917" y="174"/>
                    </a:lnTo>
                    <a:lnTo>
                      <a:pt x="1864" y="146"/>
                    </a:lnTo>
                    <a:lnTo>
                      <a:pt x="1810" y="119"/>
                    </a:lnTo>
                    <a:lnTo>
                      <a:pt x="1755" y="94"/>
                    </a:lnTo>
                    <a:lnTo>
                      <a:pt x="1698" y="73"/>
                    </a:lnTo>
                    <a:lnTo>
                      <a:pt x="1641" y="53"/>
                    </a:lnTo>
                    <a:lnTo>
                      <a:pt x="1583" y="37"/>
                    </a:lnTo>
                    <a:lnTo>
                      <a:pt x="1522" y="25"/>
                    </a:lnTo>
                    <a:lnTo>
                      <a:pt x="1462" y="14"/>
                    </a:lnTo>
                    <a:lnTo>
                      <a:pt x="1400" y="7"/>
                    </a:lnTo>
                    <a:lnTo>
                      <a:pt x="1337" y="2"/>
                    </a:lnTo>
                    <a:lnTo>
                      <a:pt x="1273" y="0"/>
                    </a:lnTo>
                    <a:lnTo>
                      <a:pt x="1273" y="0"/>
                    </a:lnTo>
                    <a:close/>
                  </a:path>
                </a:pathLst>
              </a:custGeom>
              <a:gradFill rotWithShape="0">
                <a:gsLst>
                  <a:gs pos="0">
                    <a:srgbClr val="ffffff">
                      <a:alpha val="10196"/>
                    </a:srgbClr>
                  </a:gs>
                  <a:gs pos="100000">
                    <a:srgbClr val="ffffff">
                      <a:alpha val="50196"/>
                    </a:srgbClr>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06" name="Freeform 29"/>
              <p:cNvSpPr/>
              <p:nvPr/>
            </p:nvSpPr>
            <p:spPr>
              <a:xfrm>
                <a:off x="1521000" y="2842920"/>
                <a:ext cx="5569560" cy="2457720"/>
              </a:xfrm>
              <a:custGeom>
                <a:avLst/>
                <a:gdLst>
                  <a:gd name="textAreaLeft" fmla="*/ 0 w 5569560"/>
                  <a:gd name="textAreaRight" fmla="*/ 5569920 w 5569560"/>
                  <a:gd name="textAreaTop" fmla="*/ 0 h 2457720"/>
                  <a:gd name="textAreaBottom" fmla="*/ 2458080 h 2457720"/>
                </a:gdLst>
                <a:ahLst/>
                <a:rect l="textAreaLeft" t="textAreaTop" r="textAreaRight" b="textAreaBottom"/>
                <a:pathLst>
                  <a:path w="2547" h="1312">
                    <a:moveTo>
                      <a:pt x="2547" y="97"/>
                    </a:moveTo>
                    <a:lnTo>
                      <a:pt x="2547" y="97"/>
                    </a:lnTo>
                    <a:lnTo>
                      <a:pt x="2351" y="0"/>
                    </a:lnTo>
                    <a:lnTo>
                      <a:pt x="2351" y="0"/>
                    </a:lnTo>
                    <a:lnTo>
                      <a:pt x="2154" y="99"/>
                    </a:lnTo>
                    <a:lnTo>
                      <a:pt x="2154" y="99"/>
                    </a:lnTo>
                    <a:lnTo>
                      <a:pt x="2148" y="142"/>
                    </a:lnTo>
                    <a:lnTo>
                      <a:pt x="2143" y="185"/>
                    </a:lnTo>
                    <a:lnTo>
                      <a:pt x="2136" y="225"/>
                    </a:lnTo>
                    <a:lnTo>
                      <a:pt x="2125" y="266"/>
                    </a:lnTo>
                    <a:lnTo>
                      <a:pt x="2113" y="306"/>
                    </a:lnTo>
                    <a:lnTo>
                      <a:pt x="2100" y="345"/>
                    </a:lnTo>
                    <a:lnTo>
                      <a:pt x="2084" y="384"/>
                    </a:lnTo>
                    <a:lnTo>
                      <a:pt x="2068" y="421"/>
                    </a:lnTo>
                    <a:lnTo>
                      <a:pt x="2049" y="457"/>
                    </a:lnTo>
                    <a:lnTo>
                      <a:pt x="2029" y="492"/>
                    </a:lnTo>
                    <a:lnTo>
                      <a:pt x="2008" y="528"/>
                    </a:lnTo>
                    <a:lnTo>
                      <a:pt x="1983" y="560"/>
                    </a:lnTo>
                    <a:lnTo>
                      <a:pt x="1958" y="592"/>
                    </a:lnTo>
                    <a:lnTo>
                      <a:pt x="1933" y="624"/>
                    </a:lnTo>
                    <a:lnTo>
                      <a:pt x="1905" y="652"/>
                    </a:lnTo>
                    <a:lnTo>
                      <a:pt x="1876" y="681"/>
                    </a:lnTo>
                    <a:lnTo>
                      <a:pt x="1846" y="709"/>
                    </a:lnTo>
                    <a:lnTo>
                      <a:pt x="1814" y="734"/>
                    </a:lnTo>
                    <a:lnTo>
                      <a:pt x="1782" y="759"/>
                    </a:lnTo>
                    <a:lnTo>
                      <a:pt x="1748" y="780"/>
                    </a:lnTo>
                    <a:lnTo>
                      <a:pt x="1713" y="802"/>
                    </a:lnTo>
                    <a:lnTo>
                      <a:pt x="1677" y="821"/>
                    </a:lnTo>
                    <a:lnTo>
                      <a:pt x="1640" y="839"/>
                    </a:lnTo>
                    <a:lnTo>
                      <a:pt x="1602" y="857"/>
                    </a:lnTo>
                    <a:lnTo>
                      <a:pt x="1563" y="871"/>
                    </a:lnTo>
                    <a:lnTo>
                      <a:pt x="1524" y="883"/>
                    </a:lnTo>
                    <a:lnTo>
                      <a:pt x="1485" y="894"/>
                    </a:lnTo>
                    <a:lnTo>
                      <a:pt x="1444" y="903"/>
                    </a:lnTo>
                    <a:lnTo>
                      <a:pt x="1401" y="910"/>
                    </a:lnTo>
                    <a:lnTo>
                      <a:pt x="1359" y="915"/>
                    </a:lnTo>
                    <a:lnTo>
                      <a:pt x="1316" y="919"/>
                    </a:lnTo>
                    <a:lnTo>
                      <a:pt x="1273" y="919"/>
                    </a:lnTo>
                    <a:lnTo>
                      <a:pt x="1273" y="919"/>
                    </a:lnTo>
                    <a:lnTo>
                      <a:pt x="1229" y="919"/>
                    </a:lnTo>
                    <a:lnTo>
                      <a:pt x="1186" y="915"/>
                    </a:lnTo>
                    <a:lnTo>
                      <a:pt x="1143" y="910"/>
                    </a:lnTo>
                    <a:lnTo>
                      <a:pt x="1103" y="903"/>
                    </a:lnTo>
                    <a:lnTo>
                      <a:pt x="1062" y="894"/>
                    </a:lnTo>
                    <a:lnTo>
                      <a:pt x="1021" y="883"/>
                    </a:lnTo>
                    <a:lnTo>
                      <a:pt x="982" y="871"/>
                    </a:lnTo>
                    <a:lnTo>
                      <a:pt x="943" y="855"/>
                    </a:lnTo>
                    <a:lnTo>
                      <a:pt x="905" y="839"/>
                    </a:lnTo>
                    <a:lnTo>
                      <a:pt x="868" y="821"/>
                    </a:lnTo>
                    <a:lnTo>
                      <a:pt x="832" y="802"/>
                    </a:lnTo>
                    <a:lnTo>
                      <a:pt x="797" y="780"/>
                    </a:lnTo>
                    <a:lnTo>
                      <a:pt x="763" y="757"/>
                    </a:lnTo>
                    <a:lnTo>
                      <a:pt x="731" y="734"/>
                    </a:lnTo>
                    <a:lnTo>
                      <a:pt x="699" y="707"/>
                    </a:lnTo>
                    <a:lnTo>
                      <a:pt x="669" y="681"/>
                    </a:lnTo>
                    <a:lnTo>
                      <a:pt x="640" y="652"/>
                    </a:lnTo>
                    <a:lnTo>
                      <a:pt x="612" y="622"/>
                    </a:lnTo>
                    <a:lnTo>
                      <a:pt x="587" y="592"/>
                    </a:lnTo>
                    <a:lnTo>
                      <a:pt x="562" y="560"/>
                    </a:lnTo>
                    <a:lnTo>
                      <a:pt x="537" y="526"/>
                    </a:lnTo>
                    <a:lnTo>
                      <a:pt x="516" y="490"/>
                    </a:lnTo>
                    <a:lnTo>
                      <a:pt x="496" y="455"/>
                    </a:lnTo>
                    <a:lnTo>
                      <a:pt x="477" y="419"/>
                    </a:lnTo>
                    <a:lnTo>
                      <a:pt x="461" y="382"/>
                    </a:lnTo>
                    <a:lnTo>
                      <a:pt x="445" y="343"/>
                    </a:lnTo>
                    <a:lnTo>
                      <a:pt x="432" y="304"/>
                    </a:lnTo>
                    <a:lnTo>
                      <a:pt x="420" y="265"/>
                    </a:lnTo>
                    <a:lnTo>
                      <a:pt x="411" y="224"/>
                    </a:lnTo>
                    <a:lnTo>
                      <a:pt x="402" y="181"/>
                    </a:lnTo>
                    <a:lnTo>
                      <a:pt x="397" y="140"/>
                    </a:lnTo>
                    <a:lnTo>
                      <a:pt x="393" y="97"/>
                    </a:lnTo>
                    <a:lnTo>
                      <a:pt x="194" y="195"/>
                    </a:lnTo>
                    <a:lnTo>
                      <a:pt x="0" y="99"/>
                    </a:lnTo>
                    <a:lnTo>
                      <a:pt x="0" y="99"/>
                    </a:lnTo>
                    <a:lnTo>
                      <a:pt x="4" y="161"/>
                    </a:lnTo>
                    <a:lnTo>
                      <a:pt x="11" y="224"/>
                    </a:lnTo>
                    <a:lnTo>
                      <a:pt x="21" y="284"/>
                    </a:lnTo>
                    <a:lnTo>
                      <a:pt x="36" y="345"/>
                    </a:lnTo>
                    <a:lnTo>
                      <a:pt x="52" y="403"/>
                    </a:lnTo>
                    <a:lnTo>
                      <a:pt x="69" y="462"/>
                    </a:lnTo>
                    <a:lnTo>
                      <a:pt x="92" y="519"/>
                    </a:lnTo>
                    <a:lnTo>
                      <a:pt x="116" y="574"/>
                    </a:lnTo>
                    <a:lnTo>
                      <a:pt x="142" y="627"/>
                    </a:lnTo>
                    <a:lnTo>
                      <a:pt x="171" y="679"/>
                    </a:lnTo>
                    <a:lnTo>
                      <a:pt x="203" y="731"/>
                    </a:lnTo>
                    <a:lnTo>
                      <a:pt x="237" y="780"/>
                    </a:lnTo>
                    <a:lnTo>
                      <a:pt x="272" y="827"/>
                    </a:lnTo>
                    <a:lnTo>
                      <a:pt x="309" y="873"/>
                    </a:lnTo>
                    <a:lnTo>
                      <a:pt x="350" y="917"/>
                    </a:lnTo>
                    <a:lnTo>
                      <a:pt x="391" y="958"/>
                    </a:lnTo>
                    <a:lnTo>
                      <a:pt x="436" y="999"/>
                    </a:lnTo>
                    <a:lnTo>
                      <a:pt x="482" y="1036"/>
                    </a:lnTo>
                    <a:lnTo>
                      <a:pt x="528" y="1072"/>
                    </a:lnTo>
                    <a:lnTo>
                      <a:pt x="578" y="1106"/>
                    </a:lnTo>
                    <a:lnTo>
                      <a:pt x="630" y="1138"/>
                    </a:lnTo>
                    <a:lnTo>
                      <a:pt x="681" y="1166"/>
                    </a:lnTo>
                    <a:lnTo>
                      <a:pt x="734" y="1193"/>
                    </a:lnTo>
                    <a:lnTo>
                      <a:pt x="790" y="1218"/>
                    </a:lnTo>
                    <a:lnTo>
                      <a:pt x="846" y="1239"/>
                    </a:lnTo>
                    <a:lnTo>
                      <a:pt x="903" y="1259"/>
                    </a:lnTo>
                    <a:lnTo>
                      <a:pt x="964" y="1275"/>
                    </a:lnTo>
                    <a:lnTo>
                      <a:pt x="1023" y="1287"/>
                    </a:lnTo>
                    <a:lnTo>
                      <a:pt x="1085" y="1298"/>
                    </a:lnTo>
                    <a:lnTo>
                      <a:pt x="1147" y="1305"/>
                    </a:lnTo>
                    <a:lnTo>
                      <a:pt x="1209" y="1310"/>
                    </a:lnTo>
                    <a:lnTo>
                      <a:pt x="1273" y="1312"/>
                    </a:lnTo>
                    <a:lnTo>
                      <a:pt x="1273" y="1312"/>
                    </a:lnTo>
                    <a:lnTo>
                      <a:pt x="1337" y="1310"/>
                    </a:lnTo>
                    <a:lnTo>
                      <a:pt x="1400" y="1305"/>
                    </a:lnTo>
                    <a:lnTo>
                      <a:pt x="1462" y="1298"/>
                    </a:lnTo>
                    <a:lnTo>
                      <a:pt x="1522" y="1287"/>
                    </a:lnTo>
                    <a:lnTo>
                      <a:pt x="1583" y="1275"/>
                    </a:lnTo>
                    <a:lnTo>
                      <a:pt x="1641" y="1259"/>
                    </a:lnTo>
                    <a:lnTo>
                      <a:pt x="1700" y="1239"/>
                    </a:lnTo>
                    <a:lnTo>
                      <a:pt x="1755" y="1218"/>
                    </a:lnTo>
                    <a:lnTo>
                      <a:pt x="1810" y="1193"/>
                    </a:lnTo>
                    <a:lnTo>
                      <a:pt x="1865" y="1166"/>
                    </a:lnTo>
                    <a:lnTo>
                      <a:pt x="1917" y="1138"/>
                    </a:lnTo>
                    <a:lnTo>
                      <a:pt x="1969" y="1106"/>
                    </a:lnTo>
                    <a:lnTo>
                      <a:pt x="2017" y="1072"/>
                    </a:lnTo>
                    <a:lnTo>
                      <a:pt x="2065" y="1036"/>
                    </a:lnTo>
                    <a:lnTo>
                      <a:pt x="2111" y="999"/>
                    </a:lnTo>
                    <a:lnTo>
                      <a:pt x="2154" y="958"/>
                    </a:lnTo>
                    <a:lnTo>
                      <a:pt x="2196" y="915"/>
                    </a:lnTo>
                    <a:lnTo>
                      <a:pt x="2235" y="873"/>
                    </a:lnTo>
                    <a:lnTo>
                      <a:pt x="2275" y="827"/>
                    </a:lnTo>
                    <a:lnTo>
                      <a:pt x="2310" y="779"/>
                    </a:lnTo>
                    <a:lnTo>
                      <a:pt x="2344" y="729"/>
                    </a:lnTo>
                    <a:lnTo>
                      <a:pt x="2374" y="679"/>
                    </a:lnTo>
                    <a:lnTo>
                      <a:pt x="2404" y="626"/>
                    </a:lnTo>
                    <a:lnTo>
                      <a:pt x="2431" y="572"/>
                    </a:lnTo>
                    <a:lnTo>
                      <a:pt x="2454" y="517"/>
                    </a:lnTo>
                    <a:lnTo>
                      <a:pt x="2475" y="460"/>
                    </a:lnTo>
                    <a:lnTo>
                      <a:pt x="2495" y="403"/>
                    </a:lnTo>
                    <a:lnTo>
                      <a:pt x="2511" y="343"/>
                    </a:lnTo>
                    <a:lnTo>
                      <a:pt x="2523" y="284"/>
                    </a:lnTo>
                    <a:lnTo>
                      <a:pt x="2534" y="222"/>
                    </a:lnTo>
                    <a:lnTo>
                      <a:pt x="2541" y="160"/>
                    </a:lnTo>
                    <a:lnTo>
                      <a:pt x="2547" y="97"/>
                    </a:lnTo>
                    <a:lnTo>
                      <a:pt x="2547" y="97"/>
                    </a:lnTo>
                    <a:close/>
                  </a:path>
                </a:pathLst>
              </a:custGeom>
              <a:gradFill rotWithShape="0">
                <a:gsLst>
                  <a:gs pos="0">
                    <a:srgbClr val="ffffff">
                      <a:alpha val="50196"/>
                    </a:srgbClr>
                  </a:gs>
                  <a:gs pos="100000">
                    <a:srgbClr val="ffffff">
                      <a:alpha val="10196"/>
                    </a:srgbClr>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07" name="Freeform 30"/>
              <p:cNvSpPr/>
              <p:nvPr/>
            </p:nvSpPr>
            <p:spPr>
              <a:xfrm rot="18900000">
                <a:off x="2318760" y="120960"/>
                <a:ext cx="616680" cy="2689560"/>
              </a:xfrm>
              <a:custGeom>
                <a:avLst/>
                <a:gdLst>
                  <a:gd name="textAreaLeft" fmla="*/ 0 w 616680"/>
                  <a:gd name="textAreaRight" fmla="*/ 616680 w 616680"/>
                  <a:gd name="textAreaTop" fmla="*/ 0 h 2689560"/>
                  <a:gd name="textAreaBottom" fmla="*/ 2689920 h 26895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08" name="Freeform 31"/>
              <p:cNvSpPr/>
              <p:nvPr/>
            </p:nvSpPr>
            <p:spPr>
              <a:xfrm rot="8100000">
                <a:off x="4430520" y="4089960"/>
                <a:ext cx="3140280" cy="528120"/>
              </a:xfrm>
              <a:custGeom>
                <a:avLst/>
                <a:gdLst>
                  <a:gd name="textAreaLeft" fmla="*/ 0 w 3140280"/>
                  <a:gd name="textAreaRight" fmla="*/ 3140640 w 3140280"/>
                  <a:gd name="textAreaTop" fmla="*/ 0 h 528120"/>
                  <a:gd name="textAreaBottom" fmla="*/ 528480 h 5281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18900000"/>
              </a:gra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grpSp>
        <p:sp>
          <p:nvSpPr>
            <p:cNvPr id="509" name="WordArt 32"/>
            <p:cNvSpPr txBox="1"/>
            <p:nvPr/>
          </p:nvSpPr>
          <p:spPr>
            <a:xfrm>
              <a:off x="2441160" y="535680"/>
              <a:ext cx="4099320" cy="3806640"/>
            </a:xfrm>
            <a:prstGeom prst="rect">
              <a:avLst/>
            </a:prstGeom>
          </p:spPr>
          <p:txBody>
            <a:bodyPr wrap="none" fromWordArt="1" lIns="90000" rIns="90000" tIns="46800" bIns="46800" anchor="t" anchorCtr="1">
              <a:prstTxWarp prst="textArchUp">
                <a:avLst>
                  <a:gd name="adj" fmla="val 126066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4b300d"/>
                  </a:solidFill>
                  <a:latin typeface="Arial Black"/>
                </a:rPr>
                <a:t>More choices and visual trends</a:t>
              </a:r>
              <a:endParaRPr b="0" lang="en-US" sz="800" spc="-1" strike="noStrike">
                <a:ln w="0">
                  <a:noFill/>
                </a:ln>
                <a:solidFill>
                  <a:srgbClr val="4b300d"/>
                </a:solidFill>
                <a:latin typeface="Arial Black"/>
                <a:ea typeface="Arial Black"/>
              </a:endParaRPr>
            </a:p>
          </p:txBody>
        </p:sp>
        <p:sp>
          <p:nvSpPr>
            <p:cNvPr id="510" name="WordArt 33"/>
            <p:cNvSpPr txBox="1"/>
            <p:nvPr/>
          </p:nvSpPr>
          <p:spPr>
            <a:xfrm rot="10800000">
              <a:off x="2440800" y="1041480"/>
              <a:ext cx="4099320" cy="3806640"/>
            </a:xfrm>
            <a:prstGeom prst="rect">
              <a:avLst/>
            </a:prstGeom>
          </p:spPr>
          <p:txBody>
            <a:bodyPr wrap="none" fromWordArt="1" lIns="90000" rIns="90000" tIns="46800" bIns="46800" anchor="t" anchorCtr="1">
              <a:prstTxWarp prst="textArchUp">
                <a:avLst>
                  <a:gd name="adj" fmla="val 132823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4b300d"/>
                  </a:solidFill>
                  <a:latin typeface="Arial Black"/>
                </a:rPr>
                <a:t>A wide range of subjects</a:t>
              </a:r>
              <a:endParaRPr b="0" lang="en-US" sz="800" spc="-1" strike="noStrike">
                <a:ln w="0">
                  <a:noFill/>
                </a:ln>
                <a:solidFill>
                  <a:srgbClr val="4b300d"/>
                </a:solidFill>
                <a:latin typeface="Arial Black"/>
                <a:ea typeface="Arial Black"/>
              </a:endParaRPr>
            </a:p>
          </p:txBody>
        </p:sp>
        <p:sp>
          <p:nvSpPr>
            <p:cNvPr id="511" name="Text Box 34"/>
            <p:cNvSpPr/>
            <p:nvPr/>
          </p:nvSpPr>
          <p:spPr>
            <a:xfrm>
              <a:off x="3706920" y="2174760"/>
              <a:ext cx="1675800" cy="91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iversity of</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Black"/>
                </a:rPr>
                <a:t>Culture</a:t>
              </a:r>
              <a:endParaRPr b="0" lang="en-US" sz="3400" spc="-1" strike="noStrike">
                <a:solidFill>
                  <a:srgbClr val="000000"/>
                </a:solidFill>
                <a:latin typeface="Gulim"/>
              </a:endParaRPr>
            </a:p>
          </p:txBody>
        </p:sp>
        <p:sp>
          <p:nvSpPr>
            <p:cNvPr id="512" name="WordArt 35"/>
            <p:cNvSpPr txBox="1"/>
            <p:nvPr/>
          </p:nvSpPr>
          <p:spPr>
            <a:xfrm rot="5400000">
              <a:off x="2172600" y="131040"/>
              <a:ext cx="5500440" cy="5110920"/>
            </a:xfrm>
            <a:prstGeom prst="rect">
              <a:avLst/>
            </a:prstGeom>
          </p:spPr>
          <p:txBody>
            <a:bodyPr wrap="none" fromWordArt="1" lIns="90000" rIns="90000" tIns="46800" bIns="46800" anchor="t" anchorCtr="1">
              <a:prstTxWarp prst="textArchUp">
                <a:avLst>
                  <a:gd name="adj" fmla="val 126833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4b300d"/>
                  </a:solidFill>
                  <a:latin typeface="Arial Black"/>
                </a:rPr>
                <a:t>Inspiration for your fine performance</a:t>
              </a:r>
              <a:endParaRPr b="0" lang="en-US" sz="800" spc="-1" strike="noStrike">
                <a:ln w="0">
                  <a:noFill/>
                </a:ln>
                <a:solidFill>
                  <a:srgbClr val="4b300d"/>
                </a:solidFill>
                <a:latin typeface="Arial Black"/>
                <a:ea typeface="Arial Black"/>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28760" y="152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itle Style</a:t>
            </a:r>
            <a:endParaRPr b="1" lang="en-US" sz="3200" spc="-1" strike="noStrike">
              <a:solidFill>
                <a:srgbClr val="ffffff"/>
              </a:solidFill>
              <a:latin typeface="Times New Roman"/>
            </a:endParaRPr>
          </a:p>
        </p:txBody>
      </p:sp>
      <p:grpSp>
        <p:nvGrpSpPr>
          <p:cNvPr id="514" name="그룹 3"/>
          <p:cNvGrpSpPr/>
          <p:nvPr/>
        </p:nvGrpSpPr>
        <p:grpSpPr>
          <a:xfrm>
            <a:off x="789120" y="1484280"/>
            <a:ext cx="7527960" cy="4348080"/>
            <a:chOff x="789120" y="1484280"/>
            <a:chExt cx="7527960" cy="4348080"/>
          </a:xfrm>
        </p:grpSpPr>
        <p:grpSp>
          <p:nvGrpSpPr>
            <p:cNvPr id="515" name="그룹 55"/>
            <p:cNvGrpSpPr/>
            <p:nvPr/>
          </p:nvGrpSpPr>
          <p:grpSpPr>
            <a:xfrm>
              <a:off x="789120" y="1873440"/>
              <a:ext cx="7527960" cy="3958920"/>
              <a:chOff x="789120" y="1873440"/>
              <a:chExt cx="7527960" cy="3958920"/>
            </a:xfrm>
          </p:grpSpPr>
          <p:sp>
            <p:nvSpPr>
              <p:cNvPr id="516" name="AutoShape 810"/>
              <p:cNvSpPr/>
              <p:nvPr/>
            </p:nvSpPr>
            <p:spPr>
              <a:xfrm>
                <a:off x="4599000" y="1873440"/>
                <a:ext cx="3718080" cy="3958920"/>
              </a:xfrm>
              <a:custGeom>
                <a:avLst/>
                <a:gdLst>
                  <a:gd name="textAreaLeft" fmla="*/ 48600 w 3718080"/>
                  <a:gd name="textAreaRight" fmla="*/ 3669480 w 3718080"/>
                  <a:gd name="textAreaTop" fmla="*/ 48600 h 3958920"/>
                  <a:gd name="textAreaBottom" fmla="*/ 3910320 h 3958920"/>
                </a:gdLst>
                <a:ahLst/>
                <a:rect l="textAreaLeft" t="textAreaTop" r="textAreaRight" b="textAreaBottom"/>
                <a:pathLst>
                  <a:path w="21600" h="22999">
                    <a:moveTo>
                      <a:pt x="968" y="0"/>
                    </a:moveTo>
                    <a:arcTo wR="968" hR="968" stAng="16200000" swAng="-5400000"/>
                    <a:lnTo>
                      <a:pt x="0" y="22031"/>
                    </a:lnTo>
                    <a:arcTo wR="968" hR="968" stAng="10800000" swAng="-5400000"/>
                    <a:lnTo>
                      <a:pt x="20632" y="22999"/>
                    </a:lnTo>
                    <a:arcTo wR="968" hR="968" stAng="5400000" swAng="-5400000"/>
                    <a:lnTo>
                      <a:pt x="21600" y="968"/>
                    </a:lnTo>
                    <a:arcTo wR="968" hR="968" stAng="0" swAng="-5400000"/>
                    <a:close/>
                  </a:path>
                </a:pathLst>
              </a:custGeom>
              <a:gradFill rotWithShape="0">
                <a:gsLst>
                  <a:gs pos="0">
                    <a:srgbClr val="bfbfbf"/>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7" name="AutoShape 811"/>
              <p:cNvSpPr/>
              <p:nvPr/>
            </p:nvSpPr>
            <p:spPr>
              <a:xfrm>
                <a:off x="4656960" y="1938600"/>
                <a:ext cx="3601440" cy="3823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8" name="AutoShape 812"/>
              <p:cNvSpPr/>
              <p:nvPr/>
            </p:nvSpPr>
            <p:spPr>
              <a:xfrm>
                <a:off x="789120" y="1873440"/>
                <a:ext cx="3702240" cy="3958920"/>
              </a:xfrm>
              <a:custGeom>
                <a:avLst/>
                <a:gdLst>
                  <a:gd name="textAreaLeft" fmla="*/ 48600 w 3702240"/>
                  <a:gd name="textAreaRight" fmla="*/ 3653640 w 3702240"/>
                  <a:gd name="textAreaTop" fmla="*/ 48600 h 3958920"/>
                  <a:gd name="textAreaBottom" fmla="*/ 3910320 h 3958920"/>
                </a:gdLst>
                <a:ahLst/>
                <a:rect l="textAreaLeft" t="textAreaTop" r="textAreaRight" b="textAreaBottom"/>
                <a:pathLst>
                  <a:path w="21600" h="23097">
                    <a:moveTo>
                      <a:pt x="968" y="0"/>
                    </a:moveTo>
                    <a:arcTo wR="968" hR="968" stAng="16200000" swAng="-5400000"/>
                    <a:lnTo>
                      <a:pt x="0" y="22129"/>
                    </a:lnTo>
                    <a:arcTo wR="968" hR="968" stAng="10800000" swAng="-5400000"/>
                    <a:lnTo>
                      <a:pt x="20632" y="23097"/>
                    </a:lnTo>
                    <a:arcTo wR="968" hR="968" stAng="5400000" swAng="-5400000"/>
                    <a:lnTo>
                      <a:pt x="21600" y="968"/>
                    </a:lnTo>
                    <a:arcTo wR="968" hR="968" stAng="0" swAng="-5400000"/>
                    <a:close/>
                  </a:path>
                </a:pathLst>
              </a:custGeom>
              <a:gradFill rotWithShape="0">
                <a:gsLst>
                  <a:gs pos="0">
                    <a:srgbClr val="bfbfbf"/>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9" name="AutoShape 813"/>
              <p:cNvSpPr/>
              <p:nvPr/>
            </p:nvSpPr>
            <p:spPr>
              <a:xfrm>
                <a:off x="847800" y="1938600"/>
                <a:ext cx="3585240" cy="3823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520" name="Picture 869" descr="7"/>
            <p:cNvPicPr/>
            <p:nvPr/>
          </p:nvPicPr>
          <p:blipFill>
            <a:blip r:embed="rId2"/>
            <a:stretch/>
          </p:blipFill>
          <p:spPr>
            <a:xfrm>
              <a:off x="3664800" y="3203280"/>
              <a:ext cx="1701720" cy="1662840"/>
            </a:xfrm>
            <a:prstGeom prst="rect">
              <a:avLst/>
            </a:prstGeom>
            <a:ln w="0">
              <a:noFill/>
            </a:ln>
          </p:spPr>
        </p:pic>
        <p:sp>
          <p:nvSpPr>
            <p:cNvPr id="521" name="AutoShape 871"/>
            <p:cNvSpPr/>
            <p:nvPr/>
          </p:nvSpPr>
          <p:spPr>
            <a:xfrm>
              <a:off x="2917800" y="2411640"/>
              <a:ext cx="3194280" cy="3192840"/>
            </a:xfrm>
            <a:custGeom>
              <a:avLst/>
              <a:gdLst>
                <a:gd name="textAreaLeft" fmla="*/ 467640 w 3194280"/>
                <a:gd name="textAreaRight" fmla="*/ 2726640 w 3194280"/>
                <a:gd name="textAreaTop" fmla="*/ 467280 h 3192840"/>
                <a:gd name="textAreaBottom" fmla="*/ 2725560 h 31928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522" name="Group 884"/>
            <p:cNvGrpSpPr/>
            <p:nvPr/>
          </p:nvGrpSpPr>
          <p:grpSpPr>
            <a:xfrm>
              <a:off x="1674360" y="2857320"/>
              <a:ext cx="5690520" cy="2354760"/>
              <a:chOff x="1674360" y="2857320"/>
              <a:chExt cx="5690520" cy="2354760"/>
            </a:xfrm>
          </p:grpSpPr>
          <p:grpSp>
            <p:nvGrpSpPr>
              <p:cNvPr id="523" name="AutoShape 860"/>
              <p:cNvGrpSpPr/>
              <p:nvPr/>
            </p:nvGrpSpPr>
            <p:grpSpPr>
              <a:xfrm>
                <a:off x="4946400" y="2862360"/>
                <a:ext cx="1986480" cy="662400"/>
                <a:chOff x="4946400" y="2862360"/>
                <a:chExt cx="1986480" cy="662400"/>
              </a:xfrm>
            </p:grpSpPr>
            <p:pic>
              <p:nvPicPr>
                <p:cNvPr id="524" name="AutoShape 860" descr=""/>
                <p:cNvPicPr/>
                <p:nvPr/>
              </p:nvPicPr>
              <p:blipFill>
                <a:blip r:embed="rId3"/>
                <a:stretch/>
              </p:blipFill>
              <p:spPr>
                <a:xfrm>
                  <a:off x="4946400" y="2862360"/>
                  <a:ext cx="1986480" cy="662400"/>
                </a:xfrm>
                <a:prstGeom prst="rect">
                  <a:avLst/>
                </a:prstGeom>
                <a:ln w="0">
                  <a:noFill/>
                </a:ln>
              </p:spPr>
            </p:pic>
            <p:sp>
              <p:nvSpPr>
                <p:cNvPr id="525" name=""/>
                <p:cNvSpPr/>
                <p:nvPr/>
              </p:nvSpPr>
              <p:spPr>
                <a:xfrm>
                  <a:off x="5086080" y="2994120"/>
                  <a:ext cx="1554480" cy="2534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26" name="AutoShape 864"/>
              <p:cNvGrpSpPr/>
              <p:nvPr/>
            </p:nvGrpSpPr>
            <p:grpSpPr>
              <a:xfrm>
                <a:off x="2106360" y="2857320"/>
                <a:ext cx="1999080" cy="662400"/>
                <a:chOff x="2106360" y="2857320"/>
                <a:chExt cx="1999080" cy="662400"/>
              </a:xfrm>
            </p:grpSpPr>
            <p:pic>
              <p:nvPicPr>
                <p:cNvPr id="527" name="AutoShape 864" descr=""/>
                <p:cNvPicPr/>
                <p:nvPr/>
              </p:nvPicPr>
              <p:blipFill>
                <a:blip r:embed="rId4"/>
                <a:stretch/>
              </p:blipFill>
              <p:spPr>
                <a:xfrm>
                  <a:off x="2106360" y="2857320"/>
                  <a:ext cx="1999080" cy="662400"/>
                </a:xfrm>
                <a:prstGeom prst="rect">
                  <a:avLst/>
                </a:prstGeom>
                <a:ln w="0">
                  <a:noFill/>
                </a:ln>
              </p:spPr>
            </p:pic>
            <p:sp>
              <p:nvSpPr>
                <p:cNvPr id="528" name=""/>
                <p:cNvSpPr/>
                <p:nvPr/>
              </p:nvSpPr>
              <p:spPr>
                <a:xfrm>
                  <a:off x="2243520" y="2993040"/>
                  <a:ext cx="1569240" cy="2534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29" name="AutoShape 873"/>
              <p:cNvGrpSpPr/>
              <p:nvPr/>
            </p:nvGrpSpPr>
            <p:grpSpPr>
              <a:xfrm>
                <a:off x="5378400" y="3694320"/>
                <a:ext cx="1986480" cy="662760"/>
                <a:chOff x="5378400" y="3694320"/>
                <a:chExt cx="1986480" cy="662760"/>
              </a:xfrm>
            </p:grpSpPr>
            <p:pic>
              <p:nvPicPr>
                <p:cNvPr id="530" name="AutoShape 873" descr=""/>
                <p:cNvPicPr/>
                <p:nvPr/>
              </p:nvPicPr>
              <p:blipFill>
                <a:blip r:embed="rId5"/>
                <a:stretch/>
              </p:blipFill>
              <p:spPr>
                <a:xfrm>
                  <a:off x="5378400" y="3694320"/>
                  <a:ext cx="1986480" cy="662760"/>
                </a:xfrm>
                <a:prstGeom prst="rect">
                  <a:avLst/>
                </a:prstGeom>
                <a:ln w="0">
                  <a:noFill/>
                </a:ln>
              </p:spPr>
            </p:pic>
            <p:sp>
              <p:nvSpPr>
                <p:cNvPr id="531" name=""/>
                <p:cNvSpPr/>
                <p:nvPr/>
              </p:nvSpPr>
              <p:spPr>
                <a:xfrm>
                  <a:off x="5518080" y="3828960"/>
                  <a:ext cx="1554480" cy="253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32" name="AutoShape 876"/>
              <p:cNvGrpSpPr/>
              <p:nvPr/>
            </p:nvGrpSpPr>
            <p:grpSpPr>
              <a:xfrm>
                <a:off x="1674360" y="3694320"/>
                <a:ext cx="1999080" cy="662760"/>
                <a:chOff x="1674360" y="3694320"/>
                <a:chExt cx="1999080" cy="662760"/>
              </a:xfrm>
            </p:grpSpPr>
            <p:pic>
              <p:nvPicPr>
                <p:cNvPr id="533" name="AutoShape 876" descr=""/>
                <p:cNvPicPr/>
                <p:nvPr/>
              </p:nvPicPr>
              <p:blipFill>
                <a:blip r:embed="rId6"/>
                <a:stretch/>
              </p:blipFill>
              <p:spPr>
                <a:xfrm>
                  <a:off x="1674360" y="3694320"/>
                  <a:ext cx="1999080" cy="662760"/>
                </a:xfrm>
                <a:prstGeom prst="rect">
                  <a:avLst/>
                </a:prstGeom>
                <a:ln w="0">
                  <a:noFill/>
                </a:ln>
              </p:spPr>
            </p:pic>
            <p:sp>
              <p:nvSpPr>
                <p:cNvPr id="534" name=""/>
                <p:cNvSpPr/>
                <p:nvPr/>
              </p:nvSpPr>
              <p:spPr>
                <a:xfrm>
                  <a:off x="1810080" y="3827880"/>
                  <a:ext cx="1569240" cy="253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35" name="AutoShape 879"/>
              <p:cNvGrpSpPr/>
              <p:nvPr/>
            </p:nvGrpSpPr>
            <p:grpSpPr>
              <a:xfrm>
                <a:off x="4946400" y="4549320"/>
                <a:ext cx="1986480" cy="662760"/>
                <a:chOff x="4946400" y="4549320"/>
                <a:chExt cx="1986480" cy="662760"/>
              </a:xfrm>
            </p:grpSpPr>
            <p:pic>
              <p:nvPicPr>
                <p:cNvPr id="536" name="AutoShape 879" descr=""/>
                <p:cNvPicPr/>
                <p:nvPr/>
              </p:nvPicPr>
              <p:blipFill>
                <a:blip r:embed="rId7"/>
                <a:stretch/>
              </p:blipFill>
              <p:spPr>
                <a:xfrm>
                  <a:off x="4946400" y="4549320"/>
                  <a:ext cx="1986480" cy="662760"/>
                </a:xfrm>
                <a:prstGeom prst="rect">
                  <a:avLst/>
                </a:prstGeom>
                <a:ln w="0">
                  <a:noFill/>
                </a:ln>
              </p:spPr>
            </p:pic>
            <p:sp>
              <p:nvSpPr>
                <p:cNvPr id="537" name=""/>
                <p:cNvSpPr/>
                <p:nvPr/>
              </p:nvSpPr>
              <p:spPr>
                <a:xfrm>
                  <a:off x="5086080" y="4683240"/>
                  <a:ext cx="1554480" cy="253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38" name="AutoShape 882"/>
              <p:cNvGrpSpPr/>
              <p:nvPr/>
            </p:nvGrpSpPr>
            <p:grpSpPr>
              <a:xfrm>
                <a:off x="2106360" y="4549320"/>
                <a:ext cx="1999080" cy="662760"/>
                <a:chOff x="2106360" y="4549320"/>
                <a:chExt cx="1999080" cy="662760"/>
              </a:xfrm>
            </p:grpSpPr>
            <p:pic>
              <p:nvPicPr>
                <p:cNvPr id="539" name="AutoShape 882" descr=""/>
                <p:cNvPicPr/>
                <p:nvPr/>
              </p:nvPicPr>
              <p:blipFill>
                <a:blip r:embed="rId8"/>
                <a:stretch/>
              </p:blipFill>
              <p:spPr>
                <a:xfrm>
                  <a:off x="2106360" y="4549320"/>
                  <a:ext cx="1999080" cy="662760"/>
                </a:xfrm>
                <a:prstGeom prst="rect">
                  <a:avLst/>
                </a:prstGeom>
                <a:ln w="0">
                  <a:noFill/>
                </a:ln>
              </p:spPr>
            </p:pic>
            <p:sp>
              <p:nvSpPr>
                <p:cNvPr id="540" name=""/>
                <p:cNvSpPr/>
                <p:nvPr/>
              </p:nvSpPr>
              <p:spPr>
                <a:xfrm>
                  <a:off x="2243520" y="4682160"/>
                  <a:ext cx="1569240" cy="253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grpSp>
          <p:nvGrpSpPr>
            <p:cNvPr id="541" name="그룹 77"/>
            <p:cNvGrpSpPr/>
            <p:nvPr/>
          </p:nvGrpSpPr>
          <p:grpSpPr>
            <a:xfrm>
              <a:off x="4764240" y="3076560"/>
              <a:ext cx="779760" cy="1965600"/>
              <a:chOff x="4764240" y="3076560"/>
              <a:chExt cx="779760" cy="1965600"/>
            </a:xfrm>
          </p:grpSpPr>
          <p:sp>
            <p:nvSpPr>
              <p:cNvPr id="542" name="오른쪽 화살표 19"/>
              <p:cNvSpPr/>
              <p:nvPr/>
            </p:nvSpPr>
            <p:spPr>
              <a:xfrm rot="10800000">
                <a:off x="5220000" y="3885840"/>
                <a:ext cx="324000" cy="257400"/>
              </a:xfrm>
              <a:prstGeom prst="rightArrow">
                <a:avLst>
                  <a:gd name="adj1" fmla="val 33241"/>
                  <a:gd name="adj2" fmla="val 75128"/>
                </a:avLst>
              </a:prstGeom>
              <a:solidFill>
                <a:srgbClr val="808080"/>
              </a:solidFill>
              <a:ln w="0">
                <a:noFill/>
              </a:ln>
            </p:spPr>
            <p:style>
              <a:lnRef idx="0"/>
              <a:fillRef idx="0"/>
              <a:effectRef idx="0"/>
              <a:fontRef idx="minor"/>
            </p:style>
            <p:txBody>
              <a:bodyPr lIns="90000" rIns="90000" tIns="39240" bIns="392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3" name="오른쪽 화살표 20"/>
              <p:cNvSpPr/>
              <p:nvPr/>
            </p:nvSpPr>
            <p:spPr>
              <a:xfrm rot="8233200">
                <a:off x="4808160" y="3152160"/>
                <a:ext cx="324000" cy="257400"/>
              </a:xfrm>
              <a:prstGeom prst="rightArrow">
                <a:avLst>
                  <a:gd name="adj1" fmla="val 33241"/>
                  <a:gd name="adj2" fmla="val 75128"/>
                </a:avLst>
              </a:prstGeom>
              <a:solidFill>
                <a:srgbClr val="808080"/>
              </a:solidFill>
              <a:ln w="0">
                <a:noFill/>
              </a:ln>
            </p:spPr>
            <p:style>
              <a:lnRef idx="0"/>
              <a:fillRef idx="0"/>
              <a:effectRef idx="0"/>
              <a:fontRef idx="minor"/>
            </p:style>
            <p:txBody>
              <a:bodyPr lIns="90000" rIns="90000" tIns="39240" bIns="392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4" name="오른쪽 화살표 21"/>
              <p:cNvSpPr/>
              <p:nvPr/>
            </p:nvSpPr>
            <p:spPr>
              <a:xfrm rot="13500000">
                <a:off x="4842000" y="4674600"/>
                <a:ext cx="257760" cy="323640"/>
              </a:xfrm>
              <a:prstGeom prst="rightArrow">
                <a:avLst>
                  <a:gd name="adj1" fmla="val 33241"/>
                  <a:gd name="adj2" fmla="val 59824"/>
                </a:avLst>
              </a:prstGeom>
              <a:solidFill>
                <a:srgbClr val="808080"/>
              </a:solidFill>
              <a:ln w="0">
                <a:noFill/>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5" name="그룹 78"/>
            <p:cNvGrpSpPr/>
            <p:nvPr/>
          </p:nvGrpSpPr>
          <p:grpSpPr>
            <a:xfrm>
              <a:off x="3493080" y="3076920"/>
              <a:ext cx="779760" cy="1964880"/>
              <a:chOff x="3493080" y="3076920"/>
              <a:chExt cx="779760" cy="1964880"/>
            </a:xfrm>
          </p:grpSpPr>
          <p:sp>
            <p:nvSpPr>
              <p:cNvPr id="546" name="오른쪽 화살표 16"/>
              <p:cNvSpPr/>
              <p:nvPr/>
            </p:nvSpPr>
            <p:spPr>
              <a:xfrm flipH="1" rot="10800000">
                <a:off x="3492720" y="3885840"/>
                <a:ext cx="325080" cy="257400"/>
              </a:xfrm>
              <a:prstGeom prst="rightArrow">
                <a:avLst>
                  <a:gd name="adj1" fmla="val 33241"/>
                  <a:gd name="adj2" fmla="val 75010"/>
                </a:avLst>
              </a:prstGeom>
              <a:solidFill>
                <a:srgbClr val="808080"/>
              </a:solidFill>
              <a:ln w="0">
                <a:noFill/>
              </a:ln>
            </p:spPr>
            <p:style>
              <a:lnRef idx="0"/>
              <a:fillRef idx="0"/>
              <a:effectRef idx="0"/>
              <a:fontRef idx="minor"/>
            </p:style>
            <p:txBody>
              <a:bodyPr lIns="90000" rIns="90000" tIns="39240" bIns="392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7" name="오른쪽 화살표 17"/>
              <p:cNvSpPr/>
              <p:nvPr/>
            </p:nvSpPr>
            <p:spPr>
              <a:xfrm flipH="1" rot="13366800">
                <a:off x="3903480" y="3152880"/>
                <a:ext cx="325080" cy="257040"/>
              </a:xfrm>
              <a:prstGeom prst="rightArrow">
                <a:avLst>
                  <a:gd name="adj1" fmla="val 33241"/>
                  <a:gd name="adj2" fmla="val 75115"/>
                </a:avLst>
              </a:prstGeom>
              <a:solidFill>
                <a:srgbClr val="808080"/>
              </a:solidFill>
              <a:ln w="0">
                <a:noFill/>
              </a:ln>
            </p:spPr>
            <p:style>
              <a:lnRef idx="0"/>
              <a:fillRef idx="0"/>
              <a:effectRef idx="0"/>
              <a:fontRef idx="minor"/>
            </p:style>
            <p:txBody>
              <a:bodyPr lIns="90000" rIns="90000" tIns="38880" bIns="388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8" name="오른쪽 화살표 18"/>
              <p:cNvSpPr/>
              <p:nvPr/>
            </p:nvSpPr>
            <p:spPr>
              <a:xfrm flipH="1" rot="8100000">
                <a:off x="3936240" y="4674960"/>
                <a:ext cx="257760" cy="322920"/>
              </a:xfrm>
              <a:prstGeom prst="rightArrow">
                <a:avLst>
                  <a:gd name="adj1" fmla="val 33241"/>
                  <a:gd name="adj2" fmla="val 59829"/>
                </a:avLst>
              </a:prstGeom>
              <a:solidFill>
                <a:srgbClr val="808080"/>
              </a:solidFill>
              <a:ln w="0">
                <a:noFill/>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9" name="그룹 54"/>
            <p:cNvGrpSpPr/>
            <p:nvPr/>
          </p:nvGrpSpPr>
          <p:grpSpPr>
            <a:xfrm>
              <a:off x="1854720" y="1484280"/>
              <a:ext cx="5386320" cy="844920"/>
              <a:chOff x="1854720" y="1484280"/>
              <a:chExt cx="5386320" cy="844920"/>
            </a:xfrm>
          </p:grpSpPr>
          <p:grpSp>
            <p:nvGrpSpPr>
              <p:cNvPr id="550" name="AutoShape 864"/>
              <p:cNvGrpSpPr/>
              <p:nvPr/>
            </p:nvGrpSpPr>
            <p:grpSpPr>
              <a:xfrm>
                <a:off x="1854720" y="1484280"/>
                <a:ext cx="5386320" cy="844920"/>
                <a:chOff x="1854720" y="1484280"/>
                <a:chExt cx="5386320" cy="844920"/>
              </a:xfrm>
            </p:grpSpPr>
            <p:pic>
              <p:nvPicPr>
                <p:cNvPr id="551" name="AutoShape 864" descr=""/>
                <p:cNvPicPr/>
                <p:nvPr/>
              </p:nvPicPr>
              <p:blipFill>
                <a:blip r:embed="rId9"/>
                <a:stretch/>
              </p:blipFill>
              <p:spPr>
                <a:xfrm>
                  <a:off x="1854720" y="1484280"/>
                  <a:ext cx="5386320" cy="844920"/>
                </a:xfrm>
                <a:prstGeom prst="rect">
                  <a:avLst/>
                </a:prstGeom>
                <a:ln w="0">
                  <a:noFill/>
                </a:ln>
              </p:spPr>
            </p:pic>
            <p:sp>
              <p:nvSpPr>
                <p:cNvPr id="552" name=""/>
                <p:cNvSpPr/>
                <p:nvPr/>
              </p:nvSpPr>
              <p:spPr>
                <a:xfrm>
                  <a:off x="2034360" y="1626480"/>
                  <a:ext cx="4872240" cy="410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3" name="Group 48"/>
              <p:cNvGrpSpPr/>
              <p:nvPr/>
            </p:nvGrpSpPr>
            <p:grpSpPr>
              <a:xfrm>
                <a:off x="2134800" y="1516320"/>
                <a:ext cx="4671720" cy="689040"/>
                <a:chOff x="2134800" y="1516320"/>
                <a:chExt cx="4671720" cy="689040"/>
              </a:xfrm>
            </p:grpSpPr>
            <p:pic>
              <p:nvPicPr>
                <p:cNvPr id="554" name="Picture 49" descr="그림자"/>
                <p:cNvPicPr/>
                <p:nvPr/>
              </p:nvPicPr>
              <p:blipFill>
                <a:blip r:embed="rId10"/>
                <a:stretch/>
              </p:blipFill>
              <p:spPr>
                <a:xfrm>
                  <a:off x="2134800" y="1516320"/>
                  <a:ext cx="4671720" cy="689040"/>
                </a:xfrm>
                <a:prstGeom prst="rect">
                  <a:avLst/>
                </a:prstGeom>
                <a:ln w="0">
                  <a:noFill/>
                </a:ln>
              </p:spPr>
            </p:pic>
            <p:sp>
              <p:nvSpPr>
                <p:cNvPr id="555" name="AutoShape 50"/>
                <p:cNvSpPr/>
                <p:nvPr/>
              </p:nvSpPr>
              <p:spPr>
                <a:xfrm>
                  <a:off x="2256840" y="1619280"/>
                  <a:ext cx="4419360" cy="414000"/>
                </a:xfrm>
                <a:prstGeom prst="roundRect">
                  <a:avLst>
                    <a:gd name="adj" fmla="val 50000"/>
                  </a:avLst>
                </a:prstGeom>
                <a:gradFill rotWithShape="0">
                  <a:gsLst>
                    <a:gs pos="0">
                      <a:srgbClr val="f3dbbb"/>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56" name="AutoShape 51"/>
                <p:cNvSpPr/>
                <p:nvPr/>
              </p:nvSpPr>
              <p:spPr>
                <a:xfrm>
                  <a:off x="2400840" y="1641600"/>
                  <a:ext cx="4137480" cy="1944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90720" bIns="-53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558" name="그룹 3"/>
          <p:cNvGrpSpPr/>
          <p:nvPr/>
        </p:nvGrpSpPr>
        <p:grpSpPr>
          <a:xfrm>
            <a:off x="324000" y="836640"/>
            <a:ext cx="8381880" cy="5696280"/>
            <a:chOff x="324000" y="836640"/>
            <a:chExt cx="8381880" cy="5696280"/>
          </a:xfrm>
        </p:grpSpPr>
        <p:grpSp>
          <p:nvGrpSpPr>
            <p:cNvPr id="559" name="Group 33"/>
            <p:cNvGrpSpPr/>
            <p:nvPr/>
          </p:nvGrpSpPr>
          <p:grpSpPr>
            <a:xfrm>
              <a:off x="4908600" y="836640"/>
              <a:ext cx="1857240" cy="1850760"/>
              <a:chOff x="4908600" y="836640"/>
              <a:chExt cx="1857240" cy="1850760"/>
            </a:xfrm>
          </p:grpSpPr>
          <p:grpSp>
            <p:nvGrpSpPr>
              <p:cNvPr id="560" name="Oval 34"/>
              <p:cNvGrpSpPr/>
              <p:nvPr/>
            </p:nvGrpSpPr>
            <p:grpSpPr>
              <a:xfrm>
                <a:off x="4908600" y="836640"/>
                <a:ext cx="1857240" cy="1850760"/>
                <a:chOff x="4908600" y="836640"/>
                <a:chExt cx="1857240" cy="1850760"/>
              </a:xfrm>
            </p:grpSpPr>
            <p:pic>
              <p:nvPicPr>
                <p:cNvPr id="561" name="Oval 34" descr=""/>
                <p:cNvPicPr/>
                <p:nvPr/>
              </p:nvPicPr>
              <p:blipFill>
                <a:blip r:embed="rId2"/>
                <a:stretch/>
              </p:blipFill>
              <p:spPr>
                <a:xfrm>
                  <a:off x="4908600" y="836640"/>
                  <a:ext cx="1857240" cy="1850760"/>
                </a:xfrm>
                <a:prstGeom prst="rect">
                  <a:avLst/>
                </a:prstGeom>
                <a:ln w="0">
                  <a:noFill/>
                </a:ln>
              </p:spPr>
            </p:pic>
            <p:sp>
              <p:nvSpPr>
                <p:cNvPr id="562" name=""/>
                <p:cNvSpPr/>
                <p:nvPr/>
              </p:nvSpPr>
              <p:spPr>
                <a:xfrm>
                  <a:off x="5212080" y="1129680"/>
                  <a:ext cx="1111680" cy="110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63" name="Oval 35"/>
              <p:cNvSpPr/>
              <p:nvPr/>
            </p:nvSpPr>
            <p:spPr>
              <a:xfrm>
                <a:off x="5293080" y="1097280"/>
                <a:ext cx="263880" cy="2628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64" name="Oval 36"/>
            <p:cNvSpPr/>
            <p:nvPr/>
          </p:nvSpPr>
          <p:spPr>
            <a:xfrm>
              <a:off x="3360960" y="4200480"/>
              <a:ext cx="493236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65" name="Group 37"/>
            <p:cNvGrpSpPr/>
            <p:nvPr/>
          </p:nvGrpSpPr>
          <p:grpSpPr>
            <a:xfrm>
              <a:off x="4270320" y="3284640"/>
              <a:ext cx="3115440" cy="3248280"/>
              <a:chOff x="4270320" y="3284640"/>
              <a:chExt cx="3115440" cy="3248280"/>
            </a:xfrm>
          </p:grpSpPr>
          <p:grpSp>
            <p:nvGrpSpPr>
              <p:cNvPr id="566" name="Group 38"/>
              <p:cNvGrpSpPr/>
              <p:nvPr/>
            </p:nvGrpSpPr>
            <p:grpSpPr>
              <a:xfrm>
                <a:off x="4270320" y="4588920"/>
                <a:ext cx="3115440" cy="1944000"/>
                <a:chOff x="4270320" y="4588920"/>
                <a:chExt cx="3115440" cy="1944000"/>
              </a:xfrm>
            </p:grpSpPr>
            <p:sp>
              <p:nvSpPr>
                <p:cNvPr id="567" name="Freeform 39"/>
                <p:cNvSpPr/>
                <p:nvPr/>
              </p:nvSpPr>
              <p:spPr>
                <a:xfrm flipV="1">
                  <a:off x="4270320" y="4588920"/>
                  <a:ext cx="3115440" cy="1944000"/>
                </a:xfrm>
                <a:custGeom>
                  <a:avLst/>
                  <a:gdLst>
                    <a:gd name="textAreaLeft" fmla="*/ 0 w 3115440"/>
                    <a:gd name="textAreaRight" fmla="*/ 3115800 w 3115440"/>
                    <a:gd name="textAreaTop" fmla="*/ 360 h 1944000"/>
                    <a:gd name="textAreaBottom" fmla="*/ 1944720 h 194400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875818">
                    <a:alpha val="56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568" name="Oval 40"/>
                <p:cNvSpPr/>
                <p:nvPr/>
              </p:nvSpPr>
              <p:spPr>
                <a:xfrm flipV="1">
                  <a:off x="4913640" y="5619600"/>
                  <a:ext cx="523440" cy="51912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69" name="Group 41"/>
              <p:cNvGrpSpPr/>
              <p:nvPr/>
            </p:nvGrpSpPr>
            <p:grpSpPr>
              <a:xfrm>
                <a:off x="4270320" y="3284640"/>
                <a:ext cx="3115440" cy="1947240"/>
                <a:chOff x="4270320" y="3284640"/>
                <a:chExt cx="3115440" cy="1947240"/>
              </a:xfrm>
            </p:grpSpPr>
            <p:sp>
              <p:nvSpPr>
                <p:cNvPr id="570" name="Freeform 42"/>
                <p:cNvSpPr/>
                <p:nvPr/>
              </p:nvSpPr>
              <p:spPr>
                <a:xfrm>
                  <a:off x="4270320" y="3284640"/>
                  <a:ext cx="3115440" cy="1947240"/>
                </a:xfrm>
                <a:custGeom>
                  <a:avLst/>
                  <a:gdLst>
                    <a:gd name="textAreaLeft" fmla="*/ 0 w 3115440"/>
                    <a:gd name="textAreaRight" fmla="*/ 3115800 w 3115440"/>
                    <a:gd name="textAreaTop" fmla="*/ 0 h 1947240"/>
                    <a:gd name="textAreaBottom" fmla="*/ 1947600 h 194724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gradFill rotWithShape="0">
                  <a:gsLst>
                    <a:gs pos="0">
                      <a:srgbClr val="875818"/>
                    </a:gs>
                    <a:gs pos="100000">
                      <a:srgbClr val="f3dbb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71" name="Oval 43"/>
                <p:cNvSpPr/>
                <p:nvPr/>
              </p:nvSpPr>
              <p:spPr>
                <a:xfrm>
                  <a:off x="4913640" y="3679200"/>
                  <a:ext cx="523440" cy="51984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572" name="Text Box 44"/>
            <p:cNvSpPr/>
            <p:nvPr/>
          </p:nvSpPr>
          <p:spPr>
            <a:xfrm>
              <a:off x="4260960" y="3700440"/>
              <a:ext cx="31320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tylish</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emplates</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an be a valuable aid to</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reative professionals</a:t>
              </a:r>
              <a:endParaRPr b="0" lang="en-US" sz="1200" spc="-1" strike="noStrike">
                <a:solidFill>
                  <a:srgbClr val="000000"/>
                </a:solidFill>
                <a:latin typeface="Gulim"/>
              </a:endParaRPr>
            </a:p>
          </p:txBody>
        </p:sp>
        <p:sp>
          <p:nvSpPr>
            <p:cNvPr id="573" name="Text Box 45"/>
            <p:cNvSpPr/>
            <p:nvPr/>
          </p:nvSpPr>
          <p:spPr>
            <a:xfrm>
              <a:off x="5271480" y="144756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arity &amp;</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mpact</a:t>
              </a:r>
              <a:endParaRPr b="0" lang="en-US" sz="1800" spc="-1" strike="noStrike">
                <a:solidFill>
                  <a:srgbClr val="000000"/>
                </a:solidFill>
                <a:latin typeface="Gulim"/>
              </a:endParaRPr>
            </a:p>
          </p:txBody>
        </p:sp>
        <p:sp>
          <p:nvSpPr>
            <p:cNvPr id="574" name="AutoShape 46"/>
            <p:cNvSpPr/>
            <p:nvPr/>
          </p:nvSpPr>
          <p:spPr>
            <a:xfrm>
              <a:off x="5376960" y="2528640"/>
              <a:ext cx="914400" cy="753840"/>
            </a:xfrm>
            <a:prstGeom prst="upArrow">
              <a:avLst>
                <a:gd name="adj1" fmla="val 52833"/>
                <a:gd name="adj2" fmla="val 4594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5" name="Freeform 47"/>
            <p:cNvSpPr/>
            <p:nvPr/>
          </p:nvSpPr>
          <p:spPr>
            <a:xfrm>
              <a:off x="5052960" y="87156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576" name="Group 48"/>
            <p:cNvGrpSpPr/>
            <p:nvPr/>
          </p:nvGrpSpPr>
          <p:grpSpPr>
            <a:xfrm>
              <a:off x="3000600" y="1555560"/>
              <a:ext cx="1923840" cy="2768040"/>
              <a:chOff x="3000600" y="1555560"/>
              <a:chExt cx="1923840" cy="2768040"/>
            </a:xfrm>
          </p:grpSpPr>
          <p:grpSp>
            <p:nvGrpSpPr>
              <p:cNvPr id="577" name="Group 49"/>
              <p:cNvGrpSpPr/>
              <p:nvPr/>
            </p:nvGrpSpPr>
            <p:grpSpPr>
              <a:xfrm>
                <a:off x="3000600" y="1555560"/>
                <a:ext cx="1923840" cy="2768040"/>
                <a:chOff x="3000600" y="1555560"/>
                <a:chExt cx="1923840" cy="2768040"/>
              </a:xfrm>
            </p:grpSpPr>
            <p:sp>
              <p:nvSpPr>
                <p:cNvPr id="578" name="Oval 50"/>
                <p:cNvSpPr/>
                <p:nvPr/>
              </p:nvSpPr>
              <p:spPr>
                <a:xfrm>
                  <a:off x="3000600" y="3526920"/>
                  <a:ext cx="192384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79" name="Group 51"/>
                <p:cNvGrpSpPr/>
                <p:nvPr/>
              </p:nvGrpSpPr>
              <p:grpSpPr>
                <a:xfrm>
                  <a:off x="3016080" y="1555560"/>
                  <a:ext cx="1856880" cy="1850760"/>
                  <a:chOff x="3016080" y="1555560"/>
                  <a:chExt cx="1856880" cy="1850760"/>
                </a:xfrm>
              </p:grpSpPr>
              <p:grpSp>
                <p:nvGrpSpPr>
                  <p:cNvPr id="580" name="Oval 52"/>
                  <p:cNvGrpSpPr/>
                  <p:nvPr/>
                </p:nvGrpSpPr>
                <p:grpSpPr>
                  <a:xfrm>
                    <a:off x="3016080" y="1555560"/>
                    <a:ext cx="1856880" cy="1850760"/>
                    <a:chOff x="3016080" y="1555560"/>
                    <a:chExt cx="1856880" cy="1850760"/>
                  </a:xfrm>
                </p:grpSpPr>
                <p:pic>
                  <p:nvPicPr>
                    <p:cNvPr id="581" name="Oval 52" descr=""/>
                    <p:cNvPicPr/>
                    <p:nvPr/>
                  </p:nvPicPr>
                  <p:blipFill>
                    <a:blip r:embed="rId3"/>
                    <a:stretch/>
                  </p:blipFill>
                  <p:spPr>
                    <a:xfrm>
                      <a:off x="3016080" y="1555560"/>
                      <a:ext cx="1856880" cy="1850760"/>
                    </a:xfrm>
                    <a:prstGeom prst="rect">
                      <a:avLst/>
                    </a:prstGeom>
                    <a:ln w="0">
                      <a:noFill/>
                    </a:ln>
                  </p:spPr>
                </p:pic>
                <p:sp>
                  <p:nvSpPr>
                    <p:cNvPr id="582" name=""/>
                    <p:cNvSpPr/>
                    <p:nvPr/>
                  </p:nvSpPr>
                  <p:spPr>
                    <a:xfrm>
                      <a:off x="3318120" y="1848600"/>
                      <a:ext cx="1114560" cy="110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83" name="Oval 53"/>
                  <p:cNvSpPr/>
                  <p:nvPr/>
                </p:nvSpPr>
                <p:spPr>
                  <a:xfrm>
                    <a:off x="3399120" y="1815120"/>
                    <a:ext cx="264240" cy="2628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584" name="Text Box 54"/>
              <p:cNvSpPr/>
              <p:nvPr/>
            </p:nvSpPr>
            <p:spPr>
              <a:xfrm>
                <a:off x="3250080" y="216324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a:t>
                </a:r>
                <a:endParaRPr b="0" lang="en-US" sz="1800" spc="-1" strike="noStrike">
                  <a:solidFill>
                    <a:srgbClr val="000000"/>
                  </a:solidFill>
                  <a:latin typeface="Gulim"/>
                </a:endParaRPr>
              </a:p>
            </p:txBody>
          </p:sp>
          <p:sp>
            <p:nvSpPr>
              <p:cNvPr id="585" name="Freeform 55"/>
              <p:cNvSpPr/>
              <p:nvPr/>
            </p:nvSpPr>
            <p:spPr>
              <a:xfrm>
                <a:off x="3144600" y="1586880"/>
                <a:ext cx="1584000" cy="525240"/>
              </a:xfrm>
              <a:custGeom>
                <a:avLst/>
                <a:gdLst>
                  <a:gd name="textAreaLeft" fmla="*/ 0 w 1584000"/>
                  <a:gd name="textAreaRight" fmla="*/ 1584360 w 158400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586" name="Group 56"/>
            <p:cNvGrpSpPr/>
            <p:nvPr/>
          </p:nvGrpSpPr>
          <p:grpSpPr>
            <a:xfrm>
              <a:off x="6782040" y="1555560"/>
              <a:ext cx="1923840" cy="2768040"/>
              <a:chOff x="6782040" y="1555560"/>
              <a:chExt cx="1923840" cy="2768040"/>
            </a:xfrm>
          </p:grpSpPr>
          <p:grpSp>
            <p:nvGrpSpPr>
              <p:cNvPr id="587" name="Group 57"/>
              <p:cNvGrpSpPr/>
              <p:nvPr/>
            </p:nvGrpSpPr>
            <p:grpSpPr>
              <a:xfrm>
                <a:off x="6782040" y="1555560"/>
                <a:ext cx="1923840" cy="2768040"/>
                <a:chOff x="6782040" y="1555560"/>
                <a:chExt cx="1923840" cy="2768040"/>
              </a:xfrm>
            </p:grpSpPr>
            <p:sp>
              <p:nvSpPr>
                <p:cNvPr id="588" name="Oval 58"/>
                <p:cNvSpPr/>
                <p:nvPr/>
              </p:nvSpPr>
              <p:spPr>
                <a:xfrm>
                  <a:off x="6782040" y="3526920"/>
                  <a:ext cx="192384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89" name="Group 59"/>
                <p:cNvGrpSpPr/>
                <p:nvPr/>
              </p:nvGrpSpPr>
              <p:grpSpPr>
                <a:xfrm>
                  <a:off x="6797520" y="1555560"/>
                  <a:ext cx="1856880" cy="1850760"/>
                  <a:chOff x="6797520" y="1555560"/>
                  <a:chExt cx="1856880" cy="1850760"/>
                </a:xfrm>
              </p:grpSpPr>
              <p:grpSp>
                <p:nvGrpSpPr>
                  <p:cNvPr id="590" name="Oval 60"/>
                  <p:cNvGrpSpPr/>
                  <p:nvPr/>
                </p:nvGrpSpPr>
                <p:grpSpPr>
                  <a:xfrm>
                    <a:off x="6797520" y="1555560"/>
                    <a:ext cx="1856880" cy="1850760"/>
                    <a:chOff x="6797520" y="1555560"/>
                    <a:chExt cx="1856880" cy="1850760"/>
                  </a:xfrm>
                </p:grpSpPr>
                <p:pic>
                  <p:nvPicPr>
                    <p:cNvPr id="591" name="Oval 60" descr=""/>
                    <p:cNvPicPr/>
                    <p:nvPr/>
                  </p:nvPicPr>
                  <p:blipFill>
                    <a:blip r:embed="rId4"/>
                    <a:stretch/>
                  </p:blipFill>
                  <p:spPr>
                    <a:xfrm>
                      <a:off x="6797520" y="1555560"/>
                      <a:ext cx="1856880" cy="1850760"/>
                    </a:xfrm>
                    <a:prstGeom prst="rect">
                      <a:avLst/>
                    </a:prstGeom>
                    <a:ln w="0">
                      <a:noFill/>
                    </a:ln>
                  </p:spPr>
                </p:pic>
                <p:sp>
                  <p:nvSpPr>
                    <p:cNvPr id="592" name=""/>
                    <p:cNvSpPr/>
                    <p:nvPr/>
                  </p:nvSpPr>
                  <p:spPr>
                    <a:xfrm>
                      <a:off x="7100280" y="1848600"/>
                      <a:ext cx="1111320" cy="110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93" name="Oval 61"/>
                  <p:cNvSpPr/>
                  <p:nvPr/>
                </p:nvSpPr>
                <p:spPr>
                  <a:xfrm>
                    <a:off x="7180920" y="1815120"/>
                    <a:ext cx="263880" cy="2628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594" name="Text Box 62"/>
              <p:cNvSpPr/>
              <p:nvPr/>
            </p:nvSpPr>
            <p:spPr>
              <a:xfrm>
                <a:off x="7146720" y="216324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Gulim"/>
                </a:endParaRPr>
              </a:p>
            </p:txBody>
          </p:sp>
          <p:sp>
            <p:nvSpPr>
              <p:cNvPr id="595" name="Freeform 63"/>
              <p:cNvSpPr/>
              <p:nvPr/>
            </p:nvSpPr>
            <p:spPr>
              <a:xfrm>
                <a:off x="6924600" y="1586880"/>
                <a:ext cx="1584000" cy="525240"/>
              </a:xfrm>
              <a:custGeom>
                <a:avLst/>
                <a:gdLst>
                  <a:gd name="textAreaLeft" fmla="*/ 0 w 1584000"/>
                  <a:gd name="textAreaRight" fmla="*/ 1584360 w 158400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596" name="Freeform 64"/>
            <p:cNvSpPr/>
            <p:nvPr/>
          </p:nvSpPr>
          <p:spPr>
            <a:xfrm>
              <a:off x="4367160" y="3330360"/>
              <a:ext cx="2917800" cy="1054080"/>
            </a:xfrm>
            <a:custGeom>
              <a:avLst/>
              <a:gdLst>
                <a:gd name="textAreaLeft" fmla="*/ 0 w 2917800"/>
                <a:gd name="textAreaRight" fmla="*/ 2918160 w 2917800"/>
                <a:gd name="textAreaTop" fmla="*/ 0 h 1054080"/>
                <a:gd name="textAreaBottom" fmla="*/ 1054440 h 10540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7" name="AutoShape 65"/>
            <p:cNvSpPr/>
            <p:nvPr/>
          </p:nvSpPr>
          <p:spPr>
            <a:xfrm rot="19232400">
              <a:off x="4188960" y="2925720"/>
              <a:ext cx="914400" cy="753840"/>
            </a:xfrm>
            <a:prstGeom prst="upArrow">
              <a:avLst>
                <a:gd name="adj1" fmla="val 52833"/>
                <a:gd name="adj2" fmla="val 45940"/>
              </a:avLst>
            </a:prstGeom>
            <a:gradFill rotWithShape="0">
              <a:gsLst>
                <a:gs pos="0">
                  <a:srgbClr val="ffffff"/>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8" name="AutoShape 66"/>
            <p:cNvSpPr/>
            <p:nvPr/>
          </p:nvSpPr>
          <p:spPr>
            <a:xfrm rot="2479800">
              <a:off x="6529680" y="2923560"/>
              <a:ext cx="914400" cy="753840"/>
            </a:xfrm>
            <a:prstGeom prst="upArrow">
              <a:avLst>
                <a:gd name="adj1" fmla="val 52833"/>
                <a:gd name="adj2" fmla="val 45940"/>
              </a:avLst>
            </a:prstGeom>
            <a:gradFill rotWithShape="0">
              <a:gsLst>
                <a:gs pos="0">
                  <a:srgbClr val="ffffff"/>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9" name="Text Box 67"/>
            <p:cNvSpPr/>
            <p:nvPr/>
          </p:nvSpPr>
          <p:spPr>
            <a:xfrm>
              <a:off x="324000" y="3475080"/>
              <a:ext cx="331308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0000"/>
                  </a:solidFill>
                  <a:latin typeface="Arial Black"/>
                </a:rPr>
                <a:t>Pictures speak</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0000"/>
                  </a:solidFill>
                  <a:latin typeface="Arial Black"/>
                </a:rPr>
                <a:t>1,000 wor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0000"/>
                  </a:solidFill>
                  <a:latin typeface="Arial"/>
                </a:rPr>
                <a:t>Catch The feel of Design in contemporary</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0000"/>
                  </a:solidFill>
                  <a:latin typeface="Arial"/>
                </a:rPr>
                <a:t>colors and styles</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0000"/>
                  </a:solidFill>
                  <a:latin typeface="Arial Black"/>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0000"/>
                  </a:solidFill>
                  <a:latin typeface="Arial"/>
                </a:rPr>
                <a:t>Feel the touch of Design on the cutting edge</a:t>
              </a:r>
              <a:endParaRPr b="0" lang="en-US" sz="1200" spc="-1" strike="noStrike">
                <a:solidFill>
                  <a:srgbClr val="000000"/>
                </a:solidFill>
                <a:latin typeface="Gulim"/>
              </a:endParaRPr>
            </a:p>
          </p:txBody>
        </p:sp>
      </p:grpSp>
      <p:sp>
        <p:nvSpPr>
          <p:cNvPr id="600" name=""/>
          <p:cNvSpPr/>
          <p:nvPr/>
        </p:nvSpPr>
        <p:spPr>
          <a:xfrm>
            <a:off x="755640" y="13413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Gulim"/>
                <a:hlinkClick r:id="rId5"/>
              </a:rPr>
              <a:t>ppt模版免费下载</a:t>
            </a:r>
            <a:r>
              <a:rPr b="0" lang="en-US" sz="1600" spc="-1" strike="noStrike">
                <a:solidFill>
                  <a:srgbClr val="000000"/>
                </a:solidFill>
                <a:latin typeface="Gulim"/>
              </a:rPr>
              <a:t>http://www.eeppt.com</a:t>
            </a:r>
            <a:endParaRPr b="0" lang="en-US" sz="1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28760" y="152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itle Style</a:t>
            </a:r>
            <a:endParaRPr b="1" lang="en-US" sz="3200" spc="-1" strike="noStrike">
              <a:solidFill>
                <a:srgbClr val="ffffff"/>
              </a:solidFill>
              <a:latin typeface="Times New Roman"/>
            </a:endParaRPr>
          </a:p>
        </p:txBody>
      </p:sp>
      <p:grpSp>
        <p:nvGrpSpPr>
          <p:cNvPr id="602" name="그룹 3"/>
          <p:cNvGrpSpPr/>
          <p:nvPr/>
        </p:nvGrpSpPr>
        <p:grpSpPr>
          <a:xfrm>
            <a:off x="775440" y="1612800"/>
            <a:ext cx="7360200" cy="4266360"/>
            <a:chOff x="775440" y="1612800"/>
            <a:chExt cx="7360200" cy="4266360"/>
          </a:xfrm>
        </p:grpSpPr>
        <p:sp>
          <p:nvSpPr>
            <p:cNvPr id="603" name="Rectangle 57"/>
            <p:cNvSpPr/>
            <p:nvPr/>
          </p:nvSpPr>
          <p:spPr>
            <a:xfrm>
              <a:off x="1685520" y="47977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4" name="Rectangle 58"/>
            <p:cNvSpPr/>
            <p:nvPr/>
          </p:nvSpPr>
          <p:spPr>
            <a:xfrm>
              <a:off x="1692000" y="406260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5" name="Rectangle 59"/>
            <p:cNvSpPr/>
            <p:nvPr/>
          </p:nvSpPr>
          <p:spPr>
            <a:xfrm>
              <a:off x="1685520" y="335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6" name="Rectangle 60"/>
            <p:cNvSpPr/>
            <p:nvPr/>
          </p:nvSpPr>
          <p:spPr>
            <a:xfrm>
              <a:off x="1685520" y="263664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7" name="Rectangle 61"/>
            <p:cNvSpPr/>
            <p:nvPr/>
          </p:nvSpPr>
          <p:spPr>
            <a:xfrm>
              <a:off x="1685520" y="191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08" name="Rectangle 62"/>
            <p:cNvGrpSpPr/>
            <p:nvPr/>
          </p:nvGrpSpPr>
          <p:grpSpPr>
            <a:xfrm>
              <a:off x="2322360" y="4724640"/>
              <a:ext cx="1054440" cy="688680"/>
              <a:chOff x="2322360" y="4724640"/>
              <a:chExt cx="1054440" cy="688680"/>
            </a:xfrm>
          </p:grpSpPr>
          <p:pic>
            <p:nvPicPr>
              <p:cNvPr id="609" name="Rectangle 62" descr=""/>
              <p:cNvPicPr/>
              <p:nvPr/>
            </p:nvPicPr>
            <p:blipFill>
              <a:blip r:embed="rId2"/>
              <a:stretch/>
            </p:blipFill>
            <p:spPr>
              <a:xfrm>
                <a:off x="2322360" y="4724640"/>
                <a:ext cx="1054440" cy="688680"/>
              </a:xfrm>
              <a:prstGeom prst="rect">
                <a:avLst/>
              </a:prstGeom>
              <a:ln w="0">
                <a:noFill/>
              </a:ln>
            </p:spPr>
          </p:pic>
          <p:sp>
            <p:nvSpPr>
              <p:cNvPr id="610" name=""/>
              <p:cNvSpPr/>
              <p:nvPr/>
            </p:nvSpPr>
            <p:spPr>
              <a:xfrm>
                <a:off x="2406240" y="479700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11" name="Rectangle 63"/>
            <p:cNvGrpSpPr/>
            <p:nvPr/>
          </p:nvGrpSpPr>
          <p:grpSpPr>
            <a:xfrm>
              <a:off x="3041640" y="4364640"/>
              <a:ext cx="1054440" cy="688680"/>
              <a:chOff x="3041640" y="4364640"/>
              <a:chExt cx="1054440" cy="688680"/>
            </a:xfrm>
          </p:grpSpPr>
          <p:pic>
            <p:nvPicPr>
              <p:cNvPr id="612" name="Rectangle 63" descr=""/>
              <p:cNvPicPr/>
              <p:nvPr/>
            </p:nvPicPr>
            <p:blipFill>
              <a:blip r:embed="rId3"/>
              <a:stretch/>
            </p:blipFill>
            <p:spPr>
              <a:xfrm>
                <a:off x="3041640" y="4364640"/>
                <a:ext cx="1054440" cy="688680"/>
              </a:xfrm>
              <a:prstGeom prst="rect">
                <a:avLst/>
              </a:prstGeom>
              <a:ln w="0">
                <a:noFill/>
              </a:ln>
            </p:spPr>
          </p:pic>
          <p:sp>
            <p:nvSpPr>
              <p:cNvPr id="613" name=""/>
              <p:cNvSpPr/>
              <p:nvPr/>
            </p:nvSpPr>
            <p:spPr>
              <a:xfrm>
                <a:off x="3125160" y="443700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14" name="Rectangle 64"/>
            <p:cNvGrpSpPr/>
            <p:nvPr/>
          </p:nvGrpSpPr>
          <p:grpSpPr>
            <a:xfrm>
              <a:off x="3761280" y="4005000"/>
              <a:ext cx="1054440" cy="688680"/>
              <a:chOff x="3761280" y="4005000"/>
              <a:chExt cx="1054440" cy="688680"/>
            </a:xfrm>
          </p:grpSpPr>
          <p:pic>
            <p:nvPicPr>
              <p:cNvPr id="615" name="Rectangle 64" descr=""/>
              <p:cNvPicPr/>
              <p:nvPr/>
            </p:nvPicPr>
            <p:blipFill>
              <a:blip r:embed="rId4"/>
              <a:stretch/>
            </p:blipFill>
            <p:spPr>
              <a:xfrm>
                <a:off x="3761280" y="4005000"/>
                <a:ext cx="1054440" cy="688680"/>
              </a:xfrm>
              <a:prstGeom prst="rect">
                <a:avLst/>
              </a:prstGeom>
              <a:ln w="0">
                <a:noFill/>
              </a:ln>
            </p:spPr>
          </p:pic>
          <p:sp>
            <p:nvSpPr>
              <p:cNvPr id="616" name=""/>
              <p:cNvSpPr/>
              <p:nvPr/>
            </p:nvSpPr>
            <p:spPr>
              <a:xfrm>
                <a:off x="3845880" y="4075920"/>
                <a:ext cx="72144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17" name="Rectangle 65"/>
            <p:cNvGrpSpPr/>
            <p:nvPr/>
          </p:nvGrpSpPr>
          <p:grpSpPr>
            <a:xfrm>
              <a:off x="4480560" y="3645360"/>
              <a:ext cx="1054440" cy="688680"/>
              <a:chOff x="4480560" y="3645360"/>
              <a:chExt cx="1054440" cy="688680"/>
            </a:xfrm>
          </p:grpSpPr>
          <p:pic>
            <p:nvPicPr>
              <p:cNvPr id="618" name="Rectangle 65" descr=""/>
              <p:cNvPicPr/>
              <p:nvPr/>
            </p:nvPicPr>
            <p:blipFill>
              <a:blip r:embed="rId5"/>
              <a:stretch/>
            </p:blipFill>
            <p:spPr>
              <a:xfrm>
                <a:off x="4480560" y="3645360"/>
                <a:ext cx="1054440" cy="688680"/>
              </a:xfrm>
              <a:prstGeom prst="rect">
                <a:avLst/>
              </a:prstGeom>
              <a:ln w="0">
                <a:noFill/>
              </a:ln>
            </p:spPr>
          </p:pic>
          <p:sp>
            <p:nvSpPr>
              <p:cNvPr id="619" name=""/>
              <p:cNvSpPr/>
              <p:nvPr/>
            </p:nvSpPr>
            <p:spPr>
              <a:xfrm>
                <a:off x="4566600" y="3716640"/>
                <a:ext cx="72144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20" name="Rectangle 66"/>
            <p:cNvGrpSpPr/>
            <p:nvPr/>
          </p:nvGrpSpPr>
          <p:grpSpPr>
            <a:xfrm>
              <a:off x="5199840" y="3285720"/>
              <a:ext cx="1054440" cy="688680"/>
              <a:chOff x="5199840" y="3285720"/>
              <a:chExt cx="1054440" cy="688680"/>
            </a:xfrm>
          </p:grpSpPr>
          <p:pic>
            <p:nvPicPr>
              <p:cNvPr id="621" name="Rectangle 66" descr=""/>
              <p:cNvPicPr/>
              <p:nvPr/>
            </p:nvPicPr>
            <p:blipFill>
              <a:blip r:embed="rId6"/>
              <a:stretch/>
            </p:blipFill>
            <p:spPr>
              <a:xfrm>
                <a:off x="5199840" y="3285720"/>
                <a:ext cx="1054440" cy="688680"/>
              </a:xfrm>
              <a:prstGeom prst="rect">
                <a:avLst/>
              </a:prstGeom>
              <a:ln w="0">
                <a:noFill/>
              </a:ln>
            </p:spPr>
          </p:pic>
          <p:sp>
            <p:nvSpPr>
              <p:cNvPr id="622" name=""/>
              <p:cNvSpPr/>
              <p:nvPr/>
            </p:nvSpPr>
            <p:spPr>
              <a:xfrm>
                <a:off x="5286960" y="335736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23" name="Rectangle 67"/>
            <p:cNvGrpSpPr/>
            <p:nvPr/>
          </p:nvGrpSpPr>
          <p:grpSpPr>
            <a:xfrm>
              <a:off x="6285240" y="2566080"/>
              <a:ext cx="1054440" cy="682560"/>
              <a:chOff x="6285240" y="2566080"/>
              <a:chExt cx="1054440" cy="682560"/>
            </a:xfrm>
          </p:grpSpPr>
          <p:pic>
            <p:nvPicPr>
              <p:cNvPr id="624" name="Rectangle 67" descr=""/>
              <p:cNvPicPr/>
              <p:nvPr/>
            </p:nvPicPr>
            <p:blipFill>
              <a:blip r:embed="rId7"/>
              <a:stretch/>
            </p:blipFill>
            <p:spPr>
              <a:xfrm>
                <a:off x="6285240" y="2566080"/>
                <a:ext cx="1054440" cy="682560"/>
              </a:xfrm>
              <a:prstGeom prst="rect">
                <a:avLst/>
              </a:prstGeom>
              <a:ln w="0">
                <a:noFill/>
              </a:ln>
            </p:spPr>
          </p:pic>
          <p:sp>
            <p:nvSpPr>
              <p:cNvPr id="625" name=""/>
              <p:cNvSpPr/>
              <p:nvPr/>
            </p:nvSpPr>
            <p:spPr>
              <a:xfrm>
                <a:off x="6367320" y="263592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26" name="Rectangle 68"/>
            <p:cNvGrpSpPr/>
            <p:nvPr/>
          </p:nvGrpSpPr>
          <p:grpSpPr>
            <a:xfrm>
              <a:off x="5919120" y="2926080"/>
              <a:ext cx="700920" cy="688680"/>
              <a:chOff x="5919120" y="2926080"/>
              <a:chExt cx="700920" cy="688680"/>
            </a:xfrm>
          </p:grpSpPr>
          <p:pic>
            <p:nvPicPr>
              <p:cNvPr id="627" name="Rectangle 68" descr=""/>
              <p:cNvPicPr/>
              <p:nvPr/>
            </p:nvPicPr>
            <p:blipFill>
              <a:blip r:embed="rId8"/>
              <a:stretch/>
            </p:blipFill>
            <p:spPr>
              <a:xfrm>
                <a:off x="5919120" y="2926080"/>
                <a:ext cx="700920" cy="688680"/>
              </a:xfrm>
              <a:prstGeom prst="rect">
                <a:avLst/>
              </a:prstGeom>
              <a:ln w="0">
                <a:noFill/>
              </a:ln>
            </p:spPr>
          </p:pic>
          <p:sp>
            <p:nvSpPr>
              <p:cNvPr id="628" name=""/>
              <p:cNvSpPr/>
              <p:nvPr/>
            </p:nvSpPr>
            <p:spPr>
              <a:xfrm>
                <a:off x="6007320" y="2997720"/>
                <a:ext cx="35964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29" name="Rectangle 69"/>
            <p:cNvGrpSpPr/>
            <p:nvPr/>
          </p:nvGrpSpPr>
          <p:grpSpPr>
            <a:xfrm>
              <a:off x="6998400" y="2206440"/>
              <a:ext cx="700920" cy="682560"/>
              <a:chOff x="6998400" y="2206440"/>
              <a:chExt cx="700920" cy="682560"/>
            </a:xfrm>
          </p:grpSpPr>
          <p:pic>
            <p:nvPicPr>
              <p:cNvPr id="630" name="Rectangle 69" descr=""/>
              <p:cNvPicPr/>
              <p:nvPr/>
            </p:nvPicPr>
            <p:blipFill>
              <a:blip r:embed="rId9"/>
              <a:stretch/>
            </p:blipFill>
            <p:spPr>
              <a:xfrm>
                <a:off x="6998400" y="2206440"/>
                <a:ext cx="700920" cy="682560"/>
              </a:xfrm>
              <a:prstGeom prst="rect">
                <a:avLst/>
              </a:prstGeom>
              <a:ln w="0">
                <a:noFill/>
              </a:ln>
            </p:spPr>
          </p:pic>
          <p:sp>
            <p:nvSpPr>
              <p:cNvPr id="631" name=""/>
              <p:cNvSpPr/>
              <p:nvPr/>
            </p:nvSpPr>
            <p:spPr>
              <a:xfrm>
                <a:off x="7086240" y="2276640"/>
                <a:ext cx="36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32" name="Rectangle 70"/>
            <p:cNvGrpSpPr/>
            <p:nvPr/>
          </p:nvGrpSpPr>
          <p:grpSpPr>
            <a:xfrm>
              <a:off x="7364160" y="1840680"/>
              <a:ext cx="694800" cy="688680"/>
              <a:chOff x="7364160" y="1840680"/>
              <a:chExt cx="694800" cy="688680"/>
            </a:xfrm>
          </p:grpSpPr>
          <p:pic>
            <p:nvPicPr>
              <p:cNvPr id="633" name="Rectangle 70" descr=""/>
              <p:cNvPicPr/>
              <p:nvPr/>
            </p:nvPicPr>
            <p:blipFill>
              <a:blip r:embed="rId10"/>
              <a:stretch/>
            </p:blipFill>
            <p:spPr>
              <a:xfrm>
                <a:off x="7364160" y="1840680"/>
                <a:ext cx="694800" cy="688680"/>
              </a:xfrm>
              <a:prstGeom prst="rect">
                <a:avLst/>
              </a:prstGeom>
              <a:ln w="0">
                <a:noFill/>
              </a:ln>
            </p:spPr>
          </p:pic>
          <p:sp>
            <p:nvSpPr>
              <p:cNvPr id="634" name=""/>
              <p:cNvSpPr/>
              <p:nvPr/>
            </p:nvSpPr>
            <p:spPr>
              <a:xfrm>
                <a:off x="7447320" y="1915560"/>
                <a:ext cx="35964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35" name="Rectangle 71"/>
            <p:cNvGrpSpPr/>
            <p:nvPr/>
          </p:nvGrpSpPr>
          <p:grpSpPr>
            <a:xfrm>
              <a:off x="1603080" y="5084280"/>
              <a:ext cx="1054440" cy="688680"/>
              <a:chOff x="1603080" y="5084280"/>
              <a:chExt cx="1054440" cy="688680"/>
            </a:xfrm>
          </p:grpSpPr>
          <p:pic>
            <p:nvPicPr>
              <p:cNvPr id="636" name="Rectangle 71" descr=""/>
              <p:cNvPicPr/>
              <p:nvPr/>
            </p:nvPicPr>
            <p:blipFill>
              <a:blip r:embed="rId11"/>
              <a:stretch/>
            </p:blipFill>
            <p:spPr>
              <a:xfrm>
                <a:off x="1603080" y="5084280"/>
                <a:ext cx="1054440" cy="688680"/>
              </a:xfrm>
              <a:prstGeom prst="rect">
                <a:avLst/>
              </a:prstGeom>
              <a:ln w="0">
                <a:noFill/>
              </a:ln>
            </p:spPr>
          </p:pic>
          <p:sp>
            <p:nvSpPr>
              <p:cNvPr id="637" name=""/>
              <p:cNvSpPr/>
              <p:nvPr/>
            </p:nvSpPr>
            <p:spPr>
              <a:xfrm>
                <a:off x="1685520" y="515808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38" name="Group 72"/>
            <p:cNvGrpSpPr/>
            <p:nvPr/>
          </p:nvGrpSpPr>
          <p:grpSpPr>
            <a:xfrm>
              <a:off x="1692000" y="1612800"/>
              <a:ext cx="6443640" cy="3889080"/>
              <a:chOff x="1692000" y="1612800"/>
              <a:chExt cx="6443640" cy="3889080"/>
            </a:xfrm>
          </p:grpSpPr>
          <p:sp>
            <p:nvSpPr>
              <p:cNvPr id="639" name="Freeform 73"/>
              <p:cNvSpPr/>
              <p:nvPr/>
            </p:nvSpPr>
            <p:spPr>
              <a:xfrm>
                <a:off x="1692000" y="1612800"/>
                <a:ext cx="6443640" cy="3887640"/>
              </a:xfrm>
              <a:custGeom>
                <a:avLst/>
                <a:gdLst>
                  <a:gd name="textAreaLeft" fmla="*/ 0 w 6443640"/>
                  <a:gd name="textAreaRight" fmla="*/ 6444000 w 6443640"/>
                  <a:gd name="textAreaTop" fmla="*/ 0 h 3887640"/>
                  <a:gd name="textAreaBottom" fmla="*/ 3888000 h 3887640"/>
                </a:gdLst>
                <a:ahLst/>
                <a:rect l="textAreaLeft" t="textAreaTop" r="textAreaRight" b="textAreaBottom"/>
                <a:pathLst>
                  <a:path w="3016" h="2767">
                    <a:moveTo>
                      <a:pt x="0" y="0"/>
                    </a:moveTo>
                    <a:lnTo>
                      <a:pt x="0" y="2767"/>
                    </a:lnTo>
                    <a:lnTo>
                      <a:pt x="3016" y="2767"/>
                    </a:lnTo>
                  </a:path>
                </a:pathLst>
              </a:custGeom>
              <a:noFill/>
              <a:ln w="25560">
                <a:solidFill>
                  <a:srgbClr val="333333"/>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40" name="Line 74"/>
              <p:cNvSpPr/>
              <p:nvPr/>
            </p:nvSpPr>
            <p:spPr>
              <a:xfrm>
                <a:off x="1692000" y="514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1" name="Line 75"/>
              <p:cNvSpPr/>
              <p:nvPr/>
            </p:nvSpPr>
            <p:spPr>
              <a:xfrm>
                <a:off x="1692000" y="478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2" name="Line 76"/>
              <p:cNvSpPr/>
              <p:nvPr/>
            </p:nvSpPr>
            <p:spPr>
              <a:xfrm>
                <a:off x="1692000" y="442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3" name="Line 77"/>
              <p:cNvSpPr/>
              <p:nvPr/>
            </p:nvSpPr>
            <p:spPr>
              <a:xfrm>
                <a:off x="1692000" y="406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4" name="Line 78"/>
              <p:cNvSpPr/>
              <p:nvPr/>
            </p:nvSpPr>
            <p:spPr>
              <a:xfrm>
                <a:off x="1692000" y="37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5" name="Line 79"/>
              <p:cNvSpPr/>
              <p:nvPr/>
            </p:nvSpPr>
            <p:spPr>
              <a:xfrm>
                <a:off x="1692000" y="334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6" name="Line 80"/>
              <p:cNvSpPr/>
              <p:nvPr/>
            </p:nvSpPr>
            <p:spPr>
              <a:xfrm>
                <a:off x="1692000" y="298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7" name="Line 81"/>
              <p:cNvSpPr/>
              <p:nvPr/>
            </p:nvSpPr>
            <p:spPr>
              <a:xfrm>
                <a:off x="1692000" y="262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8" name="Line 82"/>
              <p:cNvSpPr/>
              <p:nvPr/>
            </p:nvSpPr>
            <p:spPr>
              <a:xfrm>
                <a:off x="1692000" y="226224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9" name="Line 83"/>
              <p:cNvSpPr/>
              <p:nvPr/>
            </p:nvSpPr>
            <p:spPr>
              <a:xfrm>
                <a:off x="1692000" y="19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50" name="Line 84"/>
              <p:cNvSpPr/>
              <p:nvPr/>
            </p:nvSpPr>
            <p:spPr>
              <a:xfrm flipV="1">
                <a:off x="205092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51" name="Line 85"/>
              <p:cNvSpPr/>
              <p:nvPr/>
            </p:nvSpPr>
            <p:spPr>
              <a:xfrm flipV="1">
                <a:off x="241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52" name="Line 86"/>
              <p:cNvSpPr/>
              <p:nvPr/>
            </p:nvSpPr>
            <p:spPr>
              <a:xfrm flipV="1">
                <a:off x="277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53" name="Line 87"/>
              <p:cNvSpPr/>
              <p:nvPr/>
            </p:nvSpPr>
            <p:spPr>
              <a:xfrm flipV="1">
                <a:off x="313200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54" name="Line 88"/>
              <p:cNvSpPr/>
              <p:nvPr/>
            </p:nvSpPr>
            <p:spPr>
              <a:xfrm flipV="1">
                <a:off x="349056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55" name="Line 89"/>
              <p:cNvSpPr/>
              <p:nvPr/>
            </p:nvSpPr>
            <p:spPr>
              <a:xfrm flipV="1">
                <a:off x="385092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56" name="Line 90"/>
              <p:cNvSpPr/>
              <p:nvPr/>
            </p:nvSpPr>
            <p:spPr>
              <a:xfrm flipV="1">
                <a:off x="421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57" name="Line 91"/>
              <p:cNvSpPr/>
              <p:nvPr/>
            </p:nvSpPr>
            <p:spPr>
              <a:xfrm flipV="1">
                <a:off x="457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58" name="Line 92"/>
              <p:cNvSpPr/>
              <p:nvPr/>
            </p:nvSpPr>
            <p:spPr>
              <a:xfrm flipV="1">
                <a:off x="493056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59" name="Line 93"/>
              <p:cNvSpPr/>
              <p:nvPr/>
            </p:nvSpPr>
            <p:spPr>
              <a:xfrm flipV="1">
                <a:off x="529092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60" name="Line 94"/>
              <p:cNvSpPr/>
              <p:nvPr/>
            </p:nvSpPr>
            <p:spPr>
              <a:xfrm flipV="1">
                <a:off x="565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61" name="Line 95"/>
              <p:cNvSpPr/>
              <p:nvPr/>
            </p:nvSpPr>
            <p:spPr>
              <a:xfrm flipV="1">
                <a:off x="601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62" name="Line 96"/>
              <p:cNvSpPr/>
              <p:nvPr/>
            </p:nvSpPr>
            <p:spPr>
              <a:xfrm flipV="1">
                <a:off x="637020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63" name="Line 97"/>
              <p:cNvSpPr/>
              <p:nvPr/>
            </p:nvSpPr>
            <p:spPr>
              <a:xfrm flipV="1">
                <a:off x="673056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64" name="Line 98"/>
              <p:cNvSpPr/>
              <p:nvPr/>
            </p:nvSpPr>
            <p:spPr>
              <a:xfrm flipV="1">
                <a:off x="709092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65" name="Line 99"/>
              <p:cNvSpPr/>
              <p:nvPr/>
            </p:nvSpPr>
            <p:spPr>
              <a:xfrm flipV="1">
                <a:off x="745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66" name="Line 100"/>
              <p:cNvSpPr/>
              <p:nvPr/>
            </p:nvSpPr>
            <p:spPr>
              <a:xfrm flipV="1">
                <a:off x="781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grpSp>
          <p:nvGrpSpPr>
            <p:cNvPr id="667" name="Group 101"/>
            <p:cNvGrpSpPr/>
            <p:nvPr/>
          </p:nvGrpSpPr>
          <p:grpSpPr>
            <a:xfrm>
              <a:off x="1855800" y="5602680"/>
              <a:ext cx="6140880" cy="276480"/>
              <a:chOff x="1855800" y="5602680"/>
              <a:chExt cx="6140880" cy="276480"/>
            </a:xfrm>
          </p:grpSpPr>
          <p:sp>
            <p:nvSpPr>
              <p:cNvPr id="668" name="Text Box 102"/>
              <p:cNvSpPr/>
              <p:nvPr/>
            </p:nvSpPr>
            <p:spPr>
              <a:xfrm>
                <a:off x="1855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1</a:t>
                </a:r>
                <a:endParaRPr b="0" lang="en-US" sz="1200" spc="-1" strike="noStrike">
                  <a:solidFill>
                    <a:srgbClr val="000000"/>
                  </a:solidFill>
                  <a:latin typeface="Gulim"/>
                </a:endParaRPr>
              </a:p>
            </p:txBody>
          </p:sp>
          <p:sp>
            <p:nvSpPr>
              <p:cNvPr id="669" name="Text Box 103"/>
              <p:cNvSpPr/>
              <p:nvPr/>
            </p:nvSpPr>
            <p:spPr>
              <a:xfrm>
                <a:off x="221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2</a:t>
                </a:r>
                <a:endParaRPr b="0" lang="en-US" sz="1200" spc="-1" strike="noStrike">
                  <a:solidFill>
                    <a:srgbClr val="000000"/>
                  </a:solidFill>
                  <a:latin typeface="Gulim"/>
                </a:endParaRPr>
              </a:p>
            </p:txBody>
          </p:sp>
          <p:sp>
            <p:nvSpPr>
              <p:cNvPr id="670" name="Text Box 104"/>
              <p:cNvSpPr/>
              <p:nvPr/>
            </p:nvSpPr>
            <p:spPr>
              <a:xfrm>
                <a:off x="25671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3</a:t>
                </a:r>
                <a:endParaRPr b="0" lang="en-US" sz="1200" spc="-1" strike="noStrike">
                  <a:solidFill>
                    <a:srgbClr val="000000"/>
                  </a:solidFill>
                  <a:latin typeface="Gulim"/>
                </a:endParaRPr>
              </a:p>
            </p:txBody>
          </p:sp>
          <p:sp>
            <p:nvSpPr>
              <p:cNvPr id="671" name="Text Box 105"/>
              <p:cNvSpPr/>
              <p:nvPr/>
            </p:nvSpPr>
            <p:spPr>
              <a:xfrm>
                <a:off x="293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4</a:t>
                </a:r>
                <a:endParaRPr b="0" lang="en-US" sz="1200" spc="-1" strike="noStrike">
                  <a:solidFill>
                    <a:srgbClr val="000000"/>
                  </a:solidFill>
                  <a:latin typeface="Gulim"/>
                </a:endParaRPr>
              </a:p>
            </p:txBody>
          </p:sp>
          <p:sp>
            <p:nvSpPr>
              <p:cNvPr id="672" name="Text Box 106"/>
              <p:cNvSpPr/>
              <p:nvPr/>
            </p:nvSpPr>
            <p:spPr>
              <a:xfrm>
                <a:off x="3295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5</a:t>
                </a:r>
                <a:endParaRPr b="0" lang="en-US" sz="1200" spc="-1" strike="noStrike">
                  <a:solidFill>
                    <a:srgbClr val="000000"/>
                  </a:solidFill>
                  <a:latin typeface="Gulim"/>
                </a:endParaRPr>
              </a:p>
            </p:txBody>
          </p:sp>
          <p:sp>
            <p:nvSpPr>
              <p:cNvPr id="673" name="Text Box 107"/>
              <p:cNvSpPr/>
              <p:nvPr/>
            </p:nvSpPr>
            <p:spPr>
              <a:xfrm>
                <a:off x="365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6</a:t>
                </a:r>
                <a:endParaRPr b="0" lang="en-US" sz="1200" spc="-1" strike="noStrike">
                  <a:solidFill>
                    <a:srgbClr val="000000"/>
                  </a:solidFill>
                  <a:latin typeface="Gulim"/>
                </a:endParaRPr>
              </a:p>
            </p:txBody>
          </p:sp>
          <p:sp>
            <p:nvSpPr>
              <p:cNvPr id="674" name="Text Box 108"/>
              <p:cNvSpPr/>
              <p:nvPr/>
            </p:nvSpPr>
            <p:spPr>
              <a:xfrm>
                <a:off x="400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7</a:t>
                </a:r>
                <a:endParaRPr b="0" lang="en-US" sz="1200" spc="-1" strike="noStrike">
                  <a:solidFill>
                    <a:srgbClr val="000000"/>
                  </a:solidFill>
                  <a:latin typeface="Gulim"/>
                </a:endParaRPr>
              </a:p>
            </p:txBody>
          </p:sp>
          <p:sp>
            <p:nvSpPr>
              <p:cNvPr id="675" name="Text Box 109"/>
              <p:cNvSpPr/>
              <p:nvPr/>
            </p:nvSpPr>
            <p:spPr>
              <a:xfrm>
                <a:off x="437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8</a:t>
                </a:r>
                <a:endParaRPr b="0" lang="en-US" sz="1200" spc="-1" strike="noStrike">
                  <a:solidFill>
                    <a:srgbClr val="000000"/>
                  </a:solidFill>
                  <a:latin typeface="Gulim"/>
                </a:endParaRPr>
              </a:p>
            </p:txBody>
          </p:sp>
          <p:sp>
            <p:nvSpPr>
              <p:cNvPr id="676" name="Text Box 110"/>
              <p:cNvSpPr/>
              <p:nvPr/>
            </p:nvSpPr>
            <p:spPr>
              <a:xfrm>
                <a:off x="473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9</a:t>
                </a:r>
                <a:endParaRPr b="0" lang="en-US" sz="1200" spc="-1" strike="noStrike">
                  <a:solidFill>
                    <a:srgbClr val="000000"/>
                  </a:solidFill>
                  <a:latin typeface="Gulim"/>
                </a:endParaRPr>
              </a:p>
            </p:txBody>
          </p:sp>
          <p:sp>
            <p:nvSpPr>
              <p:cNvPr id="677" name="Text Box 111"/>
              <p:cNvSpPr/>
              <p:nvPr/>
            </p:nvSpPr>
            <p:spPr>
              <a:xfrm>
                <a:off x="509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0</a:t>
                </a:r>
                <a:endParaRPr b="0" lang="en-US" sz="1200" spc="-1" strike="noStrike">
                  <a:solidFill>
                    <a:srgbClr val="000000"/>
                  </a:solidFill>
                  <a:latin typeface="Gulim"/>
                </a:endParaRPr>
              </a:p>
            </p:txBody>
          </p:sp>
          <p:sp>
            <p:nvSpPr>
              <p:cNvPr id="678" name="Text Box 112"/>
              <p:cNvSpPr/>
              <p:nvPr/>
            </p:nvSpPr>
            <p:spPr>
              <a:xfrm>
                <a:off x="544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1</a:t>
                </a:r>
                <a:endParaRPr b="0" lang="en-US" sz="1200" spc="-1" strike="noStrike">
                  <a:solidFill>
                    <a:srgbClr val="000000"/>
                  </a:solidFill>
                  <a:latin typeface="Gulim"/>
                </a:endParaRPr>
              </a:p>
            </p:txBody>
          </p:sp>
          <p:sp>
            <p:nvSpPr>
              <p:cNvPr id="679" name="Text Box 113"/>
              <p:cNvSpPr/>
              <p:nvPr/>
            </p:nvSpPr>
            <p:spPr>
              <a:xfrm>
                <a:off x="581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2</a:t>
                </a:r>
                <a:endParaRPr b="0" lang="en-US" sz="1200" spc="-1" strike="noStrike">
                  <a:solidFill>
                    <a:srgbClr val="000000"/>
                  </a:solidFill>
                  <a:latin typeface="Gulim"/>
                </a:endParaRPr>
              </a:p>
            </p:txBody>
          </p:sp>
          <p:sp>
            <p:nvSpPr>
              <p:cNvPr id="680" name="Text Box 114"/>
              <p:cNvSpPr/>
              <p:nvPr/>
            </p:nvSpPr>
            <p:spPr>
              <a:xfrm>
                <a:off x="617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3</a:t>
                </a:r>
                <a:endParaRPr b="0" lang="en-US" sz="1200" spc="-1" strike="noStrike">
                  <a:solidFill>
                    <a:srgbClr val="000000"/>
                  </a:solidFill>
                  <a:latin typeface="Gulim"/>
                </a:endParaRPr>
              </a:p>
            </p:txBody>
          </p:sp>
          <p:sp>
            <p:nvSpPr>
              <p:cNvPr id="681" name="Text Box 115"/>
              <p:cNvSpPr/>
              <p:nvPr/>
            </p:nvSpPr>
            <p:spPr>
              <a:xfrm>
                <a:off x="65340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4</a:t>
                </a:r>
                <a:endParaRPr b="0" lang="en-US" sz="1200" spc="-1" strike="noStrike">
                  <a:solidFill>
                    <a:srgbClr val="000000"/>
                  </a:solidFill>
                  <a:latin typeface="Gulim"/>
                </a:endParaRPr>
              </a:p>
            </p:txBody>
          </p:sp>
          <p:sp>
            <p:nvSpPr>
              <p:cNvPr id="682" name="Text Box 116"/>
              <p:cNvSpPr/>
              <p:nvPr/>
            </p:nvSpPr>
            <p:spPr>
              <a:xfrm>
                <a:off x="6886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5</a:t>
                </a:r>
                <a:endParaRPr b="0" lang="en-US" sz="1200" spc="-1" strike="noStrike">
                  <a:solidFill>
                    <a:srgbClr val="000000"/>
                  </a:solidFill>
                  <a:latin typeface="Gulim"/>
                </a:endParaRPr>
              </a:p>
            </p:txBody>
          </p:sp>
          <p:sp>
            <p:nvSpPr>
              <p:cNvPr id="683" name="Text Box 117"/>
              <p:cNvSpPr/>
              <p:nvPr/>
            </p:nvSpPr>
            <p:spPr>
              <a:xfrm>
                <a:off x="725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6</a:t>
                </a:r>
                <a:endParaRPr b="0" lang="en-US" sz="1200" spc="-1" strike="noStrike">
                  <a:solidFill>
                    <a:srgbClr val="000000"/>
                  </a:solidFill>
                  <a:latin typeface="Gulim"/>
                </a:endParaRPr>
              </a:p>
            </p:txBody>
          </p:sp>
          <p:sp>
            <p:nvSpPr>
              <p:cNvPr id="684" name="Text Box 118"/>
              <p:cNvSpPr/>
              <p:nvPr/>
            </p:nvSpPr>
            <p:spPr>
              <a:xfrm>
                <a:off x="7642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7</a:t>
                </a:r>
                <a:endParaRPr b="0" lang="en-US" sz="1200" spc="-1" strike="noStrike">
                  <a:solidFill>
                    <a:srgbClr val="000000"/>
                  </a:solidFill>
                  <a:latin typeface="Gulim"/>
                </a:endParaRPr>
              </a:p>
            </p:txBody>
          </p:sp>
        </p:grpSp>
        <p:grpSp>
          <p:nvGrpSpPr>
            <p:cNvPr id="685" name="Group 119"/>
            <p:cNvGrpSpPr/>
            <p:nvPr/>
          </p:nvGrpSpPr>
          <p:grpSpPr>
            <a:xfrm>
              <a:off x="775440" y="1628640"/>
              <a:ext cx="790200" cy="3854880"/>
              <a:chOff x="775440" y="1628640"/>
              <a:chExt cx="790200" cy="3854880"/>
            </a:xfrm>
          </p:grpSpPr>
          <p:sp>
            <p:nvSpPr>
              <p:cNvPr id="686" name="Text Box 120"/>
              <p:cNvSpPr/>
              <p:nvPr/>
            </p:nvSpPr>
            <p:spPr>
              <a:xfrm>
                <a:off x="775440" y="520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1</a:t>
                </a:r>
                <a:endParaRPr b="0" lang="en-US" sz="1200" spc="-1" strike="noStrike">
                  <a:solidFill>
                    <a:srgbClr val="000000"/>
                  </a:solidFill>
                  <a:latin typeface="Gulim"/>
                </a:endParaRPr>
              </a:p>
            </p:txBody>
          </p:sp>
          <p:sp>
            <p:nvSpPr>
              <p:cNvPr id="687" name="Text Box 121"/>
              <p:cNvSpPr/>
              <p:nvPr/>
            </p:nvSpPr>
            <p:spPr>
              <a:xfrm>
                <a:off x="775440" y="48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2</a:t>
                </a:r>
                <a:endParaRPr b="0" lang="en-US" sz="1200" spc="-1" strike="noStrike">
                  <a:solidFill>
                    <a:srgbClr val="000000"/>
                  </a:solidFill>
                  <a:latin typeface="Gulim"/>
                </a:endParaRPr>
              </a:p>
            </p:txBody>
          </p:sp>
          <p:sp>
            <p:nvSpPr>
              <p:cNvPr id="688" name="Text Box 122"/>
              <p:cNvSpPr/>
              <p:nvPr/>
            </p:nvSpPr>
            <p:spPr>
              <a:xfrm>
                <a:off x="775440" y="448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3</a:t>
                </a:r>
                <a:endParaRPr b="0" lang="en-US" sz="1200" spc="-1" strike="noStrike">
                  <a:solidFill>
                    <a:srgbClr val="000000"/>
                  </a:solidFill>
                  <a:latin typeface="Gulim"/>
                </a:endParaRPr>
              </a:p>
            </p:txBody>
          </p:sp>
          <p:sp>
            <p:nvSpPr>
              <p:cNvPr id="689" name="Text Box 123"/>
              <p:cNvSpPr/>
              <p:nvPr/>
            </p:nvSpPr>
            <p:spPr>
              <a:xfrm>
                <a:off x="775440" y="41256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4</a:t>
                </a:r>
                <a:endParaRPr b="0" lang="en-US" sz="1200" spc="-1" strike="noStrike">
                  <a:solidFill>
                    <a:srgbClr val="000000"/>
                  </a:solidFill>
                  <a:latin typeface="Gulim"/>
                </a:endParaRPr>
              </a:p>
            </p:txBody>
          </p:sp>
          <p:sp>
            <p:nvSpPr>
              <p:cNvPr id="690" name="Text Box 124"/>
              <p:cNvSpPr/>
              <p:nvPr/>
            </p:nvSpPr>
            <p:spPr>
              <a:xfrm>
                <a:off x="775440" y="37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5</a:t>
                </a:r>
                <a:endParaRPr b="0" lang="en-US" sz="1200" spc="-1" strike="noStrike">
                  <a:solidFill>
                    <a:srgbClr val="000000"/>
                  </a:solidFill>
                  <a:latin typeface="Gulim"/>
                </a:endParaRPr>
              </a:p>
            </p:txBody>
          </p:sp>
          <p:sp>
            <p:nvSpPr>
              <p:cNvPr id="691" name="Text Box 125"/>
              <p:cNvSpPr/>
              <p:nvPr/>
            </p:nvSpPr>
            <p:spPr>
              <a:xfrm>
                <a:off x="775440" y="340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6</a:t>
                </a:r>
                <a:endParaRPr b="0" lang="en-US" sz="1200" spc="-1" strike="noStrike">
                  <a:solidFill>
                    <a:srgbClr val="000000"/>
                  </a:solidFill>
                  <a:latin typeface="Gulim"/>
                </a:endParaRPr>
              </a:p>
            </p:txBody>
          </p:sp>
          <p:sp>
            <p:nvSpPr>
              <p:cNvPr id="692" name="Text Box 126"/>
              <p:cNvSpPr/>
              <p:nvPr/>
            </p:nvSpPr>
            <p:spPr>
              <a:xfrm>
                <a:off x="775440" y="304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7</a:t>
                </a:r>
                <a:endParaRPr b="0" lang="en-US" sz="1200" spc="-1" strike="noStrike">
                  <a:solidFill>
                    <a:srgbClr val="000000"/>
                  </a:solidFill>
                  <a:latin typeface="Gulim"/>
                </a:endParaRPr>
              </a:p>
            </p:txBody>
          </p:sp>
          <p:sp>
            <p:nvSpPr>
              <p:cNvPr id="693" name="Text Box 127"/>
              <p:cNvSpPr/>
              <p:nvPr/>
            </p:nvSpPr>
            <p:spPr>
              <a:xfrm>
                <a:off x="775440" y="26892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8</a:t>
                </a:r>
                <a:endParaRPr b="0" lang="en-US" sz="1200" spc="-1" strike="noStrike">
                  <a:solidFill>
                    <a:srgbClr val="000000"/>
                  </a:solidFill>
                  <a:latin typeface="Gulim"/>
                </a:endParaRPr>
              </a:p>
            </p:txBody>
          </p:sp>
          <p:sp>
            <p:nvSpPr>
              <p:cNvPr id="694" name="Text Box 128"/>
              <p:cNvSpPr/>
              <p:nvPr/>
            </p:nvSpPr>
            <p:spPr>
              <a:xfrm>
                <a:off x="775440" y="23288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9</a:t>
                </a:r>
                <a:endParaRPr b="0" lang="en-US" sz="1200" spc="-1" strike="noStrike">
                  <a:solidFill>
                    <a:srgbClr val="000000"/>
                  </a:solidFill>
                  <a:latin typeface="Gulim"/>
                </a:endParaRPr>
              </a:p>
            </p:txBody>
          </p:sp>
          <p:sp>
            <p:nvSpPr>
              <p:cNvPr id="695" name="Text Box 129"/>
              <p:cNvSpPr/>
              <p:nvPr/>
            </p:nvSpPr>
            <p:spPr>
              <a:xfrm>
                <a:off x="775440" y="196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0</a:t>
                </a:r>
                <a:endParaRPr b="0" lang="en-US" sz="1200" spc="-1" strike="noStrike">
                  <a:solidFill>
                    <a:srgbClr val="000000"/>
                  </a:solidFill>
                  <a:latin typeface="Gulim"/>
                </a:endParaRPr>
              </a:p>
            </p:txBody>
          </p:sp>
          <p:sp>
            <p:nvSpPr>
              <p:cNvPr id="696" name="Text Box 130"/>
              <p:cNvSpPr/>
              <p:nvPr/>
            </p:nvSpPr>
            <p:spPr>
              <a:xfrm>
                <a:off x="775440" y="16286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1</a:t>
                </a:r>
                <a:endParaRPr b="0" lang="en-US" sz="1200" spc="-1" strike="noStrike">
                  <a:solidFill>
                    <a:srgbClr val="000000"/>
                  </a:solidFill>
                  <a:latin typeface="Gulim"/>
                </a:endParaRPr>
              </a:p>
            </p:txBody>
          </p:sp>
        </p:grpSp>
        <p:sp>
          <p:nvSpPr>
            <p:cNvPr id="697" name="Rectangle 131"/>
            <p:cNvSpPr/>
            <p:nvPr/>
          </p:nvSpPr>
          <p:spPr>
            <a:xfrm>
              <a:off x="2046240" y="1915920"/>
              <a:ext cx="2881440" cy="1441440"/>
            </a:xfrm>
            <a:prstGeom prst="rect">
              <a:avLst/>
            </a:prstGeom>
            <a:solidFill>
              <a:srgbClr val="a6a6a6">
                <a:alpha val="7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8" name="Text Box 132"/>
            <p:cNvSpPr/>
            <p:nvPr/>
          </p:nvSpPr>
          <p:spPr>
            <a:xfrm>
              <a:off x="2153880" y="2025360"/>
              <a:ext cx="25210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700" name="그룹 3"/>
          <p:cNvGrpSpPr/>
          <p:nvPr/>
        </p:nvGrpSpPr>
        <p:grpSpPr>
          <a:xfrm>
            <a:off x="1332000" y="1197000"/>
            <a:ext cx="6480000" cy="4751280"/>
            <a:chOff x="1332000" y="1197000"/>
            <a:chExt cx="6480000" cy="4751280"/>
          </a:xfrm>
        </p:grpSpPr>
        <p:grpSp>
          <p:nvGrpSpPr>
            <p:cNvPr id="701" name="그룹 55"/>
            <p:cNvGrpSpPr/>
            <p:nvPr/>
          </p:nvGrpSpPr>
          <p:grpSpPr>
            <a:xfrm>
              <a:off x="1332000" y="1197000"/>
              <a:ext cx="1079280" cy="4751280"/>
              <a:chOff x="1332000" y="1197000"/>
              <a:chExt cx="1079280" cy="4751280"/>
            </a:xfrm>
          </p:grpSpPr>
          <p:grpSp>
            <p:nvGrpSpPr>
              <p:cNvPr id="702" name="Group 515"/>
              <p:cNvGrpSpPr/>
              <p:nvPr/>
            </p:nvGrpSpPr>
            <p:grpSpPr>
              <a:xfrm>
                <a:off x="1403280" y="1197000"/>
                <a:ext cx="936720" cy="4319640"/>
                <a:chOff x="1403280" y="1197000"/>
                <a:chExt cx="936720" cy="4319640"/>
              </a:xfrm>
            </p:grpSpPr>
            <p:sp>
              <p:nvSpPr>
                <p:cNvPr id="703" name="Oval 517"/>
                <p:cNvSpPr/>
                <p:nvPr/>
              </p:nvSpPr>
              <p:spPr>
                <a:xfrm>
                  <a:off x="1553040" y="1562400"/>
                  <a:ext cx="140760" cy="358848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4" name="Oval 518"/>
                <p:cNvSpPr/>
                <p:nvPr/>
              </p:nvSpPr>
              <p:spPr>
                <a:xfrm>
                  <a:off x="1554840" y="1347120"/>
                  <a:ext cx="210960" cy="215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05" name="Freeform 516"/>
                <p:cNvGrpSpPr/>
                <p:nvPr/>
              </p:nvGrpSpPr>
              <p:grpSpPr>
                <a:xfrm>
                  <a:off x="1403280" y="1197000"/>
                  <a:ext cx="936720" cy="4319640"/>
                  <a:chOff x="1403280" y="1197000"/>
                  <a:chExt cx="936720" cy="4319640"/>
                </a:xfrm>
              </p:grpSpPr>
              <p:pic>
                <p:nvPicPr>
                  <p:cNvPr id="706" name="Freeform 516" descr=""/>
                  <p:cNvPicPr/>
                  <p:nvPr/>
                </p:nvPicPr>
                <p:blipFill>
                  <a:blip r:embed="rId2"/>
                  <a:stretch/>
                </p:blipFill>
                <p:spPr>
                  <a:xfrm>
                    <a:off x="1403280" y="1197000"/>
                    <a:ext cx="936720" cy="4319640"/>
                  </a:xfrm>
                  <a:prstGeom prst="rect">
                    <a:avLst/>
                  </a:prstGeom>
                  <a:ln w="0">
                    <a:noFill/>
                  </a:ln>
                </p:spPr>
              </p:pic>
              <p:sp>
                <p:nvSpPr>
                  <p:cNvPr id="707" name=""/>
                  <p:cNvSpPr/>
                  <p:nvPr/>
                </p:nvSpPr>
                <p:spPr>
                  <a:xfrm>
                    <a:off x="1410480" y="1204920"/>
                    <a:ext cx="922680" cy="430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708" name="Oval 474"/>
              <p:cNvSpPr/>
              <p:nvPr/>
            </p:nvSpPr>
            <p:spPr>
              <a:xfrm>
                <a:off x="133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9" name="WordArt 519"/>
              <p:cNvSpPr txBox="1"/>
              <p:nvPr/>
            </p:nvSpPr>
            <p:spPr>
              <a:xfrm>
                <a:off x="1692360" y="4940280"/>
                <a:ext cx="358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a:t>
                </a:r>
                <a:endParaRPr b="0" lang="en-US" sz="1400" spc="-1" strike="noStrike">
                  <a:ln w="0">
                    <a:noFill/>
                  </a:ln>
                  <a:solidFill>
                    <a:srgbClr val="ffffff"/>
                  </a:solidFill>
                  <a:latin typeface="Arial Black"/>
                  <a:ea typeface="Arial Black"/>
                </a:endParaRPr>
              </a:p>
            </p:txBody>
          </p:sp>
          <p:grpSp>
            <p:nvGrpSpPr>
              <p:cNvPr id="710" name="Group 531"/>
              <p:cNvGrpSpPr/>
              <p:nvPr/>
            </p:nvGrpSpPr>
            <p:grpSpPr>
              <a:xfrm>
                <a:off x="1476360" y="1628640"/>
                <a:ext cx="792000" cy="1942920"/>
                <a:chOff x="1476360" y="1628640"/>
                <a:chExt cx="792000" cy="1942920"/>
              </a:xfrm>
            </p:grpSpPr>
            <p:sp>
              <p:nvSpPr>
                <p:cNvPr id="711" name="AutoShape 526"/>
                <p:cNvSpPr/>
                <p:nvPr/>
              </p:nvSpPr>
              <p:spPr>
                <a:xfrm rot="5400000">
                  <a:off x="900720" y="2203920"/>
                  <a:ext cx="1942920" cy="792000"/>
                </a:xfrm>
                <a:prstGeom prst="rightArrow">
                  <a:avLst>
                    <a:gd name="adj1" fmla="val 55917"/>
                    <a:gd name="adj2" fmla="val 74765"/>
                  </a:avLst>
                </a:prstGeom>
                <a:solidFill>
                  <a:srgbClr val="000000">
                    <a:alpha val="50000"/>
                  </a:srgbClr>
                </a:soli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2" name="WordArt 529"/>
                <p:cNvSpPr txBox="1"/>
                <p:nvPr/>
              </p:nvSpPr>
              <p:spPr>
                <a:xfrm rot="16200000">
                  <a:off x="1187640" y="2350440"/>
                  <a:ext cx="1368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grpSp>
        <p:grpSp>
          <p:nvGrpSpPr>
            <p:cNvPr id="713" name="그룹 51"/>
            <p:cNvGrpSpPr/>
            <p:nvPr/>
          </p:nvGrpSpPr>
          <p:grpSpPr>
            <a:xfrm>
              <a:off x="5653080" y="1197000"/>
              <a:ext cx="1079280" cy="4751280"/>
              <a:chOff x="5653080" y="1197000"/>
              <a:chExt cx="1079280" cy="4751280"/>
            </a:xfrm>
          </p:grpSpPr>
          <p:sp>
            <p:nvSpPr>
              <p:cNvPr id="714" name="Oval 478"/>
              <p:cNvSpPr/>
              <p:nvPr/>
            </p:nvSpPr>
            <p:spPr>
              <a:xfrm>
                <a:off x="565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5" name="Freeform 455"/>
              <p:cNvSpPr/>
              <p:nvPr/>
            </p:nvSpPr>
            <p:spPr>
              <a:xfrm>
                <a:off x="5840280" y="2060640"/>
                <a:ext cx="701640" cy="3348000"/>
              </a:xfrm>
              <a:custGeom>
                <a:avLst/>
                <a:gdLst>
                  <a:gd name="textAreaLeft" fmla="*/ 0 w 701640"/>
                  <a:gd name="textAreaRight" fmla="*/ 701640 w 701640"/>
                  <a:gd name="textAreaTop" fmla="*/ 0 h 3348000"/>
                  <a:gd name="textAreaBottom" fmla="*/ 3348360 h 3348000"/>
                </a:gdLst>
                <a:ahLst/>
                <a:rect l="textAreaLeft" t="textAreaTop" r="textAreaRight" b="textAreaBottom"/>
                <a:pathLst>
                  <a:path w="394" h="2037">
                    <a:moveTo>
                      <a:pt x="0" y="0"/>
                    </a:moveTo>
                    <a:lnTo>
                      <a:pt x="0" y="1840"/>
                    </a:lnTo>
                    <a:lnTo>
                      <a:pt x="1" y="1861"/>
                    </a:lnTo>
                    <a:lnTo>
                      <a:pt x="4" y="1880"/>
                    </a:lnTo>
                    <a:lnTo>
                      <a:pt x="10" y="1899"/>
                    </a:lnTo>
                    <a:lnTo>
                      <a:pt x="16" y="1917"/>
                    </a:lnTo>
                    <a:lnTo>
                      <a:pt x="25" y="1935"/>
                    </a:lnTo>
                    <a:lnTo>
                      <a:pt x="34" y="1950"/>
                    </a:lnTo>
                    <a:lnTo>
                      <a:pt x="45" y="1966"/>
                    </a:lnTo>
                    <a:lnTo>
                      <a:pt x="57" y="1980"/>
                    </a:lnTo>
                    <a:lnTo>
                      <a:pt x="73" y="1992"/>
                    </a:lnTo>
                    <a:lnTo>
                      <a:pt x="88" y="2003"/>
                    </a:lnTo>
                    <a:lnTo>
                      <a:pt x="104" y="2014"/>
                    </a:lnTo>
                    <a:lnTo>
                      <a:pt x="120" y="2022"/>
                    </a:lnTo>
                    <a:lnTo>
                      <a:pt x="138" y="2028"/>
                    </a:lnTo>
                    <a:lnTo>
                      <a:pt x="157" y="2033"/>
                    </a:lnTo>
                    <a:lnTo>
                      <a:pt x="178" y="2036"/>
                    </a:lnTo>
                    <a:lnTo>
                      <a:pt x="197" y="2037"/>
                    </a:lnTo>
                    <a:lnTo>
                      <a:pt x="218" y="2036"/>
                    </a:lnTo>
                    <a:lnTo>
                      <a:pt x="237" y="2033"/>
                    </a:lnTo>
                    <a:lnTo>
                      <a:pt x="256" y="2028"/>
                    </a:lnTo>
                    <a:lnTo>
                      <a:pt x="274" y="2022"/>
                    </a:lnTo>
                    <a:lnTo>
                      <a:pt x="292" y="2014"/>
                    </a:lnTo>
                    <a:lnTo>
                      <a:pt x="308" y="2003"/>
                    </a:lnTo>
                    <a:lnTo>
                      <a:pt x="323" y="1992"/>
                    </a:lnTo>
                    <a:lnTo>
                      <a:pt x="337" y="1980"/>
                    </a:lnTo>
                    <a:lnTo>
                      <a:pt x="349" y="1966"/>
                    </a:lnTo>
                    <a:lnTo>
                      <a:pt x="361" y="1950"/>
                    </a:lnTo>
                    <a:lnTo>
                      <a:pt x="371" y="1935"/>
                    </a:lnTo>
                    <a:lnTo>
                      <a:pt x="379" y="1917"/>
                    </a:lnTo>
                    <a:lnTo>
                      <a:pt x="386" y="1899"/>
                    </a:lnTo>
                    <a:lnTo>
                      <a:pt x="390" y="1880"/>
                    </a:lnTo>
                    <a:lnTo>
                      <a:pt x="394" y="1861"/>
                    </a:lnTo>
                    <a:lnTo>
                      <a:pt x="394" y="1840"/>
                    </a:lnTo>
                    <a:lnTo>
                      <a:pt x="394" y="0"/>
                    </a:lnTo>
                    <a:lnTo>
                      <a:pt x="0" y="0"/>
                    </a:lnTo>
                    <a:close/>
                  </a:path>
                </a:pathLst>
              </a:cu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16" name="Freeform 456"/>
              <p:cNvSpPr/>
              <p:nvPr/>
            </p:nvSpPr>
            <p:spPr>
              <a:xfrm>
                <a:off x="5840280" y="184464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4" y="145"/>
                    </a:lnTo>
                    <a:lnTo>
                      <a:pt x="390" y="158"/>
                    </a:lnTo>
                    <a:lnTo>
                      <a:pt x="386" y="170"/>
                    </a:lnTo>
                    <a:lnTo>
                      <a:pt x="379" y="182"/>
                    </a:lnTo>
                    <a:lnTo>
                      <a:pt x="371" y="195"/>
                    </a:lnTo>
                    <a:lnTo>
                      <a:pt x="361" y="204"/>
                    </a:lnTo>
                    <a:lnTo>
                      <a:pt x="349" y="215"/>
                    </a:lnTo>
                    <a:lnTo>
                      <a:pt x="337" y="225"/>
                    </a:lnTo>
                    <a:lnTo>
                      <a:pt x="323" y="233"/>
                    </a:lnTo>
                    <a:lnTo>
                      <a:pt x="308" y="240"/>
                    </a:lnTo>
                    <a:lnTo>
                      <a:pt x="292" y="247"/>
                    </a:lnTo>
                    <a:lnTo>
                      <a:pt x="274" y="252"/>
                    </a:lnTo>
                    <a:lnTo>
                      <a:pt x="256" y="256"/>
                    </a:lnTo>
                    <a:lnTo>
                      <a:pt x="237" y="261"/>
                    </a:lnTo>
                    <a:lnTo>
                      <a:pt x="218" y="262"/>
                    </a:lnTo>
                    <a:lnTo>
                      <a:pt x="197" y="263"/>
                    </a:lnTo>
                    <a:lnTo>
                      <a:pt x="178" y="262"/>
                    </a:lnTo>
                    <a:lnTo>
                      <a:pt x="157" y="261"/>
                    </a:lnTo>
                    <a:lnTo>
                      <a:pt x="138" y="256"/>
                    </a:lnTo>
                    <a:lnTo>
                      <a:pt x="120" y="252"/>
                    </a:lnTo>
                    <a:lnTo>
                      <a:pt x="104" y="247"/>
                    </a:lnTo>
                    <a:lnTo>
                      <a:pt x="88" y="240"/>
                    </a:lnTo>
                    <a:lnTo>
                      <a:pt x="73" y="233"/>
                    </a:lnTo>
                    <a:lnTo>
                      <a:pt x="57" y="225"/>
                    </a:lnTo>
                    <a:lnTo>
                      <a:pt x="45" y="215"/>
                    </a:lnTo>
                    <a:lnTo>
                      <a:pt x="34" y="204"/>
                    </a:lnTo>
                    <a:lnTo>
                      <a:pt x="25" y="195"/>
                    </a:lnTo>
                    <a:lnTo>
                      <a:pt x="16" y="182"/>
                    </a:lnTo>
                    <a:lnTo>
                      <a:pt x="10" y="170"/>
                    </a:lnTo>
                    <a:lnTo>
                      <a:pt x="4" y="158"/>
                    </a:lnTo>
                    <a:lnTo>
                      <a:pt x="1" y="145"/>
                    </a:lnTo>
                    <a:lnTo>
                      <a:pt x="0" y="132"/>
                    </a:lnTo>
                    <a:lnTo>
                      <a:pt x="1" y="118"/>
                    </a:lnTo>
                    <a:lnTo>
                      <a:pt x="4" y="104"/>
                    </a:lnTo>
                    <a:lnTo>
                      <a:pt x="10" y="92"/>
                    </a:lnTo>
                    <a:lnTo>
                      <a:pt x="16" y="80"/>
                    </a:lnTo>
                    <a:lnTo>
                      <a:pt x="25" y="69"/>
                    </a:lnTo>
                    <a:lnTo>
                      <a:pt x="34" y="58"/>
                    </a:lnTo>
                    <a:lnTo>
                      <a:pt x="45" y="48"/>
                    </a:lnTo>
                    <a:lnTo>
                      <a:pt x="57" y="39"/>
                    </a:lnTo>
                    <a:lnTo>
                      <a:pt x="73" y="30"/>
                    </a:lnTo>
                    <a:lnTo>
                      <a:pt x="88" y="22"/>
                    </a:lnTo>
                    <a:lnTo>
                      <a:pt x="104" y="15"/>
                    </a:lnTo>
                    <a:lnTo>
                      <a:pt x="120" y="10"/>
                    </a:lnTo>
                    <a:lnTo>
                      <a:pt x="138" y="6"/>
                    </a:lnTo>
                    <a:lnTo>
                      <a:pt x="157" y="3"/>
                    </a:lnTo>
                    <a:lnTo>
                      <a:pt x="178" y="0"/>
                    </a:lnTo>
                    <a:lnTo>
                      <a:pt x="197" y="0"/>
                    </a:lnTo>
                    <a:lnTo>
                      <a:pt x="218" y="0"/>
                    </a:lnTo>
                    <a:lnTo>
                      <a:pt x="237" y="3"/>
                    </a:lnTo>
                    <a:lnTo>
                      <a:pt x="256" y="6"/>
                    </a:lnTo>
                    <a:lnTo>
                      <a:pt x="274" y="10"/>
                    </a:lnTo>
                    <a:lnTo>
                      <a:pt x="292" y="15"/>
                    </a:lnTo>
                    <a:lnTo>
                      <a:pt x="308" y="22"/>
                    </a:lnTo>
                    <a:lnTo>
                      <a:pt x="323" y="30"/>
                    </a:lnTo>
                    <a:lnTo>
                      <a:pt x="337" y="39"/>
                    </a:lnTo>
                    <a:lnTo>
                      <a:pt x="349" y="48"/>
                    </a:lnTo>
                    <a:lnTo>
                      <a:pt x="361" y="58"/>
                    </a:lnTo>
                    <a:lnTo>
                      <a:pt x="371" y="69"/>
                    </a:lnTo>
                    <a:lnTo>
                      <a:pt x="379" y="80"/>
                    </a:lnTo>
                    <a:lnTo>
                      <a:pt x="386" y="92"/>
                    </a:lnTo>
                    <a:lnTo>
                      <a:pt x="390" y="104"/>
                    </a:lnTo>
                    <a:lnTo>
                      <a:pt x="394"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7" name="WordArt 523"/>
              <p:cNvSpPr txBox="1"/>
              <p:nvPr/>
            </p:nvSpPr>
            <p:spPr>
              <a:xfrm>
                <a:off x="594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80%</a:t>
                </a:r>
                <a:endParaRPr b="0" lang="en-US" sz="1400" spc="-1" strike="noStrike">
                  <a:ln w="0">
                    <a:noFill/>
                  </a:ln>
                  <a:solidFill>
                    <a:srgbClr val="ffffff"/>
                  </a:solidFill>
                  <a:latin typeface="Arial Black"/>
                  <a:ea typeface="Arial Black"/>
                </a:endParaRPr>
              </a:p>
            </p:txBody>
          </p:sp>
          <p:grpSp>
            <p:nvGrpSpPr>
              <p:cNvPr id="718" name="Group 494"/>
              <p:cNvGrpSpPr/>
              <p:nvPr/>
            </p:nvGrpSpPr>
            <p:grpSpPr>
              <a:xfrm>
                <a:off x="5724360" y="1197000"/>
                <a:ext cx="936720" cy="4319640"/>
                <a:chOff x="5724360" y="1197000"/>
                <a:chExt cx="936720" cy="4319640"/>
              </a:xfrm>
            </p:grpSpPr>
            <p:grpSp>
              <p:nvGrpSpPr>
                <p:cNvPr id="719" name="Freeform 489"/>
                <p:cNvGrpSpPr/>
                <p:nvPr/>
              </p:nvGrpSpPr>
              <p:grpSpPr>
                <a:xfrm>
                  <a:off x="5724360" y="1197000"/>
                  <a:ext cx="936720" cy="4319640"/>
                  <a:chOff x="5724360" y="1197000"/>
                  <a:chExt cx="936720" cy="4319640"/>
                </a:xfrm>
              </p:grpSpPr>
              <p:pic>
                <p:nvPicPr>
                  <p:cNvPr id="720" name="Freeform 489" descr=""/>
                  <p:cNvPicPr/>
                  <p:nvPr/>
                </p:nvPicPr>
                <p:blipFill>
                  <a:blip r:embed="rId3"/>
                  <a:stretch/>
                </p:blipFill>
                <p:spPr>
                  <a:xfrm>
                    <a:off x="5724360" y="1197000"/>
                    <a:ext cx="936720" cy="4319640"/>
                  </a:xfrm>
                  <a:prstGeom prst="rect">
                    <a:avLst/>
                  </a:prstGeom>
                  <a:ln w="0">
                    <a:noFill/>
                  </a:ln>
                </p:spPr>
              </p:pic>
              <p:sp>
                <p:nvSpPr>
                  <p:cNvPr id="721" name=""/>
                  <p:cNvSpPr/>
                  <p:nvPr/>
                </p:nvSpPr>
                <p:spPr>
                  <a:xfrm>
                    <a:off x="5730480" y="1204920"/>
                    <a:ext cx="922680" cy="430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22" name="Oval 490"/>
                <p:cNvSpPr/>
                <p:nvPr/>
              </p:nvSpPr>
              <p:spPr>
                <a:xfrm>
                  <a:off x="5872680" y="1562400"/>
                  <a:ext cx="140400" cy="358848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3" name="Oval 491"/>
                <p:cNvSpPr/>
                <p:nvPr/>
              </p:nvSpPr>
              <p:spPr>
                <a:xfrm>
                  <a:off x="5874480" y="1347120"/>
                  <a:ext cx="210600" cy="215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724" name="그룹 50"/>
            <p:cNvGrpSpPr/>
            <p:nvPr/>
          </p:nvGrpSpPr>
          <p:grpSpPr>
            <a:xfrm>
              <a:off x="6732720" y="1197000"/>
              <a:ext cx="1079280" cy="4751280"/>
              <a:chOff x="6732720" y="1197000"/>
              <a:chExt cx="1079280" cy="4751280"/>
            </a:xfrm>
          </p:grpSpPr>
          <p:sp>
            <p:nvSpPr>
              <p:cNvPr id="725" name="Oval 479"/>
              <p:cNvSpPr/>
              <p:nvPr/>
            </p:nvSpPr>
            <p:spPr>
              <a:xfrm>
                <a:off x="673272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6" name="Freeform 467"/>
              <p:cNvSpPr/>
              <p:nvPr/>
            </p:nvSpPr>
            <p:spPr>
              <a:xfrm>
                <a:off x="6921360" y="1304640"/>
                <a:ext cx="701640" cy="4103640"/>
              </a:xfrm>
              <a:custGeom>
                <a:avLst/>
                <a:gdLst/>
                <a:ahLst/>
                <a:rect l="l" t="t" r="r" b="b"/>
                <a:pathLst>
                  <a:path w="394" h="2497">
                    <a:moveTo>
                      <a:pt x="394" y="197"/>
                    </a:moveTo>
                    <a:lnTo>
                      <a:pt x="394" y="197"/>
                    </a:lnTo>
                    <a:lnTo>
                      <a:pt x="394" y="176"/>
                    </a:lnTo>
                    <a:lnTo>
                      <a:pt x="390" y="157"/>
                    </a:lnTo>
                    <a:lnTo>
                      <a:pt x="386" y="138"/>
                    </a:lnTo>
                    <a:lnTo>
                      <a:pt x="379" y="120"/>
                    </a:lnTo>
                    <a:lnTo>
                      <a:pt x="371" y="102"/>
                    </a:lnTo>
                    <a:lnTo>
                      <a:pt x="361" y="86"/>
                    </a:lnTo>
                    <a:lnTo>
                      <a:pt x="349" y="71"/>
                    </a:lnTo>
                    <a:lnTo>
                      <a:pt x="337" y="57"/>
                    </a:lnTo>
                    <a:lnTo>
                      <a:pt x="323" y="45"/>
                    </a:lnTo>
                    <a:lnTo>
                      <a:pt x="308" y="33"/>
                    </a:lnTo>
                    <a:lnTo>
                      <a:pt x="292" y="23"/>
                    </a:lnTo>
                    <a:lnTo>
                      <a:pt x="274" y="15"/>
                    </a:lnTo>
                    <a:lnTo>
                      <a:pt x="256" y="8"/>
                    </a:lnTo>
                    <a:lnTo>
                      <a:pt x="237" y="4"/>
                    </a:lnTo>
                    <a:lnTo>
                      <a:pt x="218" y="0"/>
                    </a:lnTo>
                    <a:lnTo>
                      <a:pt x="197" y="0"/>
                    </a:lnTo>
                    <a:lnTo>
                      <a:pt x="178" y="0"/>
                    </a:lnTo>
                    <a:lnTo>
                      <a:pt x="157" y="4"/>
                    </a:lnTo>
                    <a:lnTo>
                      <a:pt x="138" y="8"/>
                    </a:lnTo>
                    <a:lnTo>
                      <a:pt x="121" y="15"/>
                    </a:lnTo>
                    <a:lnTo>
                      <a:pt x="104" y="23"/>
                    </a:lnTo>
                    <a:lnTo>
                      <a:pt x="88" y="33"/>
                    </a:lnTo>
                    <a:lnTo>
                      <a:pt x="73" y="45"/>
                    </a:lnTo>
                    <a:lnTo>
                      <a:pt x="58" y="57"/>
                    </a:lnTo>
                    <a:lnTo>
                      <a:pt x="45" y="71"/>
                    </a:lnTo>
                    <a:lnTo>
                      <a:pt x="34" y="86"/>
                    </a:lnTo>
                    <a:lnTo>
                      <a:pt x="25" y="102"/>
                    </a:lnTo>
                    <a:lnTo>
                      <a:pt x="16" y="120"/>
                    </a:lnTo>
                    <a:lnTo>
                      <a:pt x="10" y="138"/>
                    </a:lnTo>
                    <a:lnTo>
                      <a:pt x="4" y="157"/>
                    </a:lnTo>
                    <a:lnTo>
                      <a:pt x="1" y="176"/>
                    </a:lnTo>
                    <a:lnTo>
                      <a:pt x="0" y="197"/>
                    </a:lnTo>
                    <a:lnTo>
                      <a:pt x="0" y="2300"/>
                    </a:lnTo>
                    <a:lnTo>
                      <a:pt x="1" y="2321"/>
                    </a:lnTo>
                    <a:lnTo>
                      <a:pt x="4" y="2340"/>
                    </a:lnTo>
                    <a:lnTo>
                      <a:pt x="10" y="2359"/>
                    </a:lnTo>
                    <a:lnTo>
                      <a:pt x="16" y="2377"/>
                    </a:lnTo>
                    <a:lnTo>
                      <a:pt x="25" y="2395"/>
                    </a:lnTo>
                    <a:lnTo>
                      <a:pt x="34" y="2410"/>
                    </a:lnTo>
                    <a:lnTo>
                      <a:pt x="45" y="2426"/>
                    </a:lnTo>
                    <a:lnTo>
                      <a:pt x="58" y="2440"/>
                    </a:lnTo>
                    <a:lnTo>
                      <a:pt x="73" y="2452"/>
                    </a:lnTo>
                    <a:lnTo>
                      <a:pt x="88" y="2463"/>
                    </a:lnTo>
                    <a:lnTo>
                      <a:pt x="104" y="2474"/>
                    </a:lnTo>
                    <a:lnTo>
                      <a:pt x="121" y="2482"/>
                    </a:lnTo>
                    <a:lnTo>
                      <a:pt x="138" y="2489"/>
                    </a:lnTo>
                    <a:lnTo>
                      <a:pt x="157" y="2493"/>
                    </a:lnTo>
                    <a:lnTo>
                      <a:pt x="178" y="2496"/>
                    </a:lnTo>
                    <a:lnTo>
                      <a:pt x="197" y="2497"/>
                    </a:lnTo>
                    <a:lnTo>
                      <a:pt x="218" y="2496"/>
                    </a:lnTo>
                    <a:lnTo>
                      <a:pt x="237" y="2493"/>
                    </a:lnTo>
                    <a:lnTo>
                      <a:pt x="256" y="2489"/>
                    </a:lnTo>
                    <a:lnTo>
                      <a:pt x="274" y="2482"/>
                    </a:lnTo>
                    <a:lnTo>
                      <a:pt x="292" y="2474"/>
                    </a:lnTo>
                    <a:lnTo>
                      <a:pt x="308" y="2463"/>
                    </a:lnTo>
                    <a:lnTo>
                      <a:pt x="323" y="2452"/>
                    </a:lnTo>
                    <a:lnTo>
                      <a:pt x="337" y="2440"/>
                    </a:lnTo>
                    <a:lnTo>
                      <a:pt x="349" y="2426"/>
                    </a:lnTo>
                    <a:lnTo>
                      <a:pt x="361" y="2410"/>
                    </a:lnTo>
                    <a:lnTo>
                      <a:pt x="371" y="2395"/>
                    </a:lnTo>
                    <a:lnTo>
                      <a:pt x="379" y="2377"/>
                    </a:lnTo>
                    <a:lnTo>
                      <a:pt x="386" y="2359"/>
                    </a:lnTo>
                    <a:lnTo>
                      <a:pt x="390" y="2340"/>
                    </a:lnTo>
                    <a:lnTo>
                      <a:pt x="394" y="2321"/>
                    </a:lnTo>
                    <a:lnTo>
                      <a:pt x="394" y="2300"/>
                    </a:lnTo>
                    <a:lnTo>
                      <a:pt x="394" y="197"/>
                    </a:lnTo>
                    <a:close/>
                  </a:path>
                </a:pathLst>
              </a:custGeom>
              <a:gradFill rotWithShape="0">
                <a:gsLst>
                  <a:gs pos="0">
                    <a:srgbClr val="875818"/>
                  </a:gs>
                  <a:gs pos="100000">
                    <a:srgbClr val="420000"/>
                  </a:gs>
                </a:gsLst>
                <a:lin ang="10800000"/>
              </a:gradFill>
              <a:ln w="0">
                <a:noFill/>
              </a:ln>
              <a:effectLst>
                <a:outerShdw dist="153753" dir="2700000" blurRad="0" rotWithShape="0">
                  <a:srgbClr val="000000">
                    <a:alpha val="17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727" name="WordArt 524"/>
              <p:cNvSpPr txBox="1"/>
              <p:nvPr/>
            </p:nvSpPr>
            <p:spPr>
              <a:xfrm>
                <a:off x="6948360" y="494028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00%</a:t>
                </a:r>
                <a:endParaRPr b="0" lang="en-US" sz="1400" spc="-1" strike="noStrike">
                  <a:ln w="0">
                    <a:noFill/>
                  </a:ln>
                  <a:solidFill>
                    <a:srgbClr val="ffffff"/>
                  </a:solidFill>
                  <a:latin typeface="Arial Black"/>
                  <a:ea typeface="Arial Black"/>
                </a:endParaRPr>
              </a:p>
            </p:txBody>
          </p:sp>
          <p:grpSp>
            <p:nvGrpSpPr>
              <p:cNvPr id="728" name="Group 499"/>
              <p:cNvGrpSpPr/>
              <p:nvPr/>
            </p:nvGrpSpPr>
            <p:grpSpPr>
              <a:xfrm>
                <a:off x="6804000" y="1197000"/>
                <a:ext cx="936720" cy="4319640"/>
                <a:chOff x="6804000" y="1197000"/>
                <a:chExt cx="936720" cy="4319640"/>
              </a:xfrm>
            </p:grpSpPr>
            <p:grpSp>
              <p:nvGrpSpPr>
                <p:cNvPr id="729" name="Freeform 500"/>
                <p:cNvGrpSpPr/>
                <p:nvPr/>
              </p:nvGrpSpPr>
              <p:grpSpPr>
                <a:xfrm>
                  <a:off x="6804000" y="1197000"/>
                  <a:ext cx="936720" cy="4319640"/>
                  <a:chOff x="6804000" y="1197000"/>
                  <a:chExt cx="936720" cy="4319640"/>
                </a:xfrm>
              </p:grpSpPr>
              <p:pic>
                <p:nvPicPr>
                  <p:cNvPr id="730" name="Freeform 500" descr=""/>
                  <p:cNvPicPr/>
                  <p:nvPr/>
                </p:nvPicPr>
                <p:blipFill>
                  <a:blip r:embed="rId4"/>
                  <a:stretch/>
                </p:blipFill>
                <p:spPr>
                  <a:xfrm>
                    <a:off x="6804000" y="1197000"/>
                    <a:ext cx="936720" cy="4319640"/>
                  </a:xfrm>
                  <a:prstGeom prst="rect">
                    <a:avLst/>
                  </a:prstGeom>
                  <a:ln w="0">
                    <a:noFill/>
                  </a:ln>
                </p:spPr>
              </p:pic>
              <p:sp>
                <p:nvSpPr>
                  <p:cNvPr id="731" name=""/>
                  <p:cNvSpPr/>
                  <p:nvPr/>
                </p:nvSpPr>
                <p:spPr>
                  <a:xfrm>
                    <a:off x="6810840" y="1204920"/>
                    <a:ext cx="922680" cy="430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32" name="Oval 501"/>
                <p:cNvSpPr/>
                <p:nvPr/>
              </p:nvSpPr>
              <p:spPr>
                <a:xfrm>
                  <a:off x="6952320" y="1562400"/>
                  <a:ext cx="140400" cy="358848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3" name="Oval 502"/>
                <p:cNvSpPr/>
                <p:nvPr/>
              </p:nvSpPr>
              <p:spPr>
                <a:xfrm>
                  <a:off x="6954120" y="1347120"/>
                  <a:ext cx="210600" cy="215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734" name="그룹 52"/>
            <p:cNvGrpSpPr/>
            <p:nvPr/>
          </p:nvGrpSpPr>
          <p:grpSpPr>
            <a:xfrm>
              <a:off x="4572000" y="1197000"/>
              <a:ext cx="1079280" cy="4751280"/>
              <a:chOff x="4572000" y="1197000"/>
              <a:chExt cx="1079280" cy="4751280"/>
            </a:xfrm>
          </p:grpSpPr>
          <p:sp>
            <p:nvSpPr>
              <p:cNvPr id="735" name="Oval 477"/>
              <p:cNvSpPr/>
              <p:nvPr/>
            </p:nvSpPr>
            <p:spPr>
              <a:xfrm>
                <a:off x="457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6" name="Freeform 458"/>
              <p:cNvSpPr/>
              <p:nvPr/>
            </p:nvSpPr>
            <p:spPr>
              <a:xfrm>
                <a:off x="4760640" y="2925720"/>
                <a:ext cx="701640" cy="2482920"/>
              </a:xfrm>
              <a:custGeom>
                <a:avLst/>
                <a:gdLst>
                  <a:gd name="textAreaLeft" fmla="*/ 0 w 701640"/>
                  <a:gd name="textAreaRight" fmla="*/ 701640 w 701640"/>
                  <a:gd name="textAreaTop" fmla="*/ 0 h 2482920"/>
                  <a:gd name="textAreaBottom" fmla="*/ 2483280 h 2482920"/>
                </a:gdLst>
                <a:ahLst/>
                <a:rect l="textAreaLeft" t="textAreaTop" r="textAreaRight" b="textAreaBottom"/>
                <a:pathLst>
                  <a:path w="394" h="1511">
                    <a:moveTo>
                      <a:pt x="0" y="0"/>
                    </a:moveTo>
                    <a:lnTo>
                      <a:pt x="0" y="1314"/>
                    </a:lnTo>
                    <a:lnTo>
                      <a:pt x="1" y="1335"/>
                    </a:lnTo>
                    <a:lnTo>
                      <a:pt x="4" y="1354"/>
                    </a:lnTo>
                    <a:lnTo>
                      <a:pt x="9" y="1373"/>
                    </a:lnTo>
                    <a:lnTo>
                      <a:pt x="15" y="1391"/>
                    </a:lnTo>
                    <a:lnTo>
                      <a:pt x="25" y="1409"/>
                    </a:lnTo>
                    <a:lnTo>
                      <a:pt x="34" y="1424"/>
                    </a:lnTo>
                    <a:lnTo>
                      <a:pt x="45" y="1440"/>
                    </a:lnTo>
                    <a:lnTo>
                      <a:pt x="57" y="1454"/>
                    </a:lnTo>
                    <a:lnTo>
                      <a:pt x="72" y="1466"/>
                    </a:lnTo>
                    <a:lnTo>
                      <a:pt x="88" y="1477"/>
                    </a:lnTo>
                    <a:lnTo>
                      <a:pt x="104" y="1488"/>
                    </a:lnTo>
                    <a:lnTo>
                      <a:pt x="120" y="1496"/>
                    </a:lnTo>
                    <a:lnTo>
                      <a:pt x="138" y="1503"/>
                    </a:lnTo>
                    <a:lnTo>
                      <a:pt x="157" y="1507"/>
                    </a:lnTo>
                    <a:lnTo>
                      <a:pt x="177" y="1510"/>
                    </a:lnTo>
                    <a:lnTo>
                      <a:pt x="197" y="1511"/>
                    </a:lnTo>
                    <a:lnTo>
                      <a:pt x="218" y="1510"/>
                    </a:lnTo>
                    <a:lnTo>
                      <a:pt x="237" y="1507"/>
                    </a:lnTo>
                    <a:lnTo>
                      <a:pt x="256" y="1503"/>
                    </a:lnTo>
                    <a:lnTo>
                      <a:pt x="274" y="1496"/>
                    </a:lnTo>
                    <a:lnTo>
                      <a:pt x="291" y="1488"/>
                    </a:lnTo>
                    <a:lnTo>
                      <a:pt x="308" y="1477"/>
                    </a:lnTo>
                    <a:lnTo>
                      <a:pt x="323" y="1466"/>
                    </a:lnTo>
                    <a:lnTo>
                      <a:pt x="337" y="1454"/>
                    </a:lnTo>
                    <a:lnTo>
                      <a:pt x="349" y="1440"/>
                    </a:lnTo>
                    <a:lnTo>
                      <a:pt x="361" y="1424"/>
                    </a:lnTo>
                    <a:lnTo>
                      <a:pt x="371" y="1409"/>
                    </a:lnTo>
                    <a:lnTo>
                      <a:pt x="379" y="1391"/>
                    </a:lnTo>
                    <a:lnTo>
                      <a:pt x="386" y="1373"/>
                    </a:lnTo>
                    <a:lnTo>
                      <a:pt x="390" y="1354"/>
                    </a:lnTo>
                    <a:lnTo>
                      <a:pt x="393" y="1335"/>
                    </a:lnTo>
                    <a:lnTo>
                      <a:pt x="394" y="1314"/>
                    </a:lnTo>
                    <a:lnTo>
                      <a:pt x="394" y="0"/>
                    </a:lnTo>
                    <a:lnTo>
                      <a:pt x="0" y="0"/>
                    </a:lnTo>
                    <a:close/>
                  </a:path>
                </a:pathLst>
              </a:cu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37" name="Freeform 459"/>
              <p:cNvSpPr/>
              <p:nvPr/>
            </p:nvSpPr>
            <p:spPr>
              <a:xfrm>
                <a:off x="4760640" y="270828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3" y="145"/>
                    </a:lnTo>
                    <a:lnTo>
                      <a:pt x="390" y="158"/>
                    </a:lnTo>
                    <a:lnTo>
                      <a:pt x="386" y="170"/>
                    </a:lnTo>
                    <a:lnTo>
                      <a:pt x="379" y="182"/>
                    </a:lnTo>
                    <a:lnTo>
                      <a:pt x="371" y="195"/>
                    </a:lnTo>
                    <a:lnTo>
                      <a:pt x="361" y="204"/>
                    </a:lnTo>
                    <a:lnTo>
                      <a:pt x="349" y="215"/>
                    </a:lnTo>
                    <a:lnTo>
                      <a:pt x="337" y="225"/>
                    </a:lnTo>
                    <a:lnTo>
                      <a:pt x="323" y="233"/>
                    </a:lnTo>
                    <a:lnTo>
                      <a:pt x="308" y="240"/>
                    </a:lnTo>
                    <a:lnTo>
                      <a:pt x="291" y="247"/>
                    </a:lnTo>
                    <a:lnTo>
                      <a:pt x="274" y="252"/>
                    </a:lnTo>
                    <a:lnTo>
                      <a:pt x="256" y="256"/>
                    </a:lnTo>
                    <a:lnTo>
                      <a:pt x="237" y="260"/>
                    </a:lnTo>
                    <a:lnTo>
                      <a:pt x="218" y="262"/>
                    </a:lnTo>
                    <a:lnTo>
                      <a:pt x="197" y="263"/>
                    </a:lnTo>
                    <a:lnTo>
                      <a:pt x="177" y="262"/>
                    </a:lnTo>
                    <a:lnTo>
                      <a:pt x="157" y="260"/>
                    </a:lnTo>
                    <a:lnTo>
                      <a:pt x="138" y="256"/>
                    </a:lnTo>
                    <a:lnTo>
                      <a:pt x="120" y="252"/>
                    </a:lnTo>
                    <a:lnTo>
                      <a:pt x="104" y="247"/>
                    </a:lnTo>
                    <a:lnTo>
                      <a:pt x="88" y="240"/>
                    </a:lnTo>
                    <a:lnTo>
                      <a:pt x="72" y="233"/>
                    </a:lnTo>
                    <a:lnTo>
                      <a:pt x="57" y="225"/>
                    </a:lnTo>
                    <a:lnTo>
                      <a:pt x="45" y="215"/>
                    </a:lnTo>
                    <a:lnTo>
                      <a:pt x="34" y="204"/>
                    </a:lnTo>
                    <a:lnTo>
                      <a:pt x="25" y="195"/>
                    </a:lnTo>
                    <a:lnTo>
                      <a:pt x="15" y="182"/>
                    </a:lnTo>
                    <a:lnTo>
                      <a:pt x="9" y="170"/>
                    </a:lnTo>
                    <a:lnTo>
                      <a:pt x="4" y="158"/>
                    </a:lnTo>
                    <a:lnTo>
                      <a:pt x="1" y="145"/>
                    </a:lnTo>
                    <a:lnTo>
                      <a:pt x="0" y="132"/>
                    </a:lnTo>
                    <a:lnTo>
                      <a:pt x="1" y="118"/>
                    </a:lnTo>
                    <a:lnTo>
                      <a:pt x="4" y="104"/>
                    </a:lnTo>
                    <a:lnTo>
                      <a:pt x="9" y="92"/>
                    </a:lnTo>
                    <a:lnTo>
                      <a:pt x="15" y="80"/>
                    </a:lnTo>
                    <a:lnTo>
                      <a:pt x="25" y="69"/>
                    </a:lnTo>
                    <a:lnTo>
                      <a:pt x="34" y="58"/>
                    </a:lnTo>
                    <a:lnTo>
                      <a:pt x="45" y="48"/>
                    </a:lnTo>
                    <a:lnTo>
                      <a:pt x="57" y="38"/>
                    </a:lnTo>
                    <a:lnTo>
                      <a:pt x="72" y="30"/>
                    </a:lnTo>
                    <a:lnTo>
                      <a:pt x="88" y="22"/>
                    </a:lnTo>
                    <a:lnTo>
                      <a:pt x="104" y="15"/>
                    </a:lnTo>
                    <a:lnTo>
                      <a:pt x="120" y="10"/>
                    </a:lnTo>
                    <a:lnTo>
                      <a:pt x="138" y="6"/>
                    </a:lnTo>
                    <a:lnTo>
                      <a:pt x="157" y="3"/>
                    </a:lnTo>
                    <a:lnTo>
                      <a:pt x="177" y="0"/>
                    </a:lnTo>
                    <a:lnTo>
                      <a:pt x="197" y="0"/>
                    </a:lnTo>
                    <a:lnTo>
                      <a:pt x="218" y="0"/>
                    </a:lnTo>
                    <a:lnTo>
                      <a:pt x="237" y="3"/>
                    </a:lnTo>
                    <a:lnTo>
                      <a:pt x="256" y="6"/>
                    </a:lnTo>
                    <a:lnTo>
                      <a:pt x="274" y="10"/>
                    </a:lnTo>
                    <a:lnTo>
                      <a:pt x="291" y="15"/>
                    </a:lnTo>
                    <a:lnTo>
                      <a:pt x="308" y="22"/>
                    </a:lnTo>
                    <a:lnTo>
                      <a:pt x="323" y="30"/>
                    </a:lnTo>
                    <a:lnTo>
                      <a:pt x="337" y="38"/>
                    </a:lnTo>
                    <a:lnTo>
                      <a:pt x="349" y="48"/>
                    </a:lnTo>
                    <a:lnTo>
                      <a:pt x="361" y="58"/>
                    </a:lnTo>
                    <a:lnTo>
                      <a:pt x="371" y="69"/>
                    </a:lnTo>
                    <a:lnTo>
                      <a:pt x="379" y="80"/>
                    </a:lnTo>
                    <a:lnTo>
                      <a:pt x="386" y="92"/>
                    </a:lnTo>
                    <a:lnTo>
                      <a:pt x="390" y="104"/>
                    </a:lnTo>
                    <a:lnTo>
                      <a:pt x="393"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38" name="WordArt 522"/>
              <p:cNvSpPr txBox="1"/>
              <p:nvPr/>
            </p:nvSpPr>
            <p:spPr>
              <a:xfrm>
                <a:off x="486072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60%</a:t>
                </a:r>
                <a:endParaRPr b="0" lang="en-US" sz="1400" spc="-1" strike="noStrike">
                  <a:ln w="0">
                    <a:noFill/>
                  </a:ln>
                  <a:solidFill>
                    <a:srgbClr val="ffffff"/>
                  </a:solidFill>
                  <a:latin typeface="Arial Black"/>
                  <a:ea typeface="Arial Black"/>
                </a:endParaRPr>
              </a:p>
            </p:txBody>
          </p:sp>
          <p:grpSp>
            <p:nvGrpSpPr>
              <p:cNvPr id="739" name="Group 503"/>
              <p:cNvGrpSpPr/>
              <p:nvPr/>
            </p:nvGrpSpPr>
            <p:grpSpPr>
              <a:xfrm>
                <a:off x="4643280" y="1197000"/>
                <a:ext cx="936720" cy="4319640"/>
                <a:chOff x="4643280" y="1197000"/>
                <a:chExt cx="936720" cy="4319640"/>
              </a:xfrm>
            </p:grpSpPr>
            <p:grpSp>
              <p:nvGrpSpPr>
                <p:cNvPr id="740" name="Freeform 504"/>
                <p:cNvGrpSpPr/>
                <p:nvPr/>
              </p:nvGrpSpPr>
              <p:grpSpPr>
                <a:xfrm>
                  <a:off x="4643280" y="1197000"/>
                  <a:ext cx="936720" cy="4319640"/>
                  <a:chOff x="4643280" y="1197000"/>
                  <a:chExt cx="936720" cy="4319640"/>
                </a:xfrm>
              </p:grpSpPr>
              <p:pic>
                <p:nvPicPr>
                  <p:cNvPr id="741" name="Freeform 504" descr=""/>
                  <p:cNvPicPr/>
                  <p:nvPr/>
                </p:nvPicPr>
                <p:blipFill>
                  <a:blip r:embed="rId5"/>
                  <a:stretch/>
                </p:blipFill>
                <p:spPr>
                  <a:xfrm>
                    <a:off x="4643280" y="1197000"/>
                    <a:ext cx="936720" cy="4319640"/>
                  </a:xfrm>
                  <a:prstGeom prst="rect">
                    <a:avLst/>
                  </a:prstGeom>
                  <a:ln w="0">
                    <a:noFill/>
                  </a:ln>
                </p:spPr>
              </p:pic>
              <p:sp>
                <p:nvSpPr>
                  <p:cNvPr id="742" name=""/>
                  <p:cNvSpPr/>
                  <p:nvPr/>
                </p:nvSpPr>
                <p:spPr>
                  <a:xfrm>
                    <a:off x="4647600" y="1204920"/>
                    <a:ext cx="928800" cy="430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43" name="Oval 505"/>
                <p:cNvSpPr/>
                <p:nvPr/>
              </p:nvSpPr>
              <p:spPr>
                <a:xfrm>
                  <a:off x="4790880" y="1562400"/>
                  <a:ext cx="141480" cy="358848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4" name="Oval 506"/>
                <p:cNvSpPr/>
                <p:nvPr/>
              </p:nvSpPr>
              <p:spPr>
                <a:xfrm>
                  <a:off x="4792680" y="1347120"/>
                  <a:ext cx="212400" cy="215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745" name="그룹 53"/>
            <p:cNvGrpSpPr/>
            <p:nvPr/>
          </p:nvGrpSpPr>
          <p:grpSpPr>
            <a:xfrm>
              <a:off x="3492360" y="1197000"/>
              <a:ext cx="1079280" cy="4751280"/>
              <a:chOff x="3492360" y="1197000"/>
              <a:chExt cx="1079280" cy="4751280"/>
            </a:xfrm>
          </p:grpSpPr>
          <p:sp>
            <p:nvSpPr>
              <p:cNvPr id="746" name="Oval 476"/>
              <p:cNvSpPr/>
              <p:nvPr/>
            </p:nvSpPr>
            <p:spPr>
              <a:xfrm>
                <a:off x="349236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7" name="Freeform 461"/>
              <p:cNvSpPr/>
              <p:nvPr/>
            </p:nvSpPr>
            <p:spPr>
              <a:xfrm>
                <a:off x="3681000" y="3787920"/>
                <a:ext cx="701640" cy="1620720"/>
              </a:xfrm>
              <a:custGeom>
                <a:avLst/>
                <a:gdLst>
                  <a:gd name="textAreaLeft" fmla="*/ 0 w 701640"/>
                  <a:gd name="textAreaRight" fmla="*/ 701640 w 701640"/>
                  <a:gd name="textAreaTop" fmla="*/ 0 h 1620720"/>
                  <a:gd name="textAreaBottom" fmla="*/ 1621080 h 1620720"/>
                </a:gdLst>
                <a:ahLst/>
                <a:rect l="textAreaLeft" t="textAreaTop" r="textAreaRight" b="textAreaBottom"/>
                <a:pathLst>
                  <a:path w="394" h="986">
                    <a:moveTo>
                      <a:pt x="0" y="0"/>
                    </a:moveTo>
                    <a:lnTo>
                      <a:pt x="0" y="789"/>
                    </a:lnTo>
                    <a:lnTo>
                      <a:pt x="1" y="810"/>
                    </a:lnTo>
                    <a:lnTo>
                      <a:pt x="4" y="829"/>
                    </a:lnTo>
                    <a:lnTo>
                      <a:pt x="9" y="848"/>
                    </a:lnTo>
                    <a:lnTo>
                      <a:pt x="15" y="866"/>
                    </a:lnTo>
                    <a:lnTo>
                      <a:pt x="23" y="884"/>
                    </a:lnTo>
                    <a:lnTo>
                      <a:pt x="34" y="899"/>
                    </a:lnTo>
                    <a:lnTo>
                      <a:pt x="45" y="915"/>
                    </a:lnTo>
                    <a:lnTo>
                      <a:pt x="57" y="929"/>
                    </a:lnTo>
                    <a:lnTo>
                      <a:pt x="71" y="941"/>
                    </a:lnTo>
                    <a:lnTo>
                      <a:pt x="87" y="952"/>
                    </a:lnTo>
                    <a:lnTo>
                      <a:pt x="103" y="963"/>
                    </a:lnTo>
                    <a:lnTo>
                      <a:pt x="120" y="971"/>
                    </a:lnTo>
                    <a:lnTo>
                      <a:pt x="138" y="977"/>
                    </a:lnTo>
                    <a:lnTo>
                      <a:pt x="157" y="982"/>
                    </a:lnTo>
                    <a:lnTo>
                      <a:pt x="176" y="985"/>
                    </a:lnTo>
                    <a:lnTo>
                      <a:pt x="197" y="986"/>
                    </a:lnTo>
                    <a:lnTo>
                      <a:pt x="217" y="985"/>
                    </a:lnTo>
                    <a:lnTo>
                      <a:pt x="237" y="982"/>
                    </a:lnTo>
                    <a:lnTo>
                      <a:pt x="256" y="977"/>
                    </a:lnTo>
                    <a:lnTo>
                      <a:pt x="274" y="971"/>
                    </a:lnTo>
                    <a:lnTo>
                      <a:pt x="291" y="963"/>
                    </a:lnTo>
                    <a:lnTo>
                      <a:pt x="308" y="952"/>
                    </a:lnTo>
                    <a:lnTo>
                      <a:pt x="323" y="941"/>
                    </a:lnTo>
                    <a:lnTo>
                      <a:pt x="337" y="929"/>
                    </a:lnTo>
                    <a:lnTo>
                      <a:pt x="349" y="915"/>
                    </a:lnTo>
                    <a:lnTo>
                      <a:pt x="361" y="899"/>
                    </a:lnTo>
                    <a:lnTo>
                      <a:pt x="371" y="884"/>
                    </a:lnTo>
                    <a:lnTo>
                      <a:pt x="379" y="866"/>
                    </a:lnTo>
                    <a:lnTo>
                      <a:pt x="386" y="848"/>
                    </a:lnTo>
                    <a:lnTo>
                      <a:pt x="390" y="829"/>
                    </a:lnTo>
                    <a:lnTo>
                      <a:pt x="393" y="810"/>
                    </a:lnTo>
                    <a:lnTo>
                      <a:pt x="394" y="789"/>
                    </a:lnTo>
                    <a:lnTo>
                      <a:pt x="394" y="0"/>
                    </a:lnTo>
                    <a:lnTo>
                      <a:pt x="0" y="0"/>
                    </a:lnTo>
                    <a:close/>
                  </a:path>
                </a:pathLst>
              </a:cu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48" name="Freeform 462"/>
              <p:cNvSpPr/>
              <p:nvPr/>
            </p:nvSpPr>
            <p:spPr>
              <a:xfrm>
                <a:off x="3681000" y="357336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1" y="205"/>
                    </a:lnTo>
                    <a:lnTo>
                      <a:pt x="349" y="215"/>
                    </a:lnTo>
                    <a:lnTo>
                      <a:pt x="337" y="225"/>
                    </a:lnTo>
                    <a:lnTo>
                      <a:pt x="323" y="233"/>
                    </a:lnTo>
                    <a:lnTo>
                      <a:pt x="308" y="240"/>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3" y="246"/>
                    </a:lnTo>
                    <a:lnTo>
                      <a:pt x="87" y="240"/>
                    </a:lnTo>
                    <a:lnTo>
                      <a:pt x="71" y="233"/>
                    </a:lnTo>
                    <a:lnTo>
                      <a:pt x="57" y="225"/>
                    </a:lnTo>
                    <a:lnTo>
                      <a:pt x="45" y="215"/>
                    </a:lnTo>
                    <a:lnTo>
                      <a:pt x="34" y="205"/>
                    </a:lnTo>
                    <a:lnTo>
                      <a:pt x="23" y="194"/>
                    </a:lnTo>
                    <a:lnTo>
                      <a:pt x="15" y="182"/>
                    </a:lnTo>
                    <a:lnTo>
                      <a:pt x="9" y="170"/>
                    </a:lnTo>
                    <a:lnTo>
                      <a:pt x="4" y="157"/>
                    </a:lnTo>
                    <a:lnTo>
                      <a:pt x="1" y="145"/>
                    </a:lnTo>
                    <a:lnTo>
                      <a:pt x="0" y="131"/>
                    </a:lnTo>
                    <a:lnTo>
                      <a:pt x="1" y="118"/>
                    </a:lnTo>
                    <a:lnTo>
                      <a:pt x="4" y="105"/>
                    </a:lnTo>
                    <a:lnTo>
                      <a:pt x="9" y="92"/>
                    </a:lnTo>
                    <a:lnTo>
                      <a:pt x="15" y="79"/>
                    </a:lnTo>
                    <a:lnTo>
                      <a:pt x="23" y="68"/>
                    </a:lnTo>
                    <a:lnTo>
                      <a:pt x="34" y="57"/>
                    </a:lnTo>
                    <a:lnTo>
                      <a:pt x="45" y="48"/>
                    </a:lnTo>
                    <a:lnTo>
                      <a:pt x="57" y="38"/>
                    </a:lnTo>
                    <a:lnTo>
                      <a:pt x="71" y="30"/>
                    </a:lnTo>
                    <a:lnTo>
                      <a:pt x="87" y="22"/>
                    </a:lnTo>
                    <a:lnTo>
                      <a:pt x="103" y="15"/>
                    </a:lnTo>
                    <a:lnTo>
                      <a:pt x="120" y="10"/>
                    </a:lnTo>
                    <a:lnTo>
                      <a:pt x="138" y="5"/>
                    </a:lnTo>
                    <a:lnTo>
                      <a:pt x="157" y="3"/>
                    </a:lnTo>
                    <a:lnTo>
                      <a:pt x="176" y="0"/>
                    </a:lnTo>
                    <a:lnTo>
                      <a:pt x="197" y="0"/>
                    </a:lnTo>
                    <a:lnTo>
                      <a:pt x="217" y="0"/>
                    </a:lnTo>
                    <a:lnTo>
                      <a:pt x="237" y="3"/>
                    </a:lnTo>
                    <a:lnTo>
                      <a:pt x="256" y="5"/>
                    </a:lnTo>
                    <a:lnTo>
                      <a:pt x="274" y="10"/>
                    </a:lnTo>
                    <a:lnTo>
                      <a:pt x="291" y="15"/>
                    </a:lnTo>
                    <a:lnTo>
                      <a:pt x="308" y="22"/>
                    </a:lnTo>
                    <a:lnTo>
                      <a:pt x="323" y="30"/>
                    </a:lnTo>
                    <a:lnTo>
                      <a:pt x="337" y="38"/>
                    </a:lnTo>
                    <a:lnTo>
                      <a:pt x="349" y="48"/>
                    </a:lnTo>
                    <a:lnTo>
                      <a:pt x="361" y="57"/>
                    </a:lnTo>
                    <a:lnTo>
                      <a:pt x="371" y="68"/>
                    </a:lnTo>
                    <a:lnTo>
                      <a:pt x="379" y="79"/>
                    </a:lnTo>
                    <a:lnTo>
                      <a:pt x="386" y="92"/>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9" name="WordArt 521"/>
              <p:cNvSpPr txBox="1"/>
              <p:nvPr/>
            </p:nvSpPr>
            <p:spPr>
              <a:xfrm>
                <a:off x="378108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40%</a:t>
                </a:r>
                <a:endParaRPr b="0" lang="en-US" sz="1400" spc="-1" strike="noStrike">
                  <a:ln w="0">
                    <a:noFill/>
                  </a:ln>
                  <a:solidFill>
                    <a:srgbClr val="ffffff"/>
                  </a:solidFill>
                  <a:latin typeface="Arial Black"/>
                  <a:ea typeface="Arial Black"/>
                </a:endParaRPr>
              </a:p>
            </p:txBody>
          </p:sp>
          <p:grpSp>
            <p:nvGrpSpPr>
              <p:cNvPr id="750" name="Group 507"/>
              <p:cNvGrpSpPr/>
              <p:nvPr/>
            </p:nvGrpSpPr>
            <p:grpSpPr>
              <a:xfrm>
                <a:off x="3563640" y="1197000"/>
                <a:ext cx="936720" cy="4319640"/>
                <a:chOff x="3563640" y="1197000"/>
                <a:chExt cx="936720" cy="4319640"/>
              </a:xfrm>
            </p:grpSpPr>
            <p:grpSp>
              <p:nvGrpSpPr>
                <p:cNvPr id="751" name="Freeform 508"/>
                <p:cNvGrpSpPr/>
                <p:nvPr/>
              </p:nvGrpSpPr>
              <p:grpSpPr>
                <a:xfrm>
                  <a:off x="3563640" y="1197000"/>
                  <a:ext cx="936720" cy="4319640"/>
                  <a:chOff x="3563640" y="1197000"/>
                  <a:chExt cx="936720" cy="4319640"/>
                </a:xfrm>
              </p:grpSpPr>
              <p:pic>
                <p:nvPicPr>
                  <p:cNvPr id="752" name="Freeform 508" descr=""/>
                  <p:cNvPicPr/>
                  <p:nvPr/>
                </p:nvPicPr>
                <p:blipFill>
                  <a:blip r:embed="rId6"/>
                  <a:stretch/>
                </p:blipFill>
                <p:spPr>
                  <a:xfrm>
                    <a:off x="3563640" y="1197000"/>
                    <a:ext cx="936720" cy="4319640"/>
                  </a:xfrm>
                  <a:prstGeom prst="rect">
                    <a:avLst/>
                  </a:prstGeom>
                  <a:ln w="0">
                    <a:noFill/>
                  </a:ln>
                </p:spPr>
              </p:pic>
              <p:sp>
                <p:nvSpPr>
                  <p:cNvPr id="753" name=""/>
                  <p:cNvSpPr/>
                  <p:nvPr/>
                </p:nvSpPr>
                <p:spPr>
                  <a:xfrm>
                    <a:off x="3567240" y="1204920"/>
                    <a:ext cx="928800" cy="430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54" name="Oval 509"/>
                <p:cNvSpPr/>
                <p:nvPr/>
              </p:nvSpPr>
              <p:spPr>
                <a:xfrm>
                  <a:off x="3709800" y="1562400"/>
                  <a:ext cx="141480" cy="358848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5" name="Oval 510"/>
                <p:cNvSpPr/>
                <p:nvPr/>
              </p:nvSpPr>
              <p:spPr>
                <a:xfrm>
                  <a:off x="3711600" y="1347120"/>
                  <a:ext cx="212400" cy="215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756" name="그룹 54"/>
            <p:cNvGrpSpPr/>
            <p:nvPr/>
          </p:nvGrpSpPr>
          <p:grpSpPr>
            <a:xfrm>
              <a:off x="2413080" y="1197000"/>
              <a:ext cx="1079280" cy="4751280"/>
              <a:chOff x="2413080" y="1197000"/>
              <a:chExt cx="1079280" cy="4751280"/>
            </a:xfrm>
          </p:grpSpPr>
          <p:sp>
            <p:nvSpPr>
              <p:cNvPr id="757" name="Oval 475"/>
              <p:cNvSpPr/>
              <p:nvPr/>
            </p:nvSpPr>
            <p:spPr>
              <a:xfrm>
                <a:off x="241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8" name="Freeform 464"/>
              <p:cNvSpPr/>
              <p:nvPr/>
            </p:nvSpPr>
            <p:spPr>
              <a:xfrm>
                <a:off x="2601720" y="4653000"/>
                <a:ext cx="699840" cy="755640"/>
              </a:xfrm>
              <a:custGeom>
                <a:avLst/>
                <a:gdLst>
                  <a:gd name="textAreaLeft" fmla="*/ 0 w 699840"/>
                  <a:gd name="textAreaRight" fmla="*/ 700200 w 699840"/>
                  <a:gd name="textAreaTop" fmla="*/ 0 h 755640"/>
                  <a:gd name="textAreaBottom" fmla="*/ 756000 h 755640"/>
                </a:gdLst>
                <a:ahLst/>
                <a:rect l="textAreaLeft" t="textAreaTop" r="textAreaRight" b="textAreaBottom"/>
                <a:pathLst>
                  <a:path w="394" h="460">
                    <a:moveTo>
                      <a:pt x="0" y="0"/>
                    </a:moveTo>
                    <a:lnTo>
                      <a:pt x="0" y="263"/>
                    </a:lnTo>
                    <a:lnTo>
                      <a:pt x="1" y="284"/>
                    </a:lnTo>
                    <a:lnTo>
                      <a:pt x="4" y="303"/>
                    </a:lnTo>
                    <a:lnTo>
                      <a:pt x="8" y="322"/>
                    </a:lnTo>
                    <a:lnTo>
                      <a:pt x="15" y="340"/>
                    </a:lnTo>
                    <a:lnTo>
                      <a:pt x="23" y="358"/>
                    </a:lnTo>
                    <a:lnTo>
                      <a:pt x="34" y="373"/>
                    </a:lnTo>
                    <a:lnTo>
                      <a:pt x="45" y="389"/>
                    </a:lnTo>
                    <a:lnTo>
                      <a:pt x="57" y="403"/>
                    </a:lnTo>
                    <a:lnTo>
                      <a:pt x="71" y="415"/>
                    </a:lnTo>
                    <a:lnTo>
                      <a:pt x="86" y="426"/>
                    </a:lnTo>
                    <a:lnTo>
                      <a:pt x="102" y="437"/>
                    </a:lnTo>
                    <a:lnTo>
                      <a:pt x="120" y="445"/>
                    </a:lnTo>
                    <a:lnTo>
                      <a:pt x="138" y="451"/>
                    </a:lnTo>
                    <a:lnTo>
                      <a:pt x="157" y="456"/>
                    </a:lnTo>
                    <a:lnTo>
                      <a:pt x="176" y="459"/>
                    </a:lnTo>
                    <a:lnTo>
                      <a:pt x="197" y="460"/>
                    </a:lnTo>
                    <a:lnTo>
                      <a:pt x="217" y="459"/>
                    </a:lnTo>
                    <a:lnTo>
                      <a:pt x="237" y="456"/>
                    </a:lnTo>
                    <a:lnTo>
                      <a:pt x="256" y="451"/>
                    </a:lnTo>
                    <a:lnTo>
                      <a:pt x="274" y="445"/>
                    </a:lnTo>
                    <a:lnTo>
                      <a:pt x="291" y="437"/>
                    </a:lnTo>
                    <a:lnTo>
                      <a:pt x="308" y="426"/>
                    </a:lnTo>
                    <a:lnTo>
                      <a:pt x="323" y="415"/>
                    </a:lnTo>
                    <a:lnTo>
                      <a:pt x="337" y="403"/>
                    </a:lnTo>
                    <a:lnTo>
                      <a:pt x="349" y="389"/>
                    </a:lnTo>
                    <a:lnTo>
                      <a:pt x="360" y="373"/>
                    </a:lnTo>
                    <a:lnTo>
                      <a:pt x="371" y="358"/>
                    </a:lnTo>
                    <a:lnTo>
                      <a:pt x="379" y="340"/>
                    </a:lnTo>
                    <a:lnTo>
                      <a:pt x="386" y="322"/>
                    </a:lnTo>
                    <a:lnTo>
                      <a:pt x="390" y="303"/>
                    </a:lnTo>
                    <a:lnTo>
                      <a:pt x="393" y="284"/>
                    </a:lnTo>
                    <a:lnTo>
                      <a:pt x="394" y="263"/>
                    </a:lnTo>
                    <a:lnTo>
                      <a:pt x="394" y="0"/>
                    </a:lnTo>
                    <a:lnTo>
                      <a:pt x="0" y="0"/>
                    </a:lnTo>
                    <a:close/>
                  </a:path>
                </a:pathLst>
              </a:cu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59" name="Freeform 465"/>
              <p:cNvSpPr/>
              <p:nvPr/>
            </p:nvSpPr>
            <p:spPr>
              <a:xfrm>
                <a:off x="2601720" y="4437000"/>
                <a:ext cx="699840" cy="431640"/>
              </a:xfrm>
              <a:custGeom>
                <a:avLst/>
                <a:gdLst>
                  <a:gd name="textAreaLeft" fmla="*/ 0 w 699840"/>
                  <a:gd name="textAreaRight" fmla="*/ 700200 w 6998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0" y="205"/>
                    </a:lnTo>
                    <a:lnTo>
                      <a:pt x="349" y="215"/>
                    </a:lnTo>
                    <a:lnTo>
                      <a:pt x="337" y="224"/>
                    </a:lnTo>
                    <a:lnTo>
                      <a:pt x="323" y="233"/>
                    </a:lnTo>
                    <a:lnTo>
                      <a:pt x="308" y="241"/>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2" y="246"/>
                    </a:lnTo>
                    <a:lnTo>
                      <a:pt x="86" y="241"/>
                    </a:lnTo>
                    <a:lnTo>
                      <a:pt x="71" y="233"/>
                    </a:lnTo>
                    <a:lnTo>
                      <a:pt x="57" y="224"/>
                    </a:lnTo>
                    <a:lnTo>
                      <a:pt x="45" y="215"/>
                    </a:lnTo>
                    <a:lnTo>
                      <a:pt x="34" y="205"/>
                    </a:lnTo>
                    <a:lnTo>
                      <a:pt x="23" y="194"/>
                    </a:lnTo>
                    <a:lnTo>
                      <a:pt x="15" y="182"/>
                    </a:lnTo>
                    <a:lnTo>
                      <a:pt x="8" y="170"/>
                    </a:lnTo>
                    <a:lnTo>
                      <a:pt x="4" y="157"/>
                    </a:lnTo>
                    <a:lnTo>
                      <a:pt x="1" y="145"/>
                    </a:lnTo>
                    <a:lnTo>
                      <a:pt x="0" y="131"/>
                    </a:lnTo>
                    <a:lnTo>
                      <a:pt x="1" y="118"/>
                    </a:lnTo>
                    <a:lnTo>
                      <a:pt x="4" y="105"/>
                    </a:lnTo>
                    <a:lnTo>
                      <a:pt x="8" y="91"/>
                    </a:lnTo>
                    <a:lnTo>
                      <a:pt x="15" y="81"/>
                    </a:lnTo>
                    <a:lnTo>
                      <a:pt x="23" y="68"/>
                    </a:lnTo>
                    <a:lnTo>
                      <a:pt x="34" y="57"/>
                    </a:lnTo>
                    <a:lnTo>
                      <a:pt x="45" y="48"/>
                    </a:lnTo>
                    <a:lnTo>
                      <a:pt x="57" y="38"/>
                    </a:lnTo>
                    <a:lnTo>
                      <a:pt x="71" y="30"/>
                    </a:lnTo>
                    <a:lnTo>
                      <a:pt x="86" y="22"/>
                    </a:lnTo>
                    <a:lnTo>
                      <a:pt x="102" y="16"/>
                    </a:lnTo>
                    <a:lnTo>
                      <a:pt x="120" y="9"/>
                    </a:lnTo>
                    <a:lnTo>
                      <a:pt x="138" y="5"/>
                    </a:lnTo>
                    <a:lnTo>
                      <a:pt x="157" y="2"/>
                    </a:lnTo>
                    <a:lnTo>
                      <a:pt x="176" y="0"/>
                    </a:lnTo>
                    <a:lnTo>
                      <a:pt x="197" y="0"/>
                    </a:lnTo>
                    <a:lnTo>
                      <a:pt x="217" y="0"/>
                    </a:lnTo>
                    <a:lnTo>
                      <a:pt x="237" y="2"/>
                    </a:lnTo>
                    <a:lnTo>
                      <a:pt x="256" y="5"/>
                    </a:lnTo>
                    <a:lnTo>
                      <a:pt x="274" y="9"/>
                    </a:lnTo>
                    <a:lnTo>
                      <a:pt x="291" y="16"/>
                    </a:lnTo>
                    <a:lnTo>
                      <a:pt x="308" y="22"/>
                    </a:lnTo>
                    <a:lnTo>
                      <a:pt x="323" y="30"/>
                    </a:lnTo>
                    <a:lnTo>
                      <a:pt x="337" y="38"/>
                    </a:lnTo>
                    <a:lnTo>
                      <a:pt x="349" y="48"/>
                    </a:lnTo>
                    <a:lnTo>
                      <a:pt x="360" y="57"/>
                    </a:lnTo>
                    <a:lnTo>
                      <a:pt x="371" y="68"/>
                    </a:lnTo>
                    <a:lnTo>
                      <a:pt x="379" y="81"/>
                    </a:lnTo>
                    <a:lnTo>
                      <a:pt x="386" y="91"/>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60" name="WordArt 520"/>
              <p:cNvSpPr txBox="1"/>
              <p:nvPr/>
            </p:nvSpPr>
            <p:spPr>
              <a:xfrm>
                <a:off x="270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0%</a:t>
                </a:r>
                <a:endParaRPr b="0" lang="en-US" sz="1400" spc="-1" strike="noStrike">
                  <a:ln w="0">
                    <a:noFill/>
                  </a:ln>
                  <a:solidFill>
                    <a:srgbClr val="ffffff"/>
                  </a:solidFill>
                  <a:latin typeface="Arial Black"/>
                  <a:ea typeface="Arial Black"/>
                </a:endParaRPr>
              </a:p>
            </p:txBody>
          </p:sp>
          <p:grpSp>
            <p:nvGrpSpPr>
              <p:cNvPr id="761" name="Group 511"/>
              <p:cNvGrpSpPr/>
              <p:nvPr/>
            </p:nvGrpSpPr>
            <p:grpSpPr>
              <a:xfrm>
                <a:off x="2484360" y="1197000"/>
                <a:ext cx="936720" cy="4319640"/>
                <a:chOff x="2484360" y="1197000"/>
                <a:chExt cx="936720" cy="4319640"/>
              </a:xfrm>
            </p:grpSpPr>
            <p:grpSp>
              <p:nvGrpSpPr>
                <p:cNvPr id="762" name="Freeform 512"/>
                <p:cNvGrpSpPr/>
                <p:nvPr/>
              </p:nvGrpSpPr>
              <p:grpSpPr>
                <a:xfrm>
                  <a:off x="2484360" y="1197000"/>
                  <a:ext cx="936720" cy="4319640"/>
                  <a:chOff x="2484360" y="1197000"/>
                  <a:chExt cx="936720" cy="4319640"/>
                </a:xfrm>
              </p:grpSpPr>
              <p:pic>
                <p:nvPicPr>
                  <p:cNvPr id="763" name="Freeform 512" descr=""/>
                  <p:cNvPicPr/>
                  <p:nvPr/>
                </p:nvPicPr>
                <p:blipFill>
                  <a:blip r:embed="rId7"/>
                  <a:stretch/>
                </p:blipFill>
                <p:spPr>
                  <a:xfrm>
                    <a:off x="2484360" y="1197000"/>
                    <a:ext cx="936720" cy="4319640"/>
                  </a:xfrm>
                  <a:prstGeom prst="rect">
                    <a:avLst/>
                  </a:prstGeom>
                  <a:ln w="0">
                    <a:noFill/>
                  </a:ln>
                </p:spPr>
              </p:pic>
              <p:sp>
                <p:nvSpPr>
                  <p:cNvPr id="764" name=""/>
                  <p:cNvSpPr/>
                  <p:nvPr/>
                </p:nvSpPr>
                <p:spPr>
                  <a:xfrm>
                    <a:off x="2487600" y="1204920"/>
                    <a:ext cx="928800" cy="430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65" name="Oval 513"/>
                <p:cNvSpPr/>
                <p:nvPr/>
              </p:nvSpPr>
              <p:spPr>
                <a:xfrm>
                  <a:off x="2630520" y="1562400"/>
                  <a:ext cx="141480" cy="358848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6" name="Oval 514"/>
                <p:cNvSpPr/>
                <p:nvPr/>
              </p:nvSpPr>
              <p:spPr>
                <a:xfrm>
                  <a:off x="2632320" y="1347120"/>
                  <a:ext cx="212400" cy="215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428760" y="152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ffffff"/>
                </a:solidFill>
                <a:latin typeface="Times New Roman"/>
              </a:rPr>
              <a:t>Click To Edit Title Style</a:t>
            </a:r>
            <a:endParaRPr b="1" lang="en-US" sz="3200" spc="-1" strike="noStrike">
              <a:solidFill>
                <a:srgbClr val="ffffff"/>
              </a:solidFill>
              <a:latin typeface="Times New Roman"/>
            </a:endParaRPr>
          </a:p>
        </p:txBody>
      </p:sp>
      <p:grpSp>
        <p:nvGrpSpPr>
          <p:cNvPr id="768" name="그룹 2"/>
          <p:cNvGrpSpPr/>
          <p:nvPr/>
        </p:nvGrpSpPr>
        <p:grpSpPr>
          <a:xfrm>
            <a:off x="-541440" y="1557360"/>
            <a:ext cx="9188640" cy="5652720"/>
            <a:chOff x="-541440" y="1557360"/>
            <a:chExt cx="9188640" cy="5652720"/>
          </a:xfrm>
        </p:grpSpPr>
        <p:sp>
          <p:nvSpPr>
            <p:cNvPr id="769" name="Freeform 187"/>
            <p:cNvSpPr/>
            <p:nvPr/>
          </p:nvSpPr>
          <p:spPr>
            <a:xfrm>
              <a:off x="4392720" y="1881000"/>
              <a:ext cx="2590920" cy="1852560"/>
            </a:xfrm>
            <a:custGeom>
              <a:avLst/>
              <a:gdLst>
                <a:gd name="textAreaLeft" fmla="*/ 0 w 2590920"/>
                <a:gd name="textAreaRight" fmla="*/ 2591280 w 2590920"/>
                <a:gd name="textAreaTop" fmla="*/ 0 h 1852560"/>
                <a:gd name="textAreaBottom" fmla="*/ 1852920 h 18525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0" name="Freeform 188"/>
            <p:cNvSpPr/>
            <p:nvPr/>
          </p:nvSpPr>
          <p:spPr>
            <a:xfrm>
              <a:off x="934920" y="2025360"/>
              <a:ext cx="3598920" cy="2571840"/>
            </a:xfrm>
            <a:custGeom>
              <a:avLst/>
              <a:gdLst>
                <a:gd name="textAreaLeft" fmla="*/ 0 w 3598920"/>
                <a:gd name="textAreaRight" fmla="*/ 3599280 w 3598920"/>
                <a:gd name="textAreaTop" fmla="*/ 0 h 2571840"/>
                <a:gd name="textAreaBottom" fmla="*/ 2572200 h 257184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1" name="Freeform 189"/>
            <p:cNvSpPr/>
            <p:nvPr/>
          </p:nvSpPr>
          <p:spPr>
            <a:xfrm>
              <a:off x="6769080" y="2806560"/>
              <a:ext cx="1439640" cy="1028520"/>
            </a:xfrm>
            <a:custGeom>
              <a:avLst/>
              <a:gdLst>
                <a:gd name="textAreaLeft" fmla="*/ 0 w 1439640"/>
                <a:gd name="textAreaRight" fmla="*/ 1440000 w 1439640"/>
                <a:gd name="textAreaTop" fmla="*/ 0 h 1028520"/>
                <a:gd name="textAreaBottom" fmla="*/ 1028880 h 102852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2" name="Freeform 191"/>
            <p:cNvSpPr/>
            <p:nvPr/>
          </p:nvSpPr>
          <p:spPr>
            <a:xfrm>
              <a:off x="4392720" y="1557360"/>
              <a:ext cx="2590920" cy="1852560"/>
            </a:xfrm>
            <a:custGeom>
              <a:avLst/>
              <a:gdLst>
                <a:gd name="textAreaLeft" fmla="*/ 0 w 2590920"/>
                <a:gd name="textAreaRight" fmla="*/ 2591280 w 2590920"/>
                <a:gd name="textAreaTop" fmla="*/ 0 h 1852560"/>
                <a:gd name="textAreaBottom" fmla="*/ 1852920 h 1852560"/>
              </a:gdLst>
              <a:ahLst/>
              <a:rect l="textAreaLeft" t="textAreaTop" r="textAreaRight" b="textAreaBottom"/>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3" name="Freeform 192"/>
            <p:cNvSpPr/>
            <p:nvPr/>
          </p:nvSpPr>
          <p:spPr>
            <a:xfrm>
              <a:off x="973080" y="1649160"/>
              <a:ext cx="3598920" cy="2571840"/>
            </a:xfrm>
            <a:custGeom>
              <a:avLst/>
              <a:gdLst>
                <a:gd name="textAreaLeft" fmla="*/ 0 w 3598920"/>
                <a:gd name="textAreaRight" fmla="*/ 3599280 w 3598920"/>
                <a:gd name="textAreaTop" fmla="*/ 0 h 2571840"/>
                <a:gd name="textAreaBottom" fmla="*/ 2572200 h 2571840"/>
              </a:gdLst>
              <a:ahLst/>
              <a:rect l="textAreaLeft" t="textAreaTop" r="textAreaRight" b="textAreaBottom"/>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4" name="Freeform 193"/>
            <p:cNvSpPr/>
            <p:nvPr/>
          </p:nvSpPr>
          <p:spPr>
            <a:xfrm>
              <a:off x="6769080" y="2482920"/>
              <a:ext cx="1439640" cy="1028520"/>
            </a:xfrm>
            <a:custGeom>
              <a:avLst/>
              <a:gdLst>
                <a:gd name="textAreaLeft" fmla="*/ 0 w 1439640"/>
                <a:gd name="textAreaRight" fmla="*/ 1440000 w 1439640"/>
                <a:gd name="textAreaTop" fmla="*/ 0 h 1028520"/>
                <a:gd name="textAreaBottom" fmla="*/ 1028880 h 1028520"/>
              </a:gdLst>
              <a:ahLst/>
              <a:rect l="textAreaLeft" t="textAreaTop" r="textAreaRight" b="textAreaBottom"/>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775" name="Oval 196"/>
            <p:cNvGrpSpPr/>
            <p:nvPr/>
          </p:nvGrpSpPr>
          <p:grpSpPr>
            <a:xfrm>
              <a:off x="1176480" y="1846800"/>
              <a:ext cx="3285720" cy="2450520"/>
              <a:chOff x="1176480" y="1846800"/>
              <a:chExt cx="3285720" cy="2450520"/>
            </a:xfrm>
          </p:grpSpPr>
          <p:pic>
            <p:nvPicPr>
              <p:cNvPr id="776" name="Oval 196" descr=""/>
              <p:cNvPicPr/>
              <p:nvPr/>
            </p:nvPicPr>
            <p:blipFill>
              <a:blip r:embed="rId2"/>
              <a:stretch/>
            </p:blipFill>
            <p:spPr>
              <a:xfrm>
                <a:off x="1176480" y="1846800"/>
                <a:ext cx="3285720" cy="2450520"/>
              </a:xfrm>
              <a:prstGeom prst="rect">
                <a:avLst/>
              </a:prstGeom>
              <a:ln w="0">
                <a:noFill/>
              </a:ln>
            </p:spPr>
          </p:pic>
          <p:sp>
            <p:nvSpPr>
              <p:cNvPr id="777" name=""/>
              <p:cNvSpPr/>
              <p:nvPr/>
            </p:nvSpPr>
            <p:spPr>
              <a:xfrm>
                <a:off x="1691280" y="2228400"/>
                <a:ext cx="2088000" cy="1501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78" name="Group 198"/>
            <p:cNvGrpSpPr/>
            <p:nvPr/>
          </p:nvGrpSpPr>
          <p:grpSpPr>
            <a:xfrm>
              <a:off x="-541440" y="4365720"/>
              <a:ext cx="3997080" cy="2844360"/>
              <a:chOff x="-541440" y="4365720"/>
              <a:chExt cx="3997080" cy="2844360"/>
            </a:xfrm>
          </p:grpSpPr>
          <p:sp>
            <p:nvSpPr>
              <p:cNvPr id="779" name="Oval 199"/>
              <p:cNvSpPr/>
              <p:nvPr/>
            </p:nvSpPr>
            <p:spPr>
              <a:xfrm>
                <a:off x="-541440" y="4365720"/>
                <a:ext cx="399708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0" name="Freeform 200"/>
              <p:cNvSpPr/>
              <p:nvPr/>
            </p:nvSpPr>
            <p:spPr>
              <a:xfrm>
                <a:off x="-442440" y="4414320"/>
                <a:ext cx="3801600" cy="1326600"/>
              </a:xfrm>
              <a:custGeom>
                <a:avLst/>
                <a:gdLst>
                  <a:gd name="textAreaLeft" fmla="*/ 0 w 3801600"/>
                  <a:gd name="textAreaRight" fmla="*/ 3801960 w 380160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781" name="Group 201"/>
            <p:cNvGrpSpPr/>
            <p:nvPr/>
          </p:nvGrpSpPr>
          <p:grpSpPr>
            <a:xfrm>
              <a:off x="4716360" y="1773000"/>
              <a:ext cx="1942920" cy="1404720"/>
              <a:chOff x="4716360" y="1773000"/>
              <a:chExt cx="1942920" cy="1404720"/>
            </a:xfrm>
          </p:grpSpPr>
          <p:sp>
            <p:nvSpPr>
              <p:cNvPr id="782" name="Oval 202"/>
              <p:cNvSpPr/>
              <p:nvPr/>
            </p:nvSpPr>
            <p:spPr>
              <a:xfrm>
                <a:off x="4716360" y="1773000"/>
                <a:ext cx="194292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3" name="Freeform 203"/>
              <p:cNvSpPr/>
              <p:nvPr/>
            </p:nvSpPr>
            <p:spPr>
              <a:xfrm>
                <a:off x="4764240" y="1796760"/>
                <a:ext cx="1847880" cy="655200"/>
              </a:xfrm>
              <a:custGeom>
                <a:avLst/>
                <a:gdLst>
                  <a:gd name="textAreaLeft" fmla="*/ 0 w 1847880"/>
                  <a:gd name="textAreaRight" fmla="*/ 1848240 w 184788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784" name="Group 204"/>
            <p:cNvGrpSpPr/>
            <p:nvPr/>
          </p:nvGrpSpPr>
          <p:grpSpPr>
            <a:xfrm>
              <a:off x="7093080" y="2709720"/>
              <a:ext cx="792000" cy="576000"/>
              <a:chOff x="7093080" y="2709720"/>
              <a:chExt cx="792000" cy="576000"/>
            </a:xfrm>
          </p:grpSpPr>
          <p:sp>
            <p:nvSpPr>
              <p:cNvPr id="785" name="Oval 205"/>
              <p:cNvSpPr/>
              <p:nvPr/>
            </p:nvSpPr>
            <p:spPr>
              <a:xfrm>
                <a:off x="7093080" y="2709720"/>
                <a:ext cx="792000" cy="57600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6" name="Freeform 206"/>
              <p:cNvSpPr/>
              <p:nvPr/>
            </p:nvSpPr>
            <p:spPr>
              <a:xfrm>
                <a:off x="7112520" y="2719440"/>
                <a:ext cx="753480" cy="268560"/>
              </a:xfrm>
              <a:custGeom>
                <a:avLst/>
                <a:gdLst>
                  <a:gd name="textAreaLeft" fmla="*/ 0 w 753480"/>
                  <a:gd name="textAreaRight" fmla="*/ 753840 w 753480"/>
                  <a:gd name="textAreaTop" fmla="*/ 0 h 268560"/>
                  <a:gd name="textAreaBottom" fmla="*/ 268920 h 2685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787" name="Text Box 207"/>
            <p:cNvSpPr/>
            <p:nvPr/>
          </p:nvSpPr>
          <p:spPr>
            <a:xfrm>
              <a:off x="4356000" y="4149720"/>
              <a:ext cx="42912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788" name="Text Box 208"/>
            <p:cNvSpPr/>
            <p:nvPr/>
          </p:nvSpPr>
          <p:spPr>
            <a:xfrm>
              <a:off x="1331640" y="2205000"/>
              <a:ext cx="287964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isual</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pealing</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789" name="Text Box 209"/>
            <p:cNvSpPr/>
            <p:nvPr/>
          </p:nvSpPr>
          <p:spPr>
            <a:xfrm>
              <a:off x="287280" y="4899240"/>
              <a:ext cx="2556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mmense</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isual</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ppeal</a:t>
              </a:r>
              <a:endParaRPr b="0" lang="en-US" sz="3200" spc="-1" strike="noStrike">
                <a:solidFill>
                  <a:srgbClr val="000000"/>
                </a:solidFill>
                <a:latin typeface="Gulim"/>
              </a:endParaRPr>
            </a:p>
          </p:txBody>
        </p:sp>
        <p:sp>
          <p:nvSpPr>
            <p:cNvPr id="790" name="Text Box 210"/>
            <p:cNvSpPr/>
            <p:nvPr/>
          </p:nvSpPr>
          <p:spPr>
            <a:xfrm>
              <a:off x="4932360" y="202392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ye-</a:t>
              </a:r>
              <a:endParaRPr b="0" lang="en-US" sz="16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atching Visual</a:t>
              </a:r>
              <a:endParaRPr b="0" lang="en-US" sz="1600" spc="-1" strike="noStrike">
                <a:solidFill>
                  <a:srgbClr val="000000"/>
                </a:solidFill>
                <a:latin typeface="Gulim"/>
              </a:endParaRPr>
            </a:p>
          </p:txBody>
        </p:sp>
        <p:sp>
          <p:nvSpPr>
            <p:cNvPr id="791" name="Text Box 211"/>
            <p:cNvSpPr/>
            <p:nvPr/>
          </p:nvSpPr>
          <p:spPr>
            <a:xfrm>
              <a:off x="7056720" y="2744640"/>
              <a:ext cx="90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Sleek</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Diagram</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amp; Chart</a:t>
              </a:r>
              <a:endParaRPr b="0" lang="en-US" sz="8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793" name="그룹 12"/>
          <p:cNvGrpSpPr/>
          <p:nvPr/>
        </p:nvGrpSpPr>
        <p:grpSpPr>
          <a:xfrm>
            <a:off x="-3427920" y="613800"/>
            <a:ext cx="11998800" cy="9878400"/>
            <a:chOff x="-3427920" y="613800"/>
            <a:chExt cx="11998800" cy="9878400"/>
          </a:xfrm>
        </p:grpSpPr>
        <p:grpSp>
          <p:nvGrpSpPr>
            <p:cNvPr id="794" name="그룹 29"/>
            <p:cNvGrpSpPr/>
            <p:nvPr/>
          </p:nvGrpSpPr>
          <p:grpSpPr>
            <a:xfrm>
              <a:off x="2087640" y="946080"/>
              <a:ext cx="6483240" cy="5101200"/>
              <a:chOff x="2087640" y="946080"/>
              <a:chExt cx="6483240" cy="5101200"/>
            </a:xfrm>
          </p:grpSpPr>
          <p:grpSp>
            <p:nvGrpSpPr>
              <p:cNvPr id="795" name="Group 75"/>
              <p:cNvGrpSpPr/>
              <p:nvPr/>
            </p:nvGrpSpPr>
            <p:grpSpPr>
              <a:xfrm>
                <a:off x="4191120" y="946080"/>
                <a:ext cx="1955520" cy="1955880"/>
                <a:chOff x="4191120" y="946080"/>
                <a:chExt cx="1955520" cy="1955880"/>
              </a:xfrm>
            </p:grpSpPr>
            <p:sp>
              <p:nvSpPr>
                <p:cNvPr id="796" name="Freeform 76"/>
                <p:cNvSpPr/>
                <p:nvPr/>
              </p:nvSpPr>
              <p:spPr>
                <a:xfrm>
                  <a:off x="4876560" y="1631880"/>
                  <a:ext cx="583920" cy="584280"/>
                </a:xfrm>
                <a:custGeom>
                  <a:avLst/>
                  <a:gdLst>
                    <a:gd name="textAreaLeft" fmla="*/ 0 w 583920"/>
                    <a:gd name="textAreaRight" fmla="*/ 584280 w 583920"/>
                    <a:gd name="textAreaTop" fmla="*/ 0 h 584280"/>
                    <a:gd name="textAreaBottom" fmla="*/ 584280 h 584280"/>
                  </a:gdLst>
                  <a:ahLst/>
                  <a:rect l="textAreaLeft" t="textAreaTop" r="textAreaRight" b="textAreaBottom"/>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7" name="Freeform 77"/>
                <p:cNvSpPr/>
                <p:nvPr/>
              </p:nvSpPr>
              <p:spPr>
                <a:xfrm>
                  <a:off x="4647960" y="1403280"/>
                  <a:ext cx="1041120" cy="1041480"/>
                </a:xfrm>
                <a:custGeom>
                  <a:avLst/>
                  <a:gdLst>
                    <a:gd name="textAreaLeft" fmla="*/ 0 w 1041120"/>
                    <a:gd name="textAreaRight" fmla="*/ 1041480 w 1041120"/>
                    <a:gd name="textAreaTop" fmla="*/ 0 h 1041480"/>
                    <a:gd name="textAreaBottom" fmla="*/ 1041480 h 1041480"/>
                  </a:gdLst>
                  <a:ahLst/>
                  <a:rect l="textAreaLeft" t="textAreaTop" r="textAreaRight" b="textAreaBottom"/>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8" name="Freeform 78"/>
                <p:cNvSpPr/>
                <p:nvPr/>
              </p:nvSpPr>
              <p:spPr>
                <a:xfrm>
                  <a:off x="4419360" y="1174680"/>
                  <a:ext cx="1498320" cy="1498680"/>
                </a:xfrm>
                <a:custGeom>
                  <a:avLst/>
                  <a:gdLst>
                    <a:gd name="textAreaLeft" fmla="*/ 0 w 1498320"/>
                    <a:gd name="textAreaRight" fmla="*/ 1498680 w 149832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9" name="Freeform 79"/>
                <p:cNvSpPr/>
                <p:nvPr/>
              </p:nvSpPr>
              <p:spPr>
                <a:xfrm>
                  <a:off x="4191120" y="946080"/>
                  <a:ext cx="1955520" cy="1955880"/>
                </a:xfrm>
                <a:custGeom>
                  <a:avLst/>
                  <a:gdLst>
                    <a:gd name="textAreaLeft" fmla="*/ 0 w 1955520"/>
                    <a:gd name="textAreaRight" fmla="*/ 1955880 w 195552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ffffff">
                    <a:alpha val="1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800" name="AutoShape 53"/>
              <p:cNvGrpSpPr/>
              <p:nvPr/>
            </p:nvGrpSpPr>
            <p:grpSpPr>
              <a:xfrm>
                <a:off x="2517120" y="1889640"/>
                <a:ext cx="2880000" cy="3072600"/>
                <a:chOff x="2517120" y="1889640"/>
                <a:chExt cx="2880000" cy="3072600"/>
              </a:xfrm>
            </p:grpSpPr>
            <p:pic>
              <p:nvPicPr>
                <p:cNvPr id="801" name="AutoShape 53" descr=""/>
                <p:cNvPicPr/>
                <p:nvPr/>
              </p:nvPicPr>
              <p:blipFill>
                <a:blip r:embed="rId2"/>
                <a:stretch/>
              </p:blipFill>
              <p:spPr>
                <a:xfrm>
                  <a:off x="2517120" y="1889640"/>
                  <a:ext cx="2880000" cy="3072600"/>
                </a:xfrm>
                <a:prstGeom prst="rect">
                  <a:avLst/>
                </a:prstGeom>
                <a:ln w="0">
                  <a:noFill/>
                </a:ln>
              </p:spPr>
            </p:pic>
            <p:sp>
              <p:nvSpPr>
                <p:cNvPr id="802" name=""/>
                <p:cNvSpPr/>
                <p:nvPr/>
              </p:nvSpPr>
              <p:spPr>
                <a:xfrm rot="18900000">
                  <a:off x="2340720" y="3038760"/>
                  <a:ext cx="3078360" cy="5900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03" name="Text Box 73"/>
              <p:cNvSpPr/>
              <p:nvPr/>
            </p:nvSpPr>
            <p:spPr>
              <a:xfrm>
                <a:off x="5367240" y="195408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Arial Black"/>
                  </a:rPr>
                  <a:t>Anim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a:rPr>
                  <a:t>Dynamic look to your presentation Animation PowerPoint Templates &amp; Backgrounds for Your Impressive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Arial Black"/>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a:rPr>
                  <a:t>Our easy to use and functional search engine helps you locate the right templates quickly saving you time</a:t>
                </a:r>
                <a:endParaRPr b="0" lang="en-US" sz="1200" spc="-1" strike="noStrike">
                  <a:solidFill>
                    <a:srgbClr val="000000"/>
                  </a:solidFill>
                  <a:latin typeface="Gulim"/>
                </a:endParaRPr>
              </a:p>
            </p:txBody>
          </p:sp>
          <p:sp>
            <p:nvSpPr>
              <p:cNvPr id="804" name="Text Box 74"/>
              <p:cNvSpPr/>
              <p:nvPr/>
            </p:nvSpPr>
            <p:spPr>
              <a:xfrm>
                <a:off x="2087640" y="580104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Arial Black"/>
                  </a:rPr>
                  <a:t>To offer you what you want, when you want</a:t>
                </a:r>
                <a:endParaRPr b="0" lang="en-US" sz="1000" spc="-1" strike="noStrike">
                  <a:solidFill>
                    <a:srgbClr val="000000"/>
                  </a:solidFill>
                  <a:latin typeface="Gulim"/>
                </a:endParaRPr>
              </a:p>
            </p:txBody>
          </p:sp>
        </p:grpSp>
        <p:grpSp>
          <p:nvGrpSpPr>
            <p:cNvPr id="805" name="Group 54"/>
            <p:cNvGrpSpPr/>
            <p:nvPr/>
          </p:nvGrpSpPr>
          <p:grpSpPr>
            <a:xfrm>
              <a:off x="-3427920" y="613800"/>
              <a:ext cx="9878400" cy="9878400"/>
              <a:chOff x="-3427920" y="613800"/>
              <a:chExt cx="9878400" cy="9878400"/>
            </a:xfrm>
          </p:grpSpPr>
          <p:sp>
            <p:nvSpPr>
              <p:cNvPr id="806" name="Text Box 55"/>
              <p:cNvSpPr/>
              <p:nvPr/>
            </p:nvSpPr>
            <p:spPr>
              <a:xfrm>
                <a:off x="591480" y="215892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Black"/>
                  </a:rPr>
                  <a:t>Clarity &amp;</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Black"/>
                  </a:rPr>
                  <a:t>Impact</a:t>
                </a:r>
                <a:endParaRPr b="0" lang="en-US" sz="1200" spc="-1" strike="noStrike">
                  <a:solidFill>
                    <a:srgbClr val="000000"/>
                  </a:solidFill>
                  <a:latin typeface="Gulim"/>
                </a:endParaRPr>
              </a:p>
            </p:txBody>
          </p:sp>
          <p:sp>
            <p:nvSpPr>
              <p:cNvPr id="807" name="Text Box 56"/>
              <p:cNvSpPr/>
              <p:nvPr/>
            </p:nvSpPr>
            <p:spPr>
              <a:xfrm>
                <a:off x="560160" y="277956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Black"/>
                  </a:rPr>
                  <a:t>Premium</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Black"/>
                  </a:rPr>
                  <a:t>Design</a:t>
                </a:r>
                <a:endParaRPr b="0" lang="en-US" sz="1200" spc="-1" strike="noStrike">
                  <a:solidFill>
                    <a:srgbClr val="000000"/>
                  </a:solidFill>
                  <a:latin typeface="Gulim"/>
                </a:endParaRPr>
              </a:p>
            </p:txBody>
          </p:sp>
          <p:sp>
            <p:nvSpPr>
              <p:cNvPr id="808" name="Text Box 57"/>
              <p:cNvSpPr/>
              <p:nvPr/>
            </p:nvSpPr>
            <p:spPr>
              <a:xfrm>
                <a:off x="770760" y="339228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Black"/>
                  </a:rPr>
                  <a:t>Subtle</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Black"/>
                  </a:rPr>
                  <a:t>Touch</a:t>
                </a:r>
                <a:endParaRPr b="0" lang="en-US" sz="1200" spc="-1" strike="noStrike">
                  <a:solidFill>
                    <a:srgbClr val="000000"/>
                  </a:solidFill>
                  <a:latin typeface="Gulim"/>
                </a:endParaRPr>
              </a:p>
            </p:txBody>
          </p:sp>
          <p:sp>
            <p:nvSpPr>
              <p:cNvPr id="809" name="Text Box 58"/>
              <p:cNvSpPr/>
              <p:nvPr/>
            </p:nvSpPr>
            <p:spPr>
              <a:xfrm>
                <a:off x="548280" y="4545000"/>
                <a:ext cx="849600" cy="428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2626"/>
                    </a:solidFill>
                    <a:latin typeface="Arial Black"/>
                  </a:rPr>
                  <a:t>Visual</a:t>
                </a:r>
                <a:endParaRPr b="0" lang="en-US" sz="11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2626"/>
                    </a:solidFill>
                    <a:latin typeface="Arial Black"/>
                  </a:rPr>
                  <a:t>Appealing</a:t>
                </a:r>
                <a:endParaRPr b="0" lang="en-US" sz="1100" spc="-1" strike="noStrike">
                  <a:solidFill>
                    <a:srgbClr val="000000"/>
                  </a:solidFill>
                  <a:latin typeface="Gulim"/>
                </a:endParaRPr>
              </a:p>
            </p:txBody>
          </p:sp>
          <p:grpSp>
            <p:nvGrpSpPr>
              <p:cNvPr id="810" name="Freeform 59"/>
              <p:cNvGrpSpPr/>
              <p:nvPr/>
            </p:nvGrpSpPr>
            <p:grpSpPr>
              <a:xfrm>
                <a:off x="1427400" y="3833640"/>
                <a:ext cx="1981080" cy="1974960"/>
                <a:chOff x="1427400" y="3833640"/>
                <a:chExt cx="1981080" cy="1974960"/>
              </a:xfrm>
            </p:grpSpPr>
            <p:pic>
              <p:nvPicPr>
                <p:cNvPr id="811" name="Freeform 59" descr=""/>
                <p:cNvPicPr/>
                <p:nvPr/>
              </p:nvPicPr>
              <p:blipFill>
                <a:blip r:embed="rId3"/>
                <a:stretch/>
              </p:blipFill>
              <p:spPr>
                <a:xfrm>
                  <a:off x="1427400" y="3833640"/>
                  <a:ext cx="1981080" cy="1974960"/>
                </a:xfrm>
                <a:prstGeom prst="rect">
                  <a:avLst/>
                </a:prstGeom>
                <a:ln w="0">
                  <a:noFill/>
                </a:ln>
              </p:spPr>
            </p:pic>
            <p:sp>
              <p:nvSpPr>
                <p:cNvPr id="812" name=""/>
                <p:cNvSpPr/>
                <p:nvPr/>
              </p:nvSpPr>
              <p:spPr>
                <a:xfrm>
                  <a:off x="1513800" y="3906000"/>
                  <a:ext cx="1646280" cy="16477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13" name="Oval 60"/>
              <p:cNvSpPr/>
              <p:nvPr/>
            </p:nvSpPr>
            <p:spPr>
              <a:xfrm>
                <a:off x="1619280" y="403992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4" name="Freeform 61"/>
              <p:cNvSpPr/>
              <p:nvPr/>
            </p:nvSpPr>
            <p:spPr>
              <a:xfrm>
                <a:off x="1513080" y="3952800"/>
                <a:ext cx="1119240" cy="482400"/>
              </a:xfrm>
              <a:custGeom>
                <a:avLst/>
                <a:gdLst>
                  <a:gd name="textAreaLeft" fmla="*/ 0 w 1119240"/>
                  <a:gd name="textAreaRight" fmla="*/ 1119600 w 1119240"/>
                  <a:gd name="textAreaTop" fmla="*/ 0 h 482400"/>
                  <a:gd name="textAreaBottom" fmla="*/ 482760 h 4824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5" name="AutoShape 62"/>
              <p:cNvSpPr/>
              <p:nvPr/>
            </p:nvSpPr>
            <p:spPr>
              <a:xfrm rot="2700000">
                <a:off x="-731880" y="3309480"/>
                <a:ext cx="4481280" cy="4481640"/>
              </a:xfrm>
              <a:custGeom>
                <a:avLst/>
                <a:gdLst>
                  <a:gd name="textAreaLeft" fmla="*/ 345960 w 4481280"/>
                  <a:gd name="textAreaRight" fmla="*/ 4135320 w 4481280"/>
                  <a:gd name="textAreaTop" fmla="*/ 0 h 4481640"/>
                  <a:gd name="textAreaBottom" fmla="*/ 1339920 h 4481640"/>
                </a:gdLst>
                <a:ahLst/>
                <a:rect l="textAreaLeft" t="textAreaTop" r="textAreaRight" b="textAreaBottom"/>
                <a:pathLst>
                  <a:path w="18469" h="5074">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4b300d">
                  <a:alpha val="2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816" name="AutoShape 63"/>
              <p:cNvSpPr/>
              <p:nvPr/>
            </p:nvSpPr>
            <p:spPr>
              <a:xfrm rot="2700000">
                <a:off x="-1349280" y="2692080"/>
                <a:ext cx="5727960" cy="5727600"/>
              </a:xfrm>
              <a:custGeom>
                <a:avLst/>
                <a:gdLst>
                  <a:gd name="textAreaLeft" fmla="*/ 442800 w 5727960"/>
                  <a:gd name="textAreaRight" fmla="*/ 5285160 w 5727960"/>
                  <a:gd name="textAreaTop" fmla="*/ 0 h 5727600"/>
                  <a:gd name="textAreaBottom" fmla="*/ 1645920 h 5727600"/>
                </a:gdLst>
                <a:ahLst/>
                <a:rect l="textAreaLeft" t="textAreaTop" r="textAreaRight" b="textAreaBottom"/>
                <a:pathLst>
                  <a:path w="18470" h="4744">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4b300d">
                  <a:alpha val="4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817" name="AutoShape 64"/>
              <p:cNvSpPr/>
              <p:nvPr/>
            </p:nvSpPr>
            <p:spPr>
              <a:xfrm rot="2700000">
                <a:off x="-1981080" y="2060280"/>
                <a:ext cx="6985080" cy="6985080"/>
              </a:xfrm>
              <a:custGeom>
                <a:avLst/>
                <a:gdLst>
                  <a:gd name="textAreaLeft" fmla="*/ 546120 w 6985080"/>
                  <a:gd name="textAreaRight" fmla="*/ 6438960 w 6985080"/>
                  <a:gd name="textAreaTop" fmla="*/ 0 h 6985080"/>
                  <a:gd name="textAreaBottom" fmla="*/ 1931760 h 6985080"/>
                </a:gdLst>
                <a:ahLst/>
                <a:rect l="textAreaLeft" t="textAreaTop" r="textAreaRight" b="textAreaBottom"/>
                <a:pathLst>
                  <a:path w="18448" h="445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4b300d">
                  <a:alpha val="6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818" name="Freeform 65"/>
              <p:cNvSpPr/>
              <p:nvPr/>
            </p:nvSpPr>
            <p:spPr>
              <a:xfrm>
                <a:off x="1513080" y="2097000"/>
                <a:ext cx="2503440" cy="1077840"/>
              </a:xfrm>
              <a:custGeom>
                <a:avLst/>
                <a:gdLst>
                  <a:gd name="textAreaLeft" fmla="*/ 0 w 2503440"/>
                  <a:gd name="textAreaRight" fmla="*/ 2503800 w 2503440"/>
                  <a:gd name="textAreaTop" fmla="*/ 0 h 1077840"/>
                  <a:gd name="textAreaBottom" fmla="*/ 1078200 h 107784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9" name="Freeform 66"/>
              <p:cNvSpPr/>
              <p:nvPr/>
            </p:nvSpPr>
            <p:spPr>
              <a:xfrm>
                <a:off x="1513080" y="2720880"/>
                <a:ext cx="2009880" cy="865080"/>
              </a:xfrm>
              <a:custGeom>
                <a:avLst/>
                <a:gdLst>
                  <a:gd name="textAreaLeft" fmla="*/ 0 w 2009880"/>
                  <a:gd name="textAreaRight" fmla="*/ 2010240 w 200988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0" name="Freeform 67"/>
              <p:cNvSpPr/>
              <p:nvPr/>
            </p:nvSpPr>
            <p:spPr>
              <a:xfrm>
                <a:off x="1513080" y="3346200"/>
                <a:ext cx="1581120" cy="681120"/>
              </a:xfrm>
              <a:custGeom>
                <a:avLst/>
                <a:gdLst>
                  <a:gd name="textAreaLeft" fmla="*/ 0 w 1581120"/>
                  <a:gd name="textAreaRight" fmla="*/ 1581480 w 158112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1" name="Freeform 68"/>
              <p:cNvSpPr/>
              <p:nvPr/>
            </p:nvSpPr>
            <p:spPr>
              <a:xfrm>
                <a:off x="1513080" y="1520640"/>
                <a:ext cx="4070160" cy="4033800"/>
              </a:xfrm>
              <a:custGeom>
                <a:avLst/>
                <a:gdLst>
                  <a:gd name="textAreaLeft" fmla="*/ 0 w 4070160"/>
                  <a:gd name="textAreaRight" fmla="*/ 4070520 w 407016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404040"/>
                </a:solidFill>
                <a:custDash>
                  <a:ds d="100000" sp="1000"/>
                </a:custDash>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22" name="WordArt 69"/>
              <p:cNvSpPr txBox="1"/>
              <p:nvPr/>
            </p:nvSpPr>
            <p:spPr>
              <a:xfrm rot="2700000">
                <a:off x="-503640" y="2643840"/>
                <a:ext cx="5332320" cy="455940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Immense Visual Appeal</a:t>
                </a:r>
                <a:endParaRPr b="0" lang="en-US" sz="800" spc="-1" strike="noStrike">
                  <a:ln w="0">
                    <a:noFill/>
                  </a:ln>
                  <a:solidFill>
                    <a:srgbClr val="ffffff"/>
                  </a:solidFill>
                  <a:latin typeface="Arial Black"/>
                  <a:ea typeface="Arial Black"/>
                </a:endParaRPr>
              </a:p>
            </p:txBody>
          </p:sp>
          <p:sp>
            <p:nvSpPr>
              <p:cNvPr id="823" name="WordArt 70"/>
              <p:cNvSpPr txBox="1"/>
              <p:nvPr/>
            </p:nvSpPr>
            <p:spPr>
              <a:xfrm rot="2700000">
                <a:off x="-555840" y="3111480"/>
                <a:ext cx="4632480" cy="438156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ye-Catching Visual</a:t>
                </a:r>
                <a:endParaRPr b="0" lang="en-US" sz="800" spc="-1" strike="noStrike">
                  <a:ln w="0">
                    <a:noFill/>
                  </a:ln>
                  <a:solidFill>
                    <a:srgbClr val="ffffff"/>
                  </a:solidFill>
                  <a:latin typeface="Arial Black"/>
                  <a:ea typeface="Arial Black"/>
                </a:endParaRPr>
              </a:p>
            </p:txBody>
          </p:sp>
          <p:sp>
            <p:nvSpPr>
              <p:cNvPr id="824" name="WordArt 71"/>
              <p:cNvSpPr txBox="1"/>
              <p:nvPr/>
            </p:nvSpPr>
            <p:spPr>
              <a:xfrm rot="2700000">
                <a:off x="259200" y="3805920"/>
                <a:ext cx="3324240" cy="266868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sy To Use</a:t>
                </a:r>
                <a:endParaRPr b="0" lang="en-US" sz="800" spc="-1" strike="noStrike">
                  <a:ln w="0">
                    <a:noFill/>
                  </a:ln>
                  <a:solidFill>
                    <a:srgbClr val="ffffff"/>
                  </a:solidFill>
                  <a:latin typeface="Arial Black"/>
                  <a:ea typeface="Arial Black"/>
                </a:endParaRPr>
              </a:p>
            </p:txBody>
          </p:sp>
          <p:sp>
            <p:nvSpPr>
              <p:cNvPr id="825" name="WordArt 72"/>
              <p:cNvSpPr txBox="1"/>
              <p:nvPr/>
            </p:nvSpPr>
            <p:spPr>
              <a:xfrm rot="2700000">
                <a:off x="-334080" y="4035960"/>
                <a:ext cx="3162240" cy="349092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Universal Design</a:t>
                </a:r>
                <a:endParaRPr b="0" lang="en-US" sz="800" spc="-1" strike="noStrike">
                  <a:ln w="0">
                    <a:noFill/>
                  </a:ln>
                  <a:solidFill>
                    <a:srgbClr val="ffffff"/>
                  </a:solidFill>
                  <a:latin typeface="Arial Black"/>
                  <a:ea typeface="Arial Black"/>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428760" y="152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itle Style</a:t>
            </a:r>
            <a:endParaRPr b="1" lang="en-US" sz="3200" spc="-1" strike="noStrike">
              <a:solidFill>
                <a:srgbClr val="ffffff"/>
              </a:solidFill>
              <a:latin typeface="Times New Roman"/>
            </a:endParaRPr>
          </a:p>
        </p:txBody>
      </p:sp>
      <p:grpSp>
        <p:nvGrpSpPr>
          <p:cNvPr id="827" name="Group 149"/>
          <p:cNvGrpSpPr/>
          <p:nvPr/>
        </p:nvGrpSpPr>
        <p:grpSpPr>
          <a:xfrm>
            <a:off x="611280" y="1393920"/>
            <a:ext cx="7848000" cy="4987800"/>
            <a:chOff x="611280" y="1393920"/>
            <a:chExt cx="7848000" cy="4987800"/>
          </a:xfrm>
        </p:grpSpPr>
        <p:sp>
          <p:nvSpPr>
            <p:cNvPr id="828" name="Freeform 10"/>
            <p:cNvSpPr/>
            <p:nvPr/>
          </p:nvSpPr>
          <p:spPr>
            <a:xfrm>
              <a:off x="611280" y="1752840"/>
              <a:ext cx="4482720" cy="3662280"/>
            </a:xfrm>
            <a:custGeom>
              <a:avLst/>
              <a:gdLst>
                <a:gd name="textAreaLeft" fmla="*/ 0 w 4482720"/>
                <a:gd name="textAreaRight" fmla="*/ 4483080 w 4482720"/>
                <a:gd name="textAreaTop" fmla="*/ 0 h 3662280"/>
                <a:gd name="textAreaBottom" fmla="*/ 3662640 h 3662280"/>
              </a:gdLst>
              <a:ahLst/>
              <a:rect l="textAreaLeft" t="textAreaTop" r="textAreaRight" b="textAreaBottom"/>
              <a:pathLst>
                <a:path w="2824" h="2307">
                  <a:moveTo>
                    <a:pt x="2486" y="674"/>
                  </a:moveTo>
                  <a:lnTo>
                    <a:pt x="2548" y="666"/>
                  </a:lnTo>
                  <a:lnTo>
                    <a:pt x="2559" y="663"/>
                  </a:lnTo>
                  <a:lnTo>
                    <a:pt x="2584" y="656"/>
                  </a:lnTo>
                  <a:lnTo>
                    <a:pt x="2618" y="643"/>
                  </a:lnTo>
                  <a:lnTo>
                    <a:pt x="2633" y="636"/>
                  </a:lnTo>
                  <a:lnTo>
                    <a:pt x="2648" y="628"/>
                  </a:lnTo>
                  <a:lnTo>
                    <a:pt x="2660" y="619"/>
                  </a:lnTo>
                  <a:lnTo>
                    <a:pt x="2671" y="609"/>
                  </a:lnTo>
                  <a:lnTo>
                    <a:pt x="2680" y="597"/>
                  </a:lnTo>
                  <a:lnTo>
                    <a:pt x="2686" y="585"/>
                  </a:lnTo>
                  <a:lnTo>
                    <a:pt x="2687" y="574"/>
                  </a:lnTo>
                  <a:lnTo>
                    <a:pt x="2687" y="568"/>
                  </a:lnTo>
                  <a:lnTo>
                    <a:pt x="2687" y="563"/>
                  </a:lnTo>
                  <a:lnTo>
                    <a:pt x="2684" y="559"/>
                  </a:lnTo>
                  <a:lnTo>
                    <a:pt x="2681" y="554"/>
                  </a:lnTo>
                  <a:lnTo>
                    <a:pt x="2677" y="551"/>
                  </a:lnTo>
                  <a:lnTo>
                    <a:pt x="2671" y="548"/>
                  </a:lnTo>
                  <a:lnTo>
                    <a:pt x="2680" y="545"/>
                  </a:lnTo>
                  <a:lnTo>
                    <a:pt x="2698" y="536"/>
                  </a:lnTo>
                  <a:lnTo>
                    <a:pt x="2708" y="530"/>
                  </a:lnTo>
                  <a:lnTo>
                    <a:pt x="2717" y="524"/>
                  </a:lnTo>
                  <a:lnTo>
                    <a:pt x="2725" y="515"/>
                  </a:lnTo>
                  <a:lnTo>
                    <a:pt x="2726" y="511"/>
                  </a:lnTo>
                  <a:lnTo>
                    <a:pt x="2728" y="506"/>
                  </a:lnTo>
                  <a:lnTo>
                    <a:pt x="2729" y="502"/>
                  </a:lnTo>
                  <a:lnTo>
                    <a:pt x="2729" y="500"/>
                  </a:lnTo>
                  <a:lnTo>
                    <a:pt x="2731" y="500"/>
                  </a:lnTo>
                  <a:lnTo>
                    <a:pt x="2734" y="500"/>
                  </a:lnTo>
                  <a:lnTo>
                    <a:pt x="2744" y="515"/>
                  </a:lnTo>
                  <a:lnTo>
                    <a:pt x="2754" y="524"/>
                  </a:lnTo>
                  <a:lnTo>
                    <a:pt x="2758" y="527"/>
                  </a:lnTo>
                  <a:lnTo>
                    <a:pt x="2764" y="530"/>
                  </a:lnTo>
                  <a:lnTo>
                    <a:pt x="2770" y="533"/>
                  </a:lnTo>
                  <a:lnTo>
                    <a:pt x="2778" y="535"/>
                  </a:lnTo>
                  <a:lnTo>
                    <a:pt x="2785" y="535"/>
                  </a:lnTo>
                  <a:lnTo>
                    <a:pt x="2793" y="532"/>
                  </a:lnTo>
                  <a:lnTo>
                    <a:pt x="2806" y="527"/>
                  </a:lnTo>
                  <a:lnTo>
                    <a:pt x="2814" y="521"/>
                  </a:lnTo>
                  <a:lnTo>
                    <a:pt x="2817" y="518"/>
                  </a:lnTo>
                  <a:lnTo>
                    <a:pt x="2817" y="517"/>
                  </a:lnTo>
                  <a:lnTo>
                    <a:pt x="2817" y="511"/>
                  </a:lnTo>
                  <a:lnTo>
                    <a:pt x="2814" y="508"/>
                  </a:lnTo>
                  <a:lnTo>
                    <a:pt x="2809" y="505"/>
                  </a:lnTo>
                  <a:lnTo>
                    <a:pt x="2805" y="502"/>
                  </a:lnTo>
                  <a:lnTo>
                    <a:pt x="2811" y="496"/>
                  </a:lnTo>
                  <a:lnTo>
                    <a:pt x="2815" y="489"/>
                  </a:lnTo>
                  <a:lnTo>
                    <a:pt x="2821" y="482"/>
                  </a:lnTo>
                  <a:lnTo>
                    <a:pt x="2824" y="476"/>
                  </a:lnTo>
                  <a:lnTo>
                    <a:pt x="2824" y="473"/>
                  </a:lnTo>
                  <a:lnTo>
                    <a:pt x="2824" y="470"/>
                  </a:lnTo>
                  <a:lnTo>
                    <a:pt x="2823" y="467"/>
                  </a:lnTo>
                  <a:lnTo>
                    <a:pt x="2820" y="465"/>
                  </a:lnTo>
                  <a:lnTo>
                    <a:pt x="2815" y="464"/>
                  </a:lnTo>
                  <a:lnTo>
                    <a:pt x="2808" y="464"/>
                  </a:lnTo>
                  <a:lnTo>
                    <a:pt x="2784" y="462"/>
                  </a:lnTo>
                  <a:lnTo>
                    <a:pt x="2775" y="461"/>
                  </a:lnTo>
                  <a:lnTo>
                    <a:pt x="2767" y="459"/>
                  </a:lnTo>
                  <a:lnTo>
                    <a:pt x="2763" y="456"/>
                  </a:lnTo>
                  <a:lnTo>
                    <a:pt x="2760" y="452"/>
                  </a:lnTo>
                  <a:lnTo>
                    <a:pt x="2758" y="447"/>
                  </a:lnTo>
                  <a:lnTo>
                    <a:pt x="2758" y="441"/>
                  </a:lnTo>
                  <a:lnTo>
                    <a:pt x="2760" y="437"/>
                  </a:lnTo>
                  <a:lnTo>
                    <a:pt x="2758" y="435"/>
                  </a:lnTo>
                  <a:lnTo>
                    <a:pt x="2755" y="431"/>
                  </a:lnTo>
                  <a:lnTo>
                    <a:pt x="2749" y="429"/>
                  </a:lnTo>
                  <a:lnTo>
                    <a:pt x="2741" y="429"/>
                  </a:lnTo>
                  <a:lnTo>
                    <a:pt x="2726" y="431"/>
                  </a:lnTo>
                  <a:lnTo>
                    <a:pt x="2720" y="432"/>
                  </a:lnTo>
                  <a:lnTo>
                    <a:pt x="2671" y="367"/>
                  </a:lnTo>
                  <a:lnTo>
                    <a:pt x="2654" y="364"/>
                  </a:lnTo>
                  <a:lnTo>
                    <a:pt x="2637" y="361"/>
                  </a:lnTo>
                  <a:lnTo>
                    <a:pt x="2619" y="358"/>
                  </a:lnTo>
                  <a:lnTo>
                    <a:pt x="2600" y="357"/>
                  </a:lnTo>
                  <a:lnTo>
                    <a:pt x="2583" y="358"/>
                  </a:lnTo>
                  <a:lnTo>
                    <a:pt x="2577" y="360"/>
                  </a:lnTo>
                  <a:lnTo>
                    <a:pt x="2571" y="363"/>
                  </a:lnTo>
                  <a:lnTo>
                    <a:pt x="2568" y="366"/>
                  </a:lnTo>
                  <a:lnTo>
                    <a:pt x="2568" y="372"/>
                  </a:lnTo>
                  <a:lnTo>
                    <a:pt x="2568" y="381"/>
                  </a:lnTo>
                  <a:lnTo>
                    <a:pt x="2571" y="388"/>
                  </a:lnTo>
                  <a:lnTo>
                    <a:pt x="2574" y="393"/>
                  </a:lnTo>
                  <a:lnTo>
                    <a:pt x="2575" y="396"/>
                  </a:lnTo>
                  <a:lnTo>
                    <a:pt x="2577" y="397"/>
                  </a:lnTo>
                  <a:lnTo>
                    <a:pt x="2577" y="399"/>
                  </a:lnTo>
                  <a:lnTo>
                    <a:pt x="2568" y="402"/>
                  </a:lnTo>
                  <a:lnTo>
                    <a:pt x="2559" y="403"/>
                  </a:lnTo>
                  <a:lnTo>
                    <a:pt x="2551" y="402"/>
                  </a:lnTo>
                  <a:lnTo>
                    <a:pt x="2545" y="399"/>
                  </a:lnTo>
                  <a:lnTo>
                    <a:pt x="2538" y="396"/>
                  </a:lnTo>
                  <a:lnTo>
                    <a:pt x="2530" y="391"/>
                  </a:lnTo>
                  <a:lnTo>
                    <a:pt x="2523" y="387"/>
                  </a:lnTo>
                  <a:lnTo>
                    <a:pt x="2512" y="384"/>
                  </a:lnTo>
                  <a:lnTo>
                    <a:pt x="2501" y="382"/>
                  </a:lnTo>
                  <a:lnTo>
                    <a:pt x="2477" y="382"/>
                  </a:lnTo>
                  <a:lnTo>
                    <a:pt x="2455" y="381"/>
                  </a:lnTo>
                  <a:lnTo>
                    <a:pt x="2429" y="379"/>
                  </a:lnTo>
                  <a:lnTo>
                    <a:pt x="2430" y="370"/>
                  </a:lnTo>
                  <a:lnTo>
                    <a:pt x="2430" y="352"/>
                  </a:lnTo>
                  <a:lnTo>
                    <a:pt x="2430" y="343"/>
                  </a:lnTo>
                  <a:lnTo>
                    <a:pt x="2427" y="334"/>
                  </a:lnTo>
                  <a:lnTo>
                    <a:pt x="2423" y="328"/>
                  </a:lnTo>
                  <a:lnTo>
                    <a:pt x="2421" y="326"/>
                  </a:lnTo>
                  <a:lnTo>
                    <a:pt x="2418" y="325"/>
                  </a:lnTo>
                  <a:lnTo>
                    <a:pt x="2337" y="325"/>
                  </a:lnTo>
                  <a:lnTo>
                    <a:pt x="2290" y="323"/>
                  </a:lnTo>
                  <a:lnTo>
                    <a:pt x="2264" y="322"/>
                  </a:lnTo>
                  <a:lnTo>
                    <a:pt x="2249" y="283"/>
                  </a:lnTo>
                  <a:lnTo>
                    <a:pt x="2219" y="265"/>
                  </a:lnTo>
                  <a:lnTo>
                    <a:pt x="2177" y="253"/>
                  </a:lnTo>
                  <a:lnTo>
                    <a:pt x="2171" y="251"/>
                  </a:lnTo>
                  <a:lnTo>
                    <a:pt x="2159" y="248"/>
                  </a:lnTo>
                  <a:lnTo>
                    <a:pt x="2151" y="246"/>
                  </a:lnTo>
                  <a:lnTo>
                    <a:pt x="2145" y="248"/>
                  </a:lnTo>
                  <a:lnTo>
                    <a:pt x="2141" y="251"/>
                  </a:lnTo>
                  <a:lnTo>
                    <a:pt x="2139" y="254"/>
                  </a:lnTo>
                  <a:lnTo>
                    <a:pt x="2138" y="257"/>
                  </a:lnTo>
                  <a:lnTo>
                    <a:pt x="2133" y="280"/>
                  </a:lnTo>
                  <a:lnTo>
                    <a:pt x="2130" y="287"/>
                  </a:lnTo>
                  <a:lnTo>
                    <a:pt x="2115" y="299"/>
                  </a:lnTo>
                  <a:lnTo>
                    <a:pt x="2085" y="299"/>
                  </a:lnTo>
                  <a:lnTo>
                    <a:pt x="2071" y="298"/>
                  </a:lnTo>
                  <a:lnTo>
                    <a:pt x="2064" y="296"/>
                  </a:lnTo>
                  <a:lnTo>
                    <a:pt x="2056" y="295"/>
                  </a:lnTo>
                  <a:lnTo>
                    <a:pt x="2046" y="299"/>
                  </a:lnTo>
                  <a:lnTo>
                    <a:pt x="2032" y="304"/>
                  </a:lnTo>
                  <a:lnTo>
                    <a:pt x="2020" y="305"/>
                  </a:lnTo>
                  <a:lnTo>
                    <a:pt x="2008" y="307"/>
                  </a:lnTo>
                  <a:lnTo>
                    <a:pt x="1996" y="265"/>
                  </a:lnTo>
                  <a:lnTo>
                    <a:pt x="1978" y="218"/>
                  </a:lnTo>
                  <a:lnTo>
                    <a:pt x="1985" y="188"/>
                  </a:lnTo>
                  <a:lnTo>
                    <a:pt x="1908" y="188"/>
                  </a:lnTo>
                  <a:lnTo>
                    <a:pt x="1901" y="210"/>
                  </a:lnTo>
                  <a:lnTo>
                    <a:pt x="1908" y="230"/>
                  </a:lnTo>
                  <a:lnTo>
                    <a:pt x="1908" y="249"/>
                  </a:lnTo>
                  <a:lnTo>
                    <a:pt x="1879" y="236"/>
                  </a:lnTo>
                  <a:lnTo>
                    <a:pt x="1839" y="218"/>
                  </a:lnTo>
                  <a:lnTo>
                    <a:pt x="1822" y="212"/>
                  </a:lnTo>
                  <a:lnTo>
                    <a:pt x="1799" y="204"/>
                  </a:lnTo>
                  <a:lnTo>
                    <a:pt x="1771" y="195"/>
                  </a:lnTo>
                  <a:lnTo>
                    <a:pt x="1771" y="176"/>
                  </a:lnTo>
                  <a:lnTo>
                    <a:pt x="1751" y="180"/>
                  </a:lnTo>
                  <a:lnTo>
                    <a:pt x="1709" y="210"/>
                  </a:lnTo>
                  <a:lnTo>
                    <a:pt x="1744" y="153"/>
                  </a:lnTo>
                  <a:lnTo>
                    <a:pt x="1771" y="115"/>
                  </a:lnTo>
                  <a:lnTo>
                    <a:pt x="1772" y="108"/>
                  </a:lnTo>
                  <a:lnTo>
                    <a:pt x="1774" y="89"/>
                  </a:lnTo>
                  <a:lnTo>
                    <a:pt x="1775" y="80"/>
                  </a:lnTo>
                  <a:lnTo>
                    <a:pt x="1775" y="71"/>
                  </a:lnTo>
                  <a:lnTo>
                    <a:pt x="1774" y="64"/>
                  </a:lnTo>
                  <a:lnTo>
                    <a:pt x="1772" y="62"/>
                  </a:lnTo>
                  <a:lnTo>
                    <a:pt x="1771" y="61"/>
                  </a:lnTo>
                  <a:lnTo>
                    <a:pt x="1759" y="56"/>
                  </a:lnTo>
                  <a:lnTo>
                    <a:pt x="1747" y="49"/>
                  </a:lnTo>
                  <a:lnTo>
                    <a:pt x="1732" y="38"/>
                  </a:lnTo>
                  <a:lnTo>
                    <a:pt x="1694" y="61"/>
                  </a:lnTo>
                  <a:lnTo>
                    <a:pt x="1674" y="23"/>
                  </a:lnTo>
                  <a:lnTo>
                    <a:pt x="1674" y="0"/>
                  </a:lnTo>
                  <a:lnTo>
                    <a:pt x="1632" y="0"/>
                  </a:lnTo>
                  <a:lnTo>
                    <a:pt x="1612" y="46"/>
                  </a:lnTo>
                  <a:lnTo>
                    <a:pt x="1582" y="92"/>
                  </a:lnTo>
                  <a:lnTo>
                    <a:pt x="1475" y="83"/>
                  </a:lnTo>
                  <a:lnTo>
                    <a:pt x="1387" y="172"/>
                  </a:lnTo>
                  <a:lnTo>
                    <a:pt x="1383" y="215"/>
                  </a:lnTo>
                  <a:lnTo>
                    <a:pt x="1333" y="218"/>
                  </a:lnTo>
                  <a:lnTo>
                    <a:pt x="1331" y="224"/>
                  </a:lnTo>
                  <a:lnTo>
                    <a:pt x="1330" y="237"/>
                  </a:lnTo>
                  <a:lnTo>
                    <a:pt x="1328" y="246"/>
                  </a:lnTo>
                  <a:lnTo>
                    <a:pt x="1330" y="256"/>
                  </a:lnTo>
                  <a:lnTo>
                    <a:pt x="1333" y="265"/>
                  </a:lnTo>
                  <a:lnTo>
                    <a:pt x="1338" y="272"/>
                  </a:lnTo>
                  <a:lnTo>
                    <a:pt x="1350" y="286"/>
                  </a:lnTo>
                  <a:lnTo>
                    <a:pt x="1360" y="296"/>
                  </a:lnTo>
                  <a:lnTo>
                    <a:pt x="1368" y="307"/>
                  </a:lnTo>
                  <a:lnTo>
                    <a:pt x="1371" y="313"/>
                  </a:lnTo>
                  <a:lnTo>
                    <a:pt x="1372" y="317"/>
                  </a:lnTo>
                  <a:lnTo>
                    <a:pt x="1371" y="320"/>
                  </a:lnTo>
                  <a:lnTo>
                    <a:pt x="1369" y="320"/>
                  </a:lnTo>
                  <a:lnTo>
                    <a:pt x="1362" y="319"/>
                  </a:lnTo>
                  <a:lnTo>
                    <a:pt x="1351" y="314"/>
                  </a:lnTo>
                  <a:lnTo>
                    <a:pt x="1339" y="308"/>
                  </a:lnTo>
                  <a:lnTo>
                    <a:pt x="1316" y="295"/>
                  </a:lnTo>
                  <a:lnTo>
                    <a:pt x="1306" y="287"/>
                  </a:lnTo>
                  <a:lnTo>
                    <a:pt x="1268" y="280"/>
                  </a:lnTo>
                  <a:lnTo>
                    <a:pt x="1268" y="364"/>
                  </a:lnTo>
                  <a:lnTo>
                    <a:pt x="1267" y="369"/>
                  </a:lnTo>
                  <a:lnTo>
                    <a:pt x="1265" y="373"/>
                  </a:lnTo>
                  <a:lnTo>
                    <a:pt x="1262" y="379"/>
                  </a:lnTo>
                  <a:lnTo>
                    <a:pt x="1261" y="385"/>
                  </a:lnTo>
                  <a:lnTo>
                    <a:pt x="1262" y="391"/>
                  </a:lnTo>
                  <a:lnTo>
                    <a:pt x="1267" y="397"/>
                  </a:lnTo>
                  <a:lnTo>
                    <a:pt x="1276" y="403"/>
                  </a:lnTo>
                  <a:lnTo>
                    <a:pt x="1291" y="409"/>
                  </a:lnTo>
                  <a:lnTo>
                    <a:pt x="1283" y="432"/>
                  </a:lnTo>
                  <a:lnTo>
                    <a:pt x="1264" y="444"/>
                  </a:lnTo>
                  <a:lnTo>
                    <a:pt x="1258" y="449"/>
                  </a:lnTo>
                  <a:lnTo>
                    <a:pt x="1242" y="462"/>
                  </a:lnTo>
                  <a:lnTo>
                    <a:pt x="1235" y="471"/>
                  </a:lnTo>
                  <a:lnTo>
                    <a:pt x="1227" y="480"/>
                  </a:lnTo>
                  <a:lnTo>
                    <a:pt x="1221" y="489"/>
                  </a:lnTo>
                  <a:lnTo>
                    <a:pt x="1218" y="499"/>
                  </a:lnTo>
                  <a:lnTo>
                    <a:pt x="1221" y="483"/>
                  </a:lnTo>
                  <a:lnTo>
                    <a:pt x="1224" y="452"/>
                  </a:lnTo>
                  <a:lnTo>
                    <a:pt x="1226" y="434"/>
                  </a:lnTo>
                  <a:lnTo>
                    <a:pt x="1224" y="416"/>
                  </a:lnTo>
                  <a:lnTo>
                    <a:pt x="1223" y="408"/>
                  </a:lnTo>
                  <a:lnTo>
                    <a:pt x="1221" y="400"/>
                  </a:lnTo>
                  <a:lnTo>
                    <a:pt x="1218" y="394"/>
                  </a:lnTo>
                  <a:lnTo>
                    <a:pt x="1214" y="391"/>
                  </a:lnTo>
                  <a:lnTo>
                    <a:pt x="1208" y="384"/>
                  </a:lnTo>
                  <a:lnTo>
                    <a:pt x="1208" y="381"/>
                  </a:lnTo>
                  <a:lnTo>
                    <a:pt x="1206" y="378"/>
                  </a:lnTo>
                  <a:lnTo>
                    <a:pt x="1208" y="372"/>
                  </a:lnTo>
                  <a:lnTo>
                    <a:pt x="1212" y="366"/>
                  </a:lnTo>
                  <a:lnTo>
                    <a:pt x="1217" y="363"/>
                  </a:lnTo>
                  <a:lnTo>
                    <a:pt x="1221" y="358"/>
                  </a:lnTo>
                  <a:lnTo>
                    <a:pt x="1226" y="357"/>
                  </a:lnTo>
                  <a:lnTo>
                    <a:pt x="1211" y="275"/>
                  </a:lnTo>
                  <a:lnTo>
                    <a:pt x="1197" y="281"/>
                  </a:lnTo>
                  <a:lnTo>
                    <a:pt x="1184" y="287"/>
                  </a:lnTo>
                  <a:lnTo>
                    <a:pt x="1167" y="296"/>
                  </a:lnTo>
                  <a:lnTo>
                    <a:pt x="1152" y="308"/>
                  </a:lnTo>
                  <a:lnTo>
                    <a:pt x="1144" y="316"/>
                  </a:lnTo>
                  <a:lnTo>
                    <a:pt x="1138" y="325"/>
                  </a:lnTo>
                  <a:lnTo>
                    <a:pt x="1132" y="333"/>
                  </a:lnTo>
                  <a:lnTo>
                    <a:pt x="1129" y="343"/>
                  </a:lnTo>
                  <a:lnTo>
                    <a:pt x="1126" y="352"/>
                  </a:lnTo>
                  <a:lnTo>
                    <a:pt x="1126" y="364"/>
                  </a:lnTo>
                  <a:lnTo>
                    <a:pt x="1129" y="370"/>
                  </a:lnTo>
                  <a:lnTo>
                    <a:pt x="1134" y="387"/>
                  </a:lnTo>
                  <a:lnTo>
                    <a:pt x="1135" y="397"/>
                  </a:lnTo>
                  <a:lnTo>
                    <a:pt x="1137" y="409"/>
                  </a:lnTo>
                  <a:lnTo>
                    <a:pt x="1135" y="422"/>
                  </a:lnTo>
                  <a:lnTo>
                    <a:pt x="1134" y="432"/>
                  </a:lnTo>
                  <a:lnTo>
                    <a:pt x="1131" y="425"/>
                  </a:lnTo>
                  <a:lnTo>
                    <a:pt x="1122" y="406"/>
                  </a:lnTo>
                  <a:lnTo>
                    <a:pt x="1116" y="397"/>
                  </a:lnTo>
                  <a:lnTo>
                    <a:pt x="1110" y="391"/>
                  </a:lnTo>
                  <a:lnTo>
                    <a:pt x="1104" y="387"/>
                  </a:lnTo>
                  <a:lnTo>
                    <a:pt x="1099" y="387"/>
                  </a:lnTo>
                  <a:lnTo>
                    <a:pt x="1096" y="387"/>
                  </a:lnTo>
                  <a:lnTo>
                    <a:pt x="1088" y="390"/>
                  </a:lnTo>
                  <a:lnTo>
                    <a:pt x="1082" y="396"/>
                  </a:lnTo>
                  <a:lnTo>
                    <a:pt x="1073" y="406"/>
                  </a:lnTo>
                  <a:lnTo>
                    <a:pt x="1067" y="417"/>
                  </a:lnTo>
                  <a:lnTo>
                    <a:pt x="1064" y="422"/>
                  </a:lnTo>
                  <a:lnTo>
                    <a:pt x="1024" y="414"/>
                  </a:lnTo>
                  <a:lnTo>
                    <a:pt x="996" y="406"/>
                  </a:lnTo>
                  <a:lnTo>
                    <a:pt x="996" y="437"/>
                  </a:lnTo>
                  <a:lnTo>
                    <a:pt x="974" y="441"/>
                  </a:lnTo>
                  <a:lnTo>
                    <a:pt x="954" y="441"/>
                  </a:lnTo>
                  <a:lnTo>
                    <a:pt x="915" y="441"/>
                  </a:lnTo>
                  <a:lnTo>
                    <a:pt x="915" y="479"/>
                  </a:lnTo>
                  <a:lnTo>
                    <a:pt x="874" y="464"/>
                  </a:lnTo>
                  <a:lnTo>
                    <a:pt x="862" y="437"/>
                  </a:lnTo>
                  <a:lnTo>
                    <a:pt x="850" y="452"/>
                  </a:lnTo>
                  <a:lnTo>
                    <a:pt x="847" y="491"/>
                  </a:lnTo>
                  <a:lnTo>
                    <a:pt x="847" y="517"/>
                  </a:lnTo>
                  <a:lnTo>
                    <a:pt x="827" y="521"/>
                  </a:lnTo>
                  <a:lnTo>
                    <a:pt x="800" y="529"/>
                  </a:lnTo>
                  <a:lnTo>
                    <a:pt x="790" y="544"/>
                  </a:lnTo>
                  <a:lnTo>
                    <a:pt x="743" y="574"/>
                  </a:lnTo>
                  <a:lnTo>
                    <a:pt x="720" y="551"/>
                  </a:lnTo>
                  <a:lnTo>
                    <a:pt x="720" y="509"/>
                  </a:lnTo>
                  <a:lnTo>
                    <a:pt x="693" y="491"/>
                  </a:lnTo>
                  <a:lnTo>
                    <a:pt x="696" y="489"/>
                  </a:lnTo>
                  <a:lnTo>
                    <a:pt x="702" y="486"/>
                  </a:lnTo>
                  <a:lnTo>
                    <a:pt x="707" y="486"/>
                  </a:lnTo>
                  <a:lnTo>
                    <a:pt x="711" y="486"/>
                  </a:lnTo>
                  <a:lnTo>
                    <a:pt x="717" y="489"/>
                  </a:lnTo>
                  <a:lnTo>
                    <a:pt x="725" y="494"/>
                  </a:lnTo>
                  <a:lnTo>
                    <a:pt x="732" y="500"/>
                  </a:lnTo>
                  <a:lnTo>
                    <a:pt x="744" y="508"/>
                  </a:lnTo>
                  <a:lnTo>
                    <a:pt x="755" y="512"/>
                  </a:lnTo>
                  <a:lnTo>
                    <a:pt x="761" y="514"/>
                  </a:lnTo>
                  <a:lnTo>
                    <a:pt x="765" y="512"/>
                  </a:lnTo>
                  <a:lnTo>
                    <a:pt x="771" y="511"/>
                  </a:lnTo>
                  <a:lnTo>
                    <a:pt x="774" y="508"/>
                  </a:lnTo>
                  <a:lnTo>
                    <a:pt x="777" y="503"/>
                  </a:lnTo>
                  <a:lnTo>
                    <a:pt x="780" y="494"/>
                  </a:lnTo>
                  <a:lnTo>
                    <a:pt x="780" y="485"/>
                  </a:lnTo>
                  <a:lnTo>
                    <a:pt x="780" y="471"/>
                  </a:lnTo>
                  <a:lnTo>
                    <a:pt x="777" y="456"/>
                  </a:lnTo>
                  <a:lnTo>
                    <a:pt x="774" y="437"/>
                  </a:lnTo>
                  <a:lnTo>
                    <a:pt x="768" y="429"/>
                  </a:lnTo>
                  <a:lnTo>
                    <a:pt x="759" y="422"/>
                  </a:lnTo>
                  <a:lnTo>
                    <a:pt x="749" y="414"/>
                  </a:lnTo>
                  <a:lnTo>
                    <a:pt x="734" y="405"/>
                  </a:lnTo>
                  <a:lnTo>
                    <a:pt x="714" y="397"/>
                  </a:lnTo>
                  <a:lnTo>
                    <a:pt x="703" y="394"/>
                  </a:lnTo>
                  <a:lnTo>
                    <a:pt x="690" y="393"/>
                  </a:lnTo>
                  <a:lnTo>
                    <a:pt x="678" y="391"/>
                  </a:lnTo>
                  <a:lnTo>
                    <a:pt x="663" y="391"/>
                  </a:lnTo>
                  <a:lnTo>
                    <a:pt x="658" y="381"/>
                  </a:lnTo>
                  <a:lnTo>
                    <a:pt x="652" y="373"/>
                  </a:lnTo>
                  <a:lnTo>
                    <a:pt x="645" y="363"/>
                  </a:lnTo>
                  <a:lnTo>
                    <a:pt x="636" y="355"/>
                  </a:lnTo>
                  <a:lnTo>
                    <a:pt x="631" y="351"/>
                  </a:lnTo>
                  <a:lnTo>
                    <a:pt x="625" y="349"/>
                  </a:lnTo>
                  <a:lnTo>
                    <a:pt x="620" y="348"/>
                  </a:lnTo>
                  <a:lnTo>
                    <a:pt x="614" y="348"/>
                  </a:lnTo>
                  <a:lnTo>
                    <a:pt x="608" y="349"/>
                  </a:lnTo>
                  <a:lnTo>
                    <a:pt x="601" y="352"/>
                  </a:lnTo>
                  <a:lnTo>
                    <a:pt x="587" y="361"/>
                  </a:lnTo>
                  <a:lnTo>
                    <a:pt x="572" y="369"/>
                  </a:lnTo>
                  <a:lnTo>
                    <a:pt x="540" y="382"/>
                  </a:lnTo>
                  <a:lnTo>
                    <a:pt x="527" y="388"/>
                  </a:lnTo>
                  <a:lnTo>
                    <a:pt x="516" y="394"/>
                  </a:lnTo>
                  <a:lnTo>
                    <a:pt x="509" y="400"/>
                  </a:lnTo>
                  <a:lnTo>
                    <a:pt x="506" y="403"/>
                  </a:lnTo>
                  <a:lnTo>
                    <a:pt x="506" y="406"/>
                  </a:lnTo>
                  <a:lnTo>
                    <a:pt x="504" y="411"/>
                  </a:lnTo>
                  <a:lnTo>
                    <a:pt x="500" y="417"/>
                  </a:lnTo>
                  <a:lnTo>
                    <a:pt x="494" y="422"/>
                  </a:lnTo>
                  <a:lnTo>
                    <a:pt x="486" y="425"/>
                  </a:lnTo>
                  <a:lnTo>
                    <a:pt x="473" y="431"/>
                  </a:lnTo>
                  <a:lnTo>
                    <a:pt x="466" y="432"/>
                  </a:lnTo>
                  <a:lnTo>
                    <a:pt x="456" y="471"/>
                  </a:lnTo>
                  <a:lnTo>
                    <a:pt x="421" y="499"/>
                  </a:lnTo>
                  <a:lnTo>
                    <a:pt x="367" y="559"/>
                  </a:lnTo>
                  <a:lnTo>
                    <a:pt x="334" y="624"/>
                  </a:lnTo>
                  <a:lnTo>
                    <a:pt x="306" y="640"/>
                  </a:lnTo>
                  <a:lnTo>
                    <a:pt x="299" y="693"/>
                  </a:lnTo>
                  <a:lnTo>
                    <a:pt x="306" y="728"/>
                  </a:lnTo>
                  <a:lnTo>
                    <a:pt x="352" y="743"/>
                  </a:lnTo>
                  <a:lnTo>
                    <a:pt x="386" y="740"/>
                  </a:lnTo>
                  <a:lnTo>
                    <a:pt x="394" y="770"/>
                  </a:lnTo>
                  <a:lnTo>
                    <a:pt x="394" y="800"/>
                  </a:lnTo>
                  <a:lnTo>
                    <a:pt x="441" y="797"/>
                  </a:lnTo>
                  <a:lnTo>
                    <a:pt x="451" y="758"/>
                  </a:lnTo>
                  <a:lnTo>
                    <a:pt x="476" y="708"/>
                  </a:lnTo>
                  <a:lnTo>
                    <a:pt x="471" y="659"/>
                  </a:lnTo>
                  <a:lnTo>
                    <a:pt x="494" y="616"/>
                  </a:lnTo>
                  <a:lnTo>
                    <a:pt x="525" y="574"/>
                  </a:lnTo>
                  <a:lnTo>
                    <a:pt x="551" y="544"/>
                  </a:lnTo>
                  <a:lnTo>
                    <a:pt x="557" y="541"/>
                  </a:lnTo>
                  <a:lnTo>
                    <a:pt x="563" y="538"/>
                  </a:lnTo>
                  <a:lnTo>
                    <a:pt x="569" y="535"/>
                  </a:lnTo>
                  <a:lnTo>
                    <a:pt x="575" y="535"/>
                  </a:lnTo>
                  <a:lnTo>
                    <a:pt x="577" y="536"/>
                  </a:lnTo>
                  <a:lnTo>
                    <a:pt x="580" y="538"/>
                  </a:lnTo>
                  <a:lnTo>
                    <a:pt x="580" y="541"/>
                  </a:lnTo>
                  <a:lnTo>
                    <a:pt x="581" y="544"/>
                  </a:lnTo>
                  <a:lnTo>
                    <a:pt x="578" y="556"/>
                  </a:lnTo>
                  <a:lnTo>
                    <a:pt x="574" y="568"/>
                  </a:lnTo>
                  <a:lnTo>
                    <a:pt x="568" y="579"/>
                  </a:lnTo>
                  <a:lnTo>
                    <a:pt x="562" y="586"/>
                  </a:lnTo>
                  <a:lnTo>
                    <a:pt x="556" y="591"/>
                  </a:lnTo>
                  <a:lnTo>
                    <a:pt x="550" y="594"/>
                  </a:lnTo>
                  <a:lnTo>
                    <a:pt x="545" y="597"/>
                  </a:lnTo>
                  <a:lnTo>
                    <a:pt x="540" y="598"/>
                  </a:lnTo>
                  <a:lnTo>
                    <a:pt x="525" y="643"/>
                  </a:lnTo>
                  <a:lnTo>
                    <a:pt x="525" y="649"/>
                  </a:lnTo>
                  <a:lnTo>
                    <a:pt x="527" y="656"/>
                  </a:lnTo>
                  <a:lnTo>
                    <a:pt x="530" y="663"/>
                  </a:lnTo>
                  <a:lnTo>
                    <a:pt x="536" y="671"/>
                  </a:lnTo>
                  <a:lnTo>
                    <a:pt x="543" y="678"/>
                  </a:lnTo>
                  <a:lnTo>
                    <a:pt x="557" y="683"/>
                  </a:lnTo>
                  <a:lnTo>
                    <a:pt x="565" y="684"/>
                  </a:lnTo>
                  <a:lnTo>
                    <a:pt x="575" y="686"/>
                  </a:lnTo>
                  <a:lnTo>
                    <a:pt x="593" y="687"/>
                  </a:lnTo>
                  <a:lnTo>
                    <a:pt x="608" y="692"/>
                  </a:lnTo>
                  <a:lnTo>
                    <a:pt x="622" y="696"/>
                  </a:lnTo>
                  <a:lnTo>
                    <a:pt x="633" y="701"/>
                  </a:lnTo>
                  <a:lnTo>
                    <a:pt x="646" y="708"/>
                  </a:lnTo>
                  <a:lnTo>
                    <a:pt x="651" y="713"/>
                  </a:lnTo>
                  <a:lnTo>
                    <a:pt x="613" y="723"/>
                  </a:lnTo>
                  <a:lnTo>
                    <a:pt x="571" y="720"/>
                  </a:lnTo>
                  <a:lnTo>
                    <a:pt x="540" y="770"/>
                  </a:lnTo>
                  <a:lnTo>
                    <a:pt x="509" y="785"/>
                  </a:lnTo>
                  <a:lnTo>
                    <a:pt x="506" y="835"/>
                  </a:lnTo>
                  <a:lnTo>
                    <a:pt x="483" y="855"/>
                  </a:lnTo>
                  <a:lnTo>
                    <a:pt x="371" y="850"/>
                  </a:lnTo>
                  <a:lnTo>
                    <a:pt x="371" y="797"/>
                  </a:lnTo>
                  <a:lnTo>
                    <a:pt x="368" y="796"/>
                  </a:lnTo>
                  <a:lnTo>
                    <a:pt x="364" y="796"/>
                  </a:lnTo>
                  <a:lnTo>
                    <a:pt x="359" y="796"/>
                  </a:lnTo>
                  <a:lnTo>
                    <a:pt x="355" y="797"/>
                  </a:lnTo>
                  <a:lnTo>
                    <a:pt x="350" y="802"/>
                  </a:lnTo>
                  <a:lnTo>
                    <a:pt x="347" y="808"/>
                  </a:lnTo>
                  <a:lnTo>
                    <a:pt x="344" y="816"/>
                  </a:lnTo>
                  <a:lnTo>
                    <a:pt x="341" y="835"/>
                  </a:lnTo>
                  <a:lnTo>
                    <a:pt x="338" y="853"/>
                  </a:lnTo>
                  <a:lnTo>
                    <a:pt x="334" y="870"/>
                  </a:lnTo>
                  <a:lnTo>
                    <a:pt x="299" y="885"/>
                  </a:lnTo>
                  <a:lnTo>
                    <a:pt x="267" y="935"/>
                  </a:lnTo>
                  <a:lnTo>
                    <a:pt x="237" y="957"/>
                  </a:lnTo>
                  <a:lnTo>
                    <a:pt x="199" y="962"/>
                  </a:lnTo>
                  <a:lnTo>
                    <a:pt x="187" y="985"/>
                  </a:lnTo>
                  <a:lnTo>
                    <a:pt x="199" y="1022"/>
                  </a:lnTo>
                  <a:lnTo>
                    <a:pt x="202" y="1028"/>
                  </a:lnTo>
                  <a:lnTo>
                    <a:pt x="205" y="1033"/>
                  </a:lnTo>
                  <a:lnTo>
                    <a:pt x="207" y="1040"/>
                  </a:lnTo>
                  <a:lnTo>
                    <a:pt x="208" y="1048"/>
                  </a:lnTo>
                  <a:lnTo>
                    <a:pt x="207" y="1057"/>
                  </a:lnTo>
                  <a:lnTo>
                    <a:pt x="202" y="1065"/>
                  </a:lnTo>
                  <a:lnTo>
                    <a:pt x="199" y="1069"/>
                  </a:lnTo>
                  <a:lnTo>
                    <a:pt x="195" y="1072"/>
                  </a:lnTo>
                  <a:lnTo>
                    <a:pt x="190" y="1075"/>
                  </a:lnTo>
                  <a:lnTo>
                    <a:pt x="184" y="1078"/>
                  </a:lnTo>
                  <a:lnTo>
                    <a:pt x="169" y="1081"/>
                  </a:lnTo>
                  <a:lnTo>
                    <a:pt x="154" y="1083"/>
                  </a:lnTo>
                  <a:lnTo>
                    <a:pt x="139" y="1081"/>
                  </a:lnTo>
                  <a:lnTo>
                    <a:pt x="113" y="1078"/>
                  </a:lnTo>
                  <a:lnTo>
                    <a:pt x="103" y="1077"/>
                  </a:lnTo>
                  <a:lnTo>
                    <a:pt x="95" y="1146"/>
                  </a:lnTo>
                  <a:lnTo>
                    <a:pt x="119" y="1206"/>
                  </a:lnTo>
                  <a:lnTo>
                    <a:pt x="169" y="1196"/>
                  </a:lnTo>
                  <a:lnTo>
                    <a:pt x="222" y="1176"/>
                  </a:lnTo>
                  <a:lnTo>
                    <a:pt x="252" y="1169"/>
                  </a:lnTo>
                  <a:lnTo>
                    <a:pt x="257" y="1134"/>
                  </a:lnTo>
                  <a:lnTo>
                    <a:pt x="279" y="1111"/>
                  </a:lnTo>
                  <a:lnTo>
                    <a:pt x="279" y="1062"/>
                  </a:lnTo>
                  <a:lnTo>
                    <a:pt x="284" y="1065"/>
                  </a:lnTo>
                  <a:lnTo>
                    <a:pt x="290" y="1069"/>
                  </a:lnTo>
                  <a:lnTo>
                    <a:pt x="297" y="1072"/>
                  </a:lnTo>
                  <a:lnTo>
                    <a:pt x="306" y="1075"/>
                  </a:lnTo>
                  <a:lnTo>
                    <a:pt x="319" y="1077"/>
                  </a:lnTo>
                  <a:lnTo>
                    <a:pt x="331" y="1077"/>
                  </a:lnTo>
                  <a:lnTo>
                    <a:pt x="344" y="1072"/>
                  </a:lnTo>
                  <a:lnTo>
                    <a:pt x="352" y="1071"/>
                  </a:lnTo>
                  <a:lnTo>
                    <a:pt x="358" y="1071"/>
                  </a:lnTo>
                  <a:lnTo>
                    <a:pt x="365" y="1071"/>
                  </a:lnTo>
                  <a:lnTo>
                    <a:pt x="371" y="1072"/>
                  </a:lnTo>
                  <a:lnTo>
                    <a:pt x="382" y="1078"/>
                  </a:lnTo>
                  <a:lnTo>
                    <a:pt x="391" y="1086"/>
                  </a:lnTo>
                  <a:lnTo>
                    <a:pt x="399" y="1095"/>
                  </a:lnTo>
                  <a:lnTo>
                    <a:pt x="405" y="1102"/>
                  </a:lnTo>
                  <a:lnTo>
                    <a:pt x="409" y="1111"/>
                  </a:lnTo>
                  <a:lnTo>
                    <a:pt x="441" y="1161"/>
                  </a:lnTo>
                  <a:lnTo>
                    <a:pt x="463" y="1161"/>
                  </a:lnTo>
                  <a:lnTo>
                    <a:pt x="471" y="1139"/>
                  </a:lnTo>
                  <a:lnTo>
                    <a:pt x="448" y="1104"/>
                  </a:lnTo>
                  <a:lnTo>
                    <a:pt x="433" y="1084"/>
                  </a:lnTo>
                  <a:lnTo>
                    <a:pt x="433" y="1065"/>
                  </a:lnTo>
                  <a:lnTo>
                    <a:pt x="444" y="1057"/>
                  </a:lnTo>
                  <a:lnTo>
                    <a:pt x="471" y="1096"/>
                  </a:lnTo>
                  <a:lnTo>
                    <a:pt x="501" y="1119"/>
                  </a:lnTo>
                  <a:lnTo>
                    <a:pt x="513" y="1154"/>
                  </a:lnTo>
                  <a:lnTo>
                    <a:pt x="521" y="1158"/>
                  </a:lnTo>
                  <a:lnTo>
                    <a:pt x="528" y="1163"/>
                  </a:lnTo>
                  <a:lnTo>
                    <a:pt x="537" y="1169"/>
                  </a:lnTo>
                  <a:lnTo>
                    <a:pt x="548" y="1170"/>
                  </a:lnTo>
                  <a:lnTo>
                    <a:pt x="551" y="1172"/>
                  </a:lnTo>
                  <a:lnTo>
                    <a:pt x="556" y="1170"/>
                  </a:lnTo>
                  <a:lnTo>
                    <a:pt x="559" y="1169"/>
                  </a:lnTo>
                  <a:lnTo>
                    <a:pt x="562" y="1167"/>
                  </a:lnTo>
                  <a:lnTo>
                    <a:pt x="563" y="1163"/>
                  </a:lnTo>
                  <a:lnTo>
                    <a:pt x="563" y="1157"/>
                  </a:lnTo>
                  <a:lnTo>
                    <a:pt x="563" y="1134"/>
                  </a:lnTo>
                  <a:lnTo>
                    <a:pt x="565" y="1119"/>
                  </a:lnTo>
                  <a:lnTo>
                    <a:pt x="566" y="1107"/>
                  </a:lnTo>
                  <a:lnTo>
                    <a:pt x="598" y="1119"/>
                  </a:lnTo>
                  <a:lnTo>
                    <a:pt x="620" y="1119"/>
                  </a:lnTo>
                  <a:lnTo>
                    <a:pt x="620" y="1084"/>
                  </a:lnTo>
                  <a:lnTo>
                    <a:pt x="620" y="1057"/>
                  </a:lnTo>
                  <a:lnTo>
                    <a:pt x="628" y="1027"/>
                  </a:lnTo>
                  <a:lnTo>
                    <a:pt x="682" y="1019"/>
                  </a:lnTo>
                  <a:lnTo>
                    <a:pt x="682" y="1025"/>
                  </a:lnTo>
                  <a:lnTo>
                    <a:pt x="684" y="1039"/>
                  </a:lnTo>
                  <a:lnTo>
                    <a:pt x="685" y="1045"/>
                  </a:lnTo>
                  <a:lnTo>
                    <a:pt x="687" y="1051"/>
                  </a:lnTo>
                  <a:lnTo>
                    <a:pt x="690" y="1056"/>
                  </a:lnTo>
                  <a:lnTo>
                    <a:pt x="693" y="1057"/>
                  </a:lnTo>
                  <a:lnTo>
                    <a:pt x="747" y="1057"/>
                  </a:lnTo>
                  <a:lnTo>
                    <a:pt x="725" y="1007"/>
                  </a:lnTo>
                  <a:lnTo>
                    <a:pt x="750" y="1007"/>
                  </a:lnTo>
                  <a:lnTo>
                    <a:pt x="782" y="1057"/>
                  </a:lnTo>
                  <a:lnTo>
                    <a:pt x="783" y="1065"/>
                  </a:lnTo>
                  <a:lnTo>
                    <a:pt x="783" y="1074"/>
                  </a:lnTo>
                  <a:lnTo>
                    <a:pt x="783" y="1083"/>
                  </a:lnTo>
                  <a:lnTo>
                    <a:pt x="780" y="1092"/>
                  </a:lnTo>
                  <a:lnTo>
                    <a:pt x="777" y="1096"/>
                  </a:lnTo>
                  <a:lnTo>
                    <a:pt x="773" y="1099"/>
                  </a:lnTo>
                  <a:lnTo>
                    <a:pt x="768" y="1102"/>
                  </a:lnTo>
                  <a:lnTo>
                    <a:pt x="762" y="1105"/>
                  </a:lnTo>
                  <a:lnTo>
                    <a:pt x="755" y="1107"/>
                  </a:lnTo>
                  <a:lnTo>
                    <a:pt x="747" y="1107"/>
                  </a:lnTo>
                  <a:lnTo>
                    <a:pt x="713" y="1108"/>
                  </a:lnTo>
                  <a:lnTo>
                    <a:pt x="687" y="1111"/>
                  </a:lnTo>
                  <a:lnTo>
                    <a:pt x="663" y="1114"/>
                  </a:lnTo>
                  <a:lnTo>
                    <a:pt x="628" y="1149"/>
                  </a:lnTo>
                  <a:lnTo>
                    <a:pt x="630" y="1158"/>
                  </a:lnTo>
                  <a:lnTo>
                    <a:pt x="633" y="1167"/>
                  </a:lnTo>
                  <a:lnTo>
                    <a:pt x="637" y="1178"/>
                  </a:lnTo>
                  <a:lnTo>
                    <a:pt x="645" y="1188"/>
                  </a:lnTo>
                  <a:lnTo>
                    <a:pt x="651" y="1193"/>
                  </a:lnTo>
                  <a:lnTo>
                    <a:pt x="657" y="1197"/>
                  </a:lnTo>
                  <a:lnTo>
                    <a:pt x="666" y="1202"/>
                  </a:lnTo>
                  <a:lnTo>
                    <a:pt x="675" y="1206"/>
                  </a:lnTo>
                  <a:lnTo>
                    <a:pt x="685" y="1208"/>
                  </a:lnTo>
                  <a:lnTo>
                    <a:pt x="697" y="1211"/>
                  </a:lnTo>
                  <a:lnTo>
                    <a:pt x="703" y="1211"/>
                  </a:lnTo>
                  <a:lnTo>
                    <a:pt x="710" y="1213"/>
                  </a:lnTo>
                  <a:lnTo>
                    <a:pt x="716" y="1217"/>
                  </a:lnTo>
                  <a:lnTo>
                    <a:pt x="717" y="1219"/>
                  </a:lnTo>
                  <a:lnTo>
                    <a:pt x="719" y="1223"/>
                  </a:lnTo>
                  <a:lnTo>
                    <a:pt x="719" y="1228"/>
                  </a:lnTo>
                  <a:lnTo>
                    <a:pt x="719" y="1234"/>
                  </a:lnTo>
                  <a:lnTo>
                    <a:pt x="716" y="1240"/>
                  </a:lnTo>
                  <a:lnTo>
                    <a:pt x="713" y="1249"/>
                  </a:lnTo>
                  <a:lnTo>
                    <a:pt x="708" y="1258"/>
                  </a:lnTo>
                  <a:lnTo>
                    <a:pt x="700" y="1268"/>
                  </a:lnTo>
                  <a:lnTo>
                    <a:pt x="640" y="1291"/>
                  </a:lnTo>
                  <a:lnTo>
                    <a:pt x="598" y="1303"/>
                  </a:lnTo>
                  <a:lnTo>
                    <a:pt x="556" y="1288"/>
                  </a:lnTo>
                  <a:lnTo>
                    <a:pt x="509" y="1276"/>
                  </a:lnTo>
                  <a:lnTo>
                    <a:pt x="506" y="1311"/>
                  </a:lnTo>
                  <a:lnTo>
                    <a:pt x="466" y="1296"/>
                  </a:lnTo>
                  <a:lnTo>
                    <a:pt x="433" y="1283"/>
                  </a:lnTo>
                  <a:lnTo>
                    <a:pt x="383" y="1276"/>
                  </a:lnTo>
                  <a:lnTo>
                    <a:pt x="376" y="1222"/>
                  </a:lnTo>
                  <a:lnTo>
                    <a:pt x="367" y="1203"/>
                  </a:lnTo>
                  <a:lnTo>
                    <a:pt x="302" y="1203"/>
                  </a:lnTo>
                  <a:lnTo>
                    <a:pt x="257" y="1206"/>
                  </a:lnTo>
                  <a:lnTo>
                    <a:pt x="237" y="1214"/>
                  </a:lnTo>
                  <a:lnTo>
                    <a:pt x="165" y="1219"/>
                  </a:lnTo>
                  <a:lnTo>
                    <a:pt x="127" y="1268"/>
                  </a:lnTo>
                  <a:lnTo>
                    <a:pt x="88" y="1333"/>
                  </a:lnTo>
                  <a:lnTo>
                    <a:pt x="11" y="1395"/>
                  </a:lnTo>
                  <a:lnTo>
                    <a:pt x="8" y="1406"/>
                  </a:lnTo>
                  <a:lnTo>
                    <a:pt x="3" y="1419"/>
                  </a:lnTo>
                  <a:lnTo>
                    <a:pt x="2" y="1437"/>
                  </a:lnTo>
                  <a:lnTo>
                    <a:pt x="0" y="1460"/>
                  </a:lnTo>
                  <a:lnTo>
                    <a:pt x="2" y="1472"/>
                  </a:lnTo>
                  <a:lnTo>
                    <a:pt x="3" y="1486"/>
                  </a:lnTo>
                  <a:lnTo>
                    <a:pt x="6" y="1499"/>
                  </a:lnTo>
                  <a:lnTo>
                    <a:pt x="11" y="1513"/>
                  </a:lnTo>
                  <a:lnTo>
                    <a:pt x="15" y="1528"/>
                  </a:lnTo>
                  <a:lnTo>
                    <a:pt x="23" y="1545"/>
                  </a:lnTo>
                  <a:lnTo>
                    <a:pt x="20" y="1548"/>
                  </a:lnTo>
                  <a:lnTo>
                    <a:pt x="18" y="1554"/>
                  </a:lnTo>
                  <a:lnTo>
                    <a:pt x="18" y="1561"/>
                  </a:lnTo>
                  <a:lnTo>
                    <a:pt x="20" y="1573"/>
                  </a:lnTo>
                  <a:lnTo>
                    <a:pt x="23" y="1587"/>
                  </a:lnTo>
                  <a:lnTo>
                    <a:pt x="30" y="1606"/>
                  </a:lnTo>
                  <a:lnTo>
                    <a:pt x="42" y="1628"/>
                  </a:lnTo>
                  <a:lnTo>
                    <a:pt x="44" y="1632"/>
                  </a:lnTo>
                  <a:lnTo>
                    <a:pt x="48" y="1643"/>
                  </a:lnTo>
                  <a:lnTo>
                    <a:pt x="57" y="1658"/>
                  </a:lnTo>
                  <a:lnTo>
                    <a:pt x="63" y="1665"/>
                  </a:lnTo>
                  <a:lnTo>
                    <a:pt x="71" y="1673"/>
                  </a:lnTo>
                  <a:lnTo>
                    <a:pt x="80" y="1679"/>
                  </a:lnTo>
                  <a:lnTo>
                    <a:pt x="92" y="1685"/>
                  </a:lnTo>
                  <a:lnTo>
                    <a:pt x="106" y="1690"/>
                  </a:lnTo>
                  <a:lnTo>
                    <a:pt x="121" y="1693"/>
                  </a:lnTo>
                  <a:lnTo>
                    <a:pt x="139" y="1694"/>
                  </a:lnTo>
                  <a:lnTo>
                    <a:pt x="159" y="1693"/>
                  </a:lnTo>
                  <a:lnTo>
                    <a:pt x="181" y="1690"/>
                  </a:lnTo>
                  <a:lnTo>
                    <a:pt x="207" y="1682"/>
                  </a:lnTo>
                  <a:lnTo>
                    <a:pt x="242" y="1677"/>
                  </a:lnTo>
                  <a:lnTo>
                    <a:pt x="272" y="1682"/>
                  </a:lnTo>
                  <a:lnTo>
                    <a:pt x="322" y="1677"/>
                  </a:lnTo>
                  <a:lnTo>
                    <a:pt x="309" y="1697"/>
                  </a:lnTo>
                  <a:lnTo>
                    <a:pt x="349" y="1697"/>
                  </a:lnTo>
                  <a:lnTo>
                    <a:pt x="352" y="1747"/>
                  </a:lnTo>
                  <a:lnTo>
                    <a:pt x="352" y="1757"/>
                  </a:lnTo>
                  <a:lnTo>
                    <a:pt x="350" y="1779"/>
                  </a:lnTo>
                  <a:lnTo>
                    <a:pt x="350" y="1791"/>
                  </a:lnTo>
                  <a:lnTo>
                    <a:pt x="350" y="1800"/>
                  </a:lnTo>
                  <a:lnTo>
                    <a:pt x="353" y="1809"/>
                  </a:lnTo>
                  <a:lnTo>
                    <a:pt x="355" y="1810"/>
                  </a:lnTo>
                  <a:lnTo>
                    <a:pt x="356" y="1812"/>
                  </a:lnTo>
                  <a:lnTo>
                    <a:pt x="367" y="1818"/>
                  </a:lnTo>
                  <a:lnTo>
                    <a:pt x="379" y="1828"/>
                  </a:lnTo>
                  <a:lnTo>
                    <a:pt x="385" y="1834"/>
                  </a:lnTo>
                  <a:lnTo>
                    <a:pt x="389" y="1842"/>
                  </a:lnTo>
                  <a:lnTo>
                    <a:pt x="393" y="1850"/>
                  </a:lnTo>
                  <a:lnTo>
                    <a:pt x="394" y="1859"/>
                  </a:lnTo>
                  <a:lnTo>
                    <a:pt x="396" y="1868"/>
                  </a:lnTo>
                  <a:lnTo>
                    <a:pt x="397" y="1880"/>
                  </a:lnTo>
                  <a:lnTo>
                    <a:pt x="402" y="1905"/>
                  </a:lnTo>
                  <a:lnTo>
                    <a:pt x="409" y="1934"/>
                  </a:lnTo>
                  <a:lnTo>
                    <a:pt x="405" y="1963"/>
                  </a:lnTo>
                  <a:lnTo>
                    <a:pt x="400" y="1988"/>
                  </a:lnTo>
                  <a:lnTo>
                    <a:pt x="399" y="2016"/>
                  </a:lnTo>
                  <a:lnTo>
                    <a:pt x="400" y="2047"/>
                  </a:lnTo>
                  <a:lnTo>
                    <a:pt x="405" y="2083"/>
                  </a:lnTo>
                  <a:lnTo>
                    <a:pt x="409" y="2126"/>
                  </a:lnTo>
                  <a:lnTo>
                    <a:pt x="444" y="2163"/>
                  </a:lnTo>
                  <a:lnTo>
                    <a:pt x="468" y="2192"/>
                  </a:lnTo>
                  <a:lnTo>
                    <a:pt x="476" y="2204"/>
                  </a:lnTo>
                  <a:lnTo>
                    <a:pt x="479" y="2210"/>
                  </a:lnTo>
                  <a:lnTo>
                    <a:pt x="476" y="2253"/>
                  </a:lnTo>
                  <a:lnTo>
                    <a:pt x="471" y="2287"/>
                  </a:lnTo>
                  <a:lnTo>
                    <a:pt x="533" y="2307"/>
                  </a:lnTo>
                  <a:lnTo>
                    <a:pt x="590" y="2295"/>
                  </a:lnTo>
                  <a:lnTo>
                    <a:pt x="620" y="2245"/>
                  </a:lnTo>
                  <a:lnTo>
                    <a:pt x="690" y="2192"/>
                  </a:lnTo>
                  <a:lnTo>
                    <a:pt x="690" y="2130"/>
                  </a:lnTo>
                  <a:lnTo>
                    <a:pt x="735" y="2118"/>
                  </a:lnTo>
                  <a:lnTo>
                    <a:pt x="735" y="2068"/>
                  </a:lnTo>
                  <a:lnTo>
                    <a:pt x="735" y="2023"/>
                  </a:lnTo>
                  <a:lnTo>
                    <a:pt x="740" y="2022"/>
                  </a:lnTo>
                  <a:lnTo>
                    <a:pt x="750" y="2019"/>
                  </a:lnTo>
                  <a:lnTo>
                    <a:pt x="764" y="2013"/>
                  </a:lnTo>
                  <a:lnTo>
                    <a:pt x="771" y="2008"/>
                  </a:lnTo>
                  <a:lnTo>
                    <a:pt x="779" y="2002"/>
                  </a:lnTo>
                  <a:lnTo>
                    <a:pt x="785" y="1994"/>
                  </a:lnTo>
                  <a:lnTo>
                    <a:pt x="791" y="1985"/>
                  </a:lnTo>
                  <a:lnTo>
                    <a:pt x="797" y="1975"/>
                  </a:lnTo>
                  <a:lnTo>
                    <a:pt x="800" y="1961"/>
                  </a:lnTo>
                  <a:lnTo>
                    <a:pt x="802" y="1946"/>
                  </a:lnTo>
                  <a:lnTo>
                    <a:pt x="802" y="1930"/>
                  </a:lnTo>
                  <a:lnTo>
                    <a:pt x="799" y="1910"/>
                  </a:lnTo>
                  <a:lnTo>
                    <a:pt x="793" y="1889"/>
                  </a:lnTo>
                  <a:lnTo>
                    <a:pt x="790" y="1819"/>
                  </a:lnTo>
                  <a:lnTo>
                    <a:pt x="824" y="1782"/>
                  </a:lnTo>
                  <a:lnTo>
                    <a:pt x="845" y="1759"/>
                  </a:lnTo>
                  <a:lnTo>
                    <a:pt x="868" y="1736"/>
                  </a:lnTo>
                  <a:lnTo>
                    <a:pt x="892" y="1708"/>
                  </a:lnTo>
                  <a:lnTo>
                    <a:pt x="903" y="1691"/>
                  </a:lnTo>
                  <a:lnTo>
                    <a:pt x="913" y="1676"/>
                  </a:lnTo>
                  <a:lnTo>
                    <a:pt x="922" y="1659"/>
                  </a:lnTo>
                  <a:lnTo>
                    <a:pt x="930" y="1644"/>
                  </a:lnTo>
                  <a:lnTo>
                    <a:pt x="936" y="1629"/>
                  </a:lnTo>
                  <a:lnTo>
                    <a:pt x="937" y="1614"/>
                  </a:lnTo>
                  <a:lnTo>
                    <a:pt x="937" y="1608"/>
                  </a:lnTo>
                  <a:lnTo>
                    <a:pt x="936" y="1602"/>
                  </a:lnTo>
                  <a:lnTo>
                    <a:pt x="934" y="1596"/>
                  </a:lnTo>
                  <a:lnTo>
                    <a:pt x="931" y="1590"/>
                  </a:lnTo>
                  <a:lnTo>
                    <a:pt x="916" y="1597"/>
                  </a:lnTo>
                  <a:lnTo>
                    <a:pt x="883" y="1611"/>
                  </a:lnTo>
                  <a:lnTo>
                    <a:pt x="865" y="1617"/>
                  </a:lnTo>
                  <a:lnTo>
                    <a:pt x="848" y="1620"/>
                  </a:lnTo>
                  <a:lnTo>
                    <a:pt x="842" y="1622"/>
                  </a:lnTo>
                  <a:lnTo>
                    <a:pt x="836" y="1622"/>
                  </a:lnTo>
                  <a:lnTo>
                    <a:pt x="833" y="1620"/>
                  </a:lnTo>
                  <a:lnTo>
                    <a:pt x="832" y="1617"/>
                  </a:lnTo>
                  <a:lnTo>
                    <a:pt x="824" y="1588"/>
                  </a:lnTo>
                  <a:lnTo>
                    <a:pt x="820" y="1575"/>
                  </a:lnTo>
                  <a:lnTo>
                    <a:pt x="770" y="1513"/>
                  </a:lnTo>
                  <a:lnTo>
                    <a:pt x="765" y="1499"/>
                  </a:lnTo>
                  <a:lnTo>
                    <a:pt x="764" y="1487"/>
                  </a:lnTo>
                  <a:lnTo>
                    <a:pt x="762" y="1475"/>
                  </a:lnTo>
                  <a:lnTo>
                    <a:pt x="761" y="1468"/>
                  </a:lnTo>
                  <a:lnTo>
                    <a:pt x="758" y="1459"/>
                  </a:lnTo>
                  <a:lnTo>
                    <a:pt x="747" y="1437"/>
                  </a:lnTo>
                  <a:lnTo>
                    <a:pt x="732" y="1410"/>
                  </a:lnTo>
                  <a:lnTo>
                    <a:pt x="685" y="1353"/>
                  </a:lnTo>
                  <a:lnTo>
                    <a:pt x="720" y="1326"/>
                  </a:lnTo>
                  <a:lnTo>
                    <a:pt x="728" y="1371"/>
                  </a:lnTo>
                  <a:lnTo>
                    <a:pt x="777" y="1440"/>
                  </a:lnTo>
                  <a:lnTo>
                    <a:pt x="820" y="1510"/>
                  </a:lnTo>
                  <a:lnTo>
                    <a:pt x="847" y="1575"/>
                  </a:lnTo>
                  <a:lnTo>
                    <a:pt x="877" y="1560"/>
                  </a:lnTo>
                  <a:lnTo>
                    <a:pt x="931" y="1528"/>
                  </a:lnTo>
                  <a:lnTo>
                    <a:pt x="981" y="1505"/>
                  </a:lnTo>
                  <a:lnTo>
                    <a:pt x="1031" y="1483"/>
                  </a:lnTo>
                  <a:lnTo>
                    <a:pt x="1024" y="1445"/>
                  </a:lnTo>
                  <a:lnTo>
                    <a:pt x="1004" y="1418"/>
                  </a:lnTo>
                  <a:lnTo>
                    <a:pt x="999" y="1383"/>
                  </a:lnTo>
                  <a:lnTo>
                    <a:pt x="957" y="1388"/>
                  </a:lnTo>
                  <a:lnTo>
                    <a:pt x="915" y="1341"/>
                  </a:lnTo>
                  <a:lnTo>
                    <a:pt x="915" y="1314"/>
                  </a:lnTo>
                  <a:lnTo>
                    <a:pt x="928" y="1324"/>
                  </a:lnTo>
                  <a:lnTo>
                    <a:pt x="942" y="1335"/>
                  </a:lnTo>
                  <a:lnTo>
                    <a:pt x="962" y="1347"/>
                  </a:lnTo>
                  <a:lnTo>
                    <a:pt x="984" y="1359"/>
                  </a:lnTo>
                  <a:lnTo>
                    <a:pt x="1010" y="1371"/>
                  </a:lnTo>
                  <a:lnTo>
                    <a:pt x="1037" y="1380"/>
                  </a:lnTo>
                  <a:lnTo>
                    <a:pt x="1051" y="1385"/>
                  </a:lnTo>
                  <a:lnTo>
                    <a:pt x="1064" y="1388"/>
                  </a:lnTo>
                  <a:lnTo>
                    <a:pt x="1153" y="1410"/>
                  </a:lnTo>
                  <a:lnTo>
                    <a:pt x="1156" y="1456"/>
                  </a:lnTo>
                  <a:lnTo>
                    <a:pt x="1218" y="1453"/>
                  </a:lnTo>
                  <a:lnTo>
                    <a:pt x="1203" y="1510"/>
                  </a:lnTo>
                  <a:lnTo>
                    <a:pt x="1276" y="1632"/>
                  </a:lnTo>
                  <a:lnTo>
                    <a:pt x="1279" y="1635"/>
                  </a:lnTo>
                  <a:lnTo>
                    <a:pt x="1283" y="1637"/>
                  </a:lnTo>
                  <a:lnTo>
                    <a:pt x="1288" y="1637"/>
                  </a:lnTo>
                  <a:lnTo>
                    <a:pt x="1292" y="1637"/>
                  </a:lnTo>
                  <a:lnTo>
                    <a:pt x="1298" y="1634"/>
                  </a:lnTo>
                  <a:lnTo>
                    <a:pt x="1304" y="1628"/>
                  </a:lnTo>
                  <a:lnTo>
                    <a:pt x="1310" y="1617"/>
                  </a:lnTo>
                  <a:lnTo>
                    <a:pt x="1318" y="1600"/>
                  </a:lnTo>
                  <a:lnTo>
                    <a:pt x="1330" y="1578"/>
                  </a:lnTo>
                  <a:lnTo>
                    <a:pt x="1345" y="1554"/>
                  </a:lnTo>
                  <a:lnTo>
                    <a:pt x="1354" y="1540"/>
                  </a:lnTo>
                  <a:lnTo>
                    <a:pt x="1365" y="1526"/>
                  </a:lnTo>
                  <a:lnTo>
                    <a:pt x="1375" y="1514"/>
                  </a:lnTo>
                  <a:lnTo>
                    <a:pt x="1389" y="1502"/>
                  </a:lnTo>
                  <a:lnTo>
                    <a:pt x="1402" y="1490"/>
                  </a:lnTo>
                  <a:lnTo>
                    <a:pt x="1418" y="1481"/>
                  </a:lnTo>
                  <a:lnTo>
                    <a:pt x="1434" y="1472"/>
                  </a:lnTo>
                  <a:lnTo>
                    <a:pt x="1451" y="1466"/>
                  </a:lnTo>
                  <a:lnTo>
                    <a:pt x="1470" y="1462"/>
                  </a:lnTo>
                  <a:lnTo>
                    <a:pt x="1490" y="1460"/>
                  </a:lnTo>
                  <a:lnTo>
                    <a:pt x="1502" y="1496"/>
                  </a:lnTo>
                  <a:lnTo>
                    <a:pt x="1510" y="1526"/>
                  </a:lnTo>
                  <a:lnTo>
                    <a:pt x="1513" y="1540"/>
                  </a:lnTo>
                  <a:lnTo>
                    <a:pt x="1513" y="1552"/>
                  </a:lnTo>
                  <a:lnTo>
                    <a:pt x="1517" y="1554"/>
                  </a:lnTo>
                  <a:lnTo>
                    <a:pt x="1522" y="1555"/>
                  </a:lnTo>
                  <a:lnTo>
                    <a:pt x="1526" y="1557"/>
                  </a:lnTo>
                  <a:lnTo>
                    <a:pt x="1532" y="1555"/>
                  </a:lnTo>
                  <a:lnTo>
                    <a:pt x="1540" y="1554"/>
                  </a:lnTo>
                  <a:lnTo>
                    <a:pt x="1546" y="1548"/>
                  </a:lnTo>
                  <a:lnTo>
                    <a:pt x="1552" y="1540"/>
                  </a:lnTo>
                  <a:lnTo>
                    <a:pt x="1552" y="1560"/>
                  </a:lnTo>
                  <a:lnTo>
                    <a:pt x="1553" y="1581"/>
                  </a:lnTo>
                  <a:lnTo>
                    <a:pt x="1555" y="1605"/>
                  </a:lnTo>
                  <a:lnTo>
                    <a:pt x="1559" y="1629"/>
                  </a:lnTo>
                  <a:lnTo>
                    <a:pt x="1564" y="1653"/>
                  </a:lnTo>
                  <a:lnTo>
                    <a:pt x="1568" y="1664"/>
                  </a:lnTo>
                  <a:lnTo>
                    <a:pt x="1572" y="1673"/>
                  </a:lnTo>
                  <a:lnTo>
                    <a:pt x="1578" y="1680"/>
                  </a:lnTo>
                  <a:lnTo>
                    <a:pt x="1582" y="1685"/>
                  </a:lnTo>
                  <a:lnTo>
                    <a:pt x="1594" y="1696"/>
                  </a:lnTo>
                  <a:lnTo>
                    <a:pt x="1608" y="1708"/>
                  </a:lnTo>
                  <a:lnTo>
                    <a:pt x="1635" y="1733"/>
                  </a:lnTo>
                  <a:lnTo>
                    <a:pt x="1649" y="1742"/>
                  </a:lnTo>
                  <a:lnTo>
                    <a:pt x="1659" y="1750"/>
                  </a:lnTo>
                  <a:lnTo>
                    <a:pt x="1664" y="1753"/>
                  </a:lnTo>
                  <a:lnTo>
                    <a:pt x="1668" y="1753"/>
                  </a:lnTo>
                  <a:lnTo>
                    <a:pt x="1671" y="1753"/>
                  </a:lnTo>
                  <a:lnTo>
                    <a:pt x="1674" y="1751"/>
                  </a:lnTo>
                  <a:lnTo>
                    <a:pt x="1679" y="1745"/>
                  </a:lnTo>
                  <a:lnTo>
                    <a:pt x="1680" y="1739"/>
                  </a:lnTo>
                  <a:lnTo>
                    <a:pt x="1682" y="1732"/>
                  </a:lnTo>
                  <a:lnTo>
                    <a:pt x="1682" y="1726"/>
                  </a:lnTo>
                  <a:lnTo>
                    <a:pt x="1682" y="1720"/>
                  </a:lnTo>
                  <a:lnTo>
                    <a:pt x="1679" y="1714"/>
                  </a:lnTo>
                  <a:lnTo>
                    <a:pt x="1676" y="1708"/>
                  </a:lnTo>
                  <a:lnTo>
                    <a:pt x="1671" y="1702"/>
                  </a:lnTo>
                  <a:lnTo>
                    <a:pt x="1665" y="1694"/>
                  </a:lnTo>
                  <a:lnTo>
                    <a:pt x="1659" y="1686"/>
                  </a:lnTo>
                  <a:lnTo>
                    <a:pt x="1645" y="1665"/>
                  </a:lnTo>
                  <a:lnTo>
                    <a:pt x="1624" y="1628"/>
                  </a:lnTo>
                  <a:lnTo>
                    <a:pt x="1621" y="1620"/>
                  </a:lnTo>
                  <a:lnTo>
                    <a:pt x="1618" y="1611"/>
                  </a:lnTo>
                  <a:lnTo>
                    <a:pt x="1614" y="1593"/>
                  </a:lnTo>
                  <a:lnTo>
                    <a:pt x="1614" y="1578"/>
                  </a:lnTo>
                  <a:lnTo>
                    <a:pt x="1612" y="1570"/>
                  </a:lnTo>
                  <a:lnTo>
                    <a:pt x="1644" y="1610"/>
                  </a:lnTo>
                  <a:lnTo>
                    <a:pt x="1645" y="1614"/>
                  </a:lnTo>
                  <a:lnTo>
                    <a:pt x="1647" y="1620"/>
                  </a:lnTo>
                  <a:lnTo>
                    <a:pt x="1652" y="1625"/>
                  </a:lnTo>
                  <a:lnTo>
                    <a:pt x="1656" y="1629"/>
                  </a:lnTo>
                  <a:lnTo>
                    <a:pt x="1661" y="1629"/>
                  </a:lnTo>
                  <a:lnTo>
                    <a:pt x="1665" y="1631"/>
                  </a:lnTo>
                  <a:lnTo>
                    <a:pt x="1670" y="1629"/>
                  </a:lnTo>
                  <a:lnTo>
                    <a:pt x="1676" y="1628"/>
                  </a:lnTo>
                  <a:lnTo>
                    <a:pt x="1689" y="1620"/>
                  </a:lnTo>
                  <a:lnTo>
                    <a:pt x="1697" y="1616"/>
                  </a:lnTo>
                  <a:lnTo>
                    <a:pt x="1703" y="1610"/>
                  </a:lnTo>
                  <a:lnTo>
                    <a:pt x="1707" y="1603"/>
                  </a:lnTo>
                  <a:lnTo>
                    <a:pt x="1712" y="1596"/>
                  </a:lnTo>
                  <a:lnTo>
                    <a:pt x="1718" y="1582"/>
                  </a:lnTo>
                  <a:lnTo>
                    <a:pt x="1721" y="1569"/>
                  </a:lnTo>
                  <a:lnTo>
                    <a:pt x="1721" y="1555"/>
                  </a:lnTo>
                  <a:lnTo>
                    <a:pt x="1721" y="1546"/>
                  </a:lnTo>
                  <a:lnTo>
                    <a:pt x="1721" y="1537"/>
                  </a:lnTo>
                  <a:lnTo>
                    <a:pt x="1679" y="1510"/>
                  </a:lnTo>
                  <a:lnTo>
                    <a:pt x="1679" y="1463"/>
                  </a:lnTo>
                  <a:lnTo>
                    <a:pt x="1724" y="1448"/>
                  </a:lnTo>
                  <a:lnTo>
                    <a:pt x="1721" y="1487"/>
                  </a:lnTo>
                  <a:lnTo>
                    <a:pt x="1722" y="1490"/>
                  </a:lnTo>
                  <a:lnTo>
                    <a:pt x="1727" y="1499"/>
                  </a:lnTo>
                  <a:lnTo>
                    <a:pt x="1732" y="1502"/>
                  </a:lnTo>
                  <a:lnTo>
                    <a:pt x="1735" y="1505"/>
                  </a:lnTo>
                  <a:lnTo>
                    <a:pt x="1739" y="1507"/>
                  </a:lnTo>
                  <a:lnTo>
                    <a:pt x="1744" y="1505"/>
                  </a:lnTo>
                  <a:lnTo>
                    <a:pt x="1751" y="1499"/>
                  </a:lnTo>
                  <a:lnTo>
                    <a:pt x="1756" y="1492"/>
                  </a:lnTo>
                  <a:lnTo>
                    <a:pt x="1759" y="1483"/>
                  </a:lnTo>
                  <a:lnTo>
                    <a:pt x="1759" y="1456"/>
                  </a:lnTo>
                  <a:lnTo>
                    <a:pt x="1778" y="1442"/>
                  </a:lnTo>
                  <a:lnTo>
                    <a:pt x="1799" y="1427"/>
                  </a:lnTo>
                  <a:lnTo>
                    <a:pt x="1824" y="1409"/>
                  </a:lnTo>
                  <a:lnTo>
                    <a:pt x="1849" y="1389"/>
                  </a:lnTo>
                  <a:lnTo>
                    <a:pt x="1870" y="1368"/>
                  </a:lnTo>
                  <a:lnTo>
                    <a:pt x="1879" y="1359"/>
                  </a:lnTo>
                  <a:lnTo>
                    <a:pt x="1886" y="1350"/>
                  </a:lnTo>
                  <a:lnTo>
                    <a:pt x="1890" y="1341"/>
                  </a:lnTo>
                  <a:lnTo>
                    <a:pt x="1893" y="1333"/>
                  </a:lnTo>
                  <a:lnTo>
                    <a:pt x="1896" y="1311"/>
                  </a:lnTo>
                  <a:lnTo>
                    <a:pt x="1899" y="1297"/>
                  </a:lnTo>
                  <a:lnTo>
                    <a:pt x="1899" y="1288"/>
                  </a:lnTo>
                  <a:lnTo>
                    <a:pt x="1899" y="1283"/>
                  </a:lnTo>
                  <a:lnTo>
                    <a:pt x="1896" y="1279"/>
                  </a:lnTo>
                  <a:lnTo>
                    <a:pt x="1890" y="1267"/>
                  </a:lnTo>
                  <a:lnTo>
                    <a:pt x="1884" y="1250"/>
                  </a:lnTo>
                  <a:lnTo>
                    <a:pt x="1878" y="1229"/>
                  </a:lnTo>
                  <a:lnTo>
                    <a:pt x="1893" y="1184"/>
                  </a:lnTo>
                  <a:lnTo>
                    <a:pt x="1854" y="1179"/>
                  </a:lnTo>
                  <a:lnTo>
                    <a:pt x="1854" y="1157"/>
                  </a:lnTo>
                  <a:lnTo>
                    <a:pt x="1893" y="1142"/>
                  </a:lnTo>
                  <a:lnTo>
                    <a:pt x="1931" y="1142"/>
                  </a:lnTo>
                  <a:lnTo>
                    <a:pt x="1950" y="1176"/>
                  </a:lnTo>
                  <a:lnTo>
                    <a:pt x="1947" y="1234"/>
                  </a:lnTo>
                  <a:lnTo>
                    <a:pt x="1996" y="1211"/>
                  </a:lnTo>
                  <a:lnTo>
                    <a:pt x="1996" y="1161"/>
                  </a:lnTo>
                  <a:lnTo>
                    <a:pt x="1973" y="1129"/>
                  </a:lnTo>
                  <a:lnTo>
                    <a:pt x="1996" y="1104"/>
                  </a:lnTo>
                  <a:lnTo>
                    <a:pt x="2003" y="1077"/>
                  </a:lnTo>
                  <a:lnTo>
                    <a:pt x="2058" y="1069"/>
                  </a:lnTo>
                  <a:lnTo>
                    <a:pt x="2067" y="1060"/>
                  </a:lnTo>
                  <a:lnTo>
                    <a:pt x="2089" y="1039"/>
                  </a:lnTo>
                  <a:lnTo>
                    <a:pt x="2101" y="1025"/>
                  </a:lnTo>
                  <a:lnTo>
                    <a:pt x="2112" y="1012"/>
                  </a:lnTo>
                  <a:lnTo>
                    <a:pt x="2121" y="1000"/>
                  </a:lnTo>
                  <a:lnTo>
                    <a:pt x="2127" y="989"/>
                  </a:lnTo>
                  <a:lnTo>
                    <a:pt x="2135" y="953"/>
                  </a:lnTo>
                  <a:lnTo>
                    <a:pt x="2141" y="929"/>
                  </a:lnTo>
                  <a:lnTo>
                    <a:pt x="2144" y="902"/>
                  </a:lnTo>
                  <a:lnTo>
                    <a:pt x="2147" y="876"/>
                  </a:lnTo>
                  <a:lnTo>
                    <a:pt x="2147" y="865"/>
                  </a:lnTo>
                  <a:lnTo>
                    <a:pt x="2145" y="855"/>
                  </a:lnTo>
                  <a:lnTo>
                    <a:pt x="2144" y="847"/>
                  </a:lnTo>
                  <a:lnTo>
                    <a:pt x="2141" y="841"/>
                  </a:lnTo>
                  <a:lnTo>
                    <a:pt x="2136" y="837"/>
                  </a:lnTo>
                  <a:lnTo>
                    <a:pt x="2130" y="835"/>
                  </a:lnTo>
                  <a:lnTo>
                    <a:pt x="2120" y="835"/>
                  </a:lnTo>
                  <a:lnTo>
                    <a:pt x="2113" y="834"/>
                  </a:lnTo>
                  <a:lnTo>
                    <a:pt x="2112" y="832"/>
                  </a:lnTo>
                  <a:lnTo>
                    <a:pt x="2112" y="831"/>
                  </a:lnTo>
                  <a:lnTo>
                    <a:pt x="2116" y="829"/>
                  </a:lnTo>
                  <a:lnTo>
                    <a:pt x="2120" y="828"/>
                  </a:lnTo>
                  <a:lnTo>
                    <a:pt x="2095" y="835"/>
                  </a:lnTo>
                  <a:lnTo>
                    <a:pt x="2107" y="800"/>
                  </a:lnTo>
                  <a:lnTo>
                    <a:pt x="2142" y="763"/>
                  </a:lnTo>
                  <a:lnTo>
                    <a:pt x="2172" y="701"/>
                  </a:lnTo>
                  <a:lnTo>
                    <a:pt x="2264" y="705"/>
                  </a:lnTo>
                  <a:lnTo>
                    <a:pt x="2322" y="723"/>
                  </a:lnTo>
                  <a:lnTo>
                    <a:pt x="2369" y="708"/>
                  </a:lnTo>
                  <a:lnTo>
                    <a:pt x="2394" y="663"/>
                  </a:lnTo>
                  <a:lnTo>
                    <a:pt x="2441" y="656"/>
                  </a:lnTo>
                  <a:lnTo>
                    <a:pt x="2430" y="669"/>
                  </a:lnTo>
                  <a:lnTo>
                    <a:pt x="2418" y="686"/>
                  </a:lnTo>
                  <a:lnTo>
                    <a:pt x="2406" y="708"/>
                  </a:lnTo>
                  <a:lnTo>
                    <a:pt x="2394" y="739"/>
                  </a:lnTo>
                  <a:lnTo>
                    <a:pt x="2388" y="755"/>
                  </a:lnTo>
                  <a:lnTo>
                    <a:pt x="2382" y="775"/>
                  </a:lnTo>
                  <a:lnTo>
                    <a:pt x="2378" y="794"/>
                  </a:lnTo>
                  <a:lnTo>
                    <a:pt x="2375" y="817"/>
                  </a:lnTo>
                  <a:lnTo>
                    <a:pt x="2373" y="841"/>
                  </a:lnTo>
                  <a:lnTo>
                    <a:pt x="2372" y="865"/>
                  </a:lnTo>
                  <a:lnTo>
                    <a:pt x="2384" y="912"/>
                  </a:lnTo>
                  <a:lnTo>
                    <a:pt x="2434" y="835"/>
                  </a:lnTo>
                  <a:lnTo>
                    <a:pt x="2440" y="828"/>
                  </a:lnTo>
                  <a:lnTo>
                    <a:pt x="2452" y="813"/>
                  </a:lnTo>
                  <a:lnTo>
                    <a:pt x="2458" y="802"/>
                  </a:lnTo>
                  <a:lnTo>
                    <a:pt x="2462" y="793"/>
                  </a:lnTo>
                  <a:lnTo>
                    <a:pt x="2465" y="784"/>
                  </a:lnTo>
                  <a:lnTo>
                    <a:pt x="2465" y="781"/>
                  </a:lnTo>
                  <a:lnTo>
                    <a:pt x="2464" y="778"/>
                  </a:lnTo>
                  <a:lnTo>
                    <a:pt x="2449" y="745"/>
                  </a:lnTo>
                  <a:lnTo>
                    <a:pt x="2441" y="723"/>
                  </a:lnTo>
                  <a:lnTo>
                    <a:pt x="2446" y="717"/>
                  </a:lnTo>
                  <a:lnTo>
                    <a:pt x="2456" y="702"/>
                  </a:lnTo>
                  <a:lnTo>
                    <a:pt x="2471" y="686"/>
                  </a:lnTo>
                  <a:lnTo>
                    <a:pt x="2479" y="678"/>
                  </a:lnTo>
                  <a:lnTo>
                    <a:pt x="2486" y="674"/>
                  </a:lnTo>
                  <a:close/>
                </a:path>
              </a:pathLst>
            </a:custGeom>
            <a:blipFill rotWithShape="0">
              <a:blip r:embed="rId2"/>
              <a:srcRect/>
              <a:stretch/>
            </a:blipFill>
            <a:ln w="25560">
              <a:solidFill>
                <a:srgbClr val="ffffff"/>
              </a:solidFill>
              <a:miter/>
            </a:ln>
            <a:effectLst>
              <a:outerShdw dist="63504" dir="2216091" blurRad="0" rotWithShape="0">
                <a:srgbClr val="000000">
                  <a:alpha val="16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9" name="Freeform 11"/>
            <p:cNvSpPr/>
            <p:nvPr/>
          </p:nvSpPr>
          <p:spPr>
            <a:xfrm>
              <a:off x="4059000" y="3097440"/>
              <a:ext cx="68040" cy="253800"/>
            </a:xfrm>
            <a:custGeom>
              <a:avLst/>
              <a:gdLst>
                <a:gd name="textAreaLeft" fmla="*/ 0 w 68040"/>
                <a:gd name="textAreaRight" fmla="*/ 68400 w 68040"/>
                <a:gd name="textAreaTop" fmla="*/ 0 h 253800"/>
                <a:gd name="textAreaBottom" fmla="*/ 254160 h 25380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8"/>
                  </a:lnTo>
                  <a:lnTo>
                    <a:pt x="5" y="160"/>
                  </a:lnTo>
                  <a:close/>
                </a:path>
              </a:pathLst>
            </a:custGeom>
            <a:blipFill rotWithShape="0">
              <a:blip r:embed="rId3"/>
              <a:srcRect/>
              <a:stretch/>
            </a:blipFill>
            <a:ln w="25560">
              <a:solidFill>
                <a:srgbClr val="ffffff"/>
              </a:solidFill>
              <a:miter/>
            </a:ln>
            <a:effectLst>
              <a:outerShdw dist="63504" dir="2216091" blurRad="0" rotWithShape="0">
                <a:srgbClr val="000000">
                  <a:alpha val="16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0" name="Freeform 12"/>
            <p:cNvSpPr/>
            <p:nvPr/>
          </p:nvSpPr>
          <p:spPr>
            <a:xfrm>
              <a:off x="4011480" y="3407040"/>
              <a:ext cx="126360" cy="79200"/>
            </a:xfrm>
            <a:custGeom>
              <a:avLst/>
              <a:gdLst>
                <a:gd name="textAreaLeft" fmla="*/ 0 w 126360"/>
                <a:gd name="textAreaRight" fmla="*/ 126720 w 126360"/>
                <a:gd name="textAreaTop" fmla="*/ 0 h 79200"/>
                <a:gd name="textAreaBottom" fmla="*/ 79560 h 79200"/>
              </a:gdLst>
              <a:ahLst/>
              <a:rect l="textAreaLeft" t="textAreaTop" r="textAreaRight" b="textAreaBottom"/>
              <a:pathLst>
                <a:path w="80" h="50">
                  <a:moveTo>
                    <a:pt x="27" y="47"/>
                  </a:moveTo>
                  <a:lnTo>
                    <a:pt x="0" y="50"/>
                  </a:lnTo>
                  <a:lnTo>
                    <a:pt x="18" y="7"/>
                  </a:lnTo>
                  <a:lnTo>
                    <a:pt x="50" y="0"/>
                  </a:lnTo>
                  <a:lnTo>
                    <a:pt x="80" y="30"/>
                  </a:lnTo>
                  <a:lnTo>
                    <a:pt x="61" y="50"/>
                  </a:lnTo>
                  <a:lnTo>
                    <a:pt x="27" y="47"/>
                  </a:lnTo>
                  <a:close/>
                </a:path>
              </a:pathLst>
            </a:custGeom>
            <a:blipFill rotWithShape="0">
              <a:blip r:embed="rId4"/>
              <a:srcRect/>
              <a:stretch/>
            </a:blipFill>
            <a:ln w="25560">
              <a:solidFill>
                <a:srgbClr val="ffffff"/>
              </a:solidFill>
              <a:miter/>
            </a:ln>
            <a:effectLst>
              <a:outerShdw dist="63504" dir="2216091" blurRad="0" rotWithShape="0">
                <a:srgbClr val="000000">
                  <a:alpha val="16000"/>
                </a:srgbClr>
              </a:outerShdw>
            </a:effectLst>
          </p:spPr>
          <p:style>
            <a:lnRef idx="0"/>
            <a:fillRef idx="0"/>
            <a:effectRef idx="0"/>
            <a:fontRef idx="minor"/>
          </p:style>
          <p:txBody>
            <a:bodyPr lIns="90000" rIns="90000" tIns="32760" bIns="32760" anchor="t">
              <a:noAutofit/>
            </a:bodyPr>
            <a:p>
              <a:endParaRPr b="0" lang="en-US" sz="1800" spc="-1" strike="noStrike">
                <a:solidFill>
                  <a:srgbClr val="000000"/>
                </a:solidFill>
                <a:latin typeface="Gulim"/>
              </a:endParaRPr>
            </a:p>
          </p:txBody>
        </p:sp>
        <p:sp>
          <p:nvSpPr>
            <p:cNvPr id="831" name="Freeform 13"/>
            <p:cNvSpPr/>
            <p:nvPr/>
          </p:nvSpPr>
          <p:spPr>
            <a:xfrm>
              <a:off x="3809880" y="3516480"/>
              <a:ext cx="256680" cy="230040"/>
            </a:xfrm>
            <a:custGeom>
              <a:avLst/>
              <a:gdLst>
                <a:gd name="textAreaLeft" fmla="*/ 0 w 256680"/>
                <a:gd name="textAreaRight" fmla="*/ 257040 w 256680"/>
                <a:gd name="textAreaTop" fmla="*/ 0 h 230040"/>
                <a:gd name="textAreaBottom" fmla="*/ 230400 h 230040"/>
              </a:gdLst>
              <a:ahLst/>
              <a:rect l="textAreaLeft" t="textAreaTop" r="textAreaRight" b="textAreaBottom"/>
              <a:pathLst>
                <a:path w="162" h="145">
                  <a:moveTo>
                    <a:pt x="135" y="8"/>
                  </a:moveTo>
                  <a:lnTo>
                    <a:pt x="115" y="28"/>
                  </a:lnTo>
                  <a:lnTo>
                    <a:pt x="100" y="46"/>
                  </a:lnTo>
                  <a:lnTo>
                    <a:pt x="88" y="50"/>
                  </a:lnTo>
                  <a:lnTo>
                    <a:pt x="73" y="61"/>
                  </a:lnTo>
                  <a:lnTo>
                    <a:pt x="70" y="88"/>
                  </a:lnTo>
                  <a:lnTo>
                    <a:pt x="23" y="88"/>
                  </a:lnTo>
                  <a:lnTo>
                    <a:pt x="0" y="111"/>
                  </a:lnTo>
                  <a:lnTo>
                    <a:pt x="23" y="135"/>
                  </a:lnTo>
                  <a:lnTo>
                    <a:pt x="62" y="142"/>
                  </a:lnTo>
                  <a:lnTo>
                    <a:pt x="85" y="145"/>
                  </a:lnTo>
                  <a:lnTo>
                    <a:pt x="115" y="130"/>
                  </a:lnTo>
                  <a:lnTo>
                    <a:pt x="130" y="77"/>
                  </a:lnTo>
                  <a:lnTo>
                    <a:pt x="150" y="50"/>
                  </a:lnTo>
                  <a:lnTo>
                    <a:pt x="162" y="23"/>
                  </a:lnTo>
                  <a:lnTo>
                    <a:pt x="162" y="0"/>
                  </a:lnTo>
                  <a:lnTo>
                    <a:pt x="135" y="8"/>
                  </a:lnTo>
                  <a:close/>
                </a:path>
              </a:pathLst>
            </a:custGeom>
            <a:blipFill rotWithShape="0">
              <a:blip r:embed="rId5"/>
              <a:srcRect/>
              <a:stretch/>
            </a:blipFill>
            <a:ln w="25560">
              <a:solidFill>
                <a:srgbClr val="ffffff"/>
              </a:solidFill>
              <a:miter/>
            </a:ln>
            <a:effectLst>
              <a:outerShdw dist="63504" dir="2216091" blurRad="0" rotWithShape="0">
                <a:srgbClr val="000000">
                  <a:alpha val="16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2" name="Freeform 14"/>
            <p:cNvSpPr/>
            <p:nvPr/>
          </p:nvSpPr>
          <p:spPr>
            <a:xfrm>
              <a:off x="3774960" y="3746520"/>
              <a:ext cx="70920" cy="50760"/>
            </a:xfrm>
            <a:custGeom>
              <a:avLst/>
              <a:gdLst>
                <a:gd name="textAreaLeft" fmla="*/ 0 w 70920"/>
                <a:gd name="textAreaRight" fmla="*/ 71280 w 70920"/>
                <a:gd name="textAreaTop" fmla="*/ 0 h 50760"/>
                <a:gd name="textAreaBottom" fmla="*/ 51120 h 50760"/>
              </a:gdLst>
              <a:ahLst/>
              <a:rect l="textAreaLeft" t="textAreaTop" r="textAreaRight" b="textAreaBottom"/>
              <a:pathLst>
                <a:path w="45" h="32">
                  <a:moveTo>
                    <a:pt x="18" y="27"/>
                  </a:moveTo>
                  <a:lnTo>
                    <a:pt x="0" y="8"/>
                  </a:lnTo>
                  <a:lnTo>
                    <a:pt x="27" y="0"/>
                  </a:lnTo>
                  <a:lnTo>
                    <a:pt x="45" y="12"/>
                  </a:lnTo>
                  <a:lnTo>
                    <a:pt x="37" y="32"/>
                  </a:lnTo>
                  <a:lnTo>
                    <a:pt x="18" y="27"/>
                  </a:lnTo>
                  <a:close/>
                </a:path>
              </a:pathLst>
            </a:custGeom>
            <a:blipFill rotWithShape="0">
              <a:blip r:embed="rId6"/>
              <a:srcRect/>
              <a:stretch/>
            </a:blipFill>
            <a:ln w="25560">
              <a:solidFill>
                <a:srgbClr val="ffffff"/>
              </a:solidFill>
              <a:miter/>
            </a:ln>
            <a:effectLst>
              <a:outerShdw dist="63504" dir="2216091" blurRad="0" rotWithShape="0">
                <a:srgbClr val="000000">
                  <a:alpha val="16000"/>
                </a:srgbClr>
              </a:outerShdw>
            </a:effectLst>
          </p:spPr>
          <p:style>
            <a:lnRef idx="0"/>
            <a:fillRef idx="0"/>
            <a:effectRef idx="0"/>
            <a:fontRef idx="minor"/>
          </p:style>
          <p:txBody>
            <a:bodyPr lIns="90000" rIns="90000" tIns="4320" bIns="4320" anchor="t">
              <a:noAutofit/>
            </a:bodyPr>
            <a:p>
              <a:endParaRPr b="0" lang="en-US" sz="1800" spc="-1" strike="noStrike">
                <a:solidFill>
                  <a:srgbClr val="000000"/>
                </a:solidFill>
                <a:latin typeface="Gulim"/>
              </a:endParaRPr>
            </a:p>
          </p:txBody>
        </p:sp>
        <p:sp>
          <p:nvSpPr>
            <p:cNvPr id="833" name="Freeform 15"/>
            <p:cNvSpPr/>
            <p:nvPr/>
          </p:nvSpPr>
          <p:spPr>
            <a:xfrm>
              <a:off x="3565080" y="3956040"/>
              <a:ext cx="106200" cy="77760"/>
            </a:xfrm>
            <a:custGeom>
              <a:avLst/>
              <a:gdLst>
                <a:gd name="textAreaLeft" fmla="*/ 0 w 106200"/>
                <a:gd name="textAreaRight" fmla="*/ 106560 w 106200"/>
                <a:gd name="textAreaTop" fmla="*/ 0 h 77760"/>
                <a:gd name="textAreaBottom" fmla="*/ 78120 h 77760"/>
              </a:gdLst>
              <a:ahLst/>
              <a:rect l="textAreaLeft" t="textAreaTop" r="textAreaRight" b="textAreaBottom"/>
              <a:pathLst>
                <a:path w="67" h="49">
                  <a:moveTo>
                    <a:pt x="25" y="49"/>
                  </a:moveTo>
                  <a:lnTo>
                    <a:pt x="47" y="37"/>
                  </a:lnTo>
                  <a:lnTo>
                    <a:pt x="67" y="7"/>
                  </a:lnTo>
                  <a:lnTo>
                    <a:pt x="40" y="0"/>
                  </a:lnTo>
                  <a:lnTo>
                    <a:pt x="0" y="30"/>
                  </a:lnTo>
                  <a:lnTo>
                    <a:pt x="25" y="49"/>
                  </a:lnTo>
                  <a:close/>
                </a:path>
              </a:pathLst>
            </a:custGeom>
            <a:blipFill rotWithShape="0">
              <a:blip r:embed="rId7"/>
              <a:srcRect/>
              <a:stretch/>
            </a:blipFill>
            <a:ln w="25560">
              <a:solidFill>
                <a:srgbClr val="ffffff"/>
              </a:solidFill>
              <a:miter/>
            </a:ln>
            <a:effectLst>
              <a:outerShdw dist="63504" dir="2216091" blurRad="0" rotWithShape="0">
                <a:srgbClr val="000000">
                  <a:alpha val="16000"/>
                </a:srgbClr>
              </a:outerShdw>
            </a:effectLst>
          </p:spPr>
          <p:style>
            <a:lnRef idx="0"/>
            <a:fillRef idx="0"/>
            <a:effectRef idx="0"/>
            <a:fontRef idx="minor"/>
          </p:style>
          <p:txBody>
            <a:bodyPr lIns="90000" rIns="90000" tIns="31320" bIns="31320" anchor="t">
              <a:noAutofit/>
            </a:bodyPr>
            <a:p>
              <a:endParaRPr b="0" lang="en-US" sz="1800" spc="-1" strike="noStrike">
                <a:solidFill>
                  <a:srgbClr val="000000"/>
                </a:solidFill>
                <a:latin typeface="Gulim"/>
              </a:endParaRPr>
            </a:p>
          </p:txBody>
        </p:sp>
        <p:sp>
          <p:nvSpPr>
            <p:cNvPr id="834" name="Freeform 16"/>
            <p:cNvSpPr/>
            <p:nvPr/>
          </p:nvSpPr>
          <p:spPr>
            <a:xfrm>
              <a:off x="3355560" y="4399200"/>
              <a:ext cx="217440" cy="241200"/>
            </a:xfrm>
            <a:custGeom>
              <a:avLst/>
              <a:gdLst>
                <a:gd name="textAreaLeft" fmla="*/ 0 w 217440"/>
                <a:gd name="textAreaRight" fmla="*/ 217800 w 217440"/>
                <a:gd name="textAreaTop" fmla="*/ 0 h 241200"/>
                <a:gd name="textAreaBottom" fmla="*/ 241560 h 241200"/>
              </a:gdLst>
              <a:ahLst/>
              <a:rect l="textAreaLeft" t="textAreaTop" r="textAreaRight" b="textAreaBottom"/>
              <a:pathLst>
                <a:path w="137" h="152">
                  <a:moveTo>
                    <a:pt x="117" y="0"/>
                  </a:moveTo>
                  <a:lnTo>
                    <a:pt x="80" y="10"/>
                  </a:lnTo>
                  <a:lnTo>
                    <a:pt x="42" y="30"/>
                  </a:lnTo>
                  <a:lnTo>
                    <a:pt x="18" y="60"/>
                  </a:lnTo>
                  <a:lnTo>
                    <a:pt x="15" y="62"/>
                  </a:lnTo>
                  <a:lnTo>
                    <a:pt x="9" y="66"/>
                  </a:lnTo>
                  <a:lnTo>
                    <a:pt x="3" y="72"/>
                  </a:lnTo>
                  <a:lnTo>
                    <a:pt x="0" y="75"/>
                  </a:lnTo>
                  <a:lnTo>
                    <a:pt x="0" y="80"/>
                  </a:lnTo>
                  <a:lnTo>
                    <a:pt x="0" y="86"/>
                  </a:lnTo>
                  <a:lnTo>
                    <a:pt x="3" y="95"/>
                  </a:lnTo>
                  <a:lnTo>
                    <a:pt x="10" y="115"/>
                  </a:lnTo>
                  <a:lnTo>
                    <a:pt x="22" y="142"/>
                  </a:lnTo>
                  <a:lnTo>
                    <a:pt x="60" y="152"/>
                  </a:lnTo>
                  <a:lnTo>
                    <a:pt x="102" y="107"/>
                  </a:lnTo>
                  <a:lnTo>
                    <a:pt x="110" y="104"/>
                  </a:lnTo>
                  <a:lnTo>
                    <a:pt x="116" y="99"/>
                  </a:lnTo>
                  <a:lnTo>
                    <a:pt x="123" y="95"/>
                  </a:lnTo>
                  <a:lnTo>
                    <a:pt x="129" y="89"/>
                  </a:lnTo>
                  <a:lnTo>
                    <a:pt x="135" y="81"/>
                  </a:lnTo>
                  <a:lnTo>
                    <a:pt x="135" y="77"/>
                  </a:lnTo>
                  <a:lnTo>
                    <a:pt x="137" y="74"/>
                  </a:lnTo>
                  <a:lnTo>
                    <a:pt x="135" y="69"/>
                  </a:lnTo>
                  <a:lnTo>
                    <a:pt x="132" y="65"/>
                  </a:lnTo>
                  <a:lnTo>
                    <a:pt x="128" y="56"/>
                  </a:lnTo>
                  <a:lnTo>
                    <a:pt x="125" y="45"/>
                  </a:lnTo>
                  <a:lnTo>
                    <a:pt x="122" y="35"/>
                  </a:lnTo>
                  <a:lnTo>
                    <a:pt x="120" y="24"/>
                  </a:lnTo>
                  <a:lnTo>
                    <a:pt x="117" y="6"/>
                  </a:lnTo>
                  <a:lnTo>
                    <a:pt x="117" y="0"/>
                  </a:lnTo>
                  <a:close/>
                </a:path>
              </a:pathLst>
            </a:custGeom>
            <a:blipFill rotWithShape="0">
              <a:blip r:embed="rId8"/>
              <a:srcRect/>
              <a:stretch/>
            </a:blipFill>
            <a:ln w="25560">
              <a:solidFill>
                <a:srgbClr val="ffffff"/>
              </a:solidFill>
              <a:miter/>
            </a:ln>
            <a:effectLst>
              <a:outerShdw dist="63504" dir="2216091" blurRad="0" rotWithShape="0">
                <a:srgbClr val="000000">
                  <a:alpha val="16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5" name="Freeform 17"/>
            <p:cNvSpPr/>
            <p:nvPr/>
          </p:nvSpPr>
          <p:spPr>
            <a:xfrm>
              <a:off x="1936440" y="4805280"/>
              <a:ext cx="188640" cy="346320"/>
            </a:xfrm>
            <a:custGeom>
              <a:avLst/>
              <a:gdLst>
                <a:gd name="textAreaLeft" fmla="*/ 0 w 188640"/>
                <a:gd name="textAreaRight" fmla="*/ 189000 w 188640"/>
                <a:gd name="textAreaTop" fmla="*/ 0 h 346320"/>
                <a:gd name="textAreaBottom" fmla="*/ 346680 h 346320"/>
              </a:gdLst>
              <a:ahLst/>
              <a:rect l="textAreaLeft" t="textAreaTop" r="textAreaRight" b="textAreaBottom"/>
              <a:pathLst>
                <a:path w="119" h="218">
                  <a:moveTo>
                    <a:pt x="119" y="70"/>
                  </a:moveTo>
                  <a:lnTo>
                    <a:pt x="107" y="23"/>
                  </a:lnTo>
                  <a:lnTo>
                    <a:pt x="92" y="0"/>
                  </a:lnTo>
                  <a:lnTo>
                    <a:pt x="72" y="23"/>
                  </a:lnTo>
                  <a:lnTo>
                    <a:pt x="35" y="58"/>
                  </a:lnTo>
                  <a:lnTo>
                    <a:pt x="29" y="62"/>
                  </a:lnTo>
                  <a:lnTo>
                    <a:pt x="18" y="71"/>
                  </a:lnTo>
                  <a:lnTo>
                    <a:pt x="10" y="77"/>
                  </a:lnTo>
                  <a:lnTo>
                    <a:pt x="6" y="85"/>
                  </a:lnTo>
                  <a:lnTo>
                    <a:pt x="1" y="93"/>
                  </a:lnTo>
                  <a:lnTo>
                    <a:pt x="0" y="100"/>
                  </a:lnTo>
                  <a:lnTo>
                    <a:pt x="1" y="117"/>
                  </a:lnTo>
                  <a:lnTo>
                    <a:pt x="6" y="136"/>
                  </a:lnTo>
                  <a:lnTo>
                    <a:pt x="12" y="157"/>
                  </a:lnTo>
                  <a:lnTo>
                    <a:pt x="12" y="200"/>
                  </a:lnTo>
                  <a:lnTo>
                    <a:pt x="16" y="204"/>
                  </a:lnTo>
                  <a:lnTo>
                    <a:pt x="30" y="212"/>
                  </a:lnTo>
                  <a:lnTo>
                    <a:pt x="36" y="215"/>
                  </a:lnTo>
                  <a:lnTo>
                    <a:pt x="42" y="218"/>
                  </a:lnTo>
                  <a:lnTo>
                    <a:pt x="47" y="218"/>
                  </a:lnTo>
                  <a:lnTo>
                    <a:pt x="48" y="216"/>
                  </a:lnTo>
                  <a:lnTo>
                    <a:pt x="50" y="215"/>
                  </a:lnTo>
                  <a:lnTo>
                    <a:pt x="65" y="160"/>
                  </a:lnTo>
                  <a:lnTo>
                    <a:pt x="89" y="103"/>
                  </a:lnTo>
                  <a:lnTo>
                    <a:pt x="119" y="70"/>
                  </a:lnTo>
                  <a:close/>
                </a:path>
              </a:pathLst>
            </a:custGeom>
            <a:blipFill rotWithShape="0">
              <a:blip r:embed="rId9"/>
              <a:srcRect/>
              <a:stretch/>
            </a:blipFill>
            <a:ln w="25560">
              <a:solidFill>
                <a:srgbClr val="ffffff"/>
              </a:solidFill>
              <a:miter/>
            </a:ln>
            <a:effectLst>
              <a:outerShdw dist="63504" dir="2216091" blurRad="0" rotWithShape="0">
                <a:srgbClr val="000000">
                  <a:alpha val="16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6" name="Freeform 18"/>
            <p:cNvSpPr/>
            <p:nvPr/>
          </p:nvSpPr>
          <p:spPr>
            <a:xfrm>
              <a:off x="3066840" y="4470480"/>
              <a:ext cx="209160" cy="201600"/>
            </a:xfrm>
            <a:custGeom>
              <a:avLst/>
              <a:gdLst>
                <a:gd name="textAreaLeft" fmla="*/ 0 w 209160"/>
                <a:gd name="textAreaRight" fmla="*/ 209520 w 209160"/>
                <a:gd name="textAreaTop" fmla="*/ 0 h 201600"/>
                <a:gd name="textAreaBottom" fmla="*/ 201960 h 201600"/>
              </a:gdLst>
              <a:ahLst/>
              <a:rect l="textAreaLeft" t="textAreaTop" r="textAreaRight" b="textAreaBottom"/>
              <a:pathLst>
                <a:path w="132" h="127">
                  <a:moveTo>
                    <a:pt x="85" y="119"/>
                  </a:moveTo>
                  <a:lnTo>
                    <a:pt x="70" y="89"/>
                  </a:lnTo>
                  <a:lnTo>
                    <a:pt x="43" y="50"/>
                  </a:lnTo>
                  <a:lnTo>
                    <a:pt x="0" y="8"/>
                  </a:lnTo>
                  <a:lnTo>
                    <a:pt x="32" y="0"/>
                  </a:lnTo>
                  <a:lnTo>
                    <a:pt x="74" y="20"/>
                  </a:lnTo>
                  <a:lnTo>
                    <a:pt x="100" y="74"/>
                  </a:lnTo>
                  <a:lnTo>
                    <a:pt x="108" y="82"/>
                  </a:lnTo>
                  <a:lnTo>
                    <a:pt x="123" y="100"/>
                  </a:lnTo>
                  <a:lnTo>
                    <a:pt x="129" y="110"/>
                  </a:lnTo>
                  <a:lnTo>
                    <a:pt x="132" y="118"/>
                  </a:lnTo>
                  <a:lnTo>
                    <a:pt x="132" y="122"/>
                  </a:lnTo>
                  <a:lnTo>
                    <a:pt x="130" y="125"/>
                  </a:lnTo>
                  <a:lnTo>
                    <a:pt x="127" y="127"/>
                  </a:lnTo>
                  <a:lnTo>
                    <a:pt x="124" y="127"/>
                  </a:lnTo>
                  <a:lnTo>
                    <a:pt x="106" y="125"/>
                  </a:lnTo>
                  <a:lnTo>
                    <a:pt x="94" y="124"/>
                  </a:lnTo>
                  <a:lnTo>
                    <a:pt x="88" y="121"/>
                  </a:lnTo>
                  <a:lnTo>
                    <a:pt x="85" y="119"/>
                  </a:lnTo>
                  <a:close/>
                </a:path>
              </a:pathLst>
            </a:custGeom>
            <a:blipFill rotWithShape="0">
              <a:blip r:embed="rId10"/>
              <a:srcRect/>
              <a:stretch/>
            </a:blipFill>
            <a:ln w="25560">
              <a:solidFill>
                <a:srgbClr val="ffffff"/>
              </a:solidFill>
              <a:miter/>
            </a:ln>
            <a:effectLst>
              <a:outerShdw dist="63504" dir="2216091" blurRad="0" rotWithShape="0">
                <a:srgbClr val="000000">
                  <a:alpha val="16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7" name="Freeform 19"/>
            <p:cNvSpPr/>
            <p:nvPr/>
          </p:nvSpPr>
          <p:spPr>
            <a:xfrm>
              <a:off x="3311280" y="4691160"/>
              <a:ext cx="158400" cy="90360"/>
            </a:xfrm>
            <a:custGeom>
              <a:avLst/>
              <a:gdLst>
                <a:gd name="textAreaLeft" fmla="*/ 0 w 158400"/>
                <a:gd name="textAreaRight" fmla="*/ 158760 w 158400"/>
                <a:gd name="textAreaTop" fmla="*/ 0 h 90360"/>
                <a:gd name="textAreaBottom" fmla="*/ 90720 h 90360"/>
              </a:gdLst>
              <a:ahLst/>
              <a:rect l="textAreaLeft" t="textAreaTop" r="textAreaRight" b="textAreaBottom"/>
              <a:pathLst>
                <a:path w="100" h="57">
                  <a:moveTo>
                    <a:pt x="0" y="42"/>
                  </a:moveTo>
                  <a:lnTo>
                    <a:pt x="0" y="0"/>
                  </a:lnTo>
                  <a:lnTo>
                    <a:pt x="38" y="15"/>
                  </a:lnTo>
                  <a:lnTo>
                    <a:pt x="100" y="35"/>
                  </a:lnTo>
                  <a:lnTo>
                    <a:pt x="73" y="53"/>
                  </a:lnTo>
                  <a:lnTo>
                    <a:pt x="28" y="57"/>
                  </a:lnTo>
                  <a:lnTo>
                    <a:pt x="0" y="42"/>
                  </a:lnTo>
                  <a:close/>
                </a:path>
              </a:pathLst>
            </a:custGeom>
            <a:blipFill rotWithShape="0">
              <a:blip r:embed="rId11"/>
              <a:srcRect/>
              <a:stretch/>
            </a:blipFill>
            <a:ln w="25560">
              <a:solidFill>
                <a:srgbClr val="ffffff"/>
              </a:solidFill>
              <a:miter/>
            </a:ln>
            <a:effectLst>
              <a:outerShdw dist="63504" dir="2216091" blurRad="0" rotWithShape="0">
                <a:srgbClr val="000000">
                  <a:alpha val="16000"/>
                </a:srgbClr>
              </a:outerShdw>
            </a:effectLst>
          </p:spPr>
          <p:style>
            <a:lnRef idx="0"/>
            <a:fillRef idx="0"/>
            <a:effectRef idx="0"/>
            <a:fontRef idx="minor"/>
          </p:style>
          <p:txBody>
            <a:bodyPr lIns="90000" rIns="90000" tIns="43920" bIns="43920" anchor="t">
              <a:noAutofit/>
            </a:bodyPr>
            <a:p>
              <a:endParaRPr b="0" lang="en-US" sz="1800" spc="-1" strike="noStrike">
                <a:solidFill>
                  <a:srgbClr val="000000"/>
                </a:solidFill>
                <a:latin typeface="Gulim"/>
              </a:endParaRPr>
            </a:p>
          </p:txBody>
        </p:sp>
        <p:sp>
          <p:nvSpPr>
            <p:cNvPr id="838" name="Freeform 20"/>
            <p:cNvSpPr/>
            <p:nvPr/>
          </p:nvSpPr>
          <p:spPr>
            <a:xfrm>
              <a:off x="3530160" y="4508640"/>
              <a:ext cx="141120" cy="174600"/>
            </a:xfrm>
            <a:custGeom>
              <a:avLst/>
              <a:gdLst>
                <a:gd name="textAreaLeft" fmla="*/ 0 w 141120"/>
                <a:gd name="textAreaRight" fmla="*/ 141480 w 141120"/>
                <a:gd name="textAreaTop" fmla="*/ 0 h 174600"/>
                <a:gd name="textAreaBottom" fmla="*/ 174960 h 174600"/>
              </a:gdLst>
              <a:ahLst/>
              <a:rect l="textAreaLeft" t="textAreaTop" r="textAreaRight" b="textAreaBottom"/>
              <a:pathLst>
                <a:path w="89" h="110">
                  <a:moveTo>
                    <a:pt x="65" y="110"/>
                  </a:moveTo>
                  <a:lnTo>
                    <a:pt x="22" y="91"/>
                  </a:lnTo>
                  <a:lnTo>
                    <a:pt x="0" y="83"/>
                  </a:lnTo>
                  <a:lnTo>
                    <a:pt x="22" y="46"/>
                  </a:lnTo>
                  <a:lnTo>
                    <a:pt x="65" y="0"/>
                  </a:lnTo>
                  <a:lnTo>
                    <a:pt x="89" y="41"/>
                  </a:lnTo>
                  <a:lnTo>
                    <a:pt x="77" y="58"/>
                  </a:lnTo>
                  <a:lnTo>
                    <a:pt x="65" y="110"/>
                  </a:lnTo>
                  <a:close/>
                </a:path>
              </a:pathLst>
            </a:custGeom>
            <a:blipFill rotWithShape="0">
              <a:blip r:embed="rId12"/>
              <a:srcRect/>
              <a:stretch/>
            </a:blipFill>
            <a:ln w="25560">
              <a:solidFill>
                <a:srgbClr val="ffffff"/>
              </a:solidFill>
              <a:miter/>
            </a:ln>
            <a:effectLst>
              <a:outerShdw dist="63504" dir="2216091" blurRad="0" rotWithShape="0">
                <a:srgbClr val="000000">
                  <a:alpha val="16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9" name="Freeform 21"/>
            <p:cNvSpPr/>
            <p:nvPr/>
          </p:nvSpPr>
          <p:spPr>
            <a:xfrm>
              <a:off x="3831840" y="4567320"/>
              <a:ext cx="433080" cy="219240"/>
            </a:xfrm>
            <a:custGeom>
              <a:avLst/>
              <a:gdLst>
                <a:gd name="textAreaLeft" fmla="*/ 0 w 433080"/>
                <a:gd name="textAreaRight" fmla="*/ 433440 w 433080"/>
                <a:gd name="textAreaTop" fmla="*/ 0 h 219240"/>
                <a:gd name="textAreaBottom" fmla="*/ 219600 h 219240"/>
              </a:gdLst>
              <a:ahLst/>
              <a:rect l="textAreaLeft" t="textAreaTop" r="textAreaRight" b="textAreaBottom"/>
              <a:pathLst>
                <a:path w="273" h="138">
                  <a:moveTo>
                    <a:pt x="86" y="66"/>
                  </a:moveTo>
                  <a:lnTo>
                    <a:pt x="81" y="43"/>
                  </a:lnTo>
                  <a:lnTo>
                    <a:pt x="68" y="40"/>
                  </a:lnTo>
                  <a:lnTo>
                    <a:pt x="38" y="34"/>
                  </a:lnTo>
                  <a:lnTo>
                    <a:pt x="23" y="30"/>
                  </a:lnTo>
                  <a:lnTo>
                    <a:pt x="9" y="24"/>
                  </a:lnTo>
                  <a:lnTo>
                    <a:pt x="4" y="21"/>
                  </a:lnTo>
                  <a:lnTo>
                    <a:pt x="1" y="16"/>
                  </a:lnTo>
                  <a:lnTo>
                    <a:pt x="0" y="13"/>
                  </a:lnTo>
                  <a:lnTo>
                    <a:pt x="1" y="9"/>
                  </a:lnTo>
                  <a:lnTo>
                    <a:pt x="4" y="4"/>
                  </a:lnTo>
                  <a:lnTo>
                    <a:pt x="9" y="3"/>
                  </a:lnTo>
                  <a:lnTo>
                    <a:pt x="14" y="1"/>
                  </a:lnTo>
                  <a:lnTo>
                    <a:pt x="18" y="0"/>
                  </a:lnTo>
                  <a:lnTo>
                    <a:pt x="32" y="0"/>
                  </a:lnTo>
                  <a:lnTo>
                    <a:pt x="44" y="3"/>
                  </a:lnTo>
                  <a:lnTo>
                    <a:pt x="68" y="9"/>
                  </a:lnTo>
                  <a:lnTo>
                    <a:pt x="78" y="13"/>
                  </a:lnTo>
                  <a:lnTo>
                    <a:pt x="140" y="9"/>
                  </a:lnTo>
                  <a:lnTo>
                    <a:pt x="163" y="43"/>
                  </a:lnTo>
                  <a:lnTo>
                    <a:pt x="208" y="43"/>
                  </a:lnTo>
                  <a:lnTo>
                    <a:pt x="223" y="89"/>
                  </a:lnTo>
                  <a:lnTo>
                    <a:pt x="273" y="116"/>
                  </a:lnTo>
                  <a:lnTo>
                    <a:pt x="269" y="122"/>
                  </a:lnTo>
                  <a:lnTo>
                    <a:pt x="261" y="128"/>
                  </a:lnTo>
                  <a:lnTo>
                    <a:pt x="252" y="134"/>
                  </a:lnTo>
                  <a:lnTo>
                    <a:pt x="240" y="138"/>
                  </a:lnTo>
                  <a:lnTo>
                    <a:pt x="232" y="138"/>
                  </a:lnTo>
                  <a:lnTo>
                    <a:pt x="225" y="138"/>
                  </a:lnTo>
                  <a:lnTo>
                    <a:pt x="217" y="137"/>
                  </a:lnTo>
                  <a:lnTo>
                    <a:pt x="208" y="134"/>
                  </a:lnTo>
                  <a:lnTo>
                    <a:pt x="199" y="129"/>
                  </a:lnTo>
                  <a:lnTo>
                    <a:pt x="190" y="123"/>
                  </a:lnTo>
                  <a:lnTo>
                    <a:pt x="174" y="111"/>
                  </a:lnTo>
                  <a:lnTo>
                    <a:pt x="166" y="105"/>
                  </a:lnTo>
                  <a:lnTo>
                    <a:pt x="164" y="102"/>
                  </a:lnTo>
                  <a:lnTo>
                    <a:pt x="166" y="101"/>
                  </a:lnTo>
                  <a:lnTo>
                    <a:pt x="172" y="102"/>
                  </a:lnTo>
                  <a:lnTo>
                    <a:pt x="186" y="108"/>
                  </a:lnTo>
                  <a:lnTo>
                    <a:pt x="158" y="135"/>
                  </a:lnTo>
                  <a:lnTo>
                    <a:pt x="128" y="113"/>
                  </a:lnTo>
                  <a:lnTo>
                    <a:pt x="94" y="96"/>
                  </a:lnTo>
                  <a:lnTo>
                    <a:pt x="74" y="108"/>
                  </a:lnTo>
                  <a:lnTo>
                    <a:pt x="63" y="78"/>
                  </a:lnTo>
                  <a:lnTo>
                    <a:pt x="86" y="66"/>
                  </a:lnTo>
                  <a:close/>
                </a:path>
              </a:pathLst>
            </a:custGeom>
            <a:blipFill rotWithShape="0">
              <a:blip r:embed="rId13"/>
              <a:srcRect/>
              <a:stretch/>
            </a:blipFill>
            <a:ln w="25560">
              <a:solidFill>
                <a:srgbClr val="ffffff"/>
              </a:solidFill>
              <a:miter/>
            </a:ln>
            <a:effectLst>
              <a:outerShdw dist="63504" dir="2216091" blurRad="0" rotWithShape="0">
                <a:srgbClr val="000000">
                  <a:alpha val="16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0" name="Freeform 22"/>
            <p:cNvSpPr/>
            <p:nvPr/>
          </p:nvSpPr>
          <p:spPr>
            <a:xfrm>
              <a:off x="3446280" y="4799160"/>
              <a:ext cx="874440" cy="695160"/>
            </a:xfrm>
            <a:custGeom>
              <a:avLst/>
              <a:gdLst>
                <a:gd name="textAreaLeft" fmla="*/ 0 w 874440"/>
                <a:gd name="textAreaRight" fmla="*/ 874800 w 874440"/>
                <a:gd name="textAreaTop" fmla="*/ 0 h 695160"/>
                <a:gd name="textAreaBottom" fmla="*/ 695520 h 695160"/>
              </a:gdLst>
              <a:ahLst/>
              <a:rect l="textAreaLeft" t="textAreaTop" r="textAreaRight" b="textAreaBottom"/>
              <a:pathLst>
                <a:path w="551" h="438">
                  <a:moveTo>
                    <a:pt x="391" y="92"/>
                  </a:moveTo>
                  <a:lnTo>
                    <a:pt x="294" y="66"/>
                  </a:lnTo>
                  <a:lnTo>
                    <a:pt x="299" y="32"/>
                  </a:lnTo>
                  <a:lnTo>
                    <a:pt x="329" y="32"/>
                  </a:lnTo>
                  <a:lnTo>
                    <a:pt x="329" y="0"/>
                  </a:lnTo>
                  <a:lnTo>
                    <a:pt x="272" y="0"/>
                  </a:lnTo>
                  <a:lnTo>
                    <a:pt x="264" y="3"/>
                  </a:lnTo>
                  <a:lnTo>
                    <a:pt x="253" y="7"/>
                  </a:lnTo>
                  <a:lnTo>
                    <a:pt x="228" y="21"/>
                  </a:lnTo>
                  <a:lnTo>
                    <a:pt x="195" y="42"/>
                  </a:lnTo>
                  <a:lnTo>
                    <a:pt x="167" y="50"/>
                  </a:lnTo>
                  <a:lnTo>
                    <a:pt x="130" y="50"/>
                  </a:lnTo>
                  <a:lnTo>
                    <a:pt x="107" y="81"/>
                  </a:lnTo>
                  <a:lnTo>
                    <a:pt x="96" y="94"/>
                  </a:lnTo>
                  <a:lnTo>
                    <a:pt x="90" y="106"/>
                  </a:lnTo>
                  <a:lnTo>
                    <a:pt x="89" y="110"/>
                  </a:lnTo>
                  <a:lnTo>
                    <a:pt x="87" y="115"/>
                  </a:lnTo>
                  <a:lnTo>
                    <a:pt x="86" y="121"/>
                  </a:lnTo>
                  <a:lnTo>
                    <a:pt x="83" y="125"/>
                  </a:lnTo>
                  <a:lnTo>
                    <a:pt x="74" y="137"/>
                  </a:lnTo>
                  <a:lnTo>
                    <a:pt x="60" y="149"/>
                  </a:lnTo>
                  <a:lnTo>
                    <a:pt x="10" y="149"/>
                  </a:lnTo>
                  <a:lnTo>
                    <a:pt x="0" y="199"/>
                  </a:lnTo>
                  <a:lnTo>
                    <a:pt x="10" y="238"/>
                  </a:lnTo>
                  <a:lnTo>
                    <a:pt x="10" y="296"/>
                  </a:lnTo>
                  <a:lnTo>
                    <a:pt x="13" y="315"/>
                  </a:lnTo>
                  <a:lnTo>
                    <a:pt x="16" y="340"/>
                  </a:lnTo>
                  <a:lnTo>
                    <a:pt x="23" y="362"/>
                  </a:lnTo>
                  <a:lnTo>
                    <a:pt x="26" y="376"/>
                  </a:lnTo>
                  <a:lnTo>
                    <a:pt x="27" y="377"/>
                  </a:lnTo>
                  <a:lnTo>
                    <a:pt x="30" y="379"/>
                  </a:lnTo>
                  <a:lnTo>
                    <a:pt x="39" y="380"/>
                  </a:lnTo>
                  <a:lnTo>
                    <a:pt x="50" y="380"/>
                  </a:lnTo>
                  <a:lnTo>
                    <a:pt x="62" y="379"/>
                  </a:lnTo>
                  <a:lnTo>
                    <a:pt x="84" y="374"/>
                  </a:lnTo>
                  <a:lnTo>
                    <a:pt x="95" y="373"/>
                  </a:lnTo>
                  <a:lnTo>
                    <a:pt x="195" y="349"/>
                  </a:lnTo>
                  <a:lnTo>
                    <a:pt x="237" y="323"/>
                  </a:lnTo>
                  <a:lnTo>
                    <a:pt x="249" y="324"/>
                  </a:lnTo>
                  <a:lnTo>
                    <a:pt x="276" y="331"/>
                  </a:lnTo>
                  <a:lnTo>
                    <a:pt x="291" y="337"/>
                  </a:lnTo>
                  <a:lnTo>
                    <a:pt x="306" y="341"/>
                  </a:lnTo>
                  <a:lnTo>
                    <a:pt x="320" y="349"/>
                  </a:lnTo>
                  <a:lnTo>
                    <a:pt x="324" y="353"/>
                  </a:lnTo>
                  <a:lnTo>
                    <a:pt x="329" y="356"/>
                  </a:lnTo>
                  <a:lnTo>
                    <a:pt x="359" y="394"/>
                  </a:lnTo>
                  <a:lnTo>
                    <a:pt x="383" y="426"/>
                  </a:lnTo>
                  <a:lnTo>
                    <a:pt x="388" y="430"/>
                  </a:lnTo>
                  <a:lnTo>
                    <a:pt x="397" y="435"/>
                  </a:lnTo>
                  <a:lnTo>
                    <a:pt x="407" y="436"/>
                  </a:lnTo>
                  <a:lnTo>
                    <a:pt x="418" y="438"/>
                  </a:lnTo>
                  <a:lnTo>
                    <a:pt x="436" y="438"/>
                  </a:lnTo>
                  <a:lnTo>
                    <a:pt x="444" y="438"/>
                  </a:lnTo>
                  <a:lnTo>
                    <a:pt x="483" y="406"/>
                  </a:lnTo>
                  <a:lnTo>
                    <a:pt x="486" y="401"/>
                  </a:lnTo>
                  <a:lnTo>
                    <a:pt x="495" y="391"/>
                  </a:lnTo>
                  <a:lnTo>
                    <a:pt x="506" y="377"/>
                  </a:lnTo>
                  <a:lnTo>
                    <a:pt x="509" y="371"/>
                  </a:lnTo>
                  <a:lnTo>
                    <a:pt x="509" y="364"/>
                  </a:lnTo>
                  <a:lnTo>
                    <a:pt x="509" y="334"/>
                  </a:lnTo>
                  <a:lnTo>
                    <a:pt x="540" y="284"/>
                  </a:lnTo>
                  <a:lnTo>
                    <a:pt x="551" y="219"/>
                  </a:lnTo>
                  <a:lnTo>
                    <a:pt x="536" y="190"/>
                  </a:lnTo>
                  <a:lnTo>
                    <a:pt x="521" y="166"/>
                  </a:lnTo>
                  <a:lnTo>
                    <a:pt x="513" y="155"/>
                  </a:lnTo>
                  <a:lnTo>
                    <a:pt x="506" y="146"/>
                  </a:lnTo>
                  <a:lnTo>
                    <a:pt x="487" y="131"/>
                  </a:lnTo>
                  <a:lnTo>
                    <a:pt x="469" y="118"/>
                  </a:lnTo>
                  <a:lnTo>
                    <a:pt x="448" y="104"/>
                  </a:lnTo>
                  <a:lnTo>
                    <a:pt x="436" y="54"/>
                  </a:lnTo>
                  <a:lnTo>
                    <a:pt x="383" y="7"/>
                  </a:lnTo>
                  <a:lnTo>
                    <a:pt x="386" y="81"/>
                  </a:lnTo>
                  <a:lnTo>
                    <a:pt x="391" y="92"/>
                  </a:lnTo>
                  <a:close/>
                </a:path>
              </a:pathLst>
            </a:custGeom>
            <a:blipFill rotWithShape="0">
              <a:blip r:embed="rId14"/>
              <a:srcRect/>
              <a:stretch/>
            </a:blipFill>
            <a:ln w="25560">
              <a:solidFill>
                <a:srgbClr val="ffffff"/>
              </a:solidFill>
              <a:miter/>
            </a:ln>
            <a:effectLst>
              <a:outerShdw dist="63504" dir="2216091" blurRad="0" rotWithShape="0">
                <a:srgbClr val="000000">
                  <a:alpha val="16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1" name="Freeform 23"/>
            <p:cNvSpPr/>
            <p:nvPr/>
          </p:nvSpPr>
          <p:spPr>
            <a:xfrm>
              <a:off x="4059000" y="5548320"/>
              <a:ext cx="194760" cy="103320"/>
            </a:xfrm>
            <a:custGeom>
              <a:avLst/>
              <a:gdLst>
                <a:gd name="textAreaLeft" fmla="*/ 0 w 194760"/>
                <a:gd name="textAreaRight" fmla="*/ 195120 w 194760"/>
                <a:gd name="textAreaTop" fmla="*/ 0 h 103320"/>
                <a:gd name="textAreaBottom" fmla="*/ 103680 h 103320"/>
              </a:gdLst>
              <a:ahLst/>
              <a:rect l="textAreaLeft" t="textAreaTop" r="textAreaRight" b="textAreaBottom"/>
              <a:pathLst>
                <a:path w="123" h="65">
                  <a:moveTo>
                    <a:pt x="65" y="65"/>
                  </a:moveTo>
                  <a:lnTo>
                    <a:pt x="35" y="46"/>
                  </a:lnTo>
                  <a:lnTo>
                    <a:pt x="0" y="16"/>
                  </a:lnTo>
                  <a:lnTo>
                    <a:pt x="31" y="0"/>
                  </a:lnTo>
                  <a:lnTo>
                    <a:pt x="73" y="3"/>
                  </a:lnTo>
                  <a:lnTo>
                    <a:pt x="123" y="11"/>
                  </a:lnTo>
                  <a:lnTo>
                    <a:pt x="100" y="38"/>
                  </a:lnTo>
                  <a:lnTo>
                    <a:pt x="65" y="65"/>
                  </a:lnTo>
                  <a:close/>
                </a:path>
              </a:pathLst>
            </a:custGeom>
            <a:blipFill rotWithShape="0">
              <a:blip r:embed="rId15"/>
              <a:srcRect/>
              <a:stretch/>
            </a:blipFill>
            <a:ln w="25560">
              <a:solidFill>
                <a:srgbClr val="ffffff"/>
              </a:solidFill>
              <a:miter/>
            </a:ln>
            <a:effectLst>
              <a:outerShdw dist="63504" dir="2216091" blurRad="0" rotWithShape="0">
                <a:srgbClr val="000000">
                  <a:alpha val="16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2" name="Freeform 24"/>
            <p:cNvSpPr/>
            <p:nvPr/>
          </p:nvSpPr>
          <p:spPr>
            <a:xfrm>
              <a:off x="4632120" y="5548320"/>
              <a:ext cx="182160" cy="187560"/>
            </a:xfrm>
            <a:custGeom>
              <a:avLst/>
              <a:gdLst>
                <a:gd name="textAreaLeft" fmla="*/ 0 w 182160"/>
                <a:gd name="textAreaRight" fmla="*/ 182520 w 182160"/>
                <a:gd name="textAreaTop" fmla="*/ 0 h 187560"/>
                <a:gd name="textAreaBottom" fmla="*/ 187920 h 187560"/>
              </a:gdLst>
              <a:ahLst/>
              <a:rect l="textAreaLeft" t="textAreaTop" r="textAreaRight" b="textAreaBottom"/>
              <a:pathLst>
                <a:path w="115" h="118">
                  <a:moveTo>
                    <a:pt x="42" y="118"/>
                  </a:moveTo>
                  <a:lnTo>
                    <a:pt x="0" y="100"/>
                  </a:lnTo>
                  <a:lnTo>
                    <a:pt x="42" y="53"/>
                  </a:lnTo>
                  <a:lnTo>
                    <a:pt x="42" y="3"/>
                  </a:lnTo>
                  <a:lnTo>
                    <a:pt x="76" y="0"/>
                  </a:lnTo>
                  <a:lnTo>
                    <a:pt x="115" y="0"/>
                  </a:lnTo>
                  <a:lnTo>
                    <a:pt x="107" y="53"/>
                  </a:lnTo>
                  <a:lnTo>
                    <a:pt x="68" y="88"/>
                  </a:lnTo>
                  <a:lnTo>
                    <a:pt x="42" y="118"/>
                  </a:lnTo>
                  <a:close/>
                </a:path>
              </a:pathLst>
            </a:custGeom>
            <a:blipFill rotWithShape="0">
              <a:blip r:embed="rId16"/>
              <a:srcRect/>
              <a:stretch/>
            </a:blipFill>
            <a:ln w="25560">
              <a:solidFill>
                <a:srgbClr val="ffffff"/>
              </a:solidFill>
              <a:miter/>
            </a:ln>
            <a:effectLst>
              <a:outerShdw dist="63504" dir="2216091" blurRad="0" rotWithShape="0">
                <a:srgbClr val="000000">
                  <a:alpha val="16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3" name="Freeform 25"/>
            <p:cNvSpPr/>
            <p:nvPr/>
          </p:nvSpPr>
          <p:spPr>
            <a:xfrm>
              <a:off x="4767120" y="5383440"/>
              <a:ext cx="169200" cy="134640"/>
            </a:xfrm>
            <a:custGeom>
              <a:avLst/>
              <a:gdLst>
                <a:gd name="textAreaLeft" fmla="*/ 0 w 169200"/>
                <a:gd name="textAreaRight" fmla="*/ 169560 w 169200"/>
                <a:gd name="textAreaTop" fmla="*/ 0 h 134640"/>
                <a:gd name="textAreaBottom" fmla="*/ 135000 h 134640"/>
              </a:gdLst>
              <a:ahLst/>
              <a:rect l="textAreaLeft" t="textAreaTop" r="textAreaRight" b="textAreaBottom"/>
              <a:pathLst>
                <a:path w="107" h="85">
                  <a:moveTo>
                    <a:pt x="25" y="77"/>
                  </a:moveTo>
                  <a:lnTo>
                    <a:pt x="0" y="27"/>
                  </a:lnTo>
                  <a:lnTo>
                    <a:pt x="25" y="0"/>
                  </a:lnTo>
                  <a:lnTo>
                    <a:pt x="30" y="3"/>
                  </a:lnTo>
                  <a:lnTo>
                    <a:pt x="42" y="12"/>
                  </a:lnTo>
                  <a:lnTo>
                    <a:pt x="57" y="20"/>
                  </a:lnTo>
                  <a:lnTo>
                    <a:pt x="65" y="23"/>
                  </a:lnTo>
                  <a:lnTo>
                    <a:pt x="72" y="23"/>
                  </a:lnTo>
                  <a:lnTo>
                    <a:pt x="86" y="24"/>
                  </a:lnTo>
                  <a:lnTo>
                    <a:pt x="92" y="26"/>
                  </a:lnTo>
                  <a:lnTo>
                    <a:pt x="98" y="27"/>
                  </a:lnTo>
                  <a:lnTo>
                    <a:pt x="102" y="30"/>
                  </a:lnTo>
                  <a:lnTo>
                    <a:pt x="105" y="35"/>
                  </a:lnTo>
                  <a:lnTo>
                    <a:pt x="107" y="40"/>
                  </a:lnTo>
                  <a:lnTo>
                    <a:pt x="107" y="47"/>
                  </a:lnTo>
                  <a:lnTo>
                    <a:pt x="104" y="53"/>
                  </a:lnTo>
                  <a:lnTo>
                    <a:pt x="99" y="59"/>
                  </a:lnTo>
                  <a:lnTo>
                    <a:pt x="95" y="65"/>
                  </a:lnTo>
                  <a:lnTo>
                    <a:pt x="89" y="71"/>
                  </a:lnTo>
                  <a:lnTo>
                    <a:pt x="80" y="79"/>
                  </a:lnTo>
                  <a:lnTo>
                    <a:pt x="75" y="80"/>
                  </a:lnTo>
                  <a:lnTo>
                    <a:pt x="49" y="85"/>
                  </a:lnTo>
                  <a:lnTo>
                    <a:pt x="25" y="77"/>
                  </a:lnTo>
                  <a:close/>
                </a:path>
              </a:pathLst>
            </a:custGeom>
            <a:blipFill rotWithShape="0">
              <a:blip r:embed="rId17"/>
              <a:srcRect/>
              <a:stretch/>
            </a:blipFill>
            <a:ln w="25560">
              <a:solidFill>
                <a:srgbClr val="ffffff"/>
              </a:solidFill>
              <a:miter/>
            </a:ln>
            <a:effectLst>
              <a:outerShdw dist="63504" dir="2216091" blurRad="0" rotWithShape="0">
                <a:srgbClr val="000000">
                  <a:alpha val="16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4" name="Freeform 26"/>
            <p:cNvSpPr/>
            <p:nvPr/>
          </p:nvSpPr>
          <p:spPr>
            <a:xfrm>
              <a:off x="5162400" y="2232000"/>
              <a:ext cx="2928600" cy="3719520"/>
            </a:xfrm>
            <a:custGeom>
              <a:avLst/>
              <a:gdLst>
                <a:gd name="textAreaLeft" fmla="*/ 0 w 2928600"/>
                <a:gd name="textAreaRight" fmla="*/ 2928960 w 2928600"/>
                <a:gd name="textAreaTop" fmla="*/ 0 h 3719520"/>
                <a:gd name="textAreaBottom" fmla="*/ 3719880 h 3719520"/>
              </a:gdLst>
              <a:ahLst/>
              <a:rect l="textAreaLeft" t="textAreaTop" r="textAreaRight" b="textAreaBottom"/>
              <a:pathLst>
                <a:path w="1845" h="2343">
                  <a:moveTo>
                    <a:pt x="114" y="403"/>
                  </a:moveTo>
                  <a:lnTo>
                    <a:pt x="90" y="403"/>
                  </a:lnTo>
                  <a:lnTo>
                    <a:pt x="65" y="388"/>
                  </a:lnTo>
                  <a:lnTo>
                    <a:pt x="30" y="361"/>
                  </a:lnTo>
                  <a:lnTo>
                    <a:pt x="30" y="329"/>
                  </a:lnTo>
                  <a:lnTo>
                    <a:pt x="75" y="284"/>
                  </a:lnTo>
                  <a:lnTo>
                    <a:pt x="80" y="242"/>
                  </a:lnTo>
                  <a:lnTo>
                    <a:pt x="33" y="242"/>
                  </a:lnTo>
                  <a:lnTo>
                    <a:pt x="18" y="197"/>
                  </a:lnTo>
                  <a:lnTo>
                    <a:pt x="72" y="189"/>
                  </a:lnTo>
                  <a:lnTo>
                    <a:pt x="25" y="154"/>
                  </a:lnTo>
                  <a:lnTo>
                    <a:pt x="0" y="120"/>
                  </a:lnTo>
                  <a:lnTo>
                    <a:pt x="18" y="92"/>
                  </a:lnTo>
                  <a:lnTo>
                    <a:pt x="83" y="80"/>
                  </a:lnTo>
                  <a:lnTo>
                    <a:pt x="90" y="35"/>
                  </a:lnTo>
                  <a:lnTo>
                    <a:pt x="152" y="5"/>
                  </a:lnTo>
                  <a:lnTo>
                    <a:pt x="195" y="35"/>
                  </a:lnTo>
                  <a:lnTo>
                    <a:pt x="259" y="40"/>
                  </a:lnTo>
                  <a:lnTo>
                    <a:pt x="309" y="40"/>
                  </a:lnTo>
                  <a:lnTo>
                    <a:pt x="344" y="55"/>
                  </a:lnTo>
                  <a:lnTo>
                    <a:pt x="382" y="77"/>
                  </a:lnTo>
                  <a:lnTo>
                    <a:pt x="413" y="97"/>
                  </a:lnTo>
                  <a:lnTo>
                    <a:pt x="463" y="85"/>
                  </a:lnTo>
                  <a:lnTo>
                    <a:pt x="513" y="40"/>
                  </a:lnTo>
                  <a:lnTo>
                    <a:pt x="519" y="37"/>
                  </a:lnTo>
                  <a:lnTo>
                    <a:pt x="534" y="34"/>
                  </a:lnTo>
                  <a:lnTo>
                    <a:pt x="542" y="34"/>
                  </a:lnTo>
                  <a:lnTo>
                    <a:pt x="551" y="34"/>
                  </a:lnTo>
                  <a:lnTo>
                    <a:pt x="560" y="37"/>
                  </a:lnTo>
                  <a:lnTo>
                    <a:pt x="566" y="43"/>
                  </a:lnTo>
                  <a:lnTo>
                    <a:pt x="573" y="50"/>
                  </a:lnTo>
                  <a:lnTo>
                    <a:pt x="582" y="56"/>
                  </a:lnTo>
                  <a:lnTo>
                    <a:pt x="592" y="62"/>
                  </a:lnTo>
                  <a:lnTo>
                    <a:pt x="602" y="67"/>
                  </a:lnTo>
                  <a:lnTo>
                    <a:pt x="622" y="74"/>
                  </a:lnTo>
                  <a:lnTo>
                    <a:pt x="635" y="77"/>
                  </a:lnTo>
                  <a:lnTo>
                    <a:pt x="646" y="76"/>
                  </a:lnTo>
                  <a:lnTo>
                    <a:pt x="659" y="73"/>
                  </a:lnTo>
                  <a:lnTo>
                    <a:pt x="669" y="73"/>
                  </a:lnTo>
                  <a:lnTo>
                    <a:pt x="678" y="73"/>
                  </a:lnTo>
                  <a:lnTo>
                    <a:pt x="687" y="74"/>
                  </a:lnTo>
                  <a:lnTo>
                    <a:pt x="696" y="77"/>
                  </a:lnTo>
                  <a:lnTo>
                    <a:pt x="706" y="82"/>
                  </a:lnTo>
                  <a:lnTo>
                    <a:pt x="714" y="88"/>
                  </a:lnTo>
                  <a:lnTo>
                    <a:pt x="720" y="94"/>
                  </a:lnTo>
                  <a:lnTo>
                    <a:pt x="726" y="98"/>
                  </a:lnTo>
                  <a:lnTo>
                    <a:pt x="732" y="107"/>
                  </a:lnTo>
                  <a:lnTo>
                    <a:pt x="735" y="112"/>
                  </a:lnTo>
                  <a:lnTo>
                    <a:pt x="735" y="117"/>
                  </a:lnTo>
                  <a:lnTo>
                    <a:pt x="736" y="129"/>
                  </a:lnTo>
                  <a:lnTo>
                    <a:pt x="738" y="135"/>
                  </a:lnTo>
                  <a:lnTo>
                    <a:pt x="741" y="141"/>
                  </a:lnTo>
                  <a:lnTo>
                    <a:pt x="746" y="145"/>
                  </a:lnTo>
                  <a:lnTo>
                    <a:pt x="750" y="147"/>
                  </a:lnTo>
                  <a:lnTo>
                    <a:pt x="800" y="147"/>
                  </a:lnTo>
                  <a:lnTo>
                    <a:pt x="827" y="147"/>
                  </a:lnTo>
                  <a:lnTo>
                    <a:pt x="835" y="127"/>
                  </a:lnTo>
                  <a:lnTo>
                    <a:pt x="838" y="126"/>
                  </a:lnTo>
                  <a:lnTo>
                    <a:pt x="847" y="124"/>
                  </a:lnTo>
                  <a:lnTo>
                    <a:pt x="860" y="123"/>
                  </a:lnTo>
                  <a:lnTo>
                    <a:pt x="877" y="123"/>
                  </a:lnTo>
                  <a:lnTo>
                    <a:pt x="898" y="126"/>
                  </a:lnTo>
                  <a:lnTo>
                    <a:pt x="924" y="127"/>
                  </a:lnTo>
                  <a:lnTo>
                    <a:pt x="954" y="127"/>
                  </a:lnTo>
                  <a:lnTo>
                    <a:pt x="976" y="127"/>
                  </a:lnTo>
                  <a:lnTo>
                    <a:pt x="1004" y="127"/>
                  </a:lnTo>
                  <a:lnTo>
                    <a:pt x="1008" y="123"/>
                  </a:lnTo>
                  <a:lnTo>
                    <a:pt x="1013" y="118"/>
                  </a:lnTo>
                  <a:lnTo>
                    <a:pt x="1017" y="112"/>
                  </a:lnTo>
                  <a:lnTo>
                    <a:pt x="1020" y="104"/>
                  </a:lnTo>
                  <a:lnTo>
                    <a:pt x="1022" y="101"/>
                  </a:lnTo>
                  <a:lnTo>
                    <a:pt x="1020" y="98"/>
                  </a:lnTo>
                  <a:lnTo>
                    <a:pt x="1019" y="94"/>
                  </a:lnTo>
                  <a:lnTo>
                    <a:pt x="1017" y="91"/>
                  </a:lnTo>
                  <a:lnTo>
                    <a:pt x="1013" y="88"/>
                  </a:lnTo>
                  <a:lnTo>
                    <a:pt x="1007" y="85"/>
                  </a:lnTo>
                  <a:lnTo>
                    <a:pt x="995" y="79"/>
                  </a:lnTo>
                  <a:lnTo>
                    <a:pt x="986" y="71"/>
                  </a:lnTo>
                  <a:lnTo>
                    <a:pt x="978" y="65"/>
                  </a:lnTo>
                  <a:lnTo>
                    <a:pt x="973" y="58"/>
                  </a:lnTo>
                  <a:lnTo>
                    <a:pt x="966" y="47"/>
                  </a:lnTo>
                  <a:lnTo>
                    <a:pt x="964" y="43"/>
                  </a:lnTo>
                  <a:lnTo>
                    <a:pt x="972" y="20"/>
                  </a:lnTo>
                  <a:lnTo>
                    <a:pt x="984" y="0"/>
                  </a:lnTo>
                  <a:lnTo>
                    <a:pt x="1011" y="0"/>
                  </a:lnTo>
                  <a:lnTo>
                    <a:pt x="1011" y="6"/>
                  </a:lnTo>
                  <a:lnTo>
                    <a:pt x="1013" y="18"/>
                  </a:lnTo>
                  <a:lnTo>
                    <a:pt x="1013" y="24"/>
                  </a:lnTo>
                  <a:lnTo>
                    <a:pt x="1016" y="29"/>
                  </a:lnTo>
                  <a:lnTo>
                    <a:pt x="1019" y="34"/>
                  </a:lnTo>
                  <a:lnTo>
                    <a:pt x="1022" y="35"/>
                  </a:lnTo>
                  <a:lnTo>
                    <a:pt x="1025" y="37"/>
                  </a:lnTo>
                  <a:lnTo>
                    <a:pt x="1026" y="38"/>
                  </a:lnTo>
                  <a:lnTo>
                    <a:pt x="1032" y="46"/>
                  </a:lnTo>
                  <a:lnTo>
                    <a:pt x="1037" y="56"/>
                  </a:lnTo>
                  <a:lnTo>
                    <a:pt x="1041" y="70"/>
                  </a:lnTo>
                  <a:lnTo>
                    <a:pt x="1049" y="94"/>
                  </a:lnTo>
                  <a:lnTo>
                    <a:pt x="1053" y="104"/>
                  </a:lnTo>
                  <a:lnTo>
                    <a:pt x="1061" y="109"/>
                  </a:lnTo>
                  <a:lnTo>
                    <a:pt x="1069" y="114"/>
                  </a:lnTo>
                  <a:lnTo>
                    <a:pt x="1079" y="120"/>
                  </a:lnTo>
                  <a:lnTo>
                    <a:pt x="1090" y="123"/>
                  </a:lnTo>
                  <a:lnTo>
                    <a:pt x="1102" y="126"/>
                  </a:lnTo>
                  <a:lnTo>
                    <a:pt x="1106" y="126"/>
                  </a:lnTo>
                  <a:lnTo>
                    <a:pt x="1112" y="124"/>
                  </a:lnTo>
                  <a:lnTo>
                    <a:pt x="1117" y="123"/>
                  </a:lnTo>
                  <a:lnTo>
                    <a:pt x="1121" y="120"/>
                  </a:lnTo>
                  <a:lnTo>
                    <a:pt x="1129" y="112"/>
                  </a:lnTo>
                  <a:lnTo>
                    <a:pt x="1137" y="104"/>
                  </a:lnTo>
                  <a:lnTo>
                    <a:pt x="1146" y="89"/>
                  </a:lnTo>
                  <a:lnTo>
                    <a:pt x="1152" y="77"/>
                  </a:lnTo>
                  <a:lnTo>
                    <a:pt x="1153" y="73"/>
                  </a:lnTo>
                  <a:lnTo>
                    <a:pt x="1162" y="73"/>
                  </a:lnTo>
                  <a:lnTo>
                    <a:pt x="1170" y="73"/>
                  </a:lnTo>
                  <a:lnTo>
                    <a:pt x="1179" y="76"/>
                  </a:lnTo>
                  <a:lnTo>
                    <a:pt x="1183" y="79"/>
                  </a:lnTo>
                  <a:lnTo>
                    <a:pt x="1186" y="82"/>
                  </a:lnTo>
                  <a:lnTo>
                    <a:pt x="1188" y="86"/>
                  </a:lnTo>
                  <a:lnTo>
                    <a:pt x="1189" y="92"/>
                  </a:lnTo>
                  <a:lnTo>
                    <a:pt x="1189" y="100"/>
                  </a:lnTo>
                  <a:lnTo>
                    <a:pt x="1188" y="109"/>
                  </a:lnTo>
                  <a:lnTo>
                    <a:pt x="1185" y="120"/>
                  </a:lnTo>
                  <a:lnTo>
                    <a:pt x="1179" y="130"/>
                  </a:lnTo>
                  <a:lnTo>
                    <a:pt x="1167" y="154"/>
                  </a:lnTo>
                  <a:lnTo>
                    <a:pt x="1155" y="172"/>
                  </a:lnTo>
                  <a:lnTo>
                    <a:pt x="1144" y="186"/>
                  </a:lnTo>
                  <a:lnTo>
                    <a:pt x="1133" y="195"/>
                  </a:lnTo>
                  <a:lnTo>
                    <a:pt x="1126" y="201"/>
                  </a:lnTo>
                  <a:lnTo>
                    <a:pt x="1120" y="206"/>
                  </a:lnTo>
                  <a:lnTo>
                    <a:pt x="1114" y="207"/>
                  </a:lnTo>
                  <a:lnTo>
                    <a:pt x="1064" y="215"/>
                  </a:lnTo>
                  <a:lnTo>
                    <a:pt x="1106" y="249"/>
                  </a:lnTo>
                  <a:lnTo>
                    <a:pt x="1087" y="257"/>
                  </a:lnTo>
                  <a:lnTo>
                    <a:pt x="1067" y="264"/>
                  </a:lnTo>
                  <a:lnTo>
                    <a:pt x="1049" y="272"/>
                  </a:lnTo>
                  <a:lnTo>
                    <a:pt x="1041" y="277"/>
                  </a:lnTo>
                  <a:lnTo>
                    <a:pt x="1035" y="283"/>
                  </a:lnTo>
                  <a:lnTo>
                    <a:pt x="1031" y="289"/>
                  </a:lnTo>
                  <a:lnTo>
                    <a:pt x="1026" y="295"/>
                  </a:lnTo>
                  <a:lnTo>
                    <a:pt x="1025" y="301"/>
                  </a:lnTo>
                  <a:lnTo>
                    <a:pt x="1023" y="307"/>
                  </a:lnTo>
                  <a:lnTo>
                    <a:pt x="1022" y="319"/>
                  </a:lnTo>
                  <a:lnTo>
                    <a:pt x="1022" y="325"/>
                  </a:lnTo>
                  <a:lnTo>
                    <a:pt x="1019" y="332"/>
                  </a:lnTo>
                  <a:lnTo>
                    <a:pt x="1013" y="347"/>
                  </a:lnTo>
                  <a:lnTo>
                    <a:pt x="1007" y="364"/>
                  </a:lnTo>
                  <a:lnTo>
                    <a:pt x="1004" y="372"/>
                  </a:lnTo>
                  <a:lnTo>
                    <a:pt x="1004" y="379"/>
                  </a:lnTo>
                  <a:lnTo>
                    <a:pt x="1004" y="382"/>
                  </a:lnTo>
                  <a:lnTo>
                    <a:pt x="1005" y="385"/>
                  </a:lnTo>
                  <a:lnTo>
                    <a:pt x="1007" y="385"/>
                  </a:lnTo>
                  <a:lnTo>
                    <a:pt x="1008" y="387"/>
                  </a:lnTo>
                  <a:lnTo>
                    <a:pt x="1014" y="385"/>
                  </a:lnTo>
                  <a:lnTo>
                    <a:pt x="1020" y="382"/>
                  </a:lnTo>
                  <a:lnTo>
                    <a:pt x="1026" y="381"/>
                  </a:lnTo>
                  <a:lnTo>
                    <a:pt x="1032" y="381"/>
                  </a:lnTo>
                  <a:lnTo>
                    <a:pt x="1034" y="382"/>
                  </a:lnTo>
                  <a:lnTo>
                    <a:pt x="1035" y="384"/>
                  </a:lnTo>
                  <a:lnTo>
                    <a:pt x="1037" y="387"/>
                  </a:lnTo>
                  <a:lnTo>
                    <a:pt x="1037" y="391"/>
                  </a:lnTo>
                  <a:lnTo>
                    <a:pt x="1038" y="396"/>
                  </a:lnTo>
                  <a:lnTo>
                    <a:pt x="1040" y="402"/>
                  </a:lnTo>
                  <a:lnTo>
                    <a:pt x="1046" y="412"/>
                  </a:lnTo>
                  <a:lnTo>
                    <a:pt x="1055" y="421"/>
                  </a:lnTo>
                  <a:lnTo>
                    <a:pt x="1064" y="432"/>
                  </a:lnTo>
                  <a:lnTo>
                    <a:pt x="1082" y="450"/>
                  </a:lnTo>
                  <a:lnTo>
                    <a:pt x="1088" y="458"/>
                  </a:lnTo>
                  <a:lnTo>
                    <a:pt x="1091" y="461"/>
                  </a:lnTo>
                  <a:lnTo>
                    <a:pt x="1091" y="464"/>
                  </a:lnTo>
                  <a:lnTo>
                    <a:pt x="1093" y="467"/>
                  </a:lnTo>
                  <a:lnTo>
                    <a:pt x="1094" y="471"/>
                  </a:lnTo>
                  <a:lnTo>
                    <a:pt x="1103" y="479"/>
                  </a:lnTo>
                  <a:lnTo>
                    <a:pt x="1115" y="486"/>
                  </a:lnTo>
                  <a:lnTo>
                    <a:pt x="1129" y="495"/>
                  </a:lnTo>
                  <a:lnTo>
                    <a:pt x="1156" y="509"/>
                  </a:lnTo>
                  <a:lnTo>
                    <a:pt x="1168" y="514"/>
                  </a:lnTo>
                  <a:lnTo>
                    <a:pt x="1191" y="560"/>
                  </a:lnTo>
                  <a:lnTo>
                    <a:pt x="1210" y="556"/>
                  </a:lnTo>
                  <a:lnTo>
                    <a:pt x="1226" y="506"/>
                  </a:lnTo>
                  <a:lnTo>
                    <a:pt x="1229" y="434"/>
                  </a:lnTo>
                  <a:lnTo>
                    <a:pt x="1229" y="391"/>
                  </a:lnTo>
                  <a:lnTo>
                    <a:pt x="1232" y="376"/>
                  </a:lnTo>
                  <a:lnTo>
                    <a:pt x="1236" y="360"/>
                  </a:lnTo>
                  <a:lnTo>
                    <a:pt x="1242" y="341"/>
                  </a:lnTo>
                  <a:lnTo>
                    <a:pt x="1248" y="325"/>
                  </a:lnTo>
                  <a:lnTo>
                    <a:pt x="1253" y="319"/>
                  </a:lnTo>
                  <a:lnTo>
                    <a:pt x="1259" y="313"/>
                  </a:lnTo>
                  <a:lnTo>
                    <a:pt x="1263" y="308"/>
                  </a:lnTo>
                  <a:lnTo>
                    <a:pt x="1269" y="305"/>
                  </a:lnTo>
                  <a:lnTo>
                    <a:pt x="1275" y="305"/>
                  </a:lnTo>
                  <a:lnTo>
                    <a:pt x="1283" y="307"/>
                  </a:lnTo>
                  <a:lnTo>
                    <a:pt x="1297" y="314"/>
                  </a:lnTo>
                  <a:lnTo>
                    <a:pt x="1310" y="323"/>
                  </a:lnTo>
                  <a:lnTo>
                    <a:pt x="1322" y="334"/>
                  </a:lnTo>
                  <a:lnTo>
                    <a:pt x="1333" y="344"/>
                  </a:lnTo>
                  <a:lnTo>
                    <a:pt x="1342" y="355"/>
                  </a:lnTo>
                  <a:lnTo>
                    <a:pt x="1349" y="364"/>
                  </a:lnTo>
                  <a:lnTo>
                    <a:pt x="1355" y="375"/>
                  </a:lnTo>
                  <a:lnTo>
                    <a:pt x="1360" y="384"/>
                  </a:lnTo>
                  <a:lnTo>
                    <a:pt x="1364" y="391"/>
                  </a:lnTo>
                  <a:lnTo>
                    <a:pt x="1370" y="399"/>
                  </a:lnTo>
                  <a:lnTo>
                    <a:pt x="1380" y="405"/>
                  </a:lnTo>
                  <a:lnTo>
                    <a:pt x="1389" y="409"/>
                  </a:lnTo>
                  <a:lnTo>
                    <a:pt x="1405" y="415"/>
                  </a:lnTo>
                  <a:lnTo>
                    <a:pt x="1413" y="418"/>
                  </a:lnTo>
                  <a:lnTo>
                    <a:pt x="1420" y="372"/>
                  </a:lnTo>
                  <a:lnTo>
                    <a:pt x="1431" y="384"/>
                  </a:lnTo>
                  <a:lnTo>
                    <a:pt x="1455" y="409"/>
                  </a:lnTo>
                  <a:lnTo>
                    <a:pt x="1467" y="424"/>
                  </a:lnTo>
                  <a:lnTo>
                    <a:pt x="1479" y="438"/>
                  </a:lnTo>
                  <a:lnTo>
                    <a:pt x="1487" y="452"/>
                  </a:lnTo>
                  <a:lnTo>
                    <a:pt x="1488" y="456"/>
                  </a:lnTo>
                  <a:lnTo>
                    <a:pt x="1490" y="461"/>
                  </a:lnTo>
                  <a:lnTo>
                    <a:pt x="1491" y="470"/>
                  </a:lnTo>
                  <a:lnTo>
                    <a:pt x="1494" y="485"/>
                  </a:lnTo>
                  <a:lnTo>
                    <a:pt x="1505" y="520"/>
                  </a:lnTo>
                  <a:lnTo>
                    <a:pt x="1520" y="563"/>
                  </a:lnTo>
                  <a:lnTo>
                    <a:pt x="1475" y="603"/>
                  </a:lnTo>
                  <a:lnTo>
                    <a:pt x="1446" y="603"/>
                  </a:lnTo>
                  <a:lnTo>
                    <a:pt x="1423" y="606"/>
                  </a:lnTo>
                  <a:lnTo>
                    <a:pt x="1413" y="607"/>
                  </a:lnTo>
                  <a:lnTo>
                    <a:pt x="1405" y="610"/>
                  </a:lnTo>
                  <a:lnTo>
                    <a:pt x="1399" y="615"/>
                  </a:lnTo>
                  <a:lnTo>
                    <a:pt x="1392" y="621"/>
                  </a:lnTo>
                  <a:lnTo>
                    <a:pt x="1377" y="636"/>
                  </a:lnTo>
                  <a:lnTo>
                    <a:pt x="1360" y="655"/>
                  </a:lnTo>
                  <a:lnTo>
                    <a:pt x="1386" y="663"/>
                  </a:lnTo>
                  <a:lnTo>
                    <a:pt x="1432" y="663"/>
                  </a:lnTo>
                  <a:lnTo>
                    <a:pt x="1431" y="671"/>
                  </a:lnTo>
                  <a:lnTo>
                    <a:pt x="1428" y="684"/>
                  </a:lnTo>
                  <a:lnTo>
                    <a:pt x="1426" y="692"/>
                  </a:lnTo>
                  <a:lnTo>
                    <a:pt x="1422" y="699"/>
                  </a:lnTo>
                  <a:lnTo>
                    <a:pt x="1419" y="704"/>
                  </a:lnTo>
                  <a:lnTo>
                    <a:pt x="1416" y="705"/>
                  </a:lnTo>
                  <a:lnTo>
                    <a:pt x="1413" y="705"/>
                  </a:lnTo>
                  <a:lnTo>
                    <a:pt x="1407" y="707"/>
                  </a:lnTo>
                  <a:lnTo>
                    <a:pt x="1399" y="710"/>
                  </a:lnTo>
                  <a:lnTo>
                    <a:pt x="1384" y="719"/>
                  </a:lnTo>
                  <a:lnTo>
                    <a:pt x="1367" y="732"/>
                  </a:lnTo>
                  <a:lnTo>
                    <a:pt x="1358" y="746"/>
                  </a:lnTo>
                  <a:lnTo>
                    <a:pt x="1352" y="757"/>
                  </a:lnTo>
                  <a:lnTo>
                    <a:pt x="1348" y="767"/>
                  </a:lnTo>
                  <a:lnTo>
                    <a:pt x="1334" y="800"/>
                  </a:lnTo>
                  <a:lnTo>
                    <a:pt x="1325" y="824"/>
                  </a:lnTo>
                  <a:lnTo>
                    <a:pt x="1286" y="832"/>
                  </a:lnTo>
                  <a:lnTo>
                    <a:pt x="1284" y="831"/>
                  </a:lnTo>
                  <a:lnTo>
                    <a:pt x="1281" y="829"/>
                  </a:lnTo>
                  <a:lnTo>
                    <a:pt x="1274" y="831"/>
                  </a:lnTo>
                  <a:lnTo>
                    <a:pt x="1269" y="832"/>
                  </a:lnTo>
                  <a:lnTo>
                    <a:pt x="1263" y="837"/>
                  </a:lnTo>
                  <a:lnTo>
                    <a:pt x="1248" y="847"/>
                  </a:lnTo>
                  <a:lnTo>
                    <a:pt x="1241" y="862"/>
                  </a:lnTo>
                  <a:lnTo>
                    <a:pt x="1224" y="895"/>
                  </a:lnTo>
                  <a:lnTo>
                    <a:pt x="1213" y="917"/>
                  </a:lnTo>
                  <a:lnTo>
                    <a:pt x="1206" y="936"/>
                  </a:lnTo>
                  <a:lnTo>
                    <a:pt x="1200" y="954"/>
                  </a:lnTo>
                  <a:lnTo>
                    <a:pt x="1198" y="969"/>
                  </a:lnTo>
                  <a:lnTo>
                    <a:pt x="1198" y="1051"/>
                  </a:lnTo>
                  <a:lnTo>
                    <a:pt x="1197" y="1055"/>
                  </a:lnTo>
                  <a:lnTo>
                    <a:pt x="1194" y="1058"/>
                  </a:lnTo>
                  <a:lnTo>
                    <a:pt x="1189" y="1060"/>
                  </a:lnTo>
                  <a:lnTo>
                    <a:pt x="1183" y="1060"/>
                  </a:lnTo>
                  <a:lnTo>
                    <a:pt x="1173" y="1058"/>
                  </a:lnTo>
                  <a:lnTo>
                    <a:pt x="1168" y="1058"/>
                  </a:lnTo>
                  <a:lnTo>
                    <a:pt x="1149" y="1012"/>
                  </a:lnTo>
                  <a:lnTo>
                    <a:pt x="1127" y="1003"/>
                  </a:lnTo>
                  <a:lnTo>
                    <a:pt x="1111" y="997"/>
                  </a:lnTo>
                  <a:lnTo>
                    <a:pt x="1105" y="994"/>
                  </a:lnTo>
                  <a:lnTo>
                    <a:pt x="1099" y="994"/>
                  </a:lnTo>
                  <a:lnTo>
                    <a:pt x="1090" y="992"/>
                  </a:lnTo>
                  <a:lnTo>
                    <a:pt x="1079" y="991"/>
                  </a:lnTo>
                  <a:lnTo>
                    <a:pt x="1063" y="989"/>
                  </a:lnTo>
                  <a:lnTo>
                    <a:pt x="1053" y="991"/>
                  </a:lnTo>
                  <a:lnTo>
                    <a:pt x="1041" y="994"/>
                  </a:lnTo>
                  <a:lnTo>
                    <a:pt x="1026" y="997"/>
                  </a:lnTo>
                  <a:lnTo>
                    <a:pt x="1010" y="1003"/>
                  </a:lnTo>
                  <a:lnTo>
                    <a:pt x="1001" y="1007"/>
                  </a:lnTo>
                  <a:lnTo>
                    <a:pt x="992" y="1012"/>
                  </a:lnTo>
                  <a:lnTo>
                    <a:pt x="984" y="1016"/>
                  </a:lnTo>
                  <a:lnTo>
                    <a:pt x="978" y="1024"/>
                  </a:lnTo>
                  <a:lnTo>
                    <a:pt x="973" y="1031"/>
                  </a:lnTo>
                  <a:lnTo>
                    <a:pt x="970" y="1040"/>
                  </a:lnTo>
                  <a:lnTo>
                    <a:pt x="969" y="1051"/>
                  </a:lnTo>
                  <a:lnTo>
                    <a:pt x="970" y="1061"/>
                  </a:lnTo>
                  <a:lnTo>
                    <a:pt x="975" y="1075"/>
                  </a:lnTo>
                  <a:lnTo>
                    <a:pt x="981" y="1089"/>
                  </a:lnTo>
                  <a:lnTo>
                    <a:pt x="992" y="1105"/>
                  </a:lnTo>
                  <a:lnTo>
                    <a:pt x="1007" y="1123"/>
                  </a:lnTo>
                  <a:lnTo>
                    <a:pt x="1022" y="1140"/>
                  </a:lnTo>
                  <a:lnTo>
                    <a:pt x="1035" y="1152"/>
                  </a:lnTo>
                  <a:lnTo>
                    <a:pt x="1046" y="1161"/>
                  </a:lnTo>
                  <a:lnTo>
                    <a:pt x="1055" y="1167"/>
                  </a:lnTo>
                  <a:lnTo>
                    <a:pt x="1063" y="1169"/>
                  </a:lnTo>
                  <a:lnTo>
                    <a:pt x="1067" y="1170"/>
                  </a:lnTo>
                  <a:lnTo>
                    <a:pt x="1072" y="1167"/>
                  </a:lnTo>
                  <a:lnTo>
                    <a:pt x="1075" y="1164"/>
                  </a:lnTo>
                  <a:lnTo>
                    <a:pt x="1076" y="1160"/>
                  </a:lnTo>
                  <a:lnTo>
                    <a:pt x="1078" y="1155"/>
                  </a:lnTo>
                  <a:lnTo>
                    <a:pt x="1078" y="1143"/>
                  </a:lnTo>
                  <a:lnTo>
                    <a:pt x="1076" y="1131"/>
                  </a:lnTo>
                  <a:lnTo>
                    <a:pt x="1121" y="1161"/>
                  </a:lnTo>
                  <a:lnTo>
                    <a:pt x="1118" y="1211"/>
                  </a:lnTo>
                  <a:lnTo>
                    <a:pt x="1123" y="1208"/>
                  </a:lnTo>
                  <a:lnTo>
                    <a:pt x="1133" y="1202"/>
                  </a:lnTo>
                  <a:lnTo>
                    <a:pt x="1140" y="1199"/>
                  </a:lnTo>
                  <a:lnTo>
                    <a:pt x="1146" y="1200"/>
                  </a:lnTo>
                  <a:lnTo>
                    <a:pt x="1147" y="1202"/>
                  </a:lnTo>
                  <a:lnTo>
                    <a:pt x="1150" y="1203"/>
                  </a:lnTo>
                  <a:lnTo>
                    <a:pt x="1152" y="1206"/>
                  </a:lnTo>
                  <a:lnTo>
                    <a:pt x="1153" y="1211"/>
                  </a:lnTo>
                  <a:lnTo>
                    <a:pt x="1155" y="1220"/>
                  </a:lnTo>
                  <a:lnTo>
                    <a:pt x="1156" y="1224"/>
                  </a:lnTo>
                  <a:lnTo>
                    <a:pt x="1159" y="1228"/>
                  </a:lnTo>
                  <a:lnTo>
                    <a:pt x="1164" y="1231"/>
                  </a:lnTo>
                  <a:lnTo>
                    <a:pt x="1168" y="1234"/>
                  </a:lnTo>
                  <a:lnTo>
                    <a:pt x="1173" y="1240"/>
                  </a:lnTo>
                  <a:lnTo>
                    <a:pt x="1177" y="1249"/>
                  </a:lnTo>
                  <a:lnTo>
                    <a:pt x="1183" y="1261"/>
                  </a:lnTo>
                  <a:lnTo>
                    <a:pt x="1189" y="1276"/>
                  </a:lnTo>
                  <a:lnTo>
                    <a:pt x="1195" y="1288"/>
                  </a:lnTo>
                  <a:lnTo>
                    <a:pt x="1201" y="1297"/>
                  </a:lnTo>
                  <a:lnTo>
                    <a:pt x="1207" y="1304"/>
                  </a:lnTo>
                  <a:lnTo>
                    <a:pt x="1213" y="1309"/>
                  </a:lnTo>
                  <a:lnTo>
                    <a:pt x="1220" y="1312"/>
                  </a:lnTo>
                  <a:lnTo>
                    <a:pt x="1224" y="1314"/>
                  </a:lnTo>
                  <a:lnTo>
                    <a:pt x="1229" y="1315"/>
                  </a:lnTo>
                  <a:lnTo>
                    <a:pt x="1235" y="1314"/>
                  </a:lnTo>
                  <a:lnTo>
                    <a:pt x="1239" y="1311"/>
                  </a:lnTo>
                  <a:lnTo>
                    <a:pt x="1253" y="1300"/>
                  </a:lnTo>
                  <a:lnTo>
                    <a:pt x="1268" y="1289"/>
                  </a:lnTo>
                  <a:lnTo>
                    <a:pt x="1275" y="1285"/>
                  </a:lnTo>
                  <a:lnTo>
                    <a:pt x="1283" y="1285"/>
                  </a:lnTo>
                  <a:lnTo>
                    <a:pt x="1346" y="1288"/>
                  </a:lnTo>
                  <a:lnTo>
                    <a:pt x="1405" y="1292"/>
                  </a:lnTo>
                  <a:lnTo>
                    <a:pt x="1426" y="1289"/>
                  </a:lnTo>
                  <a:lnTo>
                    <a:pt x="1443" y="1289"/>
                  </a:lnTo>
                  <a:lnTo>
                    <a:pt x="1461" y="1288"/>
                  </a:lnTo>
                  <a:lnTo>
                    <a:pt x="1481" y="1289"/>
                  </a:lnTo>
                  <a:lnTo>
                    <a:pt x="1500" y="1294"/>
                  </a:lnTo>
                  <a:lnTo>
                    <a:pt x="1509" y="1297"/>
                  </a:lnTo>
                  <a:lnTo>
                    <a:pt x="1518" y="1300"/>
                  </a:lnTo>
                  <a:lnTo>
                    <a:pt x="1526" y="1304"/>
                  </a:lnTo>
                  <a:lnTo>
                    <a:pt x="1532" y="1311"/>
                  </a:lnTo>
                  <a:lnTo>
                    <a:pt x="1544" y="1323"/>
                  </a:lnTo>
                  <a:lnTo>
                    <a:pt x="1556" y="1330"/>
                  </a:lnTo>
                  <a:lnTo>
                    <a:pt x="1570" y="1336"/>
                  </a:lnTo>
                  <a:lnTo>
                    <a:pt x="1582" y="1342"/>
                  </a:lnTo>
                  <a:lnTo>
                    <a:pt x="1594" y="1347"/>
                  </a:lnTo>
                  <a:lnTo>
                    <a:pt x="1604" y="1353"/>
                  </a:lnTo>
                  <a:lnTo>
                    <a:pt x="1608" y="1357"/>
                  </a:lnTo>
                  <a:lnTo>
                    <a:pt x="1612" y="1362"/>
                  </a:lnTo>
                  <a:lnTo>
                    <a:pt x="1614" y="1366"/>
                  </a:lnTo>
                  <a:lnTo>
                    <a:pt x="1617" y="1372"/>
                  </a:lnTo>
                  <a:lnTo>
                    <a:pt x="1618" y="1384"/>
                  </a:lnTo>
                  <a:lnTo>
                    <a:pt x="1620" y="1397"/>
                  </a:lnTo>
                  <a:lnTo>
                    <a:pt x="1620" y="1418"/>
                  </a:lnTo>
                  <a:lnTo>
                    <a:pt x="1617" y="1436"/>
                  </a:lnTo>
                  <a:lnTo>
                    <a:pt x="1617" y="1449"/>
                  </a:lnTo>
                  <a:lnTo>
                    <a:pt x="1618" y="1454"/>
                  </a:lnTo>
                  <a:lnTo>
                    <a:pt x="1623" y="1458"/>
                  </a:lnTo>
                  <a:lnTo>
                    <a:pt x="1630" y="1461"/>
                  </a:lnTo>
                  <a:lnTo>
                    <a:pt x="1638" y="1464"/>
                  </a:lnTo>
                  <a:lnTo>
                    <a:pt x="1659" y="1468"/>
                  </a:lnTo>
                  <a:lnTo>
                    <a:pt x="1677" y="1468"/>
                  </a:lnTo>
                  <a:lnTo>
                    <a:pt x="1686" y="1469"/>
                  </a:lnTo>
                  <a:lnTo>
                    <a:pt x="1697" y="1474"/>
                  </a:lnTo>
                  <a:lnTo>
                    <a:pt x="1706" y="1480"/>
                  </a:lnTo>
                  <a:lnTo>
                    <a:pt x="1715" y="1487"/>
                  </a:lnTo>
                  <a:lnTo>
                    <a:pt x="1730" y="1501"/>
                  </a:lnTo>
                  <a:lnTo>
                    <a:pt x="1734" y="1507"/>
                  </a:lnTo>
                  <a:lnTo>
                    <a:pt x="1751" y="1499"/>
                  </a:lnTo>
                  <a:lnTo>
                    <a:pt x="1765" y="1493"/>
                  </a:lnTo>
                  <a:lnTo>
                    <a:pt x="1771" y="1492"/>
                  </a:lnTo>
                  <a:lnTo>
                    <a:pt x="1777" y="1492"/>
                  </a:lnTo>
                  <a:lnTo>
                    <a:pt x="1790" y="1489"/>
                  </a:lnTo>
                  <a:lnTo>
                    <a:pt x="1804" y="1487"/>
                  </a:lnTo>
                  <a:lnTo>
                    <a:pt x="1811" y="1487"/>
                  </a:lnTo>
                  <a:lnTo>
                    <a:pt x="1816" y="1490"/>
                  </a:lnTo>
                  <a:lnTo>
                    <a:pt x="1820" y="1495"/>
                  </a:lnTo>
                  <a:lnTo>
                    <a:pt x="1823" y="1502"/>
                  </a:lnTo>
                  <a:lnTo>
                    <a:pt x="1825" y="1507"/>
                  </a:lnTo>
                  <a:lnTo>
                    <a:pt x="1826" y="1511"/>
                  </a:lnTo>
                  <a:lnTo>
                    <a:pt x="1831" y="1517"/>
                  </a:lnTo>
                  <a:lnTo>
                    <a:pt x="1837" y="1523"/>
                  </a:lnTo>
                  <a:lnTo>
                    <a:pt x="1843" y="1531"/>
                  </a:lnTo>
                  <a:lnTo>
                    <a:pt x="1845" y="1537"/>
                  </a:lnTo>
                  <a:lnTo>
                    <a:pt x="1845" y="1543"/>
                  </a:lnTo>
                  <a:lnTo>
                    <a:pt x="1845" y="1551"/>
                  </a:lnTo>
                  <a:lnTo>
                    <a:pt x="1843" y="1560"/>
                  </a:lnTo>
                  <a:lnTo>
                    <a:pt x="1840" y="1570"/>
                  </a:lnTo>
                  <a:lnTo>
                    <a:pt x="1835" y="1584"/>
                  </a:lnTo>
                  <a:lnTo>
                    <a:pt x="1819" y="1617"/>
                  </a:lnTo>
                  <a:lnTo>
                    <a:pt x="1810" y="1635"/>
                  </a:lnTo>
                  <a:lnTo>
                    <a:pt x="1801" y="1649"/>
                  </a:lnTo>
                  <a:lnTo>
                    <a:pt x="1793" y="1661"/>
                  </a:lnTo>
                  <a:lnTo>
                    <a:pt x="1786" y="1670"/>
                  </a:lnTo>
                  <a:lnTo>
                    <a:pt x="1778" y="1676"/>
                  </a:lnTo>
                  <a:lnTo>
                    <a:pt x="1772" y="1680"/>
                  </a:lnTo>
                  <a:lnTo>
                    <a:pt x="1768" y="1682"/>
                  </a:lnTo>
                  <a:lnTo>
                    <a:pt x="1763" y="1683"/>
                  </a:lnTo>
                  <a:lnTo>
                    <a:pt x="1757" y="1683"/>
                  </a:lnTo>
                  <a:lnTo>
                    <a:pt x="1752" y="1682"/>
                  </a:lnTo>
                  <a:lnTo>
                    <a:pt x="1749" y="1682"/>
                  </a:lnTo>
                  <a:lnTo>
                    <a:pt x="1751" y="1686"/>
                  </a:lnTo>
                  <a:lnTo>
                    <a:pt x="1752" y="1703"/>
                  </a:lnTo>
                  <a:lnTo>
                    <a:pt x="1754" y="1723"/>
                  </a:lnTo>
                  <a:lnTo>
                    <a:pt x="1754" y="1763"/>
                  </a:lnTo>
                  <a:lnTo>
                    <a:pt x="1754" y="1768"/>
                  </a:lnTo>
                  <a:lnTo>
                    <a:pt x="1751" y="1771"/>
                  </a:lnTo>
                  <a:lnTo>
                    <a:pt x="1743" y="1780"/>
                  </a:lnTo>
                  <a:lnTo>
                    <a:pt x="1733" y="1786"/>
                  </a:lnTo>
                  <a:lnTo>
                    <a:pt x="1719" y="1792"/>
                  </a:lnTo>
                  <a:lnTo>
                    <a:pt x="1697" y="1803"/>
                  </a:lnTo>
                  <a:lnTo>
                    <a:pt x="1684" y="1806"/>
                  </a:lnTo>
                  <a:lnTo>
                    <a:pt x="1678" y="1827"/>
                  </a:lnTo>
                  <a:lnTo>
                    <a:pt x="1672" y="1843"/>
                  </a:lnTo>
                  <a:lnTo>
                    <a:pt x="1666" y="1858"/>
                  </a:lnTo>
                  <a:lnTo>
                    <a:pt x="1660" y="1868"/>
                  </a:lnTo>
                  <a:lnTo>
                    <a:pt x="1651" y="1878"/>
                  </a:lnTo>
                  <a:lnTo>
                    <a:pt x="1624" y="1905"/>
                  </a:lnTo>
                  <a:lnTo>
                    <a:pt x="1597" y="1932"/>
                  </a:lnTo>
                  <a:lnTo>
                    <a:pt x="1586" y="1941"/>
                  </a:lnTo>
                  <a:lnTo>
                    <a:pt x="1577" y="1948"/>
                  </a:lnTo>
                  <a:lnTo>
                    <a:pt x="1527" y="1970"/>
                  </a:lnTo>
                  <a:lnTo>
                    <a:pt x="1559" y="2000"/>
                  </a:lnTo>
                  <a:lnTo>
                    <a:pt x="1555" y="2003"/>
                  </a:lnTo>
                  <a:lnTo>
                    <a:pt x="1546" y="2011"/>
                  </a:lnTo>
                  <a:lnTo>
                    <a:pt x="1531" y="2020"/>
                  </a:lnTo>
                  <a:lnTo>
                    <a:pt x="1523" y="2025"/>
                  </a:lnTo>
                  <a:lnTo>
                    <a:pt x="1512" y="2028"/>
                  </a:lnTo>
                  <a:lnTo>
                    <a:pt x="1503" y="2031"/>
                  </a:lnTo>
                  <a:lnTo>
                    <a:pt x="1494" y="2035"/>
                  </a:lnTo>
                  <a:lnTo>
                    <a:pt x="1487" y="2040"/>
                  </a:lnTo>
                  <a:lnTo>
                    <a:pt x="1481" y="2046"/>
                  </a:lnTo>
                  <a:lnTo>
                    <a:pt x="1476" y="2053"/>
                  </a:lnTo>
                  <a:lnTo>
                    <a:pt x="1472" y="2059"/>
                  </a:lnTo>
                  <a:lnTo>
                    <a:pt x="1469" y="2067"/>
                  </a:lnTo>
                  <a:lnTo>
                    <a:pt x="1467" y="2073"/>
                  </a:lnTo>
                  <a:lnTo>
                    <a:pt x="1464" y="2080"/>
                  </a:lnTo>
                  <a:lnTo>
                    <a:pt x="1460" y="2086"/>
                  </a:lnTo>
                  <a:lnTo>
                    <a:pt x="1447" y="2097"/>
                  </a:lnTo>
                  <a:lnTo>
                    <a:pt x="1441" y="2103"/>
                  </a:lnTo>
                  <a:lnTo>
                    <a:pt x="1437" y="2112"/>
                  </a:lnTo>
                  <a:lnTo>
                    <a:pt x="1434" y="2123"/>
                  </a:lnTo>
                  <a:lnTo>
                    <a:pt x="1432" y="2135"/>
                  </a:lnTo>
                  <a:lnTo>
                    <a:pt x="1431" y="2165"/>
                  </a:lnTo>
                  <a:lnTo>
                    <a:pt x="1428" y="2197"/>
                  </a:lnTo>
                  <a:lnTo>
                    <a:pt x="1422" y="2222"/>
                  </a:lnTo>
                  <a:lnTo>
                    <a:pt x="1420" y="2231"/>
                  </a:lnTo>
                  <a:lnTo>
                    <a:pt x="1417" y="2239"/>
                  </a:lnTo>
                  <a:lnTo>
                    <a:pt x="1398" y="2266"/>
                  </a:lnTo>
                  <a:lnTo>
                    <a:pt x="1387" y="2284"/>
                  </a:lnTo>
                  <a:lnTo>
                    <a:pt x="1378" y="2299"/>
                  </a:lnTo>
                  <a:lnTo>
                    <a:pt x="1375" y="2307"/>
                  </a:lnTo>
                  <a:lnTo>
                    <a:pt x="1370" y="2314"/>
                  </a:lnTo>
                  <a:lnTo>
                    <a:pt x="1358" y="2328"/>
                  </a:lnTo>
                  <a:lnTo>
                    <a:pt x="1343" y="2341"/>
                  </a:lnTo>
                  <a:lnTo>
                    <a:pt x="1337" y="2343"/>
                  </a:lnTo>
                  <a:lnTo>
                    <a:pt x="1331" y="2343"/>
                  </a:lnTo>
                  <a:lnTo>
                    <a:pt x="1324" y="2341"/>
                  </a:lnTo>
                  <a:lnTo>
                    <a:pt x="1315" y="2338"/>
                  </a:lnTo>
                  <a:lnTo>
                    <a:pt x="1309" y="2334"/>
                  </a:lnTo>
                  <a:lnTo>
                    <a:pt x="1306" y="2329"/>
                  </a:lnTo>
                  <a:lnTo>
                    <a:pt x="1304" y="2326"/>
                  </a:lnTo>
                  <a:lnTo>
                    <a:pt x="1303" y="2320"/>
                  </a:lnTo>
                  <a:lnTo>
                    <a:pt x="1303" y="2314"/>
                  </a:lnTo>
                  <a:lnTo>
                    <a:pt x="1303" y="2177"/>
                  </a:lnTo>
                  <a:lnTo>
                    <a:pt x="1310" y="2005"/>
                  </a:lnTo>
                  <a:lnTo>
                    <a:pt x="1328" y="1964"/>
                  </a:lnTo>
                  <a:lnTo>
                    <a:pt x="1342" y="1935"/>
                  </a:lnTo>
                  <a:lnTo>
                    <a:pt x="1346" y="1923"/>
                  </a:lnTo>
                  <a:lnTo>
                    <a:pt x="1348" y="1916"/>
                  </a:lnTo>
                  <a:lnTo>
                    <a:pt x="1346" y="1902"/>
                  </a:lnTo>
                  <a:lnTo>
                    <a:pt x="1342" y="1881"/>
                  </a:lnTo>
                  <a:lnTo>
                    <a:pt x="1342" y="1869"/>
                  </a:lnTo>
                  <a:lnTo>
                    <a:pt x="1342" y="1857"/>
                  </a:lnTo>
                  <a:lnTo>
                    <a:pt x="1343" y="1845"/>
                  </a:lnTo>
                  <a:lnTo>
                    <a:pt x="1348" y="1836"/>
                  </a:lnTo>
                  <a:lnTo>
                    <a:pt x="1352" y="1825"/>
                  </a:lnTo>
                  <a:lnTo>
                    <a:pt x="1355" y="1813"/>
                  </a:lnTo>
                  <a:lnTo>
                    <a:pt x="1358" y="1800"/>
                  </a:lnTo>
                  <a:lnTo>
                    <a:pt x="1358" y="1783"/>
                  </a:lnTo>
                  <a:lnTo>
                    <a:pt x="1358" y="1753"/>
                  </a:lnTo>
                  <a:lnTo>
                    <a:pt x="1355" y="1729"/>
                  </a:lnTo>
                  <a:lnTo>
                    <a:pt x="1352" y="1708"/>
                  </a:lnTo>
                  <a:lnTo>
                    <a:pt x="1349" y="1697"/>
                  </a:lnTo>
                  <a:lnTo>
                    <a:pt x="1345" y="1686"/>
                  </a:lnTo>
                  <a:lnTo>
                    <a:pt x="1340" y="1677"/>
                  </a:lnTo>
                  <a:lnTo>
                    <a:pt x="1333" y="1670"/>
                  </a:lnTo>
                  <a:lnTo>
                    <a:pt x="1322" y="1664"/>
                  </a:lnTo>
                  <a:lnTo>
                    <a:pt x="1310" y="1659"/>
                  </a:lnTo>
                  <a:lnTo>
                    <a:pt x="1303" y="1658"/>
                  </a:lnTo>
                  <a:lnTo>
                    <a:pt x="1297" y="1655"/>
                  </a:lnTo>
                  <a:lnTo>
                    <a:pt x="1290" y="1650"/>
                  </a:lnTo>
                  <a:lnTo>
                    <a:pt x="1284" y="1646"/>
                  </a:lnTo>
                  <a:lnTo>
                    <a:pt x="1274" y="1634"/>
                  </a:lnTo>
                  <a:lnTo>
                    <a:pt x="1266" y="1620"/>
                  </a:lnTo>
                  <a:lnTo>
                    <a:pt x="1259" y="1606"/>
                  </a:lnTo>
                  <a:lnTo>
                    <a:pt x="1254" y="1594"/>
                  </a:lnTo>
                  <a:lnTo>
                    <a:pt x="1248" y="1575"/>
                  </a:lnTo>
                  <a:lnTo>
                    <a:pt x="1245" y="1570"/>
                  </a:lnTo>
                  <a:lnTo>
                    <a:pt x="1242" y="1564"/>
                  </a:lnTo>
                  <a:lnTo>
                    <a:pt x="1230" y="1554"/>
                  </a:lnTo>
                  <a:lnTo>
                    <a:pt x="1217" y="1540"/>
                  </a:lnTo>
                  <a:lnTo>
                    <a:pt x="1210" y="1531"/>
                  </a:lnTo>
                  <a:lnTo>
                    <a:pt x="1206" y="1522"/>
                  </a:lnTo>
                  <a:lnTo>
                    <a:pt x="1198" y="1502"/>
                  </a:lnTo>
                  <a:lnTo>
                    <a:pt x="1191" y="1484"/>
                  </a:lnTo>
                  <a:lnTo>
                    <a:pt x="1188" y="1475"/>
                  </a:lnTo>
                  <a:lnTo>
                    <a:pt x="1186" y="1466"/>
                  </a:lnTo>
                  <a:lnTo>
                    <a:pt x="1186" y="1457"/>
                  </a:lnTo>
                  <a:lnTo>
                    <a:pt x="1186" y="1449"/>
                  </a:lnTo>
                  <a:lnTo>
                    <a:pt x="1189" y="1440"/>
                  </a:lnTo>
                  <a:lnTo>
                    <a:pt x="1195" y="1431"/>
                  </a:lnTo>
                  <a:lnTo>
                    <a:pt x="1203" y="1424"/>
                  </a:lnTo>
                  <a:lnTo>
                    <a:pt x="1212" y="1415"/>
                  </a:lnTo>
                  <a:lnTo>
                    <a:pt x="1226" y="1404"/>
                  </a:lnTo>
                  <a:lnTo>
                    <a:pt x="1233" y="1400"/>
                  </a:lnTo>
                  <a:lnTo>
                    <a:pt x="1248" y="1357"/>
                  </a:lnTo>
                  <a:lnTo>
                    <a:pt x="1232" y="1353"/>
                  </a:lnTo>
                  <a:lnTo>
                    <a:pt x="1194" y="1339"/>
                  </a:lnTo>
                  <a:lnTo>
                    <a:pt x="1173" y="1329"/>
                  </a:lnTo>
                  <a:lnTo>
                    <a:pt x="1152" y="1318"/>
                  </a:lnTo>
                  <a:lnTo>
                    <a:pt x="1132" y="1306"/>
                  </a:lnTo>
                  <a:lnTo>
                    <a:pt x="1124" y="1298"/>
                  </a:lnTo>
                  <a:lnTo>
                    <a:pt x="1118" y="1292"/>
                  </a:lnTo>
                  <a:lnTo>
                    <a:pt x="1106" y="1279"/>
                  </a:lnTo>
                  <a:lnTo>
                    <a:pt x="1096" y="1270"/>
                  </a:lnTo>
                  <a:lnTo>
                    <a:pt x="1087" y="1264"/>
                  </a:lnTo>
                  <a:lnTo>
                    <a:pt x="1078" y="1261"/>
                  </a:lnTo>
                  <a:lnTo>
                    <a:pt x="1070" y="1258"/>
                  </a:lnTo>
                  <a:lnTo>
                    <a:pt x="1066" y="1258"/>
                  </a:lnTo>
                  <a:lnTo>
                    <a:pt x="1061" y="1258"/>
                  </a:lnTo>
                  <a:lnTo>
                    <a:pt x="1034" y="1218"/>
                  </a:lnTo>
                  <a:lnTo>
                    <a:pt x="980" y="1218"/>
                  </a:lnTo>
                  <a:lnTo>
                    <a:pt x="966" y="1217"/>
                  </a:lnTo>
                  <a:lnTo>
                    <a:pt x="949" y="1211"/>
                  </a:lnTo>
                  <a:lnTo>
                    <a:pt x="931" y="1203"/>
                  </a:lnTo>
                  <a:lnTo>
                    <a:pt x="912" y="1193"/>
                  </a:lnTo>
                  <a:lnTo>
                    <a:pt x="893" y="1181"/>
                  </a:lnTo>
                  <a:lnTo>
                    <a:pt x="878" y="1169"/>
                  </a:lnTo>
                  <a:lnTo>
                    <a:pt x="868" y="1157"/>
                  </a:lnTo>
                  <a:lnTo>
                    <a:pt x="863" y="1152"/>
                  </a:lnTo>
                  <a:lnTo>
                    <a:pt x="862" y="1146"/>
                  </a:lnTo>
                  <a:lnTo>
                    <a:pt x="860" y="1137"/>
                  </a:lnTo>
                  <a:lnTo>
                    <a:pt x="862" y="1126"/>
                  </a:lnTo>
                  <a:lnTo>
                    <a:pt x="866" y="1117"/>
                  </a:lnTo>
                  <a:lnTo>
                    <a:pt x="872" y="1110"/>
                  </a:lnTo>
                  <a:lnTo>
                    <a:pt x="883" y="1098"/>
                  </a:lnTo>
                  <a:lnTo>
                    <a:pt x="887" y="1093"/>
                  </a:lnTo>
                  <a:lnTo>
                    <a:pt x="886" y="1093"/>
                  </a:lnTo>
                  <a:lnTo>
                    <a:pt x="884" y="1095"/>
                  </a:lnTo>
                  <a:lnTo>
                    <a:pt x="880" y="1095"/>
                  </a:lnTo>
                  <a:lnTo>
                    <a:pt x="875" y="1093"/>
                  </a:lnTo>
                  <a:lnTo>
                    <a:pt x="869" y="1089"/>
                  </a:lnTo>
                  <a:lnTo>
                    <a:pt x="860" y="1083"/>
                  </a:lnTo>
                  <a:lnTo>
                    <a:pt x="850" y="1074"/>
                  </a:lnTo>
                  <a:lnTo>
                    <a:pt x="826" y="1046"/>
                  </a:lnTo>
                  <a:lnTo>
                    <a:pt x="801" y="1018"/>
                  </a:lnTo>
                  <a:lnTo>
                    <a:pt x="777" y="986"/>
                  </a:lnTo>
                  <a:lnTo>
                    <a:pt x="779" y="997"/>
                  </a:lnTo>
                  <a:lnTo>
                    <a:pt x="785" y="1021"/>
                  </a:lnTo>
                  <a:lnTo>
                    <a:pt x="791" y="1046"/>
                  </a:lnTo>
                  <a:lnTo>
                    <a:pt x="795" y="1057"/>
                  </a:lnTo>
                  <a:lnTo>
                    <a:pt x="800" y="1061"/>
                  </a:lnTo>
                  <a:lnTo>
                    <a:pt x="804" y="1066"/>
                  </a:lnTo>
                  <a:lnTo>
                    <a:pt x="807" y="1071"/>
                  </a:lnTo>
                  <a:lnTo>
                    <a:pt x="815" y="1084"/>
                  </a:lnTo>
                  <a:lnTo>
                    <a:pt x="816" y="1089"/>
                  </a:lnTo>
                  <a:lnTo>
                    <a:pt x="816" y="1093"/>
                  </a:lnTo>
                  <a:lnTo>
                    <a:pt x="815" y="1096"/>
                  </a:lnTo>
                  <a:lnTo>
                    <a:pt x="812" y="1096"/>
                  </a:lnTo>
                  <a:lnTo>
                    <a:pt x="806" y="1093"/>
                  </a:lnTo>
                  <a:lnTo>
                    <a:pt x="798" y="1087"/>
                  </a:lnTo>
                  <a:lnTo>
                    <a:pt x="782" y="1068"/>
                  </a:lnTo>
                  <a:lnTo>
                    <a:pt x="762" y="1043"/>
                  </a:lnTo>
                  <a:lnTo>
                    <a:pt x="742" y="1022"/>
                  </a:lnTo>
                  <a:lnTo>
                    <a:pt x="702" y="974"/>
                  </a:lnTo>
                  <a:lnTo>
                    <a:pt x="681" y="947"/>
                  </a:lnTo>
                  <a:lnTo>
                    <a:pt x="661" y="921"/>
                  </a:lnTo>
                  <a:lnTo>
                    <a:pt x="647" y="900"/>
                  </a:lnTo>
                  <a:lnTo>
                    <a:pt x="644" y="892"/>
                  </a:lnTo>
                  <a:lnTo>
                    <a:pt x="643" y="886"/>
                  </a:lnTo>
                  <a:lnTo>
                    <a:pt x="643" y="882"/>
                  </a:lnTo>
                  <a:lnTo>
                    <a:pt x="641" y="877"/>
                  </a:lnTo>
                  <a:lnTo>
                    <a:pt x="635" y="873"/>
                  </a:lnTo>
                  <a:lnTo>
                    <a:pt x="622" y="864"/>
                  </a:lnTo>
                  <a:lnTo>
                    <a:pt x="616" y="858"/>
                  </a:lnTo>
                  <a:lnTo>
                    <a:pt x="613" y="855"/>
                  </a:lnTo>
                  <a:lnTo>
                    <a:pt x="613" y="850"/>
                  </a:lnTo>
                  <a:lnTo>
                    <a:pt x="613" y="844"/>
                  </a:lnTo>
                  <a:lnTo>
                    <a:pt x="613" y="837"/>
                  </a:lnTo>
                  <a:lnTo>
                    <a:pt x="616" y="827"/>
                  </a:lnTo>
                  <a:lnTo>
                    <a:pt x="620" y="817"/>
                  </a:lnTo>
                  <a:lnTo>
                    <a:pt x="625" y="805"/>
                  </a:lnTo>
                  <a:lnTo>
                    <a:pt x="626" y="794"/>
                  </a:lnTo>
                  <a:lnTo>
                    <a:pt x="628" y="785"/>
                  </a:lnTo>
                  <a:lnTo>
                    <a:pt x="628" y="776"/>
                  </a:lnTo>
                  <a:lnTo>
                    <a:pt x="628" y="767"/>
                  </a:lnTo>
                  <a:lnTo>
                    <a:pt x="626" y="760"/>
                  </a:lnTo>
                  <a:lnTo>
                    <a:pt x="620" y="746"/>
                  </a:lnTo>
                  <a:lnTo>
                    <a:pt x="614" y="735"/>
                  </a:lnTo>
                  <a:lnTo>
                    <a:pt x="608" y="728"/>
                  </a:lnTo>
                  <a:lnTo>
                    <a:pt x="601" y="720"/>
                  </a:lnTo>
                  <a:lnTo>
                    <a:pt x="601" y="675"/>
                  </a:lnTo>
                  <a:lnTo>
                    <a:pt x="593" y="633"/>
                  </a:lnTo>
                  <a:lnTo>
                    <a:pt x="543" y="571"/>
                  </a:lnTo>
                  <a:lnTo>
                    <a:pt x="531" y="521"/>
                  </a:lnTo>
                  <a:lnTo>
                    <a:pt x="489" y="464"/>
                  </a:lnTo>
                  <a:lnTo>
                    <a:pt x="428" y="406"/>
                  </a:lnTo>
                  <a:lnTo>
                    <a:pt x="394" y="396"/>
                  </a:lnTo>
                  <a:lnTo>
                    <a:pt x="347" y="396"/>
                  </a:lnTo>
                  <a:lnTo>
                    <a:pt x="324" y="369"/>
                  </a:lnTo>
                  <a:lnTo>
                    <a:pt x="290" y="369"/>
                  </a:lnTo>
                  <a:lnTo>
                    <a:pt x="256" y="372"/>
                  </a:lnTo>
                  <a:lnTo>
                    <a:pt x="229" y="361"/>
                  </a:lnTo>
                  <a:lnTo>
                    <a:pt x="210" y="391"/>
                  </a:lnTo>
                  <a:lnTo>
                    <a:pt x="167" y="438"/>
                  </a:lnTo>
                  <a:lnTo>
                    <a:pt x="148" y="471"/>
                  </a:lnTo>
                  <a:lnTo>
                    <a:pt x="102" y="471"/>
                  </a:lnTo>
                  <a:lnTo>
                    <a:pt x="98" y="434"/>
                  </a:lnTo>
                  <a:lnTo>
                    <a:pt x="114" y="403"/>
                  </a:lnTo>
                  <a:close/>
                </a:path>
              </a:pathLst>
            </a:custGeom>
            <a:blipFill rotWithShape="0">
              <a:blip r:embed="rId18"/>
              <a:srcRect/>
              <a:stretch/>
            </a:blipFill>
            <a:ln w="25560">
              <a:solidFill>
                <a:srgbClr val="ffffff"/>
              </a:solidFill>
              <a:miter/>
            </a:ln>
            <a:effectLst>
              <a:outerShdw dist="63504" dir="2216091" blurRad="0" rotWithShape="0">
                <a:srgbClr val="000000">
                  <a:alpha val="16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5" name="Freeform 27"/>
            <p:cNvSpPr/>
            <p:nvPr/>
          </p:nvSpPr>
          <p:spPr>
            <a:xfrm>
              <a:off x="7519680" y="3194280"/>
              <a:ext cx="196560" cy="122040"/>
            </a:xfrm>
            <a:custGeom>
              <a:avLst/>
              <a:gdLst>
                <a:gd name="textAreaLeft" fmla="*/ 0 w 196560"/>
                <a:gd name="textAreaRight" fmla="*/ 196920 w 196560"/>
                <a:gd name="textAreaTop" fmla="*/ 0 h 122040"/>
                <a:gd name="textAreaBottom" fmla="*/ 122400 h 122040"/>
              </a:gdLst>
              <a:ahLst/>
              <a:rect l="textAreaLeft" t="textAreaTop" r="textAreaRight" b="textAreaBottom"/>
              <a:pathLst>
                <a:path w="124" h="77">
                  <a:moveTo>
                    <a:pt x="12" y="77"/>
                  </a:moveTo>
                  <a:lnTo>
                    <a:pt x="0" y="49"/>
                  </a:lnTo>
                  <a:lnTo>
                    <a:pt x="8" y="19"/>
                  </a:lnTo>
                  <a:lnTo>
                    <a:pt x="58" y="0"/>
                  </a:lnTo>
                  <a:lnTo>
                    <a:pt x="124" y="19"/>
                  </a:lnTo>
                  <a:lnTo>
                    <a:pt x="112" y="54"/>
                  </a:lnTo>
                  <a:lnTo>
                    <a:pt x="62" y="54"/>
                  </a:lnTo>
                  <a:lnTo>
                    <a:pt x="56" y="58"/>
                  </a:lnTo>
                  <a:lnTo>
                    <a:pt x="42" y="66"/>
                  </a:lnTo>
                  <a:lnTo>
                    <a:pt x="35" y="71"/>
                  </a:lnTo>
                  <a:lnTo>
                    <a:pt x="26" y="75"/>
                  </a:lnTo>
                  <a:lnTo>
                    <a:pt x="18" y="77"/>
                  </a:lnTo>
                  <a:lnTo>
                    <a:pt x="12" y="77"/>
                  </a:lnTo>
                  <a:close/>
                </a:path>
              </a:pathLst>
            </a:custGeom>
            <a:blipFill rotWithShape="0">
              <a:blip r:embed="rId19"/>
              <a:srcRect/>
              <a:stretch/>
            </a:blipFill>
            <a:ln w="25560">
              <a:solidFill>
                <a:srgbClr val="ffffff"/>
              </a:solidFill>
              <a:miter/>
            </a:ln>
            <a:effectLst>
              <a:outerShdw dist="63504" dir="2216091" blurRad="0" rotWithShape="0">
                <a:srgbClr val="000000">
                  <a:alpha val="16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6" name="Freeform 28"/>
            <p:cNvSpPr/>
            <p:nvPr/>
          </p:nvSpPr>
          <p:spPr>
            <a:xfrm>
              <a:off x="6899040" y="2089080"/>
              <a:ext cx="568080" cy="673200"/>
            </a:xfrm>
            <a:custGeom>
              <a:avLst/>
              <a:gdLst>
                <a:gd name="textAreaLeft" fmla="*/ 0 w 568080"/>
                <a:gd name="textAreaRight" fmla="*/ 568440 w 568080"/>
                <a:gd name="textAreaTop" fmla="*/ 0 h 673200"/>
                <a:gd name="textAreaBottom" fmla="*/ 673560 h 673200"/>
              </a:gdLst>
              <a:ahLst/>
              <a:rect l="textAreaLeft" t="textAreaTop" r="textAreaRight" b="textAreaBottom"/>
              <a:pathLst>
                <a:path w="358" h="424">
                  <a:moveTo>
                    <a:pt x="261" y="424"/>
                  </a:moveTo>
                  <a:lnTo>
                    <a:pt x="234" y="389"/>
                  </a:lnTo>
                  <a:lnTo>
                    <a:pt x="231" y="362"/>
                  </a:lnTo>
                  <a:lnTo>
                    <a:pt x="181" y="339"/>
                  </a:lnTo>
                  <a:lnTo>
                    <a:pt x="142" y="302"/>
                  </a:lnTo>
                  <a:lnTo>
                    <a:pt x="132" y="279"/>
                  </a:lnTo>
                  <a:lnTo>
                    <a:pt x="174" y="262"/>
                  </a:lnTo>
                  <a:lnTo>
                    <a:pt x="189" y="205"/>
                  </a:lnTo>
                  <a:lnTo>
                    <a:pt x="177" y="140"/>
                  </a:lnTo>
                  <a:lnTo>
                    <a:pt x="104" y="148"/>
                  </a:lnTo>
                  <a:lnTo>
                    <a:pt x="47" y="125"/>
                  </a:lnTo>
                  <a:lnTo>
                    <a:pt x="0" y="68"/>
                  </a:lnTo>
                  <a:lnTo>
                    <a:pt x="24" y="25"/>
                  </a:lnTo>
                  <a:lnTo>
                    <a:pt x="62" y="95"/>
                  </a:lnTo>
                  <a:lnTo>
                    <a:pt x="61" y="92"/>
                  </a:lnTo>
                  <a:lnTo>
                    <a:pt x="59" y="84"/>
                  </a:lnTo>
                  <a:lnTo>
                    <a:pt x="59" y="81"/>
                  </a:lnTo>
                  <a:lnTo>
                    <a:pt x="61" y="78"/>
                  </a:lnTo>
                  <a:lnTo>
                    <a:pt x="62" y="77"/>
                  </a:lnTo>
                  <a:lnTo>
                    <a:pt x="67" y="75"/>
                  </a:lnTo>
                  <a:lnTo>
                    <a:pt x="68" y="75"/>
                  </a:lnTo>
                  <a:lnTo>
                    <a:pt x="70" y="72"/>
                  </a:lnTo>
                  <a:lnTo>
                    <a:pt x="70" y="65"/>
                  </a:lnTo>
                  <a:lnTo>
                    <a:pt x="68" y="54"/>
                  </a:lnTo>
                  <a:lnTo>
                    <a:pt x="67" y="42"/>
                  </a:lnTo>
                  <a:lnTo>
                    <a:pt x="61" y="21"/>
                  </a:lnTo>
                  <a:lnTo>
                    <a:pt x="59" y="10"/>
                  </a:lnTo>
                  <a:lnTo>
                    <a:pt x="64" y="7"/>
                  </a:lnTo>
                  <a:lnTo>
                    <a:pt x="74" y="3"/>
                  </a:lnTo>
                  <a:lnTo>
                    <a:pt x="80" y="1"/>
                  </a:lnTo>
                  <a:lnTo>
                    <a:pt x="86" y="0"/>
                  </a:lnTo>
                  <a:lnTo>
                    <a:pt x="91" y="3"/>
                  </a:lnTo>
                  <a:lnTo>
                    <a:pt x="92" y="6"/>
                  </a:lnTo>
                  <a:lnTo>
                    <a:pt x="94" y="13"/>
                  </a:lnTo>
                  <a:lnTo>
                    <a:pt x="94" y="22"/>
                  </a:lnTo>
                  <a:lnTo>
                    <a:pt x="92" y="41"/>
                  </a:lnTo>
                  <a:lnTo>
                    <a:pt x="94" y="50"/>
                  </a:lnTo>
                  <a:lnTo>
                    <a:pt x="98" y="57"/>
                  </a:lnTo>
                  <a:lnTo>
                    <a:pt x="101" y="60"/>
                  </a:lnTo>
                  <a:lnTo>
                    <a:pt x="106" y="62"/>
                  </a:lnTo>
                  <a:lnTo>
                    <a:pt x="110" y="63"/>
                  </a:lnTo>
                  <a:lnTo>
                    <a:pt x="116" y="63"/>
                  </a:lnTo>
                  <a:lnTo>
                    <a:pt x="127" y="63"/>
                  </a:lnTo>
                  <a:lnTo>
                    <a:pt x="138" y="62"/>
                  </a:lnTo>
                  <a:lnTo>
                    <a:pt x="145" y="59"/>
                  </a:lnTo>
                  <a:lnTo>
                    <a:pt x="151" y="56"/>
                  </a:lnTo>
                  <a:lnTo>
                    <a:pt x="160" y="51"/>
                  </a:lnTo>
                  <a:lnTo>
                    <a:pt x="162" y="48"/>
                  </a:lnTo>
                  <a:lnTo>
                    <a:pt x="246" y="71"/>
                  </a:lnTo>
                  <a:lnTo>
                    <a:pt x="251" y="77"/>
                  </a:lnTo>
                  <a:lnTo>
                    <a:pt x="261" y="89"/>
                  </a:lnTo>
                  <a:lnTo>
                    <a:pt x="267" y="98"/>
                  </a:lnTo>
                  <a:lnTo>
                    <a:pt x="272" y="107"/>
                  </a:lnTo>
                  <a:lnTo>
                    <a:pt x="275" y="117"/>
                  </a:lnTo>
                  <a:lnTo>
                    <a:pt x="276" y="130"/>
                  </a:lnTo>
                  <a:lnTo>
                    <a:pt x="280" y="181"/>
                  </a:lnTo>
                  <a:lnTo>
                    <a:pt x="281" y="210"/>
                  </a:lnTo>
                  <a:lnTo>
                    <a:pt x="338" y="220"/>
                  </a:lnTo>
                  <a:lnTo>
                    <a:pt x="358" y="287"/>
                  </a:lnTo>
                  <a:lnTo>
                    <a:pt x="326" y="294"/>
                  </a:lnTo>
                  <a:lnTo>
                    <a:pt x="308" y="279"/>
                  </a:lnTo>
                  <a:lnTo>
                    <a:pt x="281" y="267"/>
                  </a:lnTo>
                  <a:lnTo>
                    <a:pt x="281" y="274"/>
                  </a:lnTo>
                  <a:lnTo>
                    <a:pt x="281" y="291"/>
                  </a:lnTo>
                  <a:lnTo>
                    <a:pt x="283" y="299"/>
                  </a:lnTo>
                  <a:lnTo>
                    <a:pt x="284" y="308"/>
                  </a:lnTo>
                  <a:lnTo>
                    <a:pt x="287" y="314"/>
                  </a:lnTo>
                  <a:lnTo>
                    <a:pt x="290" y="315"/>
                  </a:lnTo>
                  <a:lnTo>
                    <a:pt x="292" y="317"/>
                  </a:lnTo>
                  <a:lnTo>
                    <a:pt x="302" y="318"/>
                  </a:lnTo>
                  <a:lnTo>
                    <a:pt x="305" y="320"/>
                  </a:lnTo>
                  <a:lnTo>
                    <a:pt x="308" y="323"/>
                  </a:lnTo>
                  <a:lnTo>
                    <a:pt x="310" y="326"/>
                  </a:lnTo>
                  <a:lnTo>
                    <a:pt x="311" y="332"/>
                  </a:lnTo>
                  <a:lnTo>
                    <a:pt x="311" y="351"/>
                  </a:lnTo>
                  <a:lnTo>
                    <a:pt x="311" y="364"/>
                  </a:lnTo>
                  <a:lnTo>
                    <a:pt x="308" y="373"/>
                  </a:lnTo>
                  <a:lnTo>
                    <a:pt x="305" y="380"/>
                  </a:lnTo>
                  <a:lnTo>
                    <a:pt x="302" y="385"/>
                  </a:lnTo>
                  <a:lnTo>
                    <a:pt x="295" y="392"/>
                  </a:lnTo>
                  <a:lnTo>
                    <a:pt x="292" y="394"/>
                  </a:lnTo>
                  <a:lnTo>
                    <a:pt x="292" y="424"/>
                  </a:lnTo>
                  <a:lnTo>
                    <a:pt x="261" y="424"/>
                  </a:lnTo>
                  <a:close/>
                </a:path>
              </a:pathLst>
            </a:custGeom>
            <a:blipFill rotWithShape="0">
              <a:blip r:embed="rId20"/>
              <a:srcRect/>
              <a:stretch/>
            </a:blipFill>
            <a:ln w="25560">
              <a:solidFill>
                <a:srgbClr val="ffffff"/>
              </a:solidFill>
              <a:miter/>
            </a:ln>
            <a:effectLst>
              <a:outerShdw dist="63504" dir="2216091" blurRad="0" rotWithShape="0">
                <a:srgbClr val="000000">
                  <a:alpha val="16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7" name="Freeform 29"/>
            <p:cNvSpPr/>
            <p:nvPr/>
          </p:nvSpPr>
          <p:spPr>
            <a:xfrm>
              <a:off x="7210080" y="1393920"/>
              <a:ext cx="1249200" cy="1430280"/>
            </a:xfrm>
            <a:custGeom>
              <a:avLst/>
              <a:gdLst>
                <a:gd name="textAreaLeft" fmla="*/ 0 w 1249200"/>
                <a:gd name="textAreaRight" fmla="*/ 1249560 w 1249200"/>
                <a:gd name="textAreaTop" fmla="*/ 0 h 1430280"/>
                <a:gd name="textAreaBottom" fmla="*/ 1430640 h 1430280"/>
              </a:gdLst>
              <a:ahLst/>
              <a:rect l="textAreaLeft" t="textAreaTop" r="textAreaRight" b="textAreaBottom"/>
              <a:pathLst>
                <a:path w="787" h="901">
                  <a:moveTo>
                    <a:pt x="369" y="850"/>
                  </a:moveTo>
                  <a:lnTo>
                    <a:pt x="330" y="782"/>
                  </a:lnTo>
                  <a:lnTo>
                    <a:pt x="292" y="732"/>
                  </a:lnTo>
                  <a:lnTo>
                    <a:pt x="292" y="648"/>
                  </a:lnTo>
                  <a:lnTo>
                    <a:pt x="295" y="568"/>
                  </a:lnTo>
                  <a:lnTo>
                    <a:pt x="295" y="509"/>
                  </a:lnTo>
                  <a:lnTo>
                    <a:pt x="257" y="536"/>
                  </a:lnTo>
                  <a:lnTo>
                    <a:pt x="257" y="479"/>
                  </a:lnTo>
                  <a:lnTo>
                    <a:pt x="230" y="379"/>
                  </a:lnTo>
                  <a:lnTo>
                    <a:pt x="200" y="318"/>
                  </a:lnTo>
                  <a:lnTo>
                    <a:pt x="127" y="302"/>
                  </a:lnTo>
                  <a:lnTo>
                    <a:pt x="62" y="269"/>
                  </a:lnTo>
                  <a:lnTo>
                    <a:pt x="23" y="242"/>
                  </a:lnTo>
                  <a:lnTo>
                    <a:pt x="62" y="229"/>
                  </a:lnTo>
                  <a:lnTo>
                    <a:pt x="0" y="192"/>
                  </a:lnTo>
                  <a:lnTo>
                    <a:pt x="0" y="184"/>
                  </a:lnTo>
                  <a:lnTo>
                    <a:pt x="2" y="177"/>
                  </a:lnTo>
                  <a:lnTo>
                    <a:pt x="4" y="169"/>
                  </a:lnTo>
                  <a:lnTo>
                    <a:pt x="8" y="160"/>
                  </a:lnTo>
                  <a:lnTo>
                    <a:pt x="13" y="152"/>
                  </a:lnTo>
                  <a:lnTo>
                    <a:pt x="17" y="149"/>
                  </a:lnTo>
                  <a:lnTo>
                    <a:pt x="22" y="148"/>
                  </a:lnTo>
                  <a:lnTo>
                    <a:pt x="26" y="146"/>
                  </a:lnTo>
                  <a:lnTo>
                    <a:pt x="31" y="145"/>
                  </a:lnTo>
                  <a:lnTo>
                    <a:pt x="44" y="145"/>
                  </a:lnTo>
                  <a:lnTo>
                    <a:pt x="62" y="142"/>
                  </a:lnTo>
                  <a:lnTo>
                    <a:pt x="100" y="134"/>
                  </a:lnTo>
                  <a:lnTo>
                    <a:pt x="145" y="122"/>
                  </a:lnTo>
                  <a:lnTo>
                    <a:pt x="167" y="101"/>
                  </a:lnTo>
                  <a:lnTo>
                    <a:pt x="183" y="83"/>
                  </a:lnTo>
                  <a:lnTo>
                    <a:pt x="195" y="72"/>
                  </a:lnTo>
                  <a:lnTo>
                    <a:pt x="206" y="63"/>
                  </a:lnTo>
                  <a:lnTo>
                    <a:pt x="219" y="53"/>
                  </a:lnTo>
                  <a:lnTo>
                    <a:pt x="227" y="47"/>
                  </a:lnTo>
                  <a:lnTo>
                    <a:pt x="236" y="42"/>
                  </a:lnTo>
                  <a:lnTo>
                    <a:pt x="247" y="39"/>
                  </a:lnTo>
                  <a:lnTo>
                    <a:pt x="257" y="38"/>
                  </a:lnTo>
                  <a:lnTo>
                    <a:pt x="268" y="38"/>
                  </a:lnTo>
                  <a:lnTo>
                    <a:pt x="280" y="36"/>
                  </a:lnTo>
                  <a:lnTo>
                    <a:pt x="299" y="32"/>
                  </a:lnTo>
                  <a:lnTo>
                    <a:pt x="318" y="29"/>
                  </a:lnTo>
                  <a:lnTo>
                    <a:pt x="334" y="27"/>
                  </a:lnTo>
                  <a:lnTo>
                    <a:pt x="342" y="29"/>
                  </a:lnTo>
                  <a:lnTo>
                    <a:pt x="351" y="33"/>
                  </a:lnTo>
                  <a:lnTo>
                    <a:pt x="372" y="45"/>
                  </a:lnTo>
                  <a:lnTo>
                    <a:pt x="390" y="59"/>
                  </a:lnTo>
                  <a:lnTo>
                    <a:pt x="398" y="63"/>
                  </a:lnTo>
                  <a:lnTo>
                    <a:pt x="402" y="65"/>
                  </a:lnTo>
                  <a:lnTo>
                    <a:pt x="414" y="63"/>
                  </a:lnTo>
                  <a:lnTo>
                    <a:pt x="429" y="62"/>
                  </a:lnTo>
                  <a:lnTo>
                    <a:pt x="437" y="59"/>
                  </a:lnTo>
                  <a:lnTo>
                    <a:pt x="444" y="56"/>
                  </a:lnTo>
                  <a:lnTo>
                    <a:pt x="452" y="51"/>
                  </a:lnTo>
                  <a:lnTo>
                    <a:pt x="456" y="45"/>
                  </a:lnTo>
                  <a:lnTo>
                    <a:pt x="462" y="41"/>
                  </a:lnTo>
                  <a:lnTo>
                    <a:pt x="471" y="35"/>
                  </a:lnTo>
                  <a:lnTo>
                    <a:pt x="484" y="30"/>
                  </a:lnTo>
                  <a:lnTo>
                    <a:pt x="496" y="27"/>
                  </a:lnTo>
                  <a:lnTo>
                    <a:pt x="521" y="21"/>
                  </a:lnTo>
                  <a:lnTo>
                    <a:pt x="541" y="20"/>
                  </a:lnTo>
                  <a:lnTo>
                    <a:pt x="559" y="17"/>
                  </a:lnTo>
                  <a:lnTo>
                    <a:pt x="583" y="12"/>
                  </a:lnTo>
                  <a:lnTo>
                    <a:pt x="625" y="3"/>
                  </a:lnTo>
                  <a:lnTo>
                    <a:pt x="645" y="0"/>
                  </a:lnTo>
                  <a:lnTo>
                    <a:pt x="657" y="0"/>
                  </a:lnTo>
                  <a:lnTo>
                    <a:pt x="671" y="0"/>
                  </a:lnTo>
                  <a:lnTo>
                    <a:pt x="683" y="0"/>
                  </a:lnTo>
                  <a:lnTo>
                    <a:pt x="693" y="3"/>
                  </a:lnTo>
                  <a:lnTo>
                    <a:pt x="698" y="5"/>
                  </a:lnTo>
                  <a:lnTo>
                    <a:pt x="701" y="8"/>
                  </a:lnTo>
                  <a:lnTo>
                    <a:pt x="704" y="11"/>
                  </a:lnTo>
                  <a:lnTo>
                    <a:pt x="705" y="15"/>
                  </a:lnTo>
                  <a:lnTo>
                    <a:pt x="705" y="23"/>
                  </a:lnTo>
                  <a:lnTo>
                    <a:pt x="705" y="29"/>
                  </a:lnTo>
                  <a:lnTo>
                    <a:pt x="704" y="35"/>
                  </a:lnTo>
                  <a:lnTo>
                    <a:pt x="704" y="42"/>
                  </a:lnTo>
                  <a:lnTo>
                    <a:pt x="705" y="51"/>
                  </a:lnTo>
                  <a:lnTo>
                    <a:pt x="712" y="63"/>
                  </a:lnTo>
                  <a:lnTo>
                    <a:pt x="721" y="80"/>
                  </a:lnTo>
                  <a:lnTo>
                    <a:pt x="736" y="103"/>
                  </a:lnTo>
                  <a:lnTo>
                    <a:pt x="754" y="128"/>
                  </a:lnTo>
                  <a:lnTo>
                    <a:pt x="767" y="152"/>
                  </a:lnTo>
                  <a:lnTo>
                    <a:pt x="778" y="175"/>
                  </a:lnTo>
                  <a:lnTo>
                    <a:pt x="784" y="195"/>
                  </a:lnTo>
                  <a:lnTo>
                    <a:pt x="787" y="210"/>
                  </a:lnTo>
                  <a:lnTo>
                    <a:pt x="787" y="217"/>
                  </a:lnTo>
                  <a:lnTo>
                    <a:pt x="787" y="223"/>
                  </a:lnTo>
                  <a:lnTo>
                    <a:pt x="785" y="228"/>
                  </a:lnTo>
                  <a:lnTo>
                    <a:pt x="782" y="231"/>
                  </a:lnTo>
                  <a:lnTo>
                    <a:pt x="779" y="232"/>
                  </a:lnTo>
                  <a:lnTo>
                    <a:pt x="775" y="234"/>
                  </a:lnTo>
                  <a:lnTo>
                    <a:pt x="757" y="234"/>
                  </a:lnTo>
                  <a:lnTo>
                    <a:pt x="751" y="235"/>
                  </a:lnTo>
                  <a:lnTo>
                    <a:pt x="745" y="238"/>
                  </a:lnTo>
                  <a:lnTo>
                    <a:pt x="742" y="246"/>
                  </a:lnTo>
                  <a:lnTo>
                    <a:pt x="739" y="258"/>
                  </a:lnTo>
                  <a:lnTo>
                    <a:pt x="737" y="275"/>
                  </a:lnTo>
                  <a:lnTo>
                    <a:pt x="736" y="299"/>
                  </a:lnTo>
                  <a:lnTo>
                    <a:pt x="736" y="471"/>
                  </a:lnTo>
                  <a:lnTo>
                    <a:pt x="737" y="507"/>
                  </a:lnTo>
                  <a:lnTo>
                    <a:pt x="737" y="530"/>
                  </a:lnTo>
                  <a:lnTo>
                    <a:pt x="736" y="551"/>
                  </a:lnTo>
                  <a:lnTo>
                    <a:pt x="734" y="571"/>
                  </a:lnTo>
                  <a:lnTo>
                    <a:pt x="730" y="589"/>
                  </a:lnTo>
                  <a:lnTo>
                    <a:pt x="727" y="595"/>
                  </a:lnTo>
                  <a:lnTo>
                    <a:pt x="724" y="599"/>
                  </a:lnTo>
                  <a:lnTo>
                    <a:pt x="719" y="604"/>
                  </a:lnTo>
                  <a:lnTo>
                    <a:pt x="713" y="605"/>
                  </a:lnTo>
                  <a:lnTo>
                    <a:pt x="689" y="608"/>
                  </a:lnTo>
                  <a:lnTo>
                    <a:pt x="662" y="613"/>
                  </a:lnTo>
                  <a:lnTo>
                    <a:pt x="650" y="617"/>
                  </a:lnTo>
                  <a:lnTo>
                    <a:pt x="638" y="622"/>
                  </a:lnTo>
                  <a:lnTo>
                    <a:pt x="627" y="628"/>
                  </a:lnTo>
                  <a:lnTo>
                    <a:pt x="618" y="635"/>
                  </a:lnTo>
                  <a:lnTo>
                    <a:pt x="607" y="645"/>
                  </a:lnTo>
                  <a:lnTo>
                    <a:pt x="597" y="651"/>
                  </a:lnTo>
                  <a:lnTo>
                    <a:pt x="576" y="664"/>
                  </a:lnTo>
                  <a:lnTo>
                    <a:pt x="556" y="675"/>
                  </a:lnTo>
                  <a:lnTo>
                    <a:pt x="548" y="681"/>
                  </a:lnTo>
                  <a:lnTo>
                    <a:pt x="544" y="685"/>
                  </a:lnTo>
                  <a:lnTo>
                    <a:pt x="536" y="705"/>
                  </a:lnTo>
                  <a:lnTo>
                    <a:pt x="533" y="712"/>
                  </a:lnTo>
                  <a:lnTo>
                    <a:pt x="529" y="712"/>
                  </a:lnTo>
                  <a:lnTo>
                    <a:pt x="518" y="712"/>
                  </a:lnTo>
                  <a:lnTo>
                    <a:pt x="512" y="714"/>
                  </a:lnTo>
                  <a:lnTo>
                    <a:pt x="508" y="717"/>
                  </a:lnTo>
                  <a:lnTo>
                    <a:pt x="502" y="722"/>
                  </a:lnTo>
                  <a:lnTo>
                    <a:pt x="499" y="728"/>
                  </a:lnTo>
                  <a:lnTo>
                    <a:pt x="490" y="746"/>
                  </a:lnTo>
                  <a:lnTo>
                    <a:pt x="476" y="770"/>
                  </a:lnTo>
                  <a:lnTo>
                    <a:pt x="470" y="782"/>
                  </a:lnTo>
                  <a:lnTo>
                    <a:pt x="465" y="795"/>
                  </a:lnTo>
                  <a:lnTo>
                    <a:pt x="461" y="808"/>
                  </a:lnTo>
                  <a:lnTo>
                    <a:pt x="461" y="820"/>
                  </a:lnTo>
                  <a:lnTo>
                    <a:pt x="461" y="863"/>
                  </a:lnTo>
                  <a:lnTo>
                    <a:pt x="462" y="880"/>
                  </a:lnTo>
                  <a:lnTo>
                    <a:pt x="461" y="892"/>
                  </a:lnTo>
                  <a:lnTo>
                    <a:pt x="459" y="895"/>
                  </a:lnTo>
                  <a:lnTo>
                    <a:pt x="456" y="897"/>
                  </a:lnTo>
                  <a:lnTo>
                    <a:pt x="447" y="898"/>
                  </a:lnTo>
                  <a:lnTo>
                    <a:pt x="434" y="900"/>
                  </a:lnTo>
                  <a:lnTo>
                    <a:pt x="420" y="901"/>
                  </a:lnTo>
                  <a:lnTo>
                    <a:pt x="394" y="901"/>
                  </a:lnTo>
                  <a:lnTo>
                    <a:pt x="384" y="900"/>
                  </a:lnTo>
                  <a:lnTo>
                    <a:pt x="369" y="850"/>
                  </a:lnTo>
                  <a:close/>
                </a:path>
              </a:pathLst>
            </a:custGeom>
            <a:blipFill rotWithShape="0">
              <a:blip r:embed="rId21"/>
              <a:srcRect/>
              <a:stretch/>
            </a:blipFill>
            <a:ln w="25560">
              <a:solidFill>
                <a:srgbClr val="ffffff"/>
              </a:solidFill>
              <a:miter/>
            </a:ln>
            <a:effectLst>
              <a:outerShdw dist="63504" dir="2216091" blurRad="0" rotWithShape="0">
                <a:srgbClr val="000000">
                  <a:alpha val="16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8" name="AutoShape 103"/>
            <p:cNvSpPr/>
            <p:nvPr/>
          </p:nvSpPr>
          <p:spPr>
            <a:xfrm>
              <a:off x="5003640" y="1486080"/>
              <a:ext cx="1584000" cy="287280"/>
            </a:xfrm>
            <a:prstGeom prst="roundRect">
              <a:avLst>
                <a:gd name="adj" fmla="val 13273"/>
              </a:avLst>
            </a:prstGeom>
            <a:solidFill>
              <a:srgbClr val="875818">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Gulim"/>
              </a:endParaRPr>
            </a:p>
          </p:txBody>
        </p:sp>
        <p:sp>
          <p:nvSpPr>
            <p:cNvPr id="849" name="Oval 105"/>
            <p:cNvSpPr/>
            <p:nvPr/>
          </p:nvSpPr>
          <p:spPr>
            <a:xfrm>
              <a:off x="6119640" y="2565360"/>
              <a:ext cx="144000" cy="14472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50" name="AutoShape 107"/>
            <p:cNvCxnSpPr/>
            <p:nvPr/>
          </p:nvCxnSpPr>
          <p:spPr>
            <a:xfrm>
              <a:off x="5795640" y="1773360"/>
              <a:ext cx="397440" cy="783360"/>
            </a:xfrm>
            <a:prstGeom prst="straightConnector1">
              <a:avLst/>
            </a:prstGeom>
            <a:ln w="9360">
              <a:solidFill>
                <a:srgbClr val="103622"/>
              </a:solidFill>
              <a:miter/>
            </a:ln>
          </p:spPr>
        </p:cxnSp>
        <p:sp>
          <p:nvSpPr>
            <p:cNvPr id="851" name="AutoShape 104"/>
            <p:cNvSpPr/>
            <p:nvPr/>
          </p:nvSpPr>
          <p:spPr>
            <a:xfrm>
              <a:off x="4643280" y="4727520"/>
              <a:ext cx="1584000" cy="287640"/>
            </a:xfrm>
            <a:prstGeom prst="roundRect">
              <a:avLst>
                <a:gd name="adj" fmla="val 13273"/>
              </a:avLst>
            </a:prstGeom>
            <a:solidFill>
              <a:srgbClr val="875818">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Gulim"/>
              </a:endParaRPr>
            </a:p>
          </p:txBody>
        </p:sp>
        <p:sp>
          <p:nvSpPr>
            <p:cNvPr id="852" name="Oval 106"/>
            <p:cNvSpPr/>
            <p:nvPr/>
          </p:nvSpPr>
          <p:spPr>
            <a:xfrm>
              <a:off x="7488000" y="479916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53" name="AutoShape 108"/>
            <p:cNvCxnSpPr>
              <a:endCxn id="852" idx="2"/>
            </p:cNvCxnSpPr>
            <p:nvPr/>
          </p:nvCxnSpPr>
          <p:spPr>
            <a:xfrm>
              <a:off x="6227280" y="4871880"/>
              <a:ext cx="1251000" cy="1080"/>
            </a:xfrm>
            <a:prstGeom prst="straightConnector1">
              <a:avLst/>
            </a:prstGeom>
            <a:ln w="9360">
              <a:solidFill>
                <a:srgbClr val="103622"/>
              </a:solidFill>
              <a:miter/>
            </a:ln>
          </p:spPr>
        </p:cxnSp>
        <p:sp>
          <p:nvSpPr>
            <p:cNvPr id="854" name="AutoShape 157"/>
            <p:cNvSpPr/>
            <p:nvPr/>
          </p:nvSpPr>
          <p:spPr>
            <a:xfrm>
              <a:off x="1979280" y="5591160"/>
              <a:ext cx="1584000" cy="287280"/>
            </a:xfrm>
            <a:prstGeom prst="roundRect">
              <a:avLst>
                <a:gd name="adj" fmla="val 13273"/>
              </a:avLst>
            </a:prstGeom>
            <a:solidFill>
              <a:srgbClr val="875818">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Gulim"/>
              </a:endParaRPr>
            </a:p>
          </p:txBody>
        </p:sp>
        <p:cxnSp>
          <p:nvCxnSpPr>
            <p:cNvPr id="855" name="AutoShape 166"/>
            <p:cNvCxnSpPr/>
            <p:nvPr/>
          </p:nvCxnSpPr>
          <p:spPr>
            <a:xfrm flipH="1" flipV="1">
              <a:off x="1600920" y="4438800"/>
              <a:ext cx="1025640" cy="1162440"/>
            </a:xfrm>
            <a:prstGeom prst="straightConnector1">
              <a:avLst/>
            </a:prstGeom>
            <a:ln w="9360">
              <a:solidFill>
                <a:srgbClr val="103622"/>
              </a:solidFill>
              <a:miter/>
            </a:ln>
          </p:spPr>
        </p:cxnSp>
        <p:sp>
          <p:nvSpPr>
            <p:cNvPr id="856" name="Oval 161"/>
            <p:cNvSpPr/>
            <p:nvPr/>
          </p:nvSpPr>
          <p:spPr>
            <a:xfrm>
              <a:off x="1545840" y="4367160"/>
              <a:ext cx="144360" cy="14472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7" name="AutoShape 158"/>
            <p:cNvSpPr/>
            <p:nvPr/>
          </p:nvSpPr>
          <p:spPr>
            <a:xfrm>
              <a:off x="4356000" y="6094440"/>
              <a:ext cx="1583640" cy="287280"/>
            </a:xfrm>
            <a:prstGeom prst="roundRect">
              <a:avLst>
                <a:gd name="adj" fmla="val 13273"/>
              </a:avLst>
            </a:prstGeom>
            <a:solidFill>
              <a:srgbClr val="875818">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Gulim"/>
              </a:endParaRPr>
            </a:p>
          </p:txBody>
        </p:sp>
        <p:sp>
          <p:nvSpPr>
            <p:cNvPr id="858" name="Oval 162"/>
            <p:cNvSpPr/>
            <p:nvPr/>
          </p:nvSpPr>
          <p:spPr>
            <a:xfrm>
              <a:off x="3850920" y="508644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59" name="AutoShape 165"/>
            <p:cNvCxnSpPr>
              <a:stCxn id="858" idx="5"/>
            </p:cNvCxnSpPr>
            <p:nvPr/>
          </p:nvCxnSpPr>
          <p:spPr>
            <a:xfrm>
              <a:off x="3974760" y="5219640"/>
              <a:ext cx="1173600" cy="875520"/>
            </a:xfrm>
            <a:prstGeom prst="straightConnector1">
              <a:avLst/>
            </a:prstGeom>
            <a:ln w="9360">
              <a:solidFill>
                <a:srgbClr val="103622"/>
              </a:solidFill>
              <a:miter/>
            </a:ln>
          </p:spPr>
        </p:cxnSp>
        <p:sp>
          <p:nvSpPr>
            <p:cNvPr id="860" name="AutoShape 156"/>
            <p:cNvSpPr/>
            <p:nvPr/>
          </p:nvSpPr>
          <p:spPr>
            <a:xfrm>
              <a:off x="4282920" y="4079880"/>
              <a:ext cx="1584000" cy="287280"/>
            </a:xfrm>
            <a:prstGeom prst="roundRect">
              <a:avLst>
                <a:gd name="adj" fmla="val 13273"/>
              </a:avLst>
            </a:prstGeom>
            <a:solidFill>
              <a:srgbClr val="875818">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Gulim"/>
              </a:endParaRPr>
            </a:p>
          </p:txBody>
        </p:sp>
        <p:sp>
          <p:nvSpPr>
            <p:cNvPr id="861" name="Oval 159"/>
            <p:cNvSpPr/>
            <p:nvPr/>
          </p:nvSpPr>
          <p:spPr>
            <a:xfrm>
              <a:off x="3509640" y="3286080"/>
              <a:ext cx="144000" cy="14472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62" name="AutoShape 164"/>
            <p:cNvCxnSpPr/>
            <p:nvPr/>
          </p:nvCxnSpPr>
          <p:spPr>
            <a:xfrm>
              <a:off x="3600360" y="3431880"/>
              <a:ext cx="649440" cy="732600"/>
            </a:xfrm>
            <a:prstGeom prst="straightConnector1">
              <a:avLst/>
            </a:prstGeom>
            <a:ln w="9360">
              <a:solidFill>
                <a:srgbClr val="103622"/>
              </a:solidFill>
              <a:miter/>
            </a:ln>
          </p:spPr>
        </p:cxnSp>
        <p:sp>
          <p:nvSpPr>
            <p:cNvPr id="863" name="AutoShape 155"/>
            <p:cNvSpPr/>
            <p:nvPr/>
          </p:nvSpPr>
          <p:spPr>
            <a:xfrm>
              <a:off x="1402920" y="1414440"/>
              <a:ext cx="1584000" cy="287280"/>
            </a:xfrm>
            <a:prstGeom prst="roundRect">
              <a:avLst>
                <a:gd name="adj" fmla="val 13273"/>
              </a:avLst>
            </a:prstGeom>
            <a:solidFill>
              <a:srgbClr val="875818">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Gulim"/>
              </a:endParaRPr>
            </a:p>
          </p:txBody>
        </p:sp>
        <p:sp>
          <p:nvSpPr>
            <p:cNvPr id="864" name="Oval 160"/>
            <p:cNvSpPr/>
            <p:nvPr/>
          </p:nvSpPr>
          <p:spPr>
            <a:xfrm>
              <a:off x="2122200" y="2638440"/>
              <a:ext cx="14400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65" name="AutoShape 163"/>
            <p:cNvCxnSpPr/>
            <p:nvPr/>
          </p:nvCxnSpPr>
          <p:spPr>
            <a:xfrm>
              <a:off x="2194920" y="1701720"/>
              <a:ext cx="1080" cy="928080"/>
            </a:xfrm>
            <a:prstGeom prst="straightConnector1">
              <a:avLst/>
            </a:prstGeom>
            <a:ln w="9360">
              <a:solidFill>
                <a:srgbClr val="103622"/>
              </a:solidFill>
              <a:miter/>
            </a:ln>
          </p:spPr>
        </p:cxnSp>
      </p:grpSp>
      <p:sp>
        <p:nvSpPr>
          <p:cNvPr id="866" name=""/>
          <p:cNvSpPr/>
          <p:nvPr/>
        </p:nvSpPr>
        <p:spPr>
          <a:xfrm>
            <a:off x="468360" y="90972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Gulim"/>
                <a:hlinkClick r:id="rId22"/>
              </a:rPr>
              <a:t>ppt模版免费下载</a:t>
            </a:r>
            <a:r>
              <a:rPr b="0" lang="en-US" sz="1600" spc="-1" strike="noStrike">
                <a:solidFill>
                  <a:srgbClr val="000000"/>
                </a:solidFill>
                <a:latin typeface="Gulim"/>
              </a:rPr>
              <a:t>http://www.eeppt.com</a:t>
            </a:r>
            <a:endParaRPr b="0" lang="en-US" sz="1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28760" y="152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itle Style </a:t>
            </a:r>
            <a:endParaRPr b="1" lang="en-US" sz="3200" spc="-1" strike="noStrike">
              <a:solidFill>
                <a:srgbClr val="ffffff"/>
              </a:solidFill>
              <a:latin typeface="Times New Roman"/>
            </a:endParaRPr>
          </a:p>
        </p:txBody>
      </p:sp>
      <p:sp>
        <p:nvSpPr>
          <p:cNvPr id="217" name=""/>
          <p:cNvSpPr txBox="1"/>
          <p:nvPr/>
        </p:nvSpPr>
        <p:spPr>
          <a:xfrm>
            <a:off x="457200" y="1413000"/>
            <a:ext cx="8229600" cy="4525920"/>
          </a:xfrm>
          <a:prstGeom prst="rect">
            <a:avLst/>
          </a:prstGeom>
          <a:noFill/>
          <a:ln w="0">
            <a:noFill/>
          </a:ln>
        </p:spPr>
        <p:txBody>
          <a:bodyPr lIns="90000" rIns="90000" tIns="46800" bIns="46800" anchor="t">
            <a:norm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Design Inspiratio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Clarity &amp; Impact</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Premium Desig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ubtle Touch</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Visual Appealing</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tylish Desig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implicity &amp; Beauty</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3D Effect</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80000"/>
              </a:lnSpc>
              <a:spcBef>
                <a:spcPts val="34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pic>
        <p:nvPicPr>
          <p:cNvPr id="868" name="Group 614" descr=""/>
          <p:cNvPicPr/>
          <p:nvPr/>
        </p:nvPicPr>
        <p:blipFill>
          <a:blip r:embed="rId2"/>
          <a:stretch/>
        </p:blipFill>
        <p:spPr>
          <a:xfrm>
            <a:off x="3224160" y="2133720"/>
            <a:ext cx="2890800" cy="3822480"/>
          </a:xfrm>
          <a:prstGeom prst="rect">
            <a:avLst/>
          </a:prstGeom>
          <a:ln w="0">
            <a:noFill/>
          </a:ln>
        </p:spPr>
      </p:pic>
      <p:grpSp>
        <p:nvGrpSpPr>
          <p:cNvPr id="869" name="Group 613"/>
          <p:cNvGrpSpPr/>
          <p:nvPr/>
        </p:nvGrpSpPr>
        <p:grpSpPr>
          <a:xfrm>
            <a:off x="1992240" y="1125360"/>
            <a:ext cx="5027760" cy="648000"/>
            <a:chOff x="1992240" y="1125360"/>
            <a:chExt cx="5027760" cy="648000"/>
          </a:xfrm>
        </p:grpSpPr>
        <p:grpSp>
          <p:nvGrpSpPr>
            <p:cNvPr id="870" name="AutoShape 278"/>
            <p:cNvGrpSpPr/>
            <p:nvPr/>
          </p:nvGrpSpPr>
          <p:grpSpPr>
            <a:xfrm>
              <a:off x="1992240" y="1125360"/>
              <a:ext cx="5027760" cy="648000"/>
              <a:chOff x="1992240" y="1125360"/>
              <a:chExt cx="5027760" cy="648000"/>
            </a:xfrm>
          </p:grpSpPr>
          <p:pic>
            <p:nvPicPr>
              <p:cNvPr id="871" name="AutoShape 278" descr=""/>
              <p:cNvPicPr/>
              <p:nvPr/>
            </p:nvPicPr>
            <p:blipFill>
              <a:blip r:embed="rId3"/>
              <a:stretch/>
            </p:blipFill>
            <p:spPr>
              <a:xfrm>
                <a:off x="1992240" y="1125360"/>
                <a:ext cx="5027760" cy="648000"/>
              </a:xfrm>
              <a:prstGeom prst="rect">
                <a:avLst/>
              </a:prstGeom>
              <a:ln w="0">
                <a:noFill/>
              </a:ln>
            </p:spPr>
          </p:pic>
          <p:sp>
            <p:nvSpPr>
              <p:cNvPr id="872" name=""/>
              <p:cNvSpPr/>
              <p:nvPr/>
            </p:nvSpPr>
            <p:spPr>
              <a:xfrm>
                <a:off x="2160000" y="1235520"/>
                <a:ext cx="4534560" cy="3042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3" name="AutoShape 257"/>
            <p:cNvSpPr/>
            <p:nvPr/>
          </p:nvSpPr>
          <p:spPr>
            <a:xfrm>
              <a:off x="2237760" y="1198800"/>
              <a:ext cx="4372560" cy="16884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4" name="Text Box 258"/>
            <p:cNvSpPr/>
            <p:nvPr/>
          </p:nvSpPr>
          <p:spPr>
            <a:xfrm>
              <a:off x="3099240" y="1248840"/>
              <a:ext cx="2612880" cy="4597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EXT HERE</a:t>
              </a:r>
              <a:endParaRPr b="0" lang="en-US" sz="2400" spc="-1" strike="noStrike">
                <a:solidFill>
                  <a:srgbClr val="000000"/>
                </a:solidFill>
                <a:latin typeface="Gulim"/>
              </a:endParaRPr>
            </a:p>
          </p:txBody>
        </p:sp>
      </p:grpSp>
      <p:grpSp>
        <p:nvGrpSpPr>
          <p:cNvPr id="875" name="Group 615"/>
          <p:cNvGrpSpPr/>
          <p:nvPr/>
        </p:nvGrpSpPr>
        <p:grpSpPr>
          <a:xfrm>
            <a:off x="638280" y="1971720"/>
            <a:ext cx="2079360" cy="1223640"/>
            <a:chOff x="638280" y="1971720"/>
            <a:chExt cx="2079360" cy="1223640"/>
          </a:xfrm>
        </p:grpSpPr>
        <p:grpSp>
          <p:nvGrpSpPr>
            <p:cNvPr id="876" name="Group 544"/>
            <p:cNvGrpSpPr/>
            <p:nvPr/>
          </p:nvGrpSpPr>
          <p:grpSpPr>
            <a:xfrm>
              <a:off x="660240" y="2224080"/>
              <a:ext cx="2047320" cy="971280"/>
              <a:chOff x="660240" y="2224080"/>
              <a:chExt cx="2047320" cy="971280"/>
            </a:xfrm>
          </p:grpSpPr>
          <p:sp>
            <p:nvSpPr>
              <p:cNvPr id="877" name="AutoShape 545"/>
              <p:cNvSpPr/>
              <p:nvPr/>
            </p:nvSpPr>
            <p:spPr>
              <a:xfrm>
                <a:off x="660240" y="2224080"/>
                <a:ext cx="204732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8" name="AutoShape 546"/>
              <p:cNvSpPr/>
              <p:nvPr/>
            </p:nvSpPr>
            <p:spPr>
              <a:xfrm>
                <a:off x="660240" y="2244240"/>
                <a:ext cx="204732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9" name="Text Box 547"/>
            <p:cNvSpPr/>
            <p:nvPr/>
          </p:nvSpPr>
          <p:spPr>
            <a:xfrm>
              <a:off x="822240" y="25052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880" name="Group 548"/>
            <p:cNvGrpSpPr/>
            <p:nvPr/>
          </p:nvGrpSpPr>
          <p:grpSpPr>
            <a:xfrm>
              <a:off x="638280" y="1971720"/>
              <a:ext cx="2079360" cy="492120"/>
              <a:chOff x="638280" y="1971720"/>
              <a:chExt cx="2079360" cy="492120"/>
            </a:xfrm>
          </p:grpSpPr>
          <p:grpSp>
            <p:nvGrpSpPr>
              <p:cNvPr id="881" name="AutoShape 549"/>
              <p:cNvGrpSpPr/>
              <p:nvPr/>
            </p:nvGrpSpPr>
            <p:grpSpPr>
              <a:xfrm>
                <a:off x="638280" y="1971720"/>
                <a:ext cx="2079360" cy="492120"/>
                <a:chOff x="638280" y="1971720"/>
                <a:chExt cx="2079360" cy="492120"/>
              </a:xfrm>
            </p:grpSpPr>
            <p:pic>
              <p:nvPicPr>
                <p:cNvPr id="882" name="AutoShape 549" descr=""/>
                <p:cNvPicPr/>
                <p:nvPr/>
              </p:nvPicPr>
              <p:blipFill>
                <a:blip r:embed="rId4"/>
                <a:stretch/>
              </p:blipFill>
              <p:spPr>
                <a:xfrm>
                  <a:off x="638280" y="1971720"/>
                  <a:ext cx="2079360" cy="492120"/>
                </a:xfrm>
                <a:prstGeom prst="rect">
                  <a:avLst/>
                </a:prstGeom>
                <a:ln w="0">
                  <a:noFill/>
                </a:ln>
              </p:spPr>
            </p:pic>
            <p:sp>
              <p:nvSpPr>
                <p:cNvPr id="883" name=""/>
                <p:cNvSpPr/>
                <p:nvPr/>
              </p:nvSpPr>
              <p:spPr>
                <a:xfrm>
                  <a:off x="730800" y="2031120"/>
                  <a:ext cx="174996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84" name="AutoShape 551"/>
              <p:cNvSpPr/>
              <p:nvPr/>
            </p:nvSpPr>
            <p:spPr>
              <a:xfrm>
                <a:off x="749520" y="2035080"/>
                <a:ext cx="169956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85" name="Text Box 552"/>
            <p:cNvSpPr/>
            <p:nvPr/>
          </p:nvSpPr>
          <p:spPr>
            <a:xfrm>
              <a:off x="982440" y="20574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886" name="Group 616"/>
          <p:cNvGrpSpPr/>
          <p:nvPr/>
        </p:nvGrpSpPr>
        <p:grpSpPr>
          <a:xfrm>
            <a:off x="638280" y="3316320"/>
            <a:ext cx="2079360" cy="1223640"/>
            <a:chOff x="638280" y="3316320"/>
            <a:chExt cx="2079360" cy="1223640"/>
          </a:xfrm>
        </p:grpSpPr>
        <p:grpSp>
          <p:nvGrpSpPr>
            <p:cNvPr id="887" name="Group 617"/>
            <p:cNvGrpSpPr/>
            <p:nvPr/>
          </p:nvGrpSpPr>
          <p:grpSpPr>
            <a:xfrm>
              <a:off x="660240" y="3568680"/>
              <a:ext cx="2047320" cy="971280"/>
              <a:chOff x="660240" y="3568680"/>
              <a:chExt cx="2047320" cy="971280"/>
            </a:xfrm>
          </p:grpSpPr>
          <p:sp>
            <p:nvSpPr>
              <p:cNvPr id="888" name="AutoShape 618"/>
              <p:cNvSpPr/>
              <p:nvPr/>
            </p:nvSpPr>
            <p:spPr>
              <a:xfrm>
                <a:off x="660240" y="3568680"/>
                <a:ext cx="204732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9" name="AutoShape 619"/>
              <p:cNvSpPr/>
              <p:nvPr/>
            </p:nvSpPr>
            <p:spPr>
              <a:xfrm>
                <a:off x="660240" y="3588840"/>
                <a:ext cx="204732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90" name="Text Box 620"/>
            <p:cNvSpPr/>
            <p:nvPr/>
          </p:nvSpPr>
          <p:spPr>
            <a:xfrm>
              <a:off x="822240" y="38498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891" name="Group 621"/>
            <p:cNvGrpSpPr/>
            <p:nvPr/>
          </p:nvGrpSpPr>
          <p:grpSpPr>
            <a:xfrm>
              <a:off x="638280" y="3316320"/>
              <a:ext cx="2079360" cy="492120"/>
              <a:chOff x="638280" y="3316320"/>
              <a:chExt cx="2079360" cy="492120"/>
            </a:xfrm>
          </p:grpSpPr>
          <p:grpSp>
            <p:nvGrpSpPr>
              <p:cNvPr id="892" name="AutoShape 622"/>
              <p:cNvGrpSpPr/>
              <p:nvPr/>
            </p:nvGrpSpPr>
            <p:grpSpPr>
              <a:xfrm>
                <a:off x="638280" y="3316320"/>
                <a:ext cx="2079360" cy="492120"/>
                <a:chOff x="638280" y="3316320"/>
                <a:chExt cx="2079360" cy="492120"/>
              </a:xfrm>
            </p:grpSpPr>
            <p:pic>
              <p:nvPicPr>
                <p:cNvPr id="893" name="AutoShape 622" descr=""/>
                <p:cNvPicPr/>
                <p:nvPr/>
              </p:nvPicPr>
              <p:blipFill>
                <a:blip r:embed="rId5"/>
                <a:stretch/>
              </p:blipFill>
              <p:spPr>
                <a:xfrm>
                  <a:off x="638280" y="3316320"/>
                  <a:ext cx="2079360" cy="492120"/>
                </a:xfrm>
                <a:prstGeom prst="rect">
                  <a:avLst/>
                </a:prstGeom>
                <a:ln w="0">
                  <a:noFill/>
                </a:ln>
              </p:spPr>
            </p:pic>
            <p:sp>
              <p:nvSpPr>
                <p:cNvPr id="894" name=""/>
                <p:cNvSpPr/>
                <p:nvPr/>
              </p:nvSpPr>
              <p:spPr>
                <a:xfrm>
                  <a:off x="730800" y="3374280"/>
                  <a:ext cx="174996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95" name="AutoShape 624"/>
              <p:cNvSpPr/>
              <p:nvPr/>
            </p:nvSpPr>
            <p:spPr>
              <a:xfrm>
                <a:off x="749520" y="3378240"/>
                <a:ext cx="169956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96" name="Text Box 625"/>
            <p:cNvSpPr/>
            <p:nvPr/>
          </p:nvSpPr>
          <p:spPr>
            <a:xfrm>
              <a:off x="982440" y="34020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897" name="Group 626"/>
          <p:cNvGrpSpPr/>
          <p:nvPr/>
        </p:nvGrpSpPr>
        <p:grpSpPr>
          <a:xfrm>
            <a:off x="638280" y="4673520"/>
            <a:ext cx="2079360" cy="1223640"/>
            <a:chOff x="638280" y="4673520"/>
            <a:chExt cx="2079360" cy="1223640"/>
          </a:xfrm>
        </p:grpSpPr>
        <p:grpSp>
          <p:nvGrpSpPr>
            <p:cNvPr id="898" name="Group 627"/>
            <p:cNvGrpSpPr/>
            <p:nvPr/>
          </p:nvGrpSpPr>
          <p:grpSpPr>
            <a:xfrm>
              <a:off x="660240" y="4925880"/>
              <a:ext cx="2047320" cy="971280"/>
              <a:chOff x="660240" y="4925880"/>
              <a:chExt cx="2047320" cy="971280"/>
            </a:xfrm>
          </p:grpSpPr>
          <p:sp>
            <p:nvSpPr>
              <p:cNvPr id="899" name="AutoShape 628"/>
              <p:cNvSpPr/>
              <p:nvPr/>
            </p:nvSpPr>
            <p:spPr>
              <a:xfrm>
                <a:off x="660240" y="4925880"/>
                <a:ext cx="204732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0" name="AutoShape 629"/>
              <p:cNvSpPr/>
              <p:nvPr/>
            </p:nvSpPr>
            <p:spPr>
              <a:xfrm>
                <a:off x="660240" y="4946040"/>
                <a:ext cx="204732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01" name="Text Box 630"/>
            <p:cNvSpPr/>
            <p:nvPr/>
          </p:nvSpPr>
          <p:spPr>
            <a:xfrm>
              <a:off x="822240" y="52070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902" name="Group 631"/>
            <p:cNvGrpSpPr/>
            <p:nvPr/>
          </p:nvGrpSpPr>
          <p:grpSpPr>
            <a:xfrm>
              <a:off x="638280" y="4673520"/>
              <a:ext cx="2079360" cy="492120"/>
              <a:chOff x="638280" y="4673520"/>
              <a:chExt cx="2079360" cy="492120"/>
            </a:xfrm>
          </p:grpSpPr>
          <p:grpSp>
            <p:nvGrpSpPr>
              <p:cNvPr id="903" name="AutoShape 632"/>
              <p:cNvGrpSpPr/>
              <p:nvPr/>
            </p:nvGrpSpPr>
            <p:grpSpPr>
              <a:xfrm>
                <a:off x="638280" y="4673520"/>
                <a:ext cx="2079360" cy="492120"/>
                <a:chOff x="638280" y="4673520"/>
                <a:chExt cx="2079360" cy="492120"/>
              </a:xfrm>
            </p:grpSpPr>
            <p:pic>
              <p:nvPicPr>
                <p:cNvPr id="904" name="AutoShape 632" descr=""/>
                <p:cNvPicPr/>
                <p:nvPr/>
              </p:nvPicPr>
              <p:blipFill>
                <a:blip r:embed="rId6"/>
                <a:stretch/>
              </p:blipFill>
              <p:spPr>
                <a:xfrm>
                  <a:off x="638280" y="4673520"/>
                  <a:ext cx="2079360" cy="492120"/>
                </a:xfrm>
                <a:prstGeom prst="rect">
                  <a:avLst/>
                </a:prstGeom>
                <a:ln w="0">
                  <a:noFill/>
                </a:ln>
              </p:spPr>
            </p:pic>
            <p:sp>
              <p:nvSpPr>
                <p:cNvPr id="905" name=""/>
                <p:cNvSpPr/>
                <p:nvPr/>
              </p:nvSpPr>
              <p:spPr>
                <a:xfrm>
                  <a:off x="730800" y="4730760"/>
                  <a:ext cx="1749960" cy="2674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06" name="AutoShape 634"/>
              <p:cNvSpPr/>
              <p:nvPr/>
            </p:nvSpPr>
            <p:spPr>
              <a:xfrm>
                <a:off x="749520" y="4734720"/>
                <a:ext cx="1699560" cy="7092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07" name="Text Box 635"/>
            <p:cNvSpPr/>
            <p:nvPr/>
          </p:nvSpPr>
          <p:spPr>
            <a:xfrm>
              <a:off x="982440" y="47592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908" name="Group 646"/>
          <p:cNvGrpSpPr/>
          <p:nvPr/>
        </p:nvGrpSpPr>
        <p:grpSpPr>
          <a:xfrm>
            <a:off x="6410160" y="3316320"/>
            <a:ext cx="2079720" cy="1223640"/>
            <a:chOff x="6410160" y="3316320"/>
            <a:chExt cx="2079720" cy="1223640"/>
          </a:xfrm>
        </p:grpSpPr>
        <p:grpSp>
          <p:nvGrpSpPr>
            <p:cNvPr id="909" name="Group 647"/>
            <p:cNvGrpSpPr/>
            <p:nvPr/>
          </p:nvGrpSpPr>
          <p:grpSpPr>
            <a:xfrm>
              <a:off x="6432480" y="3568680"/>
              <a:ext cx="2047680" cy="971280"/>
              <a:chOff x="6432480" y="3568680"/>
              <a:chExt cx="2047680" cy="971280"/>
            </a:xfrm>
          </p:grpSpPr>
          <p:sp>
            <p:nvSpPr>
              <p:cNvPr id="910" name="AutoShape 648"/>
              <p:cNvSpPr/>
              <p:nvPr/>
            </p:nvSpPr>
            <p:spPr>
              <a:xfrm>
                <a:off x="6432480" y="35686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1" name="AutoShape 649"/>
              <p:cNvSpPr/>
              <p:nvPr/>
            </p:nvSpPr>
            <p:spPr>
              <a:xfrm>
                <a:off x="6432480" y="35888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12" name="Text Box 650"/>
            <p:cNvSpPr/>
            <p:nvPr/>
          </p:nvSpPr>
          <p:spPr>
            <a:xfrm>
              <a:off x="6594480" y="38498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913" name="Group 651"/>
            <p:cNvGrpSpPr/>
            <p:nvPr/>
          </p:nvGrpSpPr>
          <p:grpSpPr>
            <a:xfrm>
              <a:off x="6410160" y="3316320"/>
              <a:ext cx="2079720" cy="492120"/>
              <a:chOff x="6410160" y="3316320"/>
              <a:chExt cx="2079720" cy="492120"/>
            </a:xfrm>
          </p:grpSpPr>
          <p:grpSp>
            <p:nvGrpSpPr>
              <p:cNvPr id="914" name="AutoShape 652"/>
              <p:cNvGrpSpPr/>
              <p:nvPr/>
            </p:nvGrpSpPr>
            <p:grpSpPr>
              <a:xfrm>
                <a:off x="6410160" y="3316320"/>
                <a:ext cx="2079720" cy="492120"/>
                <a:chOff x="6410160" y="3316320"/>
                <a:chExt cx="2079720" cy="492120"/>
              </a:xfrm>
            </p:grpSpPr>
            <p:pic>
              <p:nvPicPr>
                <p:cNvPr id="915" name="AutoShape 652" descr=""/>
                <p:cNvPicPr/>
                <p:nvPr/>
              </p:nvPicPr>
              <p:blipFill>
                <a:blip r:embed="rId7"/>
                <a:stretch/>
              </p:blipFill>
              <p:spPr>
                <a:xfrm>
                  <a:off x="6410160" y="3316320"/>
                  <a:ext cx="2079720" cy="492120"/>
                </a:xfrm>
                <a:prstGeom prst="rect">
                  <a:avLst/>
                </a:prstGeom>
                <a:ln w="0">
                  <a:noFill/>
                </a:ln>
              </p:spPr>
            </p:pic>
            <p:sp>
              <p:nvSpPr>
                <p:cNvPr id="916" name=""/>
                <p:cNvSpPr/>
                <p:nvPr/>
              </p:nvSpPr>
              <p:spPr>
                <a:xfrm>
                  <a:off x="6501960" y="3374280"/>
                  <a:ext cx="175032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17" name="AutoShape 654"/>
              <p:cNvSpPr/>
              <p:nvPr/>
            </p:nvSpPr>
            <p:spPr>
              <a:xfrm>
                <a:off x="6520320" y="3378240"/>
                <a:ext cx="169956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18" name="Text Box 655"/>
            <p:cNvSpPr/>
            <p:nvPr/>
          </p:nvSpPr>
          <p:spPr>
            <a:xfrm>
              <a:off x="6754680" y="34020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919" name="Group 656"/>
          <p:cNvGrpSpPr/>
          <p:nvPr/>
        </p:nvGrpSpPr>
        <p:grpSpPr>
          <a:xfrm>
            <a:off x="6410160" y="4673520"/>
            <a:ext cx="2079720" cy="1223640"/>
            <a:chOff x="6410160" y="4673520"/>
            <a:chExt cx="2079720" cy="1223640"/>
          </a:xfrm>
        </p:grpSpPr>
        <p:grpSp>
          <p:nvGrpSpPr>
            <p:cNvPr id="920" name="Group 657"/>
            <p:cNvGrpSpPr/>
            <p:nvPr/>
          </p:nvGrpSpPr>
          <p:grpSpPr>
            <a:xfrm>
              <a:off x="6432480" y="4925880"/>
              <a:ext cx="2047680" cy="971280"/>
              <a:chOff x="6432480" y="4925880"/>
              <a:chExt cx="2047680" cy="971280"/>
            </a:xfrm>
          </p:grpSpPr>
          <p:sp>
            <p:nvSpPr>
              <p:cNvPr id="921" name="AutoShape 658"/>
              <p:cNvSpPr/>
              <p:nvPr/>
            </p:nvSpPr>
            <p:spPr>
              <a:xfrm>
                <a:off x="6432480" y="49258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2" name="AutoShape 659"/>
              <p:cNvSpPr/>
              <p:nvPr/>
            </p:nvSpPr>
            <p:spPr>
              <a:xfrm>
                <a:off x="6432480" y="49460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23" name="Text Box 660"/>
            <p:cNvSpPr/>
            <p:nvPr/>
          </p:nvSpPr>
          <p:spPr>
            <a:xfrm>
              <a:off x="6594480" y="52070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924" name="Group 661"/>
            <p:cNvGrpSpPr/>
            <p:nvPr/>
          </p:nvGrpSpPr>
          <p:grpSpPr>
            <a:xfrm>
              <a:off x="6410160" y="4673520"/>
              <a:ext cx="2079720" cy="492120"/>
              <a:chOff x="6410160" y="4673520"/>
              <a:chExt cx="2079720" cy="492120"/>
            </a:xfrm>
          </p:grpSpPr>
          <p:grpSp>
            <p:nvGrpSpPr>
              <p:cNvPr id="925" name="AutoShape 662"/>
              <p:cNvGrpSpPr/>
              <p:nvPr/>
            </p:nvGrpSpPr>
            <p:grpSpPr>
              <a:xfrm>
                <a:off x="6410160" y="4673520"/>
                <a:ext cx="2079720" cy="492120"/>
                <a:chOff x="6410160" y="4673520"/>
                <a:chExt cx="2079720" cy="492120"/>
              </a:xfrm>
            </p:grpSpPr>
            <p:pic>
              <p:nvPicPr>
                <p:cNvPr id="926" name="AutoShape 662" descr=""/>
                <p:cNvPicPr/>
                <p:nvPr/>
              </p:nvPicPr>
              <p:blipFill>
                <a:blip r:embed="rId8"/>
                <a:stretch/>
              </p:blipFill>
              <p:spPr>
                <a:xfrm>
                  <a:off x="6410160" y="4673520"/>
                  <a:ext cx="2079720" cy="492120"/>
                </a:xfrm>
                <a:prstGeom prst="rect">
                  <a:avLst/>
                </a:prstGeom>
                <a:ln w="0">
                  <a:noFill/>
                </a:ln>
              </p:spPr>
            </p:pic>
            <p:sp>
              <p:nvSpPr>
                <p:cNvPr id="927" name=""/>
                <p:cNvSpPr/>
                <p:nvPr/>
              </p:nvSpPr>
              <p:spPr>
                <a:xfrm>
                  <a:off x="6501960" y="4730760"/>
                  <a:ext cx="1750320" cy="2674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28" name="AutoShape 664"/>
              <p:cNvSpPr/>
              <p:nvPr/>
            </p:nvSpPr>
            <p:spPr>
              <a:xfrm>
                <a:off x="6520320" y="4734720"/>
                <a:ext cx="1699560" cy="7092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29" name="Text Box 665"/>
            <p:cNvSpPr/>
            <p:nvPr/>
          </p:nvSpPr>
          <p:spPr>
            <a:xfrm>
              <a:off x="6754680" y="47592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sp>
        <p:nvSpPr>
          <p:cNvPr id="930" name="Line 667"/>
          <p:cNvSpPr/>
          <p:nvPr/>
        </p:nvSpPr>
        <p:spPr>
          <a:xfrm flipH="1" flipV="1">
            <a:off x="5546880" y="3914280"/>
            <a:ext cx="863280" cy="49320"/>
          </a:xfrm>
          <a:prstGeom prst="line">
            <a:avLst/>
          </a:prstGeom>
          <a:ln w="15840">
            <a:solidFill>
              <a:srgbClr val="000000"/>
            </a:solidFill>
            <a:miter/>
            <a:tailEnd len="lg" type="stealth" w="med"/>
          </a:ln>
        </p:spPr>
        <p:style>
          <a:lnRef idx="0"/>
          <a:fillRef idx="0"/>
          <a:effectRef idx="0"/>
          <a:fontRef idx="minor"/>
        </p:style>
        <p:txBody>
          <a:bodyPr lIns="90000" rIns="90000" tIns="2520" bIns="2520" anchor="t">
            <a:noAutofit/>
          </a:bodyPr>
          <a:p>
            <a:endParaRPr b="0" lang="en-US" sz="1800" spc="-1" strike="noStrike">
              <a:solidFill>
                <a:srgbClr val="000000"/>
              </a:solidFill>
              <a:latin typeface="Gulim"/>
            </a:endParaRPr>
          </a:p>
        </p:txBody>
      </p:sp>
      <p:sp>
        <p:nvSpPr>
          <p:cNvPr id="931" name="Line 668"/>
          <p:cNvSpPr/>
          <p:nvPr/>
        </p:nvSpPr>
        <p:spPr>
          <a:xfrm flipH="1" flipV="1">
            <a:off x="4393800" y="3771720"/>
            <a:ext cx="1995480" cy="15858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32" name="Line 670"/>
          <p:cNvSpPr/>
          <p:nvPr/>
        </p:nvSpPr>
        <p:spPr>
          <a:xfrm>
            <a:off x="2738520" y="2690640"/>
            <a:ext cx="1152360" cy="4320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33" name="Line 671"/>
          <p:cNvSpPr/>
          <p:nvPr/>
        </p:nvSpPr>
        <p:spPr>
          <a:xfrm flipV="1">
            <a:off x="2738520" y="3817800"/>
            <a:ext cx="1000080" cy="16992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34" name="Line 672"/>
          <p:cNvSpPr/>
          <p:nvPr/>
        </p:nvSpPr>
        <p:spPr>
          <a:xfrm flipV="1">
            <a:off x="2738520" y="4417920"/>
            <a:ext cx="1000080" cy="86544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pic>
        <p:nvPicPr>
          <p:cNvPr id="935" name="Group 614" descr=""/>
          <p:cNvPicPr/>
          <p:nvPr/>
        </p:nvPicPr>
        <p:blipFill>
          <a:blip r:embed="rId9"/>
          <a:stretch/>
        </p:blipFill>
        <p:spPr>
          <a:xfrm>
            <a:off x="3157560" y="2077920"/>
            <a:ext cx="3193920" cy="3895920"/>
          </a:xfrm>
          <a:prstGeom prst="rect">
            <a:avLst/>
          </a:prstGeom>
          <a:ln w="0">
            <a:noFill/>
          </a:ln>
        </p:spPr>
      </p:pic>
      <p:sp>
        <p:nvSpPr>
          <p:cNvPr id="936" name="Line 666"/>
          <p:cNvSpPr/>
          <p:nvPr/>
        </p:nvSpPr>
        <p:spPr>
          <a:xfrm flipH="1">
            <a:off x="4970160" y="2762280"/>
            <a:ext cx="1439640" cy="73080"/>
          </a:xfrm>
          <a:prstGeom prst="line">
            <a:avLst/>
          </a:prstGeom>
          <a:ln w="15840">
            <a:solidFill>
              <a:srgbClr val="000000"/>
            </a:solidFill>
            <a:miter/>
            <a:tailEnd len="lg" type="stealth"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Gulim"/>
            </a:endParaRPr>
          </a:p>
        </p:txBody>
      </p:sp>
      <p:grpSp>
        <p:nvGrpSpPr>
          <p:cNvPr id="937" name="Group 636"/>
          <p:cNvGrpSpPr/>
          <p:nvPr/>
        </p:nvGrpSpPr>
        <p:grpSpPr>
          <a:xfrm>
            <a:off x="6410160" y="1971720"/>
            <a:ext cx="2079720" cy="1223640"/>
            <a:chOff x="6410160" y="1971720"/>
            <a:chExt cx="2079720" cy="1223640"/>
          </a:xfrm>
        </p:grpSpPr>
        <p:grpSp>
          <p:nvGrpSpPr>
            <p:cNvPr id="938" name="Group 637"/>
            <p:cNvGrpSpPr/>
            <p:nvPr/>
          </p:nvGrpSpPr>
          <p:grpSpPr>
            <a:xfrm>
              <a:off x="6432480" y="2224080"/>
              <a:ext cx="2047680" cy="971280"/>
              <a:chOff x="6432480" y="2224080"/>
              <a:chExt cx="2047680" cy="971280"/>
            </a:xfrm>
          </p:grpSpPr>
          <p:sp>
            <p:nvSpPr>
              <p:cNvPr id="939" name="AutoShape 638"/>
              <p:cNvSpPr/>
              <p:nvPr/>
            </p:nvSpPr>
            <p:spPr>
              <a:xfrm>
                <a:off x="6432480" y="22240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0" name="AutoShape 639"/>
              <p:cNvSpPr/>
              <p:nvPr/>
            </p:nvSpPr>
            <p:spPr>
              <a:xfrm>
                <a:off x="6432480" y="22442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103622"/>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41" name="Text Box 640"/>
            <p:cNvSpPr/>
            <p:nvPr/>
          </p:nvSpPr>
          <p:spPr>
            <a:xfrm>
              <a:off x="6594480" y="25052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942" name="Group 641"/>
            <p:cNvGrpSpPr/>
            <p:nvPr/>
          </p:nvGrpSpPr>
          <p:grpSpPr>
            <a:xfrm>
              <a:off x="6410160" y="1971720"/>
              <a:ext cx="2079720" cy="492120"/>
              <a:chOff x="6410160" y="1971720"/>
              <a:chExt cx="2079720" cy="492120"/>
            </a:xfrm>
          </p:grpSpPr>
          <p:grpSp>
            <p:nvGrpSpPr>
              <p:cNvPr id="943" name="AutoShape 642"/>
              <p:cNvGrpSpPr/>
              <p:nvPr/>
            </p:nvGrpSpPr>
            <p:grpSpPr>
              <a:xfrm>
                <a:off x="6410160" y="1971720"/>
                <a:ext cx="2079720" cy="492120"/>
                <a:chOff x="6410160" y="1971720"/>
                <a:chExt cx="2079720" cy="492120"/>
              </a:xfrm>
            </p:grpSpPr>
            <p:pic>
              <p:nvPicPr>
                <p:cNvPr id="944" name="AutoShape 642" descr=""/>
                <p:cNvPicPr/>
                <p:nvPr/>
              </p:nvPicPr>
              <p:blipFill>
                <a:blip r:embed="rId10"/>
                <a:stretch/>
              </p:blipFill>
              <p:spPr>
                <a:xfrm>
                  <a:off x="6410160" y="1971720"/>
                  <a:ext cx="2079720" cy="492120"/>
                </a:xfrm>
                <a:prstGeom prst="rect">
                  <a:avLst/>
                </a:prstGeom>
                <a:ln w="0">
                  <a:noFill/>
                </a:ln>
              </p:spPr>
            </p:pic>
            <p:sp>
              <p:nvSpPr>
                <p:cNvPr id="945" name=""/>
                <p:cNvSpPr/>
                <p:nvPr/>
              </p:nvSpPr>
              <p:spPr>
                <a:xfrm>
                  <a:off x="6501960" y="2031120"/>
                  <a:ext cx="175032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46" name="AutoShape 644"/>
              <p:cNvSpPr/>
              <p:nvPr/>
            </p:nvSpPr>
            <p:spPr>
              <a:xfrm>
                <a:off x="6520320" y="2035080"/>
                <a:ext cx="169956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47" name="Text Box 645"/>
            <p:cNvSpPr/>
            <p:nvPr/>
          </p:nvSpPr>
          <p:spPr>
            <a:xfrm>
              <a:off x="6754680" y="20574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pic>
        <p:nvPicPr>
          <p:cNvPr id="948" name="Picture 527" descr="그림2"/>
          <p:cNvPicPr/>
          <p:nvPr/>
        </p:nvPicPr>
        <p:blipFill>
          <a:blip r:embed="rId11"/>
          <a:stretch/>
        </p:blipFill>
        <p:spPr>
          <a:xfrm>
            <a:off x="3747960" y="2897280"/>
            <a:ext cx="505080" cy="476280"/>
          </a:xfrm>
          <a:prstGeom prst="rect">
            <a:avLst/>
          </a:prstGeom>
          <a:ln w="0">
            <a:noFill/>
          </a:ln>
        </p:spPr>
      </p:pic>
      <p:pic>
        <p:nvPicPr>
          <p:cNvPr id="949" name="Picture 529" descr="그림2"/>
          <p:cNvPicPr/>
          <p:nvPr/>
        </p:nvPicPr>
        <p:blipFill>
          <a:blip r:embed="rId12"/>
          <a:stretch/>
        </p:blipFill>
        <p:spPr>
          <a:xfrm>
            <a:off x="3603600" y="3616200"/>
            <a:ext cx="504720" cy="476280"/>
          </a:xfrm>
          <a:prstGeom prst="rect">
            <a:avLst/>
          </a:prstGeom>
          <a:ln w="0">
            <a:noFill/>
          </a:ln>
        </p:spPr>
      </p:pic>
      <p:pic>
        <p:nvPicPr>
          <p:cNvPr id="950" name="Picture 530" descr="그림2"/>
          <p:cNvPicPr/>
          <p:nvPr/>
        </p:nvPicPr>
        <p:blipFill>
          <a:blip r:embed="rId13"/>
          <a:stretch/>
        </p:blipFill>
        <p:spPr>
          <a:xfrm>
            <a:off x="5187960" y="3689280"/>
            <a:ext cx="504720" cy="476280"/>
          </a:xfrm>
          <a:prstGeom prst="rect">
            <a:avLst/>
          </a:prstGeom>
          <a:ln w="0">
            <a:noFill/>
          </a:ln>
        </p:spPr>
      </p:pic>
      <p:pic>
        <p:nvPicPr>
          <p:cNvPr id="951" name="Picture 531" descr="그림2"/>
          <p:cNvPicPr/>
          <p:nvPr/>
        </p:nvPicPr>
        <p:blipFill>
          <a:blip r:embed="rId14"/>
          <a:stretch/>
        </p:blipFill>
        <p:spPr>
          <a:xfrm>
            <a:off x="3598920" y="4165560"/>
            <a:ext cx="504720" cy="476280"/>
          </a:xfrm>
          <a:prstGeom prst="rect">
            <a:avLst/>
          </a:prstGeom>
          <a:ln w="0">
            <a:noFill/>
          </a:ln>
        </p:spPr>
      </p:pic>
      <p:pic>
        <p:nvPicPr>
          <p:cNvPr id="952" name="Picture 669" descr="그림2"/>
          <p:cNvPicPr/>
          <p:nvPr/>
        </p:nvPicPr>
        <p:blipFill>
          <a:blip r:embed="rId15"/>
          <a:stretch/>
        </p:blipFill>
        <p:spPr>
          <a:xfrm>
            <a:off x="4130640" y="3475080"/>
            <a:ext cx="504720" cy="476280"/>
          </a:xfrm>
          <a:prstGeom prst="rect">
            <a:avLst/>
          </a:prstGeom>
          <a:ln w="0">
            <a:noFill/>
          </a:ln>
        </p:spPr>
      </p:pic>
      <p:pic>
        <p:nvPicPr>
          <p:cNvPr id="953" name="Picture 526" descr="그림2"/>
          <p:cNvPicPr/>
          <p:nvPr/>
        </p:nvPicPr>
        <p:blipFill>
          <a:blip r:embed="rId16"/>
          <a:stretch/>
        </p:blipFill>
        <p:spPr>
          <a:xfrm>
            <a:off x="4540320" y="2570040"/>
            <a:ext cx="587160" cy="552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使用规范说明</a:t>
            </a:r>
            <a:endParaRPr b="1" lang="en-US" sz="3200" spc="-1" strike="noStrike">
              <a:solidFill>
                <a:srgbClr val="000000"/>
              </a:solidFill>
              <a:latin typeface="Times New Roman"/>
            </a:endParaRPr>
          </a:p>
        </p:txBody>
      </p:sp>
      <p:sp>
        <p:nvSpPr>
          <p:cNvPr id="95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站点介绍</a:t>
            </a:r>
            <a:r>
              <a:rPr b="1" lang="ko-KR" sz="1400" spc="-1" strike="noStrike">
                <a:solidFill>
                  <a:srgbClr val="ededed"/>
                </a:solidFill>
                <a:latin typeface="Gulim"/>
              </a:rPr>
              <a:t>：</a:t>
            </a: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ededed"/>
                </a:solidFill>
                <a:latin typeface="Gulim"/>
              </a:rPr>
              <a:t>PPT</a:t>
            </a:r>
            <a:r>
              <a:rPr b="1" lang="ko-KR" sz="1400" spc="-1" strike="noStrike">
                <a:solidFill>
                  <a:srgbClr val="ededed"/>
                </a:solidFill>
                <a:latin typeface="Gulim"/>
              </a:rPr>
              <a:t>模板下载网站</a:t>
            </a:r>
            <a:r>
              <a:rPr b="1" lang="zh-CN" sz="1400" spc="-1" strike="noStrike">
                <a:solidFill>
                  <a:srgbClr val="e8eff7"/>
                </a:solidFill>
                <a:latin typeface="Gulim"/>
              </a:rPr>
              <a:t>www.eeppt.com</a:t>
            </a:r>
            <a:r>
              <a:rPr b="1" lang="ko-KR" sz="1400" spc="-1" strike="noStrike">
                <a:solidFill>
                  <a:srgbClr val="ededed"/>
                </a:solidFill>
                <a:latin typeface="Gulim"/>
              </a:rPr>
              <a:t>为您提供免费</a:t>
            </a:r>
            <a:r>
              <a:rPr b="1" lang="ko-KR" sz="1400" spc="-1" strike="noStrike">
                <a:solidFill>
                  <a:srgbClr val="ededed"/>
                </a:solidFill>
                <a:latin typeface="Gulim"/>
              </a:rPr>
              <a:t>ppt</a:t>
            </a:r>
            <a:r>
              <a:rPr b="1" lang="ko-KR" sz="1400" spc="-1" strike="noStrike">
                <a:solidFill>
                  <a:srgbClr val="ededed"/>
                </a:solidFill>
                <a:latin typeface="Gulim"/>
              </a:rPr>
              <a:t>模板下载，有好看的</a:t>
            </a:r>
            <a:r>
              <a:rPr b="1" lang="ko-KR" sz="1400" spc="-1" strike="noStrike">
                <a:solidFill>
                  <a:srgbClr val="ededed"/>
                </a:solidFill>
                <a:latin typeface="Gulim"/>
              </a:rPr>
              <a:t>ppt</a:t>
            </a:r>
            <a:r>
              <a:rPr b="1" lang="ko-KR" sz="1400" spc="-1" strike="noStrike">
                <a:solidFill>
                  <a:srgbClr val="ededed"/>
                </a:solidFill>
                <a:latin typeface="Gulim"/>
              </a:rPr>
              <a:t>模板，</a:t>
            </a:r>
            <a:r>
              <a:rPr b="1" lang="ko-KR" sz="1400" spc="-1" strike="noStrike">
                <a:solidFill>
                  <a:srgbClr val="ededed"/>
                </a:solidFill>
                <a:latin typeface="Gulim"/>
              </a:rPr>
              <a:t>ppt</a:t>
            </a:r>
            <a:r>
              <a:rPr b="1" lang="ko-KR" sz="1400" spc="-1" strike="noStrike">
                <a:solidFill>
                  <a:srgbClr val="ededed"/>
                </a:solidFill>
                <a:latin typeface="Gulim"/>
              </a:rPr>
              <a:t>背景图片，</a:t>
            </a:r>
            <a:r>
              <a:rPr b="1" lang="ko-KR" sz="1400" spc="-1" strike="noStrike">
                <a:solidFill>
                  <a:srgbClr val="ededed"/>
                </a:solidFill>
                <a:latin typeface="Gulim"/>
              </a:rPr>
              <a:t>ppt</a:t>
            </a:r>
            <a:r>
              <a:rPr b="1" lang="ko-KR" sz="1400" spc="-1" strike="noStrike">
                <a:solidFill>
                  <a:srgbClr val="ededed"/>
                </a:solidFill>
                <a:latin typeface="Gulim"/>
              </a:rPr>
              <a:t>素材，</a:t>
            </a:r>
            <a:r>
              <a:rPr b="1" lang="ko-KR" sz="1400" spc="-1" strike="noStrike">
                <a:solidFill>
                  <a:srgbClr val="ededed"/>
                </a:solidFill>
                <a:latin typeface="Gulim"/>
              </a:rPr>
              <a:t>ppt</a:t>
            </a:r>
            <a:r>
              <a:rPr b="1" lang="ko-KR" sz="1400" spc="-1" strike="noStrike">
                <a:solidFill>
                  <a:srgbClr val="ededed"/>
                </a:solidFill>
                <a:latin typeface="Gulim"/>
              </a:rPr>
              <a:t>图表，动态</a:t>
            </a:r>
            <a:r>
              <a:rPr b="1" lang="ko-KR" sz="1400" spc="-1" strike="noStrike">
                <a:solidFill>
                  <a:srgbClr val="ededed"/>
                </a:solidFill>
                <a:latin typeface="Gulim"/>
              </a:rPr>
              <a:t>ppt</a:t>
            </a:r>
            <a:r>
              <a:rPr b="1" lang="ko-KR" sz="1400" spc="-1" strike="noStrike">
                <a:solidFill>
                  <a:srgbClr val="ededed"/>
                </a:solidFill>
                <a:latin typeface="Gulim"/>
              </a:rPr>
              <a:t>模板大全，幻灯片模板，</a:t>
            </a:r>
            <a:r>
              <a:rPr b="1" lang="ko-KR" sz="1400" spc="-1" strike="noStrike">
                <a:solidFill>
                  <a:srgbClr val="ededed"/>
                </a:solidFill>
                <a:latin typeface="Gulim"/>
              </a:rPr>
              <a:t>Powe</a:t>
            </a:r>
            <a:r>
              <a:rPr b="1" lang="ko-KR" sz="1400" spc="-1" strike="noStrike">
                <a:solidFill>
                  <a:srgbClr val="e8eff7"/>
                </a:solidFill>
                <a:latin typeface="Gulim"/>
              </a:rPr>
              <a:t>rPoint</a:t>
            </a:r>
            <a:r>
              <a:rPr b="1" lang="ko-KR" sz="1400" spc="-1" strike="noStrike">
                <a:solidFill>
                  <a:srgbClr val="e8eff7"/>
                </a:solidFill>
                <a:latin typeface="Gulim"/>
              </a:rPr>
              <a:t>模板等各类</a:t>
            </a:r>
            <a:r>
              <a:rPr b="1" lang="ko-KR" sz="1400" spc="-1" strike="noStrike">
                <a:solidFill>
                  <a:srgbClr val="e8eff7"/>
                </a:solidFill>
                <a:latin typeface="Gulim"/>
              </a:rPr>
              <a:t>ppt</a:t>
            </a:r>
            <a:r>
              <a:rPr b="1" lang="ko-KR" sz="1400" spc="-1" strike="noStrike">
                <a:solidFill>
                  <a:srgbClr val="e8eff7"/>
                </a:solidFill>
                <a:latin typeface="Gulim"/>
              </a:rPr>
              <a:t>模板免费下载。</a:t>
            </a:r>
            <a:r>
              <a:rPr b="1" lang="zh-CN" sz="1400" spc="-1" strike="noStrike">
                <a:solidFill>
                  <a:srgbClr val="e8eff7"/>
                </a:solidFill>
                <a:latin typeface="Gulim"/>
              </a:rPr>
              <a:t>助</a:t>
            </a:r>
            <a:r>
              <a:rPr b="1" lang="ko-KR" sz="1400" spc="-1" strike="noStrike">
                <a:solidFill>
                  <a:srgbClr val="e8eff7"/>
                </a:solidFill>
                <a:latin typeface="Gulim"/>
              </a:rPr>
              <a:t>您轻松制作出精美</a:t>
            </a:r>
            <a:r>
              <a:rPr b="1" lang="ko-KR" sz="1400" spc="-1" strike="noStrike">
                <a:solidFill>
                  <a:srgbClr val="e8eff7"/>
                </a:solidFill>
                <a:latin typeface="Gulim"/>
              </a:rPr>
              <a:t>PPT</a:t>
            </a:r>
            <a:r>
              <a:rPr b="1" lang="ko-KR" sz="1400" spc="-1" strike="noStrike">
                <a:solidFill>
                  <a:srgbClr val="e8eff7"/>
                </a:solidFill>
                <a:latin typeface="Gulim"/>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ededed"/>
                </a:solidFill>
                <a:latin typeface="Gulim"/>
              </a:rPr>
              <a:t>特别说明：</a:t>
            </a: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该</a:t>
            </a:r>
            <a:r>
              <a:rPr b="1" lang="zh-CN" sz="1400" spc="-1" strike="noStrike">
                <a:solidFill>
                  <a:srgbClr val="ededed"/>
                </a:solidFill>
                <a:latin typeface="Gulim"/>
              </a:rPr>
              <a:t>PPT</a:t>
            </a:r>
            <a:r>
              <a:rPr b="1" lang="zh-CN" sz="1400" spc="-1" strike="noStrike">
                <a:solidFill>
                  <a:srgbClr val="ededed"/>
                </a:solidFill>
                <a:latin typeface="Gulim"/>
              </a:rPr>
              <a:t>模板收集于网络，</a:t>
            </a:r>
            <a:r>
              <a:rPr b="1" lang="ko-KR" sz="1400" spc="-1" strike="noStrike">
                <a:solidFill>
                  <a:srgbClr val="ededed"/>
                </a:solidFill>
                <a:latin typeface="Gulim"/>
              </a:rPr>
              <a:t>仅供学习与参考，请勿用于商业用途。否则产生的一切后果将由您自己承担！如有侵犯您的版权，请及时与我们联系。</a:t>
            </a: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ulim"/>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栏目推荐</a:t>
            </a:r>
            <a:r>
              <a:rPr b="1" lang="ko-KR" sz="1400" spc="-1" strike="noStrike">
                <a:solidFill>
                  <a:srgbClr val="ededed"/>
                </a:solidFill>
                <a:latin typeface="Gulim"/>
              </a:rPr>
              <a:t>：</a:t>
            </a:r>
            <a:endParaRPr b="0" lang="en-US" sz="14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ko-KR"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dongtai/</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7"/>
              </a:rPr>
              <a:t> </a:t>
            </a:r>
            <a:r>
              <a:rPr b="0" lang="ko-KR" sz="1200" spc="-1" strike="noStrike" u="sng">
                <a:solidFill>
                  <a:srgbClr val="0000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chuangyi/</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00ff"/>
                </a:solidFill>
                <a:uFillTx/>
                <a:latin typeface="Calibri"/>
                <a:ea typeface="宋体"/>
                <a:hlinkClick r:id="rId9"/>
              </a:rPr>
              <a:t>答辩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ko-KR" sz="1200" spc="-1" strike="noStrike" u="sng">
                <a:solidFill>
                  <a:srgbClr val="0000ff"/>
                </a:solidFill>
                <a:uFillTx/>
                <a:latin typeface="Calibri"/>
                <a:ea typeface="宋体"/>
                <a:hlinkClick r:id="rId10"/>
              </a:rPr>
              <a:t>月总结ppt模板</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gongzuo/</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00ff"/>
                </a:solidFill>
                <a:uFillTx/>
                <a:latin typeface="Calibri"/>
                <a:ea typeface="宋体"/>
                <a:hlinkClick r:id="rId11"/>
              </a:rPr>
              <a:t>精美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ko-KR" sz="1200" spc="-1" strike="noStrike" u="sng">
                <a:solidFill>
                  <a:srgbClr val="0000ff"/>
                </a:solidFill>
                <a:uFillTx/>
                <a:latin typeface="Calibri"/>
                <a:ea typeface="宋体"/>
                <a:hlinkClick r:id="rId12"/>
              </a:rPr>
              <a:t>说课ppt模板</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kejian/</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00ff"/>
                </a:solidFill>
                <a:uFillTx/>
                <a:latin typeface="Calibri"/>
                <a:ea typeface="宋体"/>
                <a:hlinkClick r:id="rId13"/>
              </a:rPr>
              <a:t>企业介绍ppt模板</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ko-KR" sz="1200" spc="-1" strike="noStrike" u="sng">
                <a:solidFill>
                  <a:srgbClr val="0000ff"/>
                </a:solidFill>
                <a:uFillTx/>
                <a:latin typeface="Calibri"/>
                <a:ea typeface="宋体"/>
                <a:hlinkClick r:id="rId14"/>
              </a:rPr>
              <a:t>商务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shangwu/</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00ff"/>
                </a:solidFill>
                <a:uFillTx/>
                <a:latin typeface="Calibri"/>
                <a:ea typeface="宋体"/>
                <a:hlinkClick r:id="rId15"/>
              </a:rPr>
              <a:t>市场营销策划ppt</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ko-KR" sz="1200" spc="-1" strike="noStrike" u="sng">
                <a:solidFill>
                  <a:srgbClr val="0000ff"/>
                </a:solidFill>
                <a:uFillTx/>
                <a:latin typeface="Calibri"/>
                <a:ea typeface="宋体"/>
                <a:hlinkClick r:id="rId16"/>
              </a:rPr>
              <a:t>ppt素材图片</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sucai/</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00ff"/>
                </a:solidFill>
                <a:uFillTx/>
                <a:latin typeface="Calibri"/>
                <a:ea typeface="宋体"/>
                <a:hlinkClick r:id="rId17"/>
              </a:rPr>
              <a:t>ppt图表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956"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ulim"/>
              </a:rPr>
              <a:t>www.eeppt.com</a:t>
            </a:r>
            <a:endParaRPr b="0" lang="en-US" sz="1400" spc="-1" strike="noStrike">
              <a:solidFill>
                <a:srgbClr val="000000"/>
              </a:solidFill>
              <a:latin typeface="Gulim"/>
            </a:endParaRPr>
          </a:p>
        </p:txBody>
      </p:sp>
      <p:sp>
        <p:nvSpPr>
          <p:cNvPr id="4" name="PlaceHolder 3"/>
          <p:cNvSpPr>
            <a:spLocks noGrp="1"/>
          </p:cNvSpPr>
          <p:nvPr>
            <p:ph type="sldNum" idx="12"/>
          </p:nvPr>
        </p:nvSpPr>
        <p:spPr/>
        <p:txBody>
          <a:bodyPr/>
          <a:p>
            <a:fld id="{02A7D913-8034-4088-B47C-55166F82FF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7" name="Rectangle 56"/>
          <p:cNvSpPr/>
          <p:nvPr/>
        </p:nvSpPr>
        <p:spPr>
          <a:xfrm>
            <a:off x="2195640" y="4941720"/>
            <a:ext cx="6516720" cy="749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ea typeface="HY헤드라인M"/>
              </a:rPr>
              <a:t>THANK YOU</a:t>
            </a:r>
            <a:endParaRPr b="0" lang="en-US" sz="6000" spc="-1" strike="noStrike">
              <a:solidFill>
                <a:srgbClr val="000000"/>
              </a:solidFill>
              <a:latin typeface="Gulim"/>
            </a:endParaRPr>
          </a:p>
        </p:txBody>
      </p:sp>
      <p:sp>
        <p:nvSpPr>
          <p:cNvPr id="958" name="Rectangle 14"/>
          <p:cNvSpPr/>
          <p:nvPr/>
        </p:nvSpPr>
        <p:spPr>
          <a:xfrm>
            <a:off x="2195640" y="5661000"/>
            <a:ext cx="6516720" cy="509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9" name="TextBox 5"/>
          <p:cNvSpPr/>
          <p:nvPr/>
        </p:nvSpPr>
        <p:spPr>
          <a:xfrm>
            <a:off x="2519280" y="873000"/>
            <a:ext cx="900360" cy="344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5500" spc="-1" strike="noStrike">
                <a:solidFill>
                  <a:srgbClr val="262626"/>
                </a:solidFill>
                <a:latin typeface="GungsuhChe"/>
                <a:ea typeface="GungsuhChe"/>
              </a:rPr>
              <a:t>謹</a:t>
            </a:r>
            <a:endParaRPr b="0" lang="en-US" sz="55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5500" spc="-1" strike="noStrike">
                <a:solidFill>
                  <a:srgbClr val="262626"/>
                </a:solidFill>
                <a:latin typeface="GungsuhChe"/>
                <a:ea typeface="GungsuhChe"/>
              </a:rPr>
              <a:t>賀</a:t>
            </a:r>
            <a:endParaRPr b="0" lang="en-US" sz="55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5500" spc="-1" strike="noStrike">
                <a:solidFill>
                  <a:srgbClr val="262626"/>
                </a:solidFill>
                <a:latin typeface="GungsuhChe"/>
                <a:ea typeface="GungsuhChe"/>
              </a:rPr>
              <a:t>新</a:t>
            </a:r>
            <a:endParaRPr b="0" lang="en-US" sz="55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5500" spc="-1" strike="noStrike">
                <a:solidFill>
                  <a:srgbClr val="262626"/>
                </a:solidFill>
                <a:latin typeface="GungsuhChe"/>
                <a:ea typeface="GungsuhChe"/>
              </a:rPr>
              <a:t>年</a:t>
            </a:r>
            <a:endParaRPr b="0" lang="en-US" sz="55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28760" y="18864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itle Style</a:t>
            </a:r>
            <a:endParaRPr b="1" lang="en-US" sz="3200" spc="-1" strike="noStrike">
              <a:solidFill>
                <a:srgbClr val="ffffff"/>
              </a:solidFill>
              <a:latin typeface="Times New Roman"/>
            </a:endParaRPr>
          </a:p>
        </p:txBody>
      </p:sp>
      <p:sp>
        <p:nvSpPr>
          <p:cNvPr id="219" name=""/>
          <p:cNvSpPr txBox="1"/>
          <p:nvPr/>
        </p:nvSpPr>
        <p:spPr>
          <a:xfrm>
            <a:off x="684000" y="1413000"/>
            <a:ext cx="8002440" cy="4525920"/>
          </a:xfrm>
          <a:prstGeom prst="rect">
            <a:avLst/>
          </a:prstGeom>
          <a:noFill/>
          <a:ln w="0">
            <a:noFill/>
          </a:ln>
        </p:spPr>
        <p:txBody>
          <a:bodyPr lIns="90000" rIns="90000" tIns="46800" bIns="46800" anchor="t">
            <a:norm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343080">
              <a:lnSpc>
                <a:spcPct val="8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0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sp>
        <p:nvSpPr>
          <p:cNvPr id="221" name=""/>
          <p:cNvSpPr txBox="1"/>
          <p:nvPr/>
        </p:nvSpPr>
        <p:spPr>
          <a:xfrm>
            <a:off x="457200" y="1268280"/>
            <a:ext cx="8229600" cy="4525920"/>
          </a:xfrm>
          <a:prstGeom prst="rect">
            <a:avLst/>
          </a:prstGeom>
          <a:noFill/>
          <a:ln w="0">
            <a:noFill/>
          </a:ln>
        </p:spPr>
        <p:txBody>
          <a:bodyPr lIns="90000" rIns="90000" tIns="46800" bIns="46800" anchor="t">
            <a:normAutofit/>
          </a:bodyPr>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MS PGothic"/>
              </a:rPr>
              <a:t>Valuable Aids To Creativity!</a:t>
            </a:r>
            <a:endParaRPr b="0" lang="en-US" sz="2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culpa qui officia deserunt mollit anim id est laborum.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Stylish templates can be a valuable aid to creative professionals.</a:t>
            </a:r>
            <a:endParaRPr b="0" lang="en-US" sz="1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Each work is featured with simplicity but supreme beauty.</a:t>
            </a:r>
            <a:endParaRPr b="0" lang="en-US" sz="1400" spc="-1" strike="noStrike">
              <a:solidFill>
                <a:srgbClr val="000000"/>
              </a:solidFill>
              <a:latin typeface="Gulim"/>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404640"/>
            <a:ext cx="9144000" cy="33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224" name="AutoShape 864"/>
          <p:cNvGrpSpPr/>
          <p:nvPr/>
        </p:nvGrpSpPr>
        <p:grpSpPr>
          <a:xfrm>
            <a:off x="1620720" y="1268280"/>
            <a:ext cx="6267600" cy="1114560"/>
            <a:chOff x="1620720" y="1268280"/>
            <a:chExt cx="6267600" cy="1114560"/>
          </a:xfrm>
        </p:grpSpPr>
        <p:pic>
          <p:nvPicPr>
            <p:cNvPr id="225" name="AutoShape 864" descr=""/>
            <p:cNvPicPr/>
            <p:nvPr/>
          </p:nvPicPr>
          <p:blipFill>
            <a:blip r:embed="rId2"/>
            <a:stretch/>
          </p:blipFill>
          <p:spPr>
            <a:xfrm>
              <a:off x="1620720" y="1268280"/>
              <a:ext cx="6267600" cy="1114560"/>
            </a:xfrm>
            <a:prstGeom prst="rect">
              <a:avLst/>
            </a:prstGeom>
            <a:ln w="0">
              <a:noFill/>
            </a:ln>
          </p:spPr>
        </p:pic>
        <p:sp>
          <p:nvSpPr>
            <p:cNvPr id="226" name=""/>
            <p:cNvSpPr/>
            <p:nvPr/>
          </p:nvSpPr>
          <p:spPr>
            <a:xfrm>
              <a:off x="1822320" y="1457280"/>
              <a:ext cx="5699160" cy="5554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27" name="Group 48"/>
          <p:cNvGrpSpPr/>
          <p:nvPr/>
        </p:nvGrpSpPr>
        <p:grpSpPr>
          <a:xfrm>
            <a:off x="2411280" y="1309680"/>
            <a:ext cx="5144760" cy="931680"/>
            <a:chOff x="2411280" y="1309680"/>
            <a:chExt cx="5144760" cy="931680"/>
          </a:xfrm>
        </p:grpSpPr>
        <p:pic>
          <p:nvPicPr>
            <p:cNvPr id="228" name="Picture 49" descr="그림자"/>
            <p:cNvPicPr/>
            <p:nvPr/>
          </p:nvPicPr>
          <p:blipFill>
            <a:blip r:embed="rId3">
              <a:grayscl/>
            </a:blip>
            <a:stretch/>
          </p:blipFill>
          <p:spPr>
            <a:xfrm>
              <a:off x="2411280" y="1309680"/>
              <a:ext cx="5144760" cy="931680"/>
            </a:xfrm>
            <a:prstGeom prst="rect">
              <a:avLst/>
            </a:prstGeom>
            <a:ln w="0">
              <a:noFill/>
            </a:ln>
          </p:spPr>
        </p:pic>
        <p:sp>
          <p:nvSpPr>
            <p:cNvPr id="229" name="AutoShape 50"/>
            <p:cNvSpPr/>
            <p:nvPr/>
          </p:nvSpPr>
          <p:spPr>
            <a:xfrm>
              <a:off x="2545560" y="1449000"/>
              <a:ext cx="4867200" cy="559800"/>
            </a:xfrm>
            <a:prstGeom prst="roundRect">
              <a:avLst>
                <a:gd name="adj" fmla="val 50000"/>
              </a:avLst>
            </a:prstGeom>
            <a:gradFill rotWithShape="0">
              <a:gsLst>
                <a:gs pos="0">
                  <a:srgbClr val="ddd9c3"/>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30" name="AutoShape 51"/>
            <p:cNvSpPr/>
            <p:nvPr/>
          </p:nvSpPr>
          <p:spPr>
            <a:xfrm>
              <a:off x="2704320" y="1479240"/>
              <a:ext cx="4556880" cy="2628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896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31" name="TextBox 47"/>
          <p:cNvSpPr/>
          <p:nvPr/>
        </p:nvSpPr>
        <p:spPr>
          <a:xfrm>
            <a:off x="1996920" y="13669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1</a:t>
            </a:r>
            <a:endParaRPr b="0" lang="en-US" sz="4000" spc="-1" strike="noStrike">
              <a:solidFill>
                <a:srgbClr val="000000"/>
              </a:solidFill>
              <a:latin typeface="Gulim"/>
            </a:endParaRPr>
          </a:p>
        </p:txBody>
      </p:sp>
      <p:grpSp>
        <p:nvGrpSpPr>
          <p:cNvPr id="232" name="그룹 73"/>
          <p:cNvGrpSpPr/>
          <p:nvPr/>
        </p:nvGrpSpPr>
        <p:grpSpPr>
          <a:xfrm>
            <a:off x="1623960" y="2165400"/>
            <a:ext cx="6261120" cy="1114200"/>
            <a:chOff x="1623960" y="2165400"/>
            <a:chExt cx="6261120" cy="1114200"/>
          </a:xfrm>
        </p:grpSpPr>
        <p:grpSp>
          <p:nvGrpSpPr>
            <p:cNvPr id="233" name="AutoShape 864"/>
            <p:cNvGrpSpPr/>
            <p:nvPr/>
          </p:nvGrpSpPr>
          <p:grpSpPr>
            <a:xfrm>
              <a:off x="1623960" y="2165400"/>
              <a:ext cx="6261120" cy="1114200"/>
              <a:chOff x="1623960" y="2165400"/>
              <a:chExt cx="6261120" cy="1114200"/>
            </a:xfrm>
          </p:grpSpPr>
          <p:pic>
            <p:nvPicPr>
              <p:cNvPr id="234" name="AutoShape 864" descr=""/>
              <p:cNvPicPr/>
              <p:nvPr/>
            </p:nvPicPr>
            <p:blipFill>
              <a:blip r:embed="rId4"/>
              <a:stretch/>
            </p:blipFill>
            <p:spPr>
              <a:xfrm>
                <a:off x="1623960" y="2165400"/>
                <a:ext cx="6261120" cy="1114200"/>
              </a:xfrm>
              <a:prstGeom prst="rect">
                <a:avLst/>
              </a:prstGeom>
              <a:ln w="0">
                <a:noFill/>
              </a:ln>
            </p:spPr>
          </p:pic>
          <p:sp>
            <p:nvSpPr>
              <p:cNvPr id="235" name=""/>
              <p:cNvSpPr/>
              <p:nvPr/>
            </p:nvSpPr>
            <p:spPr>
              <a:xfrm>
                <a:off x="1823760" y="2355840"/>
                <a:ext cx="5695200" cy="5540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36" name="Group 48"/>
            <p:cNvGrpSpPr/>
            <p:nvPr/>
          </p:nvGrpSpPr>
          <p:grpSpPr>
            <a:xfrm>
              <a:off x="2451600" y="2207160"/>
              <a:ext cx="5139000" cy="929520"/>
              <a:chOff x="2451600" y="2207160"/>
              <a:chExt cx="5139000" cy="929520"/>
            </a:xfrm>
          </p:grpSpPr>
          <p:pic>
            <p:nvPicPr>
              <p:cNvPr id="237" name="Picture 49" descr="그림자"/>
              <p:cNvPicPr/>
              <p:nvPr/>
            </p:nvPicPr>
            <p:blipFill>
              <a:blip r:embed="rId5">
                <a:grayscl/>
              </a:blip>
              <a:stretch/>
            </p:blipFill>
            <p:spPr>
              <a:xfrm>
                <a:off x="2451600" y="2207160"/>
                <a:ext cx="5139000" cy="929520"/>
              </a:xfrm>
              <a:prstGeom prst="rect">
                <a:avLst/>
              </a:prstGeom>
              <a:ln w="0">
                <a:noFill/>
              </a:ln>
            </p:spPr>
          </p:pic>
          <p:sp>
            <p:nvSpPr>
              <p:cNvPr id="238" name="AutoShape 50"/>
              <p:cNvSpPr/>
              <p:nvPr/>
            </p:nvSpPr>
            <p:spPr>
              <a:xfrm>
                <a:off x="2585880" y="2352600"/>
                <a:ext cx="4861800" cy="558720"/>
              </a:xfrm>
              <a:prstGeom prst="roundRect">
                <a:avLst>
                  <a:gd name="adj" fmla="val 50000"/>
                </a:avLst>
              </a:prstGeom>
              <a:gradFill rotWithShape="0">
                <a:gsLst>
                  <a:gs pos="0">
                    <a:srgbClr val="ddd9c3"/>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39" name="AutoShape 51"/>
              <p:cNvSpPr/>
              <p:nvPr/>
            </p:nvSpPr>
            <p:spPr>
              <a:xfrm>
                <a:off x="2744280" y="2376360"/>
                <a:ext cx="4551840" cy="2620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896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40" name="TextBox 53"/>
            <p:cNvSpPr/>
            <p:nvPr/>
          </p:nvSpPr>
          <p:spPr>
            <a:xfrm>
              <a:off x="1998720" y="226404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2</a:t>
              </a:r>
              <a:endParaRPr b="0" lang="en-US" sz="4000" spc="-1" strike="noStrike">
                <a:solidFill>
                  <a:srgbClr val="000000"/>
                </a:solidFill>
                <a:latin typeface="Gulim"/>
              </a:endParaRPr>
            </a:p>
          </p:txBody>
        </p:sp>
      </p:grpSp>
      <p:grpSp>
        <p:nvGrpSpPr>
          <p:cNvPr id="241" name="그룹 74"/>
          <p:cNvGrpSpPr/>
          <p:nvPr/>
        </p:nvGrpSpPr>
        <p:grpSpPr>
          <a:xfrm>
            <a:off x="1623960" y="3060720"/>
            <a:ext cx="6261120" cy="1116000"/>
            <a:chOff x="1623960" y="3060720"/>
            <a:chExt cx="6261120" cy="1116000"/>
          </a:xfrm>
        </p:grpSpPr>
        <p:grpSp>
          <p:nvGrpSpPr>
            <p:cNvPr id="242" name="AutoShape 864"/>
            <p:cNvGrpSpPr/>
            <p:nvPr/>
          </p:nvGrpSpPr>
          <p:grpSpPr>
            <a:xfrm>
              <a:off x="1623960" y="3060720"/>
              <a:ext cx="6261120" cy="1116000"/>
              <a:chOff x="1623960" y="3060720"/>
              <a:chExt cx="6261120" cy="1116000"/>
            </a:xfrm>
          </p:grpSpPr>
          <p:pic>
            <p:nvPicPr>
              <p:cNvPr id="243" name="AutoShape 864" descr=""/>
              <p:cNvPicPr/>
              <p:nvPr/>
            </p:nvPicPr>
            <p:blipFill>
              <a:blip r:embed="rId6"/>
              <a:stretch/>
            </p:blipFill>
            <p:spPr>
              <a:xfrm>
                <a:off x="1623960" y="3060720"/>
                <a:ext cx="6261120" cy="1116000"/>
              </a:xfrm>
              <a:prstGeom prst="rect">
                <a:avLst/>
              </a:prstGeom>
              <a:ln w="0">
                <a:noFill/>
              </a:ln>
            </p:spPr>
          </p:pic>
          <p:sp>
            <p:nvSpPr>
              <p:cNvPr id="244" name=""/>
              <p:cNvSpPr/>
              <p:nvPr/>
            </p:nvSpPr>
            <p:spPr>
              <a:xfrm>
                <a:off x="1823760" y="3249720"/>
                <a:ext cx="5695200" cy="554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45" name="Group 48"/>
            <p:cNvGrpSpPr/>
            <p:nvPr/>
          </p:nvGrpSpPr>
          <p:grpSpPr>
            <a:xfrm>
              <a:off x="2451600" y="3101040"/>
              <a:ext cx="5139000" cy="930600"/>
              <a:chOff x="2451600" y="3101040"/>
              <a:chExt cx="5139000" cy="930600"/>
            </a:xfrm>
          </p:grpSpPr>
          <p:pic>
            <p:nvPicPr>
              <p:cNvPr id="246" name="Picture 49" descr="그림자"/>
              <p:cNvPicPr/>
              <p:nvPr/>
            </p:nvPicPr>
            <p:blipFill>
              <a:blip r:embed="rId7">
                <a:grayscl/>
              </a:blip>
              <a:stretch/>
            </p:blipFill>
            <p:spPr>
              <a:xfrm>
                <a:off x="2451600" y="3101040"/>
                <a:ext cx="5139000" cy="930600"/>
              </a:xfrm>
              <a:prstGeom prst="rect">
                <a:avLst/>
              </a:prstGeom>
              <a:ln w="0">
                <a:noFill/>
              </a:ln>
            </p:spPr>
          </p:pic>
          <p:sp>
            <p:nvSpPr>
              <p:cNvPr id="247" name="AutoShape 50"/>
              <p:cNvSpPr/>
              <p:nvPr/>
            </p:nvSpPr>
            <p:spPr>
              <a:xfrm>
                <a:off x="2585880" y="3240000"/>
                <a:ext cx="4861800" cy="559440"/>
              </a:xfrm>
              <a:prstGeom prst="roundRect">
                <a:avLst>
                  <a:gd name="adj" fmla="val 50000"/>
                </a:avLst>
              </a:prstGeom>
              <a:gradFill rotWithShape="0">
                <a:gsLst>
                  <a:gs pos="0">
                    <a:srgbClr val="ddd9c3"/>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48" name="AutoShape 51"/>
              <p:cNvSpPr/>
              <p:nvPr/>
            </p:nvSpPr>
            <p:spPr>
              <a:xfrm>
                <a:off x="2744280" y="3270600"/>
                <a:ext cx="4551840" cy="26244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932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49" name="TextBox 59"/>
            <p:cNvSpPr/>
            <p:nvPr/>
          </p:nvSpPr>
          <p:spPr>
            <a:xfrm>
              <a:off x="1998720" y="315828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3</a:t>
              </a:r>
              <a:endParaRPr b="0" lang="en-US" sz="4000" spc="-1" strike="noStrike">
                <a:solidFill>
                  <a:srgbClr val="000000"/>
                </a:solidFill>
                <a:latin typeface="Gulim"/>
              </a:endParaRPr>
            </a:p>
          </p:txBody>
        </p:sp>
      </p:grpSp>
      <p:grpSp>
        <p:nvGrpSpPr>
          <p:cNvPr id="250" name="그룹 76"/>
          <p:cNvGrpSpPr/>
          <p:nvPr/>
        </p:nvGrpSpPr>
        <p:grpSpPr>
          <a:xfrm>
            <a:off x="1623960" y="3957480"/>
            <a:ext cx="6261120" cy="1114560"/>
            <a:chOff x="1623960" y="3957480"/>
            <a:chExt cx="6261120" cy="1114560"/>
          </a:xfrm>
        </p:grpSpPr>
        <p:grpSp>
          <p:nvGrpSpPr>
            <p:cNvPr id="251" name="AutoShape 864"/>
            <p:cNvGrpSpPr/>
            <p:nvPr/>
          </p:nvGrpSpPr>
          <p:grpSpPr>
            <a:xfrm>
              <a:off x="1623960" y="3957480"/>
              <a:ext cx="6261120" cy="1114560"/>
              <a:chOff x="1623960" y="3957480"/>
              <a:chExt cx="6261120" cy="1114560"/>
            </a:xfrm>
          </p:grpSpPr>
          <p:pic>
            <p:nvPicPr>
              <p:cNvPr id="252" name="AutoShape 864" descr=""/>
              <p:cNvPicPr/>
              <p:nvPr/>
            </p:nvPicPr>
            <p:blipFill>
              <a:blip r:embed="rId8"/>
              <a:stretch/>
            </p:blipFill>
            <p:spPr>
              <a:xfrm>
                <a:off x="1623960" y="3957480"/>
                <a:ext cx="6261120" cy="1114560"/>
              </a:xfrm>
              <a:prstGeom prst="rect">
                <a:avLst/>
              </a:prstGeom>
              <a:ln w="0">
                <a:noFill/>
              </a:ln>
            </p:spPr>
          </p:pic>
          <p:sp>
            <p:nvSpPr>
              <p:cNvPr id="253" name=""/>
              <p:cNvSpPr/>
              <p:nvPr/>
            </p:nvSpPr>
            <p:spPr>
              <a:xfrm>
                <a:off x="1823400" y="4146120"/>
                <a:ext cx="5695560" cy="5533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54" name="Group 48"/>
            <p:cNvGrpSpPr/>
            <p:nvPr/>
          </p:nvGrpSpPr>
          <p:grpSpPr>
            <a:xfrm>
              <a:off x="2451600" y="3997800"/>
              <a:ext cx="5139000" cy="928080"/>
              <a:chOff x="2451600" y="3997800"/>
              <a:chExt cx="5139000" cy="928080"/>
            </a:xfrm>
          </p:grpSpPr>
          <p:pic>
            <p:nvPicPr>
              <p:cNvPr id="255" name="Picture 49" descr="그림자"/>
              <p:cNvPicPr/>
              <p:nvPr/>
            </p:nvPicPr>
            <p:blipFill>
              <a:blip r:embed="rId9">
                <a:grayscl/>
              </a:blip>
              <a:stretch/>
            </p:blipFill>
            <p:spPr>
              <a:xfrm>
                <a:off x="2451600" y="3997800"/>
                <a:ext cx="5139000" cy="928080"/>
              </a:xfrm>
              <a:prstGeom prst="rect">
                <a:avLst/>
              </a:prstGeom>
              <a:ln w="0">
                <a:noFill/>
              </a:ln>
            </p:spPr>
          </p:pic>
          <p:sp>
            <p:nvSpPr>
              <p:cNvPr id="256" name="AutoShape 50"/>
              <p:cNvSpPr/>
              <p:nvPr/>
            </p:nvSpPr>
            <p:spPr>
              <a:xfrm>
                <a:off x="2585880" y="4136400"/>
                <a:ext cx="4861800" cy="557640"/>
              </a:xfrm>
              <a:prstGeom prst="roundRect">
                <a:avLst>
                  <a:gd name="adj" fmla="val 50000"/>
                </a:avLst>
              </a:prstGeom>
              <a:gradFill rotWithShape="0">
                <a:gsLst>
                  <a:gs pos="0">
                    <a:srgbClr val="ddd9c3"/>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57" name="AutoShape 51"/>
              <p:cNvSpPr/>
              <p:nvPr/>
            </p:nvSpPr>
            <p:spPr>
              <a:xfrm>
                <a:off x="2744280" y="4166640"/>
                <a:ext cx="4551840" cy="2617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86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58" name="TextBox 65"/>
            <p:cNvSpPr/>
            <p:nvPr/>
          </p:nvSpPr>
          <p:spPr>
            <a:xfrm>
              <a:off x="1998720" y="405504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4</a:t>
              </a:r>
              <a:endParaRPr b="0" lang="en-US" sz="4000" spc="-1" strike="noStrike">
                <a:solidFill>
                  <a:srgbClr val="000000"/>
                </a:solidFill>
                <a:latin typeface="Gulim"/>
              </a:endParaRPr>
            </a:p>
          </p:txBody>
        </p:sp>
      </p:grpSp>
      <p:grpSp>
        <p:nvGrpSpPr>
          <p:cNvPr id="259" name="그룹 77"/>
          <p:cNvGrpSpPr/>
          <p:nvPr/>
        </p:nvGrpSpPr>
        <p:grpSpPr>
          <a:xfrm>
            <a:off x="1623960" y="4853160"/>
            <a:ext cx="6261120" cy="1109520"/>
            <a:chOff x="1623960" y="4853160"/>
            <a:chExt cx="6261120" cy="1109520"/>
          </a:xfrm>
        </p:grpSpPr>
        <p:grpSp>
          <p:nvGrpSpPr>
            <p:cNvPr id="260" name="AutoShape 864"/>
            <p:cNvGrpSpPr/>
            <p:nvPr/>
          </p:nvGrpSpPr>
          <p:grpSpPr>
            <a:xfrm>
              <a:off x="1623960" y="4853160"/>
              <a:ext cx="6261120" cy="1109520"/>
              <a:chOff x="1623960" y="4853160"/>
              <a:chExt cx="6261120" cy="1109520"/>
            </a:xfrm>
          </p:grpSpPr>
          <p:pic>
            <p:nvPicPr>
              <p:cNvPr id="261" name="AutoShape 864" descr=""/>
              <p:cNvPicPr/>
              <p:nvPr/>
            </p:nvPicPr>
            <p:blipFill>
              <a:blip r:embed="rId10"/>
              <a:stretch/>
            </p:blipFill>
            <p:spPr>
              <a:xfrm>
                <a:off x="1623960" y="4853160"/>
                <a:ext cx="6261120" cy="1109520"/>
              </a:xfrm>
              <a:prstGeom prst="rect">
                <a:avLst/>
              </a:prstGeom>
              <a:ln w="0">
                <a:noFill/>
              </a:ln>
            </p:spPr>
          </p:pic>
          <p:sp>
            <p:nvSpPr>
              <p:cNvPr id="262" name=""/>
              <p:cNvSpPr/>
              <p:nvPr/>
            </p:nvSpPr>
            <p:spPr>
              <a:xfrm>
                <a:off x="1823760" y="5039640"/>
                <a:ext cx="5695200" cy="551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63" name="Group 48"/>
            <p:cNvGrpSpPr/>
            <p:nvPr/>
          </p:nvGrpSpPr>
          <p:grpSpPr>
            <a:xfrm>
              <a:off x="2451600" y="4891680"/>
              <a:ext cx="5139000" cy="925200"/>
              <a:chOff x="2451600" y="4891680"/>
              <a:chExt cx="5139000" cy="925200"/>
            </a:xfrm>
          </p:grpSpPr>
          <p:pic>
            <p:nvPicPr>
              <p:cNvPr id="264" name="Picture 49" descr="그림자"/>
              <p:cNvPicPr/>
              <p:nvPr/>
            </p:nvPicPr>
            <p:blipFill>
              <a:blip r:embed="rId11">
                <a:grayscl/>
              </a:blip>
              <a:stretch/>
            </p:blipFill>
            <p:spPr>
              <a:xfrm>
                <a:off x="2451600" y="4891680"/>
                <a:ext cx="5139000" cy="925200"/>
              </a:xfrm>
              <a:prstGeom prst="rect">
                <a:avLst/>
              </a:prstGeom>
              <a:ln w="0">
                <a:noFill/>
              </a:ln>
            </p:spPr>
          </p:pic>
          <p:sp>
            <p:nvSpPr>
              <p:cNvPr id="265" name="AutoShape 50"/>
              <p:cNvSpPr/>
              <p:nvPr/>
            </p:nvSpPr>
            <p:spPr>
              <a:xfrm>
                <a:off x="2585880" y="5029920"/>
                <a:ext cx="4861800" cy="556200"/>
              </a:xfrm>
              <a:prstGeom prst="roundRect">
                <a:avLst>
                  <a:gd name="adj" fmla="val 50000"/>
                </a:avLst>
              </a:prstGeom>
              <a:gradFill rotWithShape="0">
                <a:gsLst>
                  <a:gs pos="0">
                    <a:srgbClr val="ddd9c3"/>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66" name="AutoShape 51"/>
              <p:cNvSpPr/>
              <p:nvPr/>
            </p:nvSpPr>
            <p:spPr>
              <a:xfrm>
                <a:off x="2744280" y="5060160"/>
                <a:ext cx="4551840" cy="2610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88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67" name="TextBox 71"/>
            <p:cNvSpPr/>
            <p:nvPr/>
          </p:nvSpPr>
          <p:spPr>
            <a:xfrm>
              <a:off x="1998720" y="494856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5</a:t>
              </a:r>
              <a:endParaRPr b="0" lang="en-US" sz="40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28760" y="152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itle Style</a:t>
            </a:r>
            <a:endParaRPr b="1" lang="en-US" sz="3200" spc="-1" strike="noStrike">
              <a:solidFill>
                <a:srgbClr val="ffffff"/>
              </a:solidFill>
              <a:latin typeface="Times New Roman"/>
            </a:endParaRPr>
          </a:p>
        </p:txBody>
      </p:sp>
      <p:sp>
        <p:nvSpPr>
          <p:cNvPr id="269" name=""/>
          <p:cNvSpPr txBox="1"/>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grpSp>
        <p:nvGrpSpPr>
          <p:cNvPr id="270" name="그룹 3"/>
          <p:cNvGrpSpPr/>
          <p:nvPr/>
        </p:nvGrpSpPr>
        <p:grpSpPr>
          <a:xfrm>
            <a:off x="0" y="1338120"/>
            <a:ext cx="9144000" cy="5808960"/>
            <a:chOff x="0" y="1338120"/>
            <a:chExt cx="9144000" cy="5808960"/>
          </a:xfrm>
        </p:grpSpPr>
        <p:pic>
          <p:nvPicPr>
            <p:cNvPr id="271" name="Picture 4" descr="66"/>
            <p:cNvPicPr/>
            <p:nvPr/>
          </p:nvPicPr>
          <p:blipFill>
            <a:blip r:embed="rId2"/>
            <a:stretch/>
          </p:blipFill>
          <p:spPr>
            <a:xfrm>
              <a:off x="0" y="2420640"/>
              <a:ext cx="9144000" cy="4726440"/>
            </a:xfrm>
            <a:prstGeom prst="rect">
              <a:avLst/>
            </a:prstGeom>
            <a:ln w="0">
              <a:noFill/>
            </a:ln>
          </p:spPr>
        </p:pic>
        <p:sp>
          <p:nvSpPr>
            <p:cNvPr id="272" name="Text Box 6"/>
            <p:cNvSpPr/>
            <p:nvPr/>
          </p:nvSpPr>
          <p:spPr>
            <a:xfrm>
              <a:off x="6636600" y="3427200"/>
              <a:ext cx="1145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XT</a:t>
              </a:r>
              <a:endParaRPr b="0" lang="en-US" sz="2800" spc="-1" strike="noStrike">
                <a:solidFill>
                  <a:srgbClr val="000000"/>
                </a:solidFill>
                <a:latin typeface="Gulim"/>
              </a:endParaRPr>
            </a:p>
          </p:txBody>
        </p:sp>
        <p:sp>
          <p:nvSpPr>
            <p:cNvPr id="273" name="Text Box 7"/>
            <p:cNvSpPr/>
            <p:nvPr/>
          </p:nvSpPr>
          <p:spPr>
            <a:xfrm>
              <a:off x="6516720" y="3789360"/>
              <a:ext cx="1387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D CONTENTS</a:t>
              </a:r>
              <a:endParaRPr b="0" lang="en-US" sz="1200" spc="-1" strike="noStrike">
                <a:solidFill>
                  <a:srgbClr val="000000"/>
                </a:solidFill>
                <a:latin typeface="Gulim"/>
              </a:endParaRPr>
            </a:p>
          </p:txBody>
        </p:sp>
        <p:sp>
          <p:nvSpPr>
            <p:cNvPr id="274" name="Oval 12"/>
            <p:cNvSpPr/>
            <p:nvPr/>
          </p:nvSpPr>
          <p:spPr>
            <a:xfrm>
              <a:off x="179280" y="4934160"/>
              <a:ext cx="1500120" cy="108252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75" name="Oval 13"/>
            <p:cNvGrpSpPr/>
            <p:nvPr/>
          </p:nvGrpSpPr>
          <p:grpSpPr>
            <a:xfrm>
              <a:off x="231480" y="4236840"/>
              <a:ext cx="1383840" cy="1383840"/>
              <a:chOff x="231480" y="4236840"/>
              <a:chExt cx="1383840" cy="1383840"/>
            </a:xfrm>
          </p:grpSpPr>
          <p:pic>
            <p:nvPicPr>
              <p:cNvPr id="276" name="Oval 13" descr=""/>
              <p:cNvPicPr/>
              <p:nvPr/>
            </p:nvPicPr>
            <p:blipFill>
              <a:blip r:embed="rId3"/>
              <a:stretch/>
            </p:blipFill>
            <p:spPr>
              <a:xfrm>
                <a:off x="231480" y="4236840"/>
                <a:ext cx="1383840" cy="1383840"/>
              </a:xfrm>
              <a:prstGeom prst="rect">
                <a:avLst/>
              </a:prstGeom>
              <a:ln w="0">
                <a:noFill/>
              </a:ln>
            </p:spPr>
          </p:pic>
          <p:sp>
            <p:nvSpPr>
              <p:cNvPr id="277" name=""/>
              <p:cNvSpPr/>
              <p:nvPr/>
            </p:nvSpPr>
            <p:spPr>
              <a:xfrm>
                <a:off x="448560" y="4453200"/>
                <a:ext cx="959040" cy="957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78" name="Group 14"/>
            <p:cNvGrpSpPr/>
            <p:nvPr/>
          </p:nvGrpSpPr>
          <p:grpSpPr>
            <a:xfrm>
              <a:off x="215640" y="4195800"/>
              <a:ext cx="1427040" cy="1432080"/>
              <a:chOff x="215640" y="4195800"/>
              <a:chExt cx="1427040" cy="1432080"/>
            </a:xfrm>
          </p:grpSpPr>
          <p:sp>
            <p:nvSpPr>
              <p:cNvPr id="279" name="Oval 15"/>
              <p:cNvSpPr/>
              <p:nvPr/>
            </p:nvSpPr>
            <p:spPr>
              <a:xfrm>
                <a:off x="700200" y="4224240"/>
                <a:ext cx="377280" cy="381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280" name="Picture 16" descr="그림1"/>
              <p:cNvPicPr/>
              <p:nvPr/>
            </p:nvPicPr>
            <p:blipFill>
              <a:blip r:embed="rId4"/>
              <a:stretch/>
            </p:blipFill>
            <p:spPr>
              <a:xfrm>
                <a:off x="215640" y="4195800"/>
                <a:ext cx="1427040" cy="1432080"/>
              </a:xfrm>
              <a:prstGeom prst="rect">
                <a:avLst/>
              </a:prstGeom>
              <a:ln w="0">
                <a:noFill/>
              </a:ln>
            </p:spPr>
          </p:pic>
        </p:grpSp>
        <p:grpSp>
          <p:nvGrpSpPr>
            <p:cNvPr id="281" name="Group 17"/>
            <p:cNvGrpSpPr/>
            <p:nvPr/>
          </p:nvGrpSpPr>
          <p:grpSpPr>
            <a:xfrm>
              <a:off x="338400" y="4651560"/>
              <a:ext cx="1181880" cy="604800"/>
              <a:chOff x="338400" y="4651560"/>
              <a:chExt cx="1181880" cy="604800"/>
            </a:xfrm>
          </p:grpSpPr>
          <p:sp>
            <p:nvSpPr>
              <p:cNvPr id="282" name="Text Box 18"/>
              <p:cNvSpPr/>
              <p:nvPr/>
            </p:nvSpPr>
            <p:spPr>
              <a:xfrm>
                <a:off x="425160" y="465156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283" name="Text Box 19"/>
              <p:cNvSpPr/>
              <p:nvPr/>
            </p:nvSpPr>
            <p:spPr>
              <a:xfrm>
                <a:off x="338400" y="501012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284" name="Line 20"/>
            <p:cNvSpPr/>
            <p:nvPr/>
          </p:nvSpPr>
          <p:spPr>
            <a:xfrm flipV="1">
              <a:off x="928440" y="349848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85" name="Text Box 21"/>
            <p:cNvSpPr/>
            <p:nvPr/>
          </p:nvSpPr>
          <p:spPr>
            <a:xfrm>
              <a:off x="136440" y="309564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 CONTENTS</a:t>
              </a:r>
              <a:endParaRPr b="0" lang="en-US" sz="1400" spc="-1" strike="noStrike">
                <a:solidFill>
                  <a:srgbClr val="000000"/>
                </a:solidFill>
                <a:latin typeface="Gulim"/>
              </a:endParaRPr>
            </a:p>
          </p:txBody>
        </p:sp>
        <p:sp>
          <p:nvSpPr>
            <p:cNvPr id="286" name="Line 24"/>
            <p:cNvSpPr/>
            <p:nvPr/>
          </p:nvSpPr>
          <p:spPr>
            <a:xfrm flipV="1">
              <a:off x="2136600" y="277776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87" name="Oval 27"/>
            <p:cNvSpPr/>
            <p:nvPr/>
          </p:nvSpPr>
          <p:spPr>
            <a:xfrm>
              <a:off x="1331640" y="4268880"/>
              <a:ext cx="1611360" cy="116532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88" name="Oval 29"/>
            <p:cNvGrpSpPr/>
            <p:nvPr/>
          </p:nvGrpSpPr>
          <p:grpSpPr>
            <a:xfrm>
              <a:off x="1389600" y="3523320"/>
              <a:ext cx="1487160" cy="1487520"/>
              <a:chOff x="1389600" y="3523320"/>
              <a:chExt cx="1487160" cy="1487520"/>
            </a:xfrm>
          </p:grpSpPr>
          <p:pic>
            <p:nvPicPr>
              <p:cNvPr id="289" name="Oval 29" descr=""/>
              <p:cNvPicPr/>
              <p:nvPr/>
            </p:nvPicPr>
            <p:blipFill>
              <a:blip r:embed="rId5"/>
              <a:stretch/>
            </p:blipFill>
            <p:spPr>
              <a:xfrm>
                <a:off x="1389600" y="3523320"/>
                <a:ext cx="1487160" cy="1487520"/>
              </a:xfrm>
              <a:prstGeom prst="rect">
                <a:avLst/>
              </a:prstGeom>
              <a:ln w="0">
                <a:noFill/>
              </a:ln>
            </p:spPr>
          </p:pic>
          <p:sp>
            <p:nvSpPr>
              <p:cNvPr id="290" name=""/>
              <p:cNvSpPr/>
              <p:nvPr/>
            </p:nvSpPr>
            <p:spPr>
              <a:xfrm>
                <a:off x="1621440" y="3753000"/>
                <a:ext cx="1029240" cy="102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91" name="Group 30"/>
            <p:cNvGrpSpPr/>
            <p:nvPr/>
          </p:nvGrpSpPr>
          <p:grpSpPr>
            <a:xfrm>
              <a:off x="1366560" y="3498840"/>
              <a:ext cx="1533240" cy="1539720"/>
              <a:chOff x="1366560" y="3498840"/>
              <a:chExt cx="1533240" cy="1539720"/>
            </a:xfrm>
          </p:grpSpPr>
          <p:sp>
            <p:nvSpPr>
              <p:cNvPr id="292" name="Oval 31"/>
              <p:cNvSpPr/>
              <p:nvPr/>
            </p:nvSpPr>
            <p:spPr>
              <a:xfrm>
                <a:off x="1901160" y="3529440"/>
                <a:ext cx="405360" cy="4096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293" name="Picture 32" descr="그림1"/>
              <p:cNvPicPr/>
              <p:nvPr/>
            </p:nvPicPr>
            <p:blipFill>
              <a:blip r:embed="rId6"/>
              <a:stretch/>
            </p:blipFill>
            <p:spPr>
              <a:xfrm>
                <a:off x="1366560" y="3498840"/>
                <a:ext cx="1533240" cy="1539720"/>
              </a:xfrm>
              <a:prstGeom prst="rect">
                <a:avLst/>
              </a:prstGeom>
              <a:ln w="0">
                <a:noFill/>
              </a:ln>
            </p:spPr>
          </p:pic>
        </p:grpSp>
        <p:grpSp>
          <p:nvGrpSpPr>
            <p:cNvPr id="294" name="Group 33"/>
            <p:cNvGrpSpPr/>
            <p:nvPr/>
          </p:nvGrpSpPr>
          <p:grpSpPr>
            <a:xfrm>
              <a:off x="1551240" y="4002120"/>
              <a:ext cx="1230840" cy="604800"/>
              <a:chOff x="1551240" y="4002120"/>
              <a:chExt cx="1230840" cy="604800"/>
            </a:xfrm>
          </p:grpSpPr>
          <p:sp>
            <p:nvSpPr>
              <p:cNvPr id="295" name="Text Box 34"/>
              <p:cNvSpPr/>
              <p:nvPr/>
            </p:nvSpPr>
            <p:spPr>
              <a:xfrm>
                <a:off x="1632600" y="4002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296" name="Text Box 35"/>
              <p:cNvSpPr/>
              <p:nvPr/>
            </p:nvSpPr>
            <p:spPr>
              <a:xfrm>
                <a:off x="1551240" y="4360680"/>
                <a:ext cx="1230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sNTENTS</a:t>
                </a:r>
                <a:endParaRPr b="0" lang="en-US" sz="1000" spc="-1" strike="noStrike">
                  <a:solidFill>
                    <a:srgbClr val="000000"/>
                  </a:solidFill>
                  <a:latin typeface="Gulim"/>
                </a:endParaRPr>
              </a:p>
            </p:txBody>
          </p:sp>
        </p:grpSp>
        <p:sp>
          <p:nvSpPr>
            <p:cNvPr id="297" name="Text Box 36"/>
            <p:cNvSpPr/>
            <p:nvPr/>
          </p:nvSpPr>
          <p:spPr>
            <a:xfrm>
              <a:off x="1344600" y="233028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 CONTENTS</a:t>
              </a:r>
              <a:endParaRPr b="0" lang="en-US" sz="1400" spc="-1" strike="noStrike">
                <a:solidFill>
                  <a:srgbClr val="000000"/>
                </a:solidFill>
                <a:latin typeface="Gulim"/>
              </a:endParaRPr>
            </a:p>
          </p:txBody>
        </p:sp>
        <p:sp>
          <p:nvSpPr>
            <p:cNvPr id="298" name="Oval 41"/>
            <p:cNvSpPr/>
            <p:nvPr/>
          </p:nvSpPr>
          <p:spPr>
            <a:xfrm>
              <a:off x="2627280" y="3776760"/>
              <a:ext cx="1792080" cy="12952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99" name="Oval 43"/>
            <p:cNvGrpSpPr/>
            <p:nvPr/>
          </p:nvGrpSpPr>
          <p:grpSpPr>
            <a:xfrm>
              <a:off x="2694240" y="2950200"/>
              <a:ext cx="1652040" cy="1645920"/>
              <a:chOff x="2694240" y="2950200"/>
              <a:chExt cx="1652040" cy="1645920"/>
            </a:xfrm>
          </p:grpSpPr>
          <p:pic>
            <p:nvPicPr>
              <p:cNvPr id="300" name="Oval 43" descr=""/>
              <p:cNvPicPr/>
              <p:nvPr/>
            </p:nvPicPr>
            <p:blipFill>
              <a:blip r:embed="rId7"/>
              <a:stretch/>
            </p:blipFill>
            <p:spPr>
              <a:xfrm>
                <a:off x="2694240" y="2950200"/>
                <a:ext cx="1652040" cy="1645920"/>
              </a:xfrm>
              <a:prstGeom prst="rect">
                <a:avLst/>
              </a:prstGeom>
              <a:ln w="0">
                <a:noFill/>
              </a:ln>
            </p:spPr>
          </p:pic>
          <p:sp>
            <p:nvSpPr>
              <p:cNvPr id="301" name=""/>
              <p:cNvSpPr/>
              <p:nvPr/>
            </p:nvSpPr>
            <p:spPr>
              <a:xfrm>
                <a:off x="2948760" y="3203640"/>
                <a:ext cx="1146600" cy="114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02" name="그룹 65"/>
            <p:cNvGrpSpPr/>
            <p:nvPr/>
          </p:nvGrpSpPr>
          <p:grpSpPr>
            <a:xfrm>
              <a:off x="2663640" y="2916000"/>
              <a:ext cx="1704960" cy="1708200"/>
              <a:chOff x="2663640" y="2916000"/>
              <a:chExt cx="1704960" cy="1708200"/>
            </a:xfrm>
          </p:grpSpPr>
          <p:sp>
            <p:nvSpPr>
              <p:cNvPr id="303" name="Oval 45"/>
              <p:cNvSpPr/>
              <p:nvPr/>
            </p:nvSpPr>
            <p:spPr>
              <a:xfrm>
                <a:off x="3270240" y="2943360"/>
                <a:ext cx="451080" cy="4550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304" name="Picture 46" descr="그림1"/>
              <p:cNvPicPr/>
              <p:nvPr/>
            </p:nvPicPr>
            <p:blipFill>
              <a:blip r:embed="rId8"/>
              <a:stretch/>
            </p:blipFill>
            <p:spPr>
              <a:xfrm>
                <a:off x="2663640" y="2916000"/>
                <a:ext cx="1704960" cy="1708200"/>
              </a:xfrm>
              <a:prstGeom prst="rect">
                <a:avLst/>
              </a:prstGeom>
              <a:ln w="0">
                <a:noFill/>
              </a:ln>
            </p:spPr>
          </p:pic>
          <p:sp>
            <p:nvSpPr>
              <p:cNvPr id="305" name="Text Box 48"/>
              <p:cNvSpPr/>
              <p:nvPr/>
            </p:nvSpPr>
            <p:spPr>
              <a:xfrm>
                <a:off x="3018960" y="354276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306" name="Text Box 49"/>
              <p:cNvSpPr/>
              <p:nvPr/>
            </p:nvSpPr>
            <p:spPr>
              <a:xfrm>
                <a:off x="2931840" y="390132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307" name="Line 50"/>
            <p:cNvSpPr/>
            <p:nvPr/>
          </p:nvSpPr>
          <p:spPr>
            <a:xfrm flipV="1">
              <a:off x="3522600" y="218376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8" name="Text Box 51"/>
            <p:cNvSpPr/>
            <p:nvPr/>
          </p:nvSpPr>
          <p:spPr>
            <a:xfrm>
              <a:off x="2730600" y="176976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 CONTENTS</a:t>
              </a:r>
              <a:endParaRPr b="0" lang="en-US" sz="1400" spc="-1" strike="noStrike">
                <a:solidFill>
                  <a:srgbClr val="000000"/>
                </a:solidFill>
                <a:latin typeface="Gulim"/>
              </a:endParaRPr>
            </a:p>
          </p:txBody>
        </p:sp>
        <p:sp>
          <p:nvSpPr>
            <p:cNvPr id="309" name="Line 54"/>
            <p:cNvSpPr/>
            <p:nvPr/>
          </p:nvSpPr>
          <p:spPr>
            <a:xfrm flipV="1">
              <a:off x="5081760" y="169812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310" name="Group 55"/>
            <p:cNvGrpSpPr/>
            <p:nvPr/>
          </p:nvGrpSpPr>
          <p:grpSpPr>
            <a:xfrm>
              <a:off x="4067280" y="2420640"/>
              <a:ext cx="2026800" cy="2432880"/>
              <a:chOff x="4067280" y="2420640"/>
              <a:chExt cx="2026800" cy="2432880"/>
            </a:xfrm>
          </p:grpSpPr>
          <p:grpSp>
            <p:nvGrpSpPr>
              <p:cNvPr id="311" name="Group 56"/>
              <p:cNvGrpSpPr/>
              <p:nvPr/>
            </p:nvGrpSpPr>
            <p:grpSpPr>
              <a:xfrm>
                <a:off x="4067280" y="2420640"/>
                <a:ext cx="2026800" cy="2432880"/>
                <a:chOff x="4067280" y="2420640"/>
                <a:chExt cx="2026800" cy="2432880"/>
              </a:xfrm>
            </p:grpSpPr>
            <p:sp>
              <p:nvSpPr>
                <p:cNvPr id="312" name="Oval 57"/>
                <p:cNvSpPr/>
                <p:nvPr/>
              </p:nvSpPr>
              <p:spPr>
                <a:xfrm>
                  <a:off x="4067280" y="3385080"/>
                  <a:ext cx="2026800" cy="146844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13" name="Oval 58"/>
                <p:cNvGrpSpPr/>
                <p:nvPr/>
              </p:nvGrpSpPr>
              <p:grpSpPr>
                <a:xfrm>
                  <a:off x="4145400" y="2445120"/>
                  <a:ext cx="1865520" cy="1872360"/>
                  <a:chOff x="4145400" y="2445120"/>
                  <a:chExt cx="1865520" cy="1872360"/>
                </a:xfrm>
              </p:grpSpPr>
              <p:pic>
                <p:nvPicPr>
                  <p:cNvPr id="314" name="Oval 58" descr=""/>
                  <p:cNvPicPr/>
                  <p:nvPr/>
                </p:nvPicPr>
                <p:blipFill>
                  <a:blip r:embed="rId9"/>
                  <a:stretch/>
                </p:blipFill>
                <p:spPr>
                  <a:xfrm>
                    <a:off x="4145400" y="2445120"/>
                    <a:ext cx="1865520" cy="1872360"/>
                  </a:xfrm>
                  <a:prstGeom prst="rect">
                    <a:avLst/>
                  </a:prstGeom>
                  <a:ln w="0">
                    <a:noFill/>
                  </a:ln>
                </p:spPr>
              </p:pic>
              <p:sp>
                <p:nvSpPr>
                  <p:cNvPr id="315" name=""/>
                  <p:cNvSpPr/>
                  <p:nvPr/>
                </p:nvSpPr>
                <p:spPr>
                  <a:xfrm>
                    <a:off x="4431240" y="2734920"/>
                    <a:ext cx="1296720" cy="1300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16" name="Group 59"/>
                <p:cNvGrpSpPr/>
                <p:nvPr/>
              </p:nvGrpSpPr>
              <p:grpSpPr>
                <a:xfrm>
                  <a:off x="4104000" y="2420640"/>
                  <a:ext cx="1933560" cy="1933560"/>
                  <a:chOff x="4104000" y="2420640"/>
                  <a:chExt cx="1933560" cy="1933560"/>
                </a:xfrm>
              </p:grpSpPr>
              <p:sp>
                <p:nvSpPr>
                  <p:cNvPr id="317" name="Oval 60"/>
                  <p:cNvSpPr/>
                  <p:nvPr/>
                </p:nvSpPr>
                <p:spPr>
                  <a:xfrm>
                    <a:off x="4776840" y="2453400"/>
                    <a:ext cx="510120" cy="516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318" name="Picture 61" descr="그림1"/>
                  <p:cNvPicPr/>
                  <p:nvPr/>
                </p:nvPicPr>
                <p:blipFill>
                  <a:blip r:embed="rId10"/>
                  <a:stretch/>
                </p:blipFill>
                <p:spPr>
                  <a:xfrm>
                    <a:off x="4104000" y="2420640"/>
                    <a:ext cx="1933560" cy="1933560"/>
                  </a:xfrm>
                  <a:prstGeom prst="rect">
                    <a:avLst/>
                  </a:prstGeom>
                  <a:ln w="0">
                    <a:noFill/>
                  </a:ln>
                </p:spPr>
              </p:pic>
            </p:grpSp>
          </p:grpSp>
          <p:grpSp>
            <p:nvGrpSpPr>
              <p:cNvPr id="319" name="Group 62"/>
              <p:cNvGrpSpPr/>
              <p:nvPr/>
            </p:nvGrpSpPr>
            <p:grpSpPr>
              <a:xfrm>
                <a:off x="4491360" y="3111120"/>
                <a:ext cx="1181880" cy="605160"/>
                <a:chOff x="4491360" y="3111120"/>
                <a:chExt cx="1181880" cy="605160"/>
              </a:xfrm>
            </p:grpSpPr>
            <p:sp>
              <p:nvSpPr>
                <p:cNvPr id="320" name="Text Box 63"/>
                <p:cNvSpPr/>
                <p:nvPr/>
              </p:nvSpPr>
              <p:spPr>
                <a:xfrm>
                  <a:off x="4577760" y="3111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321" name="Text Box 64"/>
                <p:cNvSpPr/>
                <p:nvPr/>
              </p:nvSpPr>
              <p:spPr>
                <a:xfrm>
                  <a:off x="4491360" y="347004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grpSp>
        <p:sp>
          <p:nvSpPr>
            <p:cNvPr id="322" name="Text Box 65"/>
            <p:cNvSpPr/>
            <p:nvPr/>
          </p:nvSpPr>
          <p:spPr>
            <a:xfrm>
              <a:off x="4289400" y="1338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 CONTENTS</a:t>
              </a:r>
              <a:endParaRPr b="0" lang="en-US" sz="1400" spc="-1" strike="noStrike">
                <a:solidFill>
                  <a:srgbClr val="000000"/>
                </a:solidFill>
                <a:latin typeface="Gulim"/>
              </a:endParaRPr>
            </a:p>
          </p:txBody>
        </p:sp>
      </p:grpSp>
      <p:sp>
        <p:nvSpPr>
          <p:cNvPr id="323" name=""/>
          <p:cNvSpPr/>
          <p:nvPr/>
        </p:nvSpPr>
        <p:spPr>
          <a:xfrm>
            <a:off x="395280" y="90972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Gulim"/>
                <a:hlinkClick r:id="rId11"/>
              </a:rPr>
              <a:t>ppt模版免费下载</a:t>
            </a:r>
            <a:r>
              <a:rPr b="0" lang="en-US" sz="1600" spc="-1" strike="noStrike">
                <a:solidFill>
                  <a:srgbClr val="000000"/>
                </a:solidFill>
                <a:latin typeface="Gulim"/>
              </a:rPr>
              <a:t>http://www.eeppt.com</a:t>
            </a:r>
            <a:endParaRPr b="0" lang="en-US" sz="1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325" name="그룹 48"/>
          <p:cNvGrpSpPr/>
          <p:nvPr/>
        </p:nvGrpSpPr>
        <p:grpSpPr>
          <a:xfrm>
            <a:off x="500040" y="1341360"/>
            <a:ext cx="7759800" cy="5302440"/>
            <a:chOff x="500040" y="1341360"/>
            <a:chExt cx="7759800" cy="5302440"/>
          </a:xfrm>
        </p:grpSpPr>
        <p:grpSp>
          <p:nvGrpSpPr>
            <p:cNvPr id="326" name="Rectangle 103"/>
            <p:cNvGrpSpPr/>
            <p:nvPr/>
          </p:nvGrpSpPr>
          <p:grpSpPr>
            <a:xfrm>
              <a:off x="2627280" y="1773000"/>
              <a:ext cx="5602320" cy="914400"/>
              <a:chOff x="2627280" y="1773000"/>
              <a:chExt cx="5602320" cy="914400"/>
            </a:xfrm>
          </p:grpSpPr>
          <p:pic>
            <p:nvPicPr>
              <p:cNvPr id="327" name="Rectangle 103" descr=""/>
              <p:cNvPicPr/>
              <p:nvPr/>
            </p:nvPicPr>
            <p:blipFill>
              <a:blip r:embed="rId2"/>
              <a:stretch/>
            </p:blipFill>
            <p:spPr>
              <a:xfrm>
                <a:off x="2627280" y="1773000"/>
                <a:ext cx="5602320" cy="914400"/>
              </a:xfrm>
              <a:prstGeom prst="rect">
                <a:avLst/>
              </a:prstGeom>
              <a:ln w="0">
                <a:noFill/>
              </a:ln>
            </p:spPr>
          </p:pic>
          <p:sp>
            <p:nvSpPr>
              <p:cNvPr id="328" name="Text Box 4"/>
              <p:cNvSpPr/>
              <p:nvPr/>
            </p:nvSpPr>
            <p:spPr>
              <a:xfrm rot="10800000">
                <a:off x="2638440" y="1784160"/>
                <a:ext cx="5581080" cy="88848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29" name="타원 21"/>
            <p:cNvSpPr/>
            <p:nvPr/>
          </p:nvSpPr>
          <p:spPr>
            <a:xfrm>
              <a:off x="500040" y="5286600"/>
              <a:ext cx="4857840" cy="13572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30" name="Rectangle 103"/>
            <p:cNvGrpSpPr/>
            <p:nvPr/>
          </p:nvGrpSpPr>
          <p:grpSpPr>
            <a:xfrm>
              <a:off x="2657520" y="2990880"/>
              <a:ext cx="5602320" cy="914400"/>
              <a:chOff x="2657520" y="2990880"/>
              <a:chExt cx="5602320" cy="914400"/>
            </a:xfrm>
          </p:grpSpPr>
          <p:pic>
            <p:nvPicPr>
              <p:cNvPr id="331" name="Rectangle 103" descr=""/>
              <p:cNvPicPr/>
              <p:nvPr/>
            </p:nvPicPr>
            <p:blipFill>
              <a:blip r:embed="rId3"/>
              <a:stretch/>
            </p:blipFill>
            <p:spPr>
              <a:xfrm>
                <a:off x="2657520" y="2990880"/>
                <a:ext cx="5602320" cy="914400"/>
              </a:xfrm>
              <a:prstGeom prst="rect">
                <a:avLst/>
              </a:prstGeom>
              <a:ln w="0">
                <a:noFill/>
              </a:ln>
            </p:spPr>
          </p:pic>
          <p:grpSp>
            <p:nvGrpSpPr>
              <p:cNvPr id="332" name="Text Box 8"/>
              <p:cNvGrpSpPr/>
              <p:nvPr/>
            </p:nvGrpSpPr>
            <p:grpSpPr>
              <a:xfrm>
                <a:off x="2663280" y="2996640"/>
                <a:ext cx="5590440" cy="896400"/>
                <a:chOff x="2663280" y="2996640"/>
                <a:chExt cx="5590440" cy="896400"/>
              </a:xfrm>
            </p:grpSpPr>
            <p:pic>
              <p:nvPicPr>
                <p:cNvPr id="333" name="Text Box 8" descr=""/>
                <p:cNvPicPr/>
                <p:nvPr/>
              </p:nvPicPr>
              <p:blipFill>
                <a:blip r:embed="rId4"/>
                <a:stretch/>
              </p:blipFill>
              <p:spPr>
                <a:xfrm>
                  <a:off x="2663280" y="2996640"/>
                  <a:ext cx="5590440" cy="896400"/>
                </a:xfrm>
                <a:prstGeom prst="rect">
                  <a:avLst/>
                </a:prstGeom>
                <a:ln w="0">
                  <a:noFill/>
                </a:ln>
              </p:spPr>
            </p:pic>
            <p:sp>
              <p:nvSpPr>
                <p:cNvPr id="334" name=""/>
                <p:cNvSpPr/>
                <p:nvPr/>
              </p:nvSpPr>
              <p:spPr>
                <a:xfrm rot="10800000">
                  <a:off x="2667960" y="3000600"/>
                  <a:ext cx="5581080" cy="88848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35" name="Rectangle 104"/>
            <p:cNvGrpSpPr/>
            <p:nvPr/>
          </p:nvGrpSpPr>
          <p:grpSpPr>
            <a:xfrm>
              <a:off x="2657520" y="4216320"/>
              <a:ext cx="5602320" cy="907920"/>
              <a:chOff x="2657520" y="4216320"/>
              <a:chExt cx="5602320" cy="907920"/>
            </a:xfrm>
          </p:grpSpPr>
          <p:pic>
            <p:nvPicPr>
              <p:cNvPr id="336" name="Rectangle 104" descr=""/>
              <p:cNvPicPr/>
              <p:nvPr/>
            </p:nvPicPr>
            <p:blipFill>
              <a:blip r:embed="rId5"/>
              <a:stretch/>
            </p:blipFill>
            <p:spPr>
              <a:xfrm>
                <a:off x="2657520" y="4216320"/>
                <a:ext cx="5602320" cy="907920"/>
              </a:xfrm>
              <a:prstGeom prst="rect">
                <a:avLst/>
              </a:prstGeom>
              <a:ln w="0">
                <a:noFill/>
              </a:ln>
            </p:spPr>
          </p:pic>
          <p:grpSp>
            <p:nvGrpSpPr>
              <p:cNvPr id="337" name="Text Box 11"/>
              <p:cNvGrpSpPr/>
              <p:nvPr/>
            </p:nvGrpSpPr>
            <p:grpSpPr>
              <a:xfrm>
                <a:off x="2663280" y="4222080"/>
                <a:ext cx="5590440" cy="896040"/>
                <a:chOff x="2663280" y="4222080"/>
                <a:chExt cx="5590440" cy="896040"/>
              </a:xfrm>
            </p:grpSpPr>
            <p:pic>
              <p:nvPicPr>
                <p:cNvPr id="338" name="Text Box 11" descr=""/>
                <p:cNvPicPr/>
                <p:nvPr/>
              </p:nvPicPr>
              <p:blipFill>
                <a:blip r:embed="rId6"/>
                <a:stretch/>
              </p:blipFill>
              <p:spPr>
                <a:xfrm>
                  <a:off x="2663280" y="4222080"/>
                  <a:ext cx="5590440" cy="896040"/>
                </a:xfrm>
                <a:prstGeom prst="rect">
                  <a:avLst/>
                </a:prstGeom>
                <a:ln w="0">
                  <a:noFill/>
                </a:ln>
              </p:spPr>
            </p:pic>
            <p:sp>
              <p:nvSpPr>
                <p:cNvPr id="339" name=""/>
                <p:cNvSpPr/>
                <p:nvPr/>
              </p:nvSpPr>
              <p:spPr>
                <a:xfrm rot="10800000">
                  <a:off x="2667960" y="4224960"/>
                  <a:ext cx="5581080" cy="88776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40" name="Group 105"/>
            <p:cNvGrpSpPr/>
            <p:nvPr/>
          </p:nvGrpSpPr>
          <p:grpSpPr>
            <a:xfrm>
              <a:off x="755640" y="3860640"/>
              <a:ext cx="3673080" cy="1726920"/>
              <a:chOff x="755640" y="3860640"/>
              <a:chExt cx="3673080" cy="1726920"/>
            </a:xfrm>
          </p:grpSpPr>
          <p:sp>
            <p:nvSpPr>
              <p:cNvPr id="341" name="Freeform 106"/>
              <p:cNvSpPr/>
              <p:nvPr/>
            </p:nvSpPr>
            <p:spPr>
              <a:xfrm>
                <a:off x="755640" y="3860640"/>
                <a:ext cx="3673080" cy="1726920"/>
              </a:xfrm>
              <a:custGeom>
                <a:avLst/>
                <a:gdLst>
                  <a:gd name="textAreaLeft" fmla="*/ 0 w 3673080"/>
                  <a:gd name="textAreaRight" fmla="*/ 3673440 w 3673080"/>
                  <a:gd name="textAreaTop" fmla="*/ 0 h 1726920"/>
                  <a:gd name="textAreaBottom" fmla="*/ 1727280 h 1726920"/>
                </a:gdLst>
                <a:ahLst/>
                <a:rect l="textAreaLeft" t="textAreaTop" r="textAreaRight" b="textAreaBottom"/>
                <a:pathLst>
                  <a:path w="2304" h="1080">
                    <a:moveTo>
                      <a:pt x="2016" y="216"/>
                    </a:moveTo>
                    <a:lnTo>
                      <a:pt x="2304" y="792"/>
                    </a:lnTo>
                    <a:lnTo>
                      <a:pt x="2304" y="792"/>
                    </a:lnTo>
                    <a:lnTo>
                      <a:pt x="2302" y="806"/>
                    </a:lnTo>
                    <a:lnTo>
                      <a:pt x="2298" y="822"/>
                    </a:lnTo>
                    <a:lnTo>
                      <a:pt x="2290" y="836"/>
                    </a:lnTo>
                    <a:lnTo>
                      <a:pt x="2280" y="850"/>
                    </a:lnTo>
                    <a:lnTo>
                      <a:pt x="2268" y="864"/>
                    </a:lnTo>
                    <a:lnTo>
                      <a:pt x="2252" y="878"/>
                    </a:lnTo>
                    <a:lnTo>
                      <a:pt x="2234" y="892"/>
                    </a:lnTo>
                    <a:lnTo>
                      <a:pt x="2214" y="904"/>
                    </a:lnTo>
                    <a:lnTo>
                      <a:pt x="2190" y="916"/>
                    </a:lnTo>
                    <a:lnTo>
                      <a:pt x="2164" y="930"/>
                    </a:lnTo>
                    <a:lnTo>
                      <a:pt x="2108" y="954"/>
                    </a:lnTo>
                    <a:lnTo>
                      <a:pt x="2040" y="976"/>
                    </a:lnTo>
                    <a:lnTo>
                      <a:pt x="1966" y="996"/>
                    </a:lnTo>
                    <a:lnTo>
                      <a:pt x="1884" y="1014"/>
                    </a:lnTo>
                    <a:lnTo>
                      <a:pt x="1796" y="1030"/>
                    </a:lnTo>
                    <a:lnTo>
                      <a:pt x="1702" y="1046"/>
                    </a:lnTo>
                    <a:lnTo>
                      <a:pt x="1600" y="1058"/>
                    </a:lnTo>
                    <a:lnTo>
                      <a:pt x="1494" y="1068"/>
                    </a:lnTo>
                    <a:lnTo>
                      <a:pt x="1384" y="1074"/>
                    </a:lnTo>
                    <a:lnTo>
                      <a:pt x="1270" y="1078"/>
                    </a:lnTo>
                    <a:lnTo>
                      <a:pt x="1152" y="1080"/>
                    </a:lnTo>
                    <a:lnTo>
                      <a:pt x="1152" y="1080"/>
                    </a:lnTo>
                    <a:lnTo>
                      <a:pt x="1034" y="1078"/>
                    </a:lnTo>
                    <a:lnTo>
                      <a:pt x="920" y="1074"/>
                    </a:lnTo>
                    <a:lnTo>
                      <a:pt x="810" y="1068"/>
                    </a:lnTo>
                    <a:lnTo>
                      <a:pt x="704" y="1058"/>
                    </a:lnTo>
                    <a:lnTo>
                      <a:pt x="602" y="1046"/>
                    </a:lnTo>
                    <a:lnTo>
                      <a:pt x="508" y="1030"/>
                    </a:lnTo>
                    <a:lnTo>
                      <a:pt x="420" y="1014"/>
                    </a:lnTo>
                    <a:lnTo>
                      <a:pt x="338" y="996"/>
                    </a:lnTo>
                    <a:lnTo>
                      <a:pt x="264" y="976"/>
                    </a:lnTo>
                    <a:lnTo>
                      <a:pt x="196" y="954"/>
                    </a:lnTo>
                    <a:lnTo>
                      <a:pt x="140" y="930"/>
                    </a:lnTo>
                    <a:lnTo>
                      <a:pt x="114" y="916"/>
                    </a:lnTo>
                    <a:lnTo>
                      <a:pt x="90" y="904"/>
                    </a:lnTo>
                    <a:lnTo>
                      <a:pt x="70" y="892"/>
                    </a:lnTo>
                    <a:lnTo>
                      <a:pt x="52" y="878"/>
                    </a:lnTo>
                    <a:lnTo>
                      <a:pt x="36" y="864"/>
                    </a:lnTo>
                    <a:lnTo>
                      <a:pt x="24" y="850"/>
                    </a:lnTo>
                    <a:lnTo>
                      <a:pt x="14" y="836"/>
                    </a:lnTo>
                    <a:lnTo>
                      <a:pt x="6" y="822"/>
                    </a:lnTo>
                    <a:lnTo>
                      <a:pt x="2" y="806"/>
                    </a:lnTo>
                    <a:lnTo>
                      <a:pt x="0" y="792"/>
                    </a:lnTo>
                    <a:lnTo>
                      <a:pt x="288" y="216"/>
                    </a:lnTo>
                    <a:lnTo>
                      <a:pt x="288" y="216"/>
                    </a:lnTo>
                    <a:lnTo>
                      <a:pt x="290" y="204"/>
                    </a:lnTo>
                    <a:lnTo>
                      <a:pt x="292" y="194"/>
                    </a:lnTo>
                    <a:lnTo>
                      <a:pt x="298" y="184"/>
                    </a:lnTo>
                    <a:lnTo>
                      <a:pt x="306" y="172"/>
                    </a:lnTo>
                    <a:lnTo>
                      <a:pt x="316" y="162"/>
                    </a:lnTo>
                    <a:lnTo>
                      <a:pt x="326" y="152"/>
                    </a:lnTo>
                    <a:lnTo>
                      <a:pt x="340" y="142"/>
                    </a:lnTo>
                    <a:lnTo>
                      <a:pt x="356" y="132"/>
                    </a:lnTo>
                    <a:lnTo>
                      <a:pt x="392" y="114"/>
                    </a:lnTo>
                    <a:lnTo>
                      <a:pt x="436" y="96"/>
                    </a:lnTo>
                    <a:lnTo>
                      <a:pt x="486" y="78"/>
                    </a:lnTo>
                    <a:lnTo>
                      <a:pt x="542" y="64"/>
                    </a:lnTo>
                    <a:lnTo>
                      <a:pt x="602" y="50"/>
                    </a:lnTo>
                    <a:lnTo>
                      <a:pt x="668" y="36"/>
                    </a:lnTo>
                    <a:lnTo>
                      <a:pt x="740" y="26"/>
                    </a:lnTo>
                    <a:lnTo>
                      <a:pt x="816" y="16"/>
                    </a:lnTo>
                    <a:lnTo>
                      <a:pt x="896" y="10"/>
                    </a:lnTo>
                    <a:lnTo>
                      <a:pt x="978" y="4"/>
                    </a:lnTo>
                    <a:lnTo>
                      <a:pt x="1064" y="2"/>
                    </a:lnTo>
                    <a:lnTo>
                      <a:pt x="1152" y="0"/>
                    </a:lnTo>
                    <a:lnTo>
                      <a:pt x="1152" y="0"/>
                    </a:lnTo>
                    <a:lnTo>
                      <a:pt x="1240" y="2"/>
                    </a:lnTo>
                    <a:lnTo>
                      <a:pt x="1326" y="4"/>
                    </a:lnTo>
                    <a:lnTo>
                      <a:pt x="1408" y="10"/>
                    </a:lnTo>
                    <a:lnTo>
                      <a:pt x="1488" y="16"/>
                    </a:lnTo>
                    <a:lnTo>
                      <a:pt x="1564" y="26"/>
                    </a:lnTo>
                    <a:lnTo>
                      <a:pt x="1636" y="36"/>
                    </a:lnTo>
                    <a:lnTo>
                      <a:pt x="1702" y="50"/>
                    </a:lnTo>
                    <a:lnTo>
                      <a:pt x="1762" y="64"/>
                    </a:lnTo>
                    <a:lnTo>
                      <a:pt x="1818" y="78"/>
                    </a:lnTo>
                    <a:lnTo>
                      <a:pt x="1868" y="96"/>
                    </a:lnTo>
                    <a:lnTo>
                      <a:pt x="1912" y="114"/>
                    </a:lnTo>
                    <a:lnTo>
                      <a:pt x="1948" y="132"/>
                    </a:lnTo>
                    <a:lnTo>
                      <a:pt x="1964" y="142"/>
                    </a:lnTo>
                    <a:lnTo>
                      <a:pt x="1978" y="152"/>
                    </a:lnTo>
                    <a:lnTo>
                      <a:pt x="1988" y="162"/>
                    </a:lnTo>
                    <a:lnTo>
                      <a:pt x="1998" y="172"/>
                    </a:lnTo>
                    <a:lnTo>
                      <a:pt x="2006" y="184"/>
                    </a:lnTo>
                    <a:lnTo>
                      <a:pt x="2012" y="194"/>
                    </a:lnTo>
                    <a:lnTo>
                      <a:pt x="2014" y="204"/>
                    </a:lnTo>
                    <a:lnTo>
                      <a:pt x="2016" y="216"/>
                    </a:lnTo>
                    <a:lnTo>
                      <a:pt x="2016" y="21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42" name="Freeform 107"/>
              <p:cNvSpPr/>
              <p:nvPr/>
            </p:nvSpPr>
            <p:spPr>
              <a:xfrm>
                <a:off x="1214640" y="3860640"/>
                <a:ext cx="2754720" cy="690480"/>
              </a:xfrm>
              <a:custGeom>
                <a:avLst/>
                <a:gdLst>
                  <a:gd name="textAreaLeft" fmla="*/ 0 w 2754720"/>
                  <a:gd name="textAreaRight" fmla="*/ 2755080 w 2754720"/>
                  <a:gd name="textAreaTop" fmla="*/ 0 h 690480"/>
                  <a:gd name="textAreaBottom" fmla="*/ 690840 h 690480"/>
                </a:gdLst>
                <a:ahLst/>
                <a:rect l="textAreaLeft" t="textAreaTop" r="textAreaRight" b="textAreaBottom"/>
                <a:pathLst>
                  <a:path w="1728" h="432">
                    <a:moveTo>
                      <a:pt x="1728" y="216"/>
                    </a:moveTo>
                    <a:lnTo>
                      <a:pt x="1728" y="216"/>
                    </a:lnTo>
                    <a:lnTo>
                      <a:pt x="1726" y="228"/>
                    </a:lnTo>
                    <a:lnTo>
                      <a:pt x="1724" y="238"/>
                    </a:lnTo>
                    <a:lnTo>
                      <a:pt x="1718" y="248"/>
                    </a:lnTo>
                    <a:lnTo>
                      <a:pt x="1710" y="260"/>
                    </a:lnTo>
                    <a:lnTo>
                      <a:pt x="1700" y="270"/>
                    </a:lnTo>
                    <a:lnTo>
                      <a:pt x="1690" y="280"/>
                    </a:lnTo>
                    <a:lnTo>
                      <a:pt x="1676" y="290"/>
                    </a:lnTo>
                    <a:lnTo>
                      <a:pt x="1660" y="300"/>
                    </a:lnTo>
                    <a:lnTo>
                      <a:pt x="1624" y="318"/>
                    </a:lnTo>
                    <a:lnTo>
                      <a:pt x="1580" y="336"/>
                    </a:lnTo>
                    <a:lnTo>
                      <a:pt x="1530" y="354"/>
                    </a:lnTo>
                    <a:lnTo>
                      <a:pt x="1474" y="368"/>
                    </a:lnTo>
                    <a:lnTo>
                      <a:pt x="1414" y="382"/>
                    </a:lnTo>
                    <a:lnTo>
                      <a:pt x="1348" y="396"/>
                    </a:lnTo>
                    <a:lnTo>
                      <a:pt x="1276" y="406"/>
                    </a:lnTo>
                    <a:lnTo>
                      <a:pt x="1200" y="416"/>
                    </a:lnTo>
                    <a:lnTo>
                      <a:pt x="1120" y="422"/>
                    </a:lnTo>
                    <a:lnTo>
                      <a:pt x="1038" y="428"/>
                    </a:lnTo>
                    <a:lnTo>
                      <a:pt x="952" y="430"/>
                    </a:lnTo>
                    <a:lnTo>
                      <a:pt x="864" y="432"/>
                    </a:lnTo>
                    <a:lnTo>
                      <a:pt x="776" y="430"/>
                    </a:lnTo>
                    <a:lnTo>
                      <a:pt x="690" y="428"/>
                    </a:lnTo>
                    <a:lnTo>
                      <a:pt x="608" y="422"/>
                    </a:lnTo>
                    <a:lnTo>
                      <a:pt x="528" y="416"/>
                    </a:lnTo>
                    <a:lnTo>
                      <a:pt x="452" y="406"/>
                    </a:lnTo>
                    <a:lnTo>
                      <a:pt x="380" y="396"/>
                    </a:lnTo>
                    <a:lnTo>
                      <a:pt x="314" y="382"/>
                    </a:lnTo>
                    <a:lnTo>
                      <a:pt x="254" y="368"/>
                    </a:lnTo>
                    <a:lnTo>
                      <a:pt x="198" y="354"/>
                    </a:lnTo>
                    <a:lnTo>
                      <a:pt x="148" y="336"/>
                    </a:lnTo>
                    <a:lnTo>
                      <a:pt x="104" y="318"/>
                    </a:lnTo>
                    <a:lnTo>
                      <a:pt x="68" y="300"/>
                    </a:lnTo>
                    <a:lnTo>
                      <a:pt x="52" y="290"/>
                    </a:lnTo>
                    <a:lnTo>
                      <a:pt x="38" y="280"/>
                    </a:lnTo>
                    <a:lnTo>
                      <a:pt x="28" y="270"/>
                    </a:lnTo>
                    <a:lnTo>
                      <a:pt x="18" y="260"/>
                    </a:lnTo>
                    <a:lnTo>
                      <a:pt x="10" y="248"/>
                    </a:lnTo>
                    <a:lnTo>
                      <a:pt x="4" y="238"/>
                    </a:lnTo>
                    <a:lnTo>
                      <a:pt x="2" y="228"/>
                    </a:lnTo>
                    <a:lnTo>
                      <a:pt x="0" y="216"/>
                    </a:lnTo>
                    <a:lnTo>
                      <a:pt x="2" y="204"/>
                    </a:lnTo>
                    <a:lnTo>
                      <a:pt x="4" y="194"/>
                    </a:lnTo>
                    <a:lnTo>
                      <a:pt x="10" y="184"/>
                    </a:lnTo>
                    <a:lnTo>
                      <a:pt x="18" y="172"/>
                    </a:lnTo>
                    <a:lnTo>
                      <a:pt x="28" y="162"/>
                    </a:lnTo>
                    <a:lnTo>
                      <a:pt x="38" y="152"/>
                    </a:lnTo>
                    <a:lnTo>
                      <a:pt x="52" y="142"/>
                    </a:lnTo>
                    <a:lnTo>
                      <a:pt x="68" y="132"/>
                    </a:lnTo>
                    <a:lnTo>
                      <a:pt x="104" y="114"/>
                    </a:lnTo>
                    <a:lnTo>
                      <a:pt x="148" y="96"/>
                    </a:lnTo>
                    <a:lnTo>
                      <a:pt x="198" y="78"/>
                    </a:lnTo>
                    <a:lnTo>
                      <a:pt x="254" y="64"/>
                    </a:lnTo>
                    <a:lnTo>
                      <a:pt x="314" y="50"/>
                    </a:lnTo>
                    <a:lnTo>
                      <a:pt x="380" y="36"/>
                    </a:lnTo>
                    <a:lnTo>
                      <a:pt x="452" y="26"/>
                    </a:lnTo>
                    <a:lnTo>
                      <a:pt x="528" y="16"/>
                    </a:lnTo>
                    <a:lnTo>
                      <a:pt x="608" y="10"/>
                    </a:lnTo>
                    <a:lnTo>
                      <a:pt x="690" y="4"/>
                    </a:lnTo>
                    <a:lnTo>
                      <a:pt x="776" y="2"/>
                    </a:lnTo>
                    <a:lnTo>
                      <a:pt x="864" y="0"/>
                    </a:lnTo>
                    <a:lnTo>
                      <a:pt x="952" y="2"/>
                    </a:lnTo>
                    <a:lnTo>
                      <a:pt x="1038" y="4"/>
                    </a:lnTo>
                    <a:lnTo>
                      <a:pt x="1120" y="10"/>
                    </a:lnTo>
                    <a:lnTo>
                      <a:pt x="1200" y="16"/>
                    </a:lnTo>
                    <a:lnTo>
                      <a:pt x="1276" y="26"/>
                    </a:lnTo>
                    <a:lnTo>
                      <a:pt x="1348" y="36"/>
                    </a:lnTo>
                    <a:lnTo>
                      <a:pt x="1414" y="50"/>
                    </a:lnTo>
                    <a:lnTo>
                      <a:pt x="1474" y="64"/>
                    </a:lnTo>
                    <a:lnTo>
                      <a:pt x="1530" y="78"/>
                    </a:lnTo>
                    <a:lnTo>
                      <a:pt x="1580" y="96"/>
                    </a:lnTo>
                    <a:lnTo>
                      <a:pt x="1624" y="114"/>
                    </a:lnTo>
                    <a:lnTo>
                      <a:pt x="1660" y="132"/>
                    </a:lnTo>
                    <a:lnTo>
                      <a:pt x="1676" y="142"/>
                    </a:lnTo>
                    <a:lnTo>
                      <a:pt x="1690" y="152"/>
                    </a:lnTo>
                    <a:lnTo>
                      <a:pt x="1700" y="162"/>
                    </a:lnTo>
                    <a:lnTo>
                      <a:pt x="1710" y="172"/>
                    </a:lnTo>
                    <a:lnTo>
                      <a:pt x="1718" y="184"/>
                    </a:lnTo>
                    <a:lnTo>
                      <a:pt x="1724" y="194"/>
                    </a:lnTo>
                    <a:lnTo>
                      <a:pt x="1726" y="204"/>
                    </a:lnTo>
                    <a:lnTo>
                      <a:pt x="1728" y="216"/>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343" name="Oval 108"/>
            <p:cNvSpPr/>
            <p:nvPr/>
          </p:nvSpPr>
          <p:spPr>
            <a:xfrm>
              <a:off x="933120" y="3629160"/>
              <a:ext cx="3314880" cy="10764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44" name="Group 109"/>
            <p:cNvGrpSpPr/>
            <p:nvPr/>
          </p:nvGrpSpPr>
          <p:grpSpPr>
            <a:xfrm>
              <a:off x="1366560" y="2852640"/>
              <a:ext cx="2484360" cy="1373040"/>
              <a:chOff x="1366560" y="2852640"/>
              <a:chExt cx="2484360" cy="1373040"/>
            </a:xfrm>
          </p:grpSpPr>
          <p:sp>
            <p:nvSpPr>
              <p:cNvPr id="345" name="Freeform 110"/>
              <p:cNvSpPr/>
              <p:nvPr/>
            </p:nvSpPr>
            <p:spPr>
              <a:xfrm>
                <a:off x="1366560" y="2852640"/>
                <a:ext cx="2484360" cy="1373040"/>
              </a:xfrm>
              <a:custGeom>
                <a:avLst/>
                <a:gdLst>
                  <a:gd name="textAreaLeft" fmla="*/ 0 w 2484360"/>
                  <a:gd name="textAreaRight" fmla="*/ 2484720 w 2484360"/>
                  <a:gd name="textAreaTop" fmla="*/ 0 h 1373040"/>
                  <a:gd name="textAreaBottom" fmla="*/ 1373400 h 1373040"/>
                </a:gdLst>
                <a:ahLst/>
                <a:rect l="textAreaLeft" t="textAreaTop" r="textAreaRight" b="textAreaBottom"/>
                <a:pathLst>
                  <a:path w="1728" h="936">
                    <a:moveTo>
                      <a:pt x="1440" y="144"/>
                    </a:moveTo>
                    <a:lnTo>
                      <a:pt x="1728" y="720"/>
                    </a:lnTo>
                    <a:lnTo>
                      <a:pt x="1728" y="720"/>
                    </a:lnTo>
                    <a:lnTo>
                      <a:pt x="1726" y="732"/>
                    </a:lnTo>
                    <a:lnTo>
                      <a:pt x="1724" y="742"/>
                    </a:lnTo>
                    <a:lnTo>
                      <a:pt x="1718" y="752"/>
                    </a:lnTo>
                    <a:lnTo>
                      <a:pt x="1710" y="764"/>
                    </a:lnTo>
                    <a:lnTo>
                      <a:pt x="1700" y="774"/>
                    </a:lnTo>
                    <a:lnTo>
                      <a:pt x="1690" y="784"/>
                    </a:lnTo>
                    <a:lnTo>
                      <a:pt x="1676" y="794"/>
                    </a:lnTo>
                    <a:lnTo>
                      <a:pt x="1660" y="804"/>
                    </a:lnTo>
                    <a:lnTo>
                      <a:pt x="1624" y="822"/>
                    </a:lnTo>
                    <a:lnTo>
                      <a:pt x="1580" y="840"/>
                    </a:lnTo>
                    <a:lnTo>
                      <a:pt x="1530" y="858"/>
                    </a:lnTo>
                    <a:lnTo>
                      <a:pt x="1474" y="872"/>
                    </a:lnTo>
                    <a:lnTo>
                      <a:pt x="1414" y="886"/>
                    </a:lnTo>
                    <a:lnTo>
                      <a:pt x="1348" y="900"/>
                    </a:lnTo>
                    <a:lnTo>
                      <a:pt x="1276" y="910"/>
                    </a:lnTo>
                    <a:lnTo>
                      <a:pt x="1200" y="920"/>
                    </a:lnTo>
                    <a:lnTo>
                      <a:pt x="1120" y="926"/>
                    </a:lnTo>
                    <a:lnTo>
                      <a:pt x="1038" y="932"/>
                    </a:lnTo>
                    <a:lnTo>
                      <a:pt x="952" y="934"/>
                    </a:lnTo>
                    <a:lnTo>
                      <a:pt x="864" y="936"/>
                    </a:lnTo>
                    <a:lnTo>
                      <a:pt x="864" y="936"/>
                    </a:lnTo>
                    <a:lnTo>
                      <a:pt x="776" y="934"/>
                    </a:lnTo>
                    <a:lnTo>
                      <a:pt x="690" y="932"/>
                    </a:lnTo>
                    <a:lnTo>
                      <a:pt x="608" y="926"/>
                    </a:lnTo>
                    <a:lnTo>
                      <a:pt x="528" y="920"/>
                    </a:lnTo>
                    <a:lnTo>
                      <a:pt x="452" y="910"/>
                    </a:lnTo>
                    <a:lnTo>
                      <a:pt x="380" y="900"/>
                    </a:lnTo>
                    <a:lnTo>
                      <a:pt x="314" y="886"/>
                    </a:lnTo>
                    <a:lnTo>
                      <a:pt x="254" y="872"/>
                    </a:lnTo>
                    <a:lnTo>
                      <a:pt x="198" y="858"/>
                    </a:lnTo>
                    <a:lnTo>
                      <a:pt x="148" y="840"/>
                    </a:lnTo>
                    <a:lnTo>
                      <a:pt x="104" y="822"/>
                    </a:lnTo>
                    <a:lnTo>
                      <a:pt x="68" y="804"/>
                    </a:lnTo>
                    <a:lnTo>
                      <a:pt x="52" y="794"/>
                    </a:lnTo>
                    <a:lnTo>
                      <a:pt x="38" y="784"/>
                    </a:lnTo>
                    <a:lnTo>
                      <a:pt x="28" y="774"/>
                    </a:lnTo>
                    <a:lnTo>
                      <a:pt x="18" y="764"/>
                    </a:lnTo>
                    <a:lnTo>
                      <a:pt x="10" y="752"/>
                    </a:lnTo>
                    <a:lnTo>
                      <a:pt x="4" y="742"/>
                    </a:lnTo>
                    <a:lnTo>
                      <a:pt x="2" y="732"/>
                    </a:lnTo>
                    <a:lnTo>
                      <a:pt x="0" y="720"/>
                    </a:lnTo>
                    <a:lnTo>
                      <a:pt x="288" y="144"/>
                    </a:lnTo>
                    <a:lnTo>
                      <a:pt x="288" y="144"/>
                    </a:lnTo>
                    <a:lnTo>
                      <a:pt x="288" y="136"/>
                    </a:lnTo>
                    <a:lnTo>
                      <a:pt x="290" y="130"/>
                    </a:lnTo>
                    <a:lnTo>
                      <a:pt x="294" y="122"/>
                    </a:lnTo>
                    <a:lnTo>
                      <a:pt x="300" y="114"/>
                    </a:lnTo>
                    <a:lnTo>
                      <a:pt x="314" y="102"/>
                    </a:lnTo>
                    <a:lnTo>
                      <a:pt x="334" y="88"/>
                    </a:lnTo>
                    <a:lnTo>
                      <a:pt x="358" y="76"/>
                    </a:lnTo>
                    <a:lnTo>
                      <a:pt x="386" y="64"/>
                    </a:lnTo>
                    <a:lnTo>
                      <a:pt x="420" y="52"/>
                    </a:lnTo>
                    <a:lnTo>
                      <a:pt x="456" y="42"/>
                    </a:lnTo>
                    <a:lnTo>
                      <a:pt x="498" y="32"/>
                    </a:lnTo>
                    <a:lnTo>
                      <a:pt x="542" y="24"/>
                    </a:lnTo>
                    <a:lnTo>
                      <a:pt x="590" y="18"/>
                    </a:lnTo>
                    <a:lnTo>
                      <a:pt x="640" y="12"/>
                    </a:lnTo>
                    <a:lnTo>
                      <a:pt x="692" y="6"/>
                    </a:lnTo>
                    <a:lnTo>
                      <a:pt x="748" y="2"/>
                    </a:lnTo>
                    <a:lnTo>
                      <a:pt x="806" y="0"/>
                    </a:lnTo>
                    <a:lnTo>
                      <a:pt x="864" y="0"/>
                    </a:lnTo>
                    <a:lnTo>
                      <a:pt x="864" y="0"/>
                    </a:lnTo>
                    <a:lnTo>
                      <a:pt x="922" y="0"/>
                    </a:lnTo>
                    <a:lnTo>
                      <a:pt x="980" y="2"/>
                    </a:lnTo>
                    <a:lnTo>
                      <a:pt x="1036" y="6"/>
                    </a:lnTo>
                    <a:lnTo>
                      <a:pt x="1088" y="12"/>
                    </a:lnTo>
                    <a:lnTo>
                      <a:pt x="1138" y="18"/>
                    </a:lnTo>
                    <a:lnTo>
                      <a:pt x="1186" y="24"/>
                    </a:lnTo>
                    <a:lnTo>
                      <a:pt x="1230" y="32"/>
                    </a:lnTo>
                    <a:lnTo>
                      <a:pt x="1272" y="42"/>
                    </a:lnTo>
                    <a:lnTo>
                      <a:pt x="1308" y="52"/>
                    </a:lnTo>
                    <a:lnTo>
                      <a:pt x="1342" y="64"/>
                    </a:lnTo>
                    <a:lnTo>
                      <a:pt x="1370" y="76"/>
                    </a:lnTo>
                    <a:lnTo>
                      <a:pt x="1394" y="88"/>
                    </a:lnTo>
                    <a:lnTo>
                      <a:pt x="1414" y="102"/>
                    </a:lnTo>
                    <a:lnTo>
                      <a:pt x="1428" y="114"/>
                    </a:lnTo>
                    <a:lnTo>
                      <a:pt x="1434" y="122"/>
                    </a:lnTo>
                    <a:lnTo>
                      <a:pt x="1438" y="130"/>
                    </a:lnTo>
                    <a:lnTo>
                      <a:pt x="1440" y="136"/>
                    </a:lnTo>
                    <a:lnTo>
                      <a:pt x="1440" y="144"/>
                    </a:lnTo>
                    <a:lnTo>
                      <a:pt x="1440" y="144"/>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46" name="Freeform 111"/>
              <p:cNvSpPr/>
              <p:nvPr/>
            </p:nvSpPr>
            <p:spPr>
              <a:xfrm>
                <a:off x="1780560" y="2852640"/>
                <a:ext cx="1656000" cy="422280"/>
              </a:xfrm>
              <a:custGeom>
                <a:avLst/>
                <a:gdLst>
                  <a:gd name="textAreaLeft" fmla="*/ 0 w 1656000"/>
                  <a:gd name="textAreaRight" fmla="*/ 1656360 w 1656000"/>
                  <a:gd name="textAreaTop" fmla="*/ 0 h 422280"/>
                  <a:gd name="textAreaBottom" fmla="*/ 422640 h 422280"/>
                </a:gdLst>
                <a:ahLst/>
                <a:rect l="textAreaLeft" t="textAreaTop" r="textAreaRight" b="textAreaBottom"/>
                <a:pathLst>
                  <a:path w="1152" h="288">
                    <a:moveTo>
                      <a:pt x="1152" y="144"/>
                    </a:moveTo>
                    <a:lnTo>
                      <a:pt x="1152" y="144"/>
                    </a:lnTo>
                    <a:lnTo>
                      <a:pt x="1152" y="152"/>
                    </a:lnTo>
                    <a:lnTo>
                      <a:pt x="1150" y="158"/>
                    </a:lnTo>
                    <a:lnTo>
                      <a:pt x="1146" y="166"/>
                    </a:lnTo>
                    <a:lnTo>
                      <a:pt x="1140" y="174"/>
                    </a:lnTo>
                    <a:lnTo>
                      <a:pt x="1126" y="186"/>
                    </a:lnTo>
                    <a:lnTo>
                      <a:pt x="1106" y="200"/>
                    </a:lnTo>
                    <a:lnTo>
                      <a:pt x="1082" y="212"/>
                    </a:lnTo>
                    <a:lnTo>
                      <a:pt x="1054" y="224"/>
                    </a:lnTo>
                    <a:lnTo>
                      <a:pt x="1020" y="236"/>
                    </a:lnTo>
                    <a:lnTo>
                      <a:pt x="984" y="246"/>
                    </a:lnTo>
                    <a:lnTo>
                      <a:pt x="942" y="256"/>
                    </a:lnTo>
                    <a:lnTo>
                      <a:pt x="898" y="264"/>
                    </a:lnTo>
                    <a:lnTo>
                      <a:pt x="850" y="270"/>
                    </a:lnTo>
                    <a:lnTo>
                      <a:pt x="800" y="276"/>
                    </a:lnTo>
                    <a:lnTo>
                      <a:pt x="748" y="282"/>
                    </a:lnTo>
                    <a:lnTo>
                      <a:pt x="692" y="286"/>
                    </a:lnTo>
                    <a:lnTo>
                      <a:pt x="634" y="288"/>
                    </a:lnTo>
                    <a:lnTo>
                      <a:pt x="576" y="288"/>
                    </a:lnTo>
                    <a:lnTo>
                      <a:pt x="518" y="288"/>
                    </a:lnTo>
                    <a:lnTo>
                      <a:pt x="460" y="286"/>
                    </a:lnTo>
                    <a:lnTo>
                      <a:pt x="404" y="282"/>
                    </a:lnTo>
                    <a:lnTo>
                      <a:pt x="352" y="276"/>
                    </a:lnTo>
                    <a:lnTo>
                      <a:pt x="302" y="270"/>
                    </a:lnTo>
                    <a:lnTo>
                      <a:pt x="254" y="264"/>
                    </a:lnTo>
                    <a:lnTo>
                      <a:pt x="210" y="256"/>
                    </a:lnTo>
                    <a:lnTo>
                      <a:pt x="168" y="246"/>
                    </a:lnTo>
                    <a:lnTo>
                      <a:pt x="132" y="236"/>
                    </a:lnTo>
                    <a:lnTo>
                      <a:pt x="98" y="224"/>
                    </a:lnTo>
                    <a:lnTo>
                      <a:pt x="70" y="212"/>
                    </a:lnTo>
                    <a:lnTo>
                      <a:pt x="46" y="200"/>
                    </a:lnTo>
                    <a:lnTo>
                      <a:pt x="26" y="186"/>
                    </a:lnTo>
                    <a:lnTo>
                      <a:pt x="12" y="174"/>
                    </a:lnTo>
                    <a:lnTo>
                      <a:pt x="6" y="166"/>
                    </a:lnTo>
                    <a:lnTo>
                      <a:pt x="2" y="158"/>
                    </a:lnTo>
                    <a:lnTo>
                      <a:pt x="0" y="152"/>
                    </a:lnTo>
                    <a:lnTo>
                      <a:pt x="0" y="144"/>
                    </a:lnTo>
                    <a:lnTo>
                      <a:pt x="0" y="136"/>
                    </a:lnTo>
                    <a:lnTo>
                      <a:pt x="2" y="130"/>
                    </a:lnTo>
                    <a:lnTo>
                      <a:pt x="6" y="122"/>
                    </a:lnTo>
                    <a:lnTo>
                      <a:pt x="12" y="114"/>
                    </a:lnTo>
                    <a:lnTo>
                      <a:pt x="26" y="102"/>
                    </a:lnTo>
                    <a:lnTo>
                      <a:pt x="46" y="88"/>
                    </a:lnTo>
                    <a:lnTo>
                      <a:pt x="70" y="76"/>
                    </a:lnTo>
                    <a:lnTo>
                      <a:pt x="98" y="64"/>
                    </a:lnTo>
                    <a:lnTo>
                      <a:pt x="132" y="52"/>
                    </a:lnTo>
                    <a:lnTo>
                      <a:pt x="168" y="42"/>
                    </a:lnTo>
                    <a:lnTo>
                      <a:pt x="210" y="32"/>
                    </a:lnTo>
                    <a:lnTo>
                      <a:pt x="254" y="24"/>
                    </a:lnTo>
                    <a:lnTo>
                      <a:pt x="302" y="18"/>
                    </a:lnTo>
                    <a:lnTo>
                      <a:pt x="352" y="12"/>
                    </a:lnTo>
                    <a:lnTo>
                      <a:pt x="404" y="6"/>
                    </a:lnTo>
                    <a:lnTo>
                      <a:pt x="460" y="2"/>
                    </a:lnTo>
                    <a:lnTo>
                      <a:pt x="518" y="0"/>
                    </a:lnTo>
                    <a:lnTo>
                      <a:pt x="576" y="0"/>
                    </a:lnTo>
                    <a:lnTo>
                      <a:pt x="634" y="0"/>
                    </a:lnTo>
                    <a:lnTo>
                      <a:pt x="692" y="2"/>
                    </a:lnTo>
                    <a:lnTo>
                      <a:pt x="748" y="6"/>
                    </a:lnTo>
                    <a:lnTo>
                      <a:pt x="800" y="12"/>
                    </a:lnTo>
                    <a:lnTo>
                      <a:pt x="850" y="18"/>
                    </a:lnTo>
                    <a:lnTo>
                      <a:pt x="898" y="24"/>
                    </a:lnTo>
                    <a:lnTo>
                      <a:pt x="942" y="32"/>
                    </a:lnTo>
                    <a:lnTo>
                      <a:pt x="984" y="42"/>
                    </a:lnTo>
                    <a:lnTo>
                      <a:pt x="1020" y="52"/>
                    </a:lnTo>
                    <a:lnTo>
                      <a:pt x="1054" y="64"/>
                    </a:lnTo>
                    <a:lnTo>
                      <a:pt x="1082" y="76"/>
                    </a:lnTo>
                    <a:lnTo>
                      <a:pt x="1106" y="88"/>
                    </a:lnTo>
                    <a:lnTo>
                      <a:pt x="1126" y="102"/>
                    </a:lnTo>
                    <a:lnTo>
                      <a:pt x="1140" y="114"/>
                    </a:lnTo>
                    <a:lnTo>
                      <a:pt x="1146" y="122"/>
                    </a:lnTo>
                    <a:lnTo>
                      <a:pt x="1150" y="130"/>
                    </a:lnTo>
                    <a:lnTo>
                      <a:pt x="1152" y="136"/>
                    </a:lnTo>
                    <a:lnTo>
                      <a:pt x="1152" y="144"/>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347" name="Oval 112"/>
            <p:cNvSpPr/>
            <p:nvPr/>
          </p:nvSpPr>
          <p:spPr>
            <a:xfrm>
              <a:off x="1473120" y="2631960"/>
              <a:ext cx="2235240" cy="7268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8" name="Freeform 113"/>
            <p:cNvSpPr/>
            <p:nvPr/>
          </p:nvSpPr>
          <p:spPr>
            <a:xfrm>
              <a:off x="1893600" y="1341360"/>
              <a:ext cx="1430280" cy="1657440"/>
            </a:xfrm>
            <a:custGeom>
              <a:avLst/>
              <a:gdLst>
                <a:gd name="textAreaLeft" fmla="*/ 0 w 1430280"/>
                <a:gd name="textAreaRight" fmla="*/ 1430640 w 1430280"/>
                <a:gd name="textAreaTop" fmla="*/ 0 h 1657440"/>
                <a:gd name="textAreaBottom" fmla="*/ 1657800 h 1657440"/>
              </a:gdLst>
              <a:ahLst/>
              <a:rect l="textAreaLeft" t="textAreaTop" r="textAreaRight" b="textAreaBottom"/>
              <a:pathLst>
                <a:path w="576" h="648">
                  <a:moveTo>
                    <a:pt x="576" y="576"/>
                  </a:moveTo>
                  <a:lnTo>
                    <a:pt x="576" y="576"/>
                  </a:lnTo>
                  <a:lnTo>
                    <a:pt x="574" y="584"/>
                  </a:lnTo>
                  <a:lnTo>
                    <a:pt x="570" y="590"/>
                  </a:lnTo>
                  <a:lnTo>
                    <a:pt x="564" y="598"/>
                  </a:lnTo>
                  <a:lnTo>
                    <a:pt x="554" y="604"/>
                  </a:lnTo>
                  <a:lnTo>
                    <a:pt x="542" y="610"/>
                  </a:lnTo>
                  <a:lnTo>
                    <a:pt x="526" y="616"/>
                  </a:lnTo>
                  <a:lnTo>
                    <a:pt x="492" y="626"/>
                  </a:lnTo>
                  <a:lnTo>
                    <a:pt x="450" y="636"/>
                  </a:lnTo>
                  <a:lnTo>
                    <a:pt x="400" y="642"/>
                  </a:lnTo>
                  <a:lnTo>
                    <a:pt x="346" y="646"/>
                  </a:lnTo>
                  <a:lnTo>
                    <a:pt x="288" y="648"/>
                  </a:lnTo>
                  <a:lnTo>
                    <a:pt x="288" y="648"/>
                  </a:lnTo>
                  <a:lnTo>
                    <a:pt x="230" y="646"/>
                  </a:lnTo>
                  <a:lnTo>
                    <a:pt x="176" y="642"/>
                  </a:lnTo>
                  <a:lnTo>
                    <a:pt x="126" y="636"/>
                  </a:lnTo>
                  <a:lnTo>
                    <a:pt x="84" y="626"/>
                  </a:lnTo>
                  <a:lnTo>
                    <a:pt x="50" y="616"/>
                  </a:lnTo>
                  <a:lnTo>
                    <a:pt x="34" y="610"/>
                  </a:lnTo>
                  <a:lnTo>
                    <a:pt x="22" y="604"/>
                  </a:lnTo>
                  <a:lnTo>
                    <a:pt x="12" y="598"/>
                  </a:lnTo>
                  <a:lnTo>
                    <a:pt x="6" y="590"/>
                  </a:lnTo>
                  <a:lnTo>
                    <a:pt x="2" y="584"/>
                  </a:lnTo>
                  <a:lnTo>
                    <a:pt x="0" y="576"/>
                  </a:lnTo>
                  <a:lnTo>
                    <a:pt x="288" y="0"/>
                  </a:lnTo>
                  <a:lnTo>
                    <a:pt x="576" y="576"/>
                  </a:lnTo>
                  <a:close/>
                </a:path>
              </a:pathLst>
            </a:custGeom>
            <a:gradFill rotWithShape="0">
              <a:gsLst>
                <a:gs pos="0">
                  <a:srgbClr val="4b300d"/>
                </a:gs>
                <a:gs pos="100000">
                  <a:srgbClr val="52350e"/>
                </a:gs>
              </a:gsLst>
              <a:lin ang="10800000"/>
            </a:gradFill>
            <a:ln w="0">
              <a:noFill/>
            </a:ln>
            <a:effectLst>
              <a:outerShdw dist="153753" dir="2700000" blurRad="0" rotWithShape="0">
                <a:srgbClr val="000000">
                  <a:alpha val="17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349" name="Text Box 114"/>
            <p:cNvSpPr/>
            <p:nvPr/>
          </p:nvSpPr>
          <p:spPr>
            <a:xfrm>
              <a:off x="2108880" y="2398680"/>
              <a:ext cx="950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remium</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Design</a:t>
              </a:r>
              <a:endParaRPr b="0" lang="en-US" sz="1400" spc="-1" strike="noStrike">
                <a:solidFill>
                  <a:srgbClr val="000000"/>
                </a:solidFill>
                <a:latin typeface="Gulim"/>
              </a:endParaRPr>
            </a:p>
          </p:txBody>
        </p:sp>
        <p:sp>
          <p:nvSpPr>
            <p:cNvPr id="350" name="Text Box 115"/>
            <p:cNvSpPr/>
            <p:nvPr/>
          </p:nvSpPr>
          <p:spPr>
            <a:xfrm>
              <a:off x="2045880" y="3286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of Culture</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351" name="Text Box 116"/>
            <p:cNvSpPr/>
            <p:nvPr/>
          </p:nvSpPr>
          <p:spPr>
            <a:xfrm>
              <a:off x="2044080" y="4618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ppeal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352" name="Text Box 117"/>
            <p:cNvSpPr/>
            <p:nvPr/>
          </p:nvSpPr>
          <p:spPr>
            <a:xfrm>
              <a:off x="4032360" y="3070080"/>
              <a:ext cx="410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leek Diagram &amp; Chart</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Premad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quality templates in a couple of clicks away</a:t>
              </a:r>
              <a:r>
                <a:rPr b="0" lang="en-US" sz="1200" spc="-1" strike="noStrike">
                  <a:solidFill>
                    <a:srgbClr val="234867"/>
                  </a:solidFill>
                  <a:latin typeface="Arial"/>
                </a:rPr>
                <a:t>!</a:t>
              </a:r>
              <a:endParaRPr b="0" lang="en-US" sz="1200" spc="-1" strike="noStrike">
                <a:solidFill>
                  <a:srgbClr val="000000"/>
                </a:solidFill>
                <a:latin typeface="Gulim"/>
              </a:endParaRPr>
            </a:p>
          </p:txBody>
        </p:sp>
        <p:sp>
          <p:nvSpPr>
            <p:cNvPr id="353" name="Text Box 118"/>
            <p:cNvSpPr/>
            <p:nvPr/>
          </p:nvSpPr>
          <p:spPr>
            <a:xfrm>
              <a:off x="3720960" y="1846080"/>
              <a:ext cx="4535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ye-Catching Visual</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the touch of art - PowerPoint Templates, PPT Slid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T Diagrams For Your Presentation</a:t>
              </a:r>
              <a:endParaRPr b="0" lang="en-US" sz="1200" spc="-1" strike="noStrike">
                <a:solidFill>
                  <a:srgbClr val="000000"/>
                </a:solidFill>
                <a:latin typeface="Gulim"/>
              </a:endParaRPr>
            </a:p>
          </p:txBody>
        </p:sp>
        <p:sp>
          <p:nvSpPr>
            <p:cNvPr id="354" name="Text Box 119"/>
            <p:cNvSpPr/>
            <p:nvPr/>
          </p:nvSpPr>
          <p:spPr>
            <a:xfrm>
              <a:off x="4535640" y="4294080"/>
              <a:ext cx="3708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cription offers you all designs you'll ever need to make your PowerPoint </a:t>
              </a:r>
              <a:endParaRPr b="0" lang="en-US" sz="12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28760" y="152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ffffff"/>
                </a:solidFill>
                <a:latin typeface="Times New Roman"/>
              </a:rPr>
              <a:t>Click To Edit Title Style</a:t>
            </a:r>
            <a:endParaRPr b="1" lang="en-US" sz="3200" spc="-1" strike="noStrike">
              <a:solidFill>
                <a:srgbClr val="ffffff"/>
              </a:solidFill>
              <a:latin typeface="Times New Roman"/>
            </a:endParaRPr>
          </a:p>
        </p:txBody>
      </p:sp>
      <p:sp>
        <p:nvSpPr>
          <p:cNvPr id="356" name=""/>
          <p:cNvSpPr txBox="1"/>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grpSp>
        <p:nvGrpSpPr>
          <p:cNvPr id="357" name="그룹 3"/>
          <p:cNvGrpSpPr/>
          <p:nvPr/>
        </p:nvGrpSpPr>
        <p:grpSpPr>
          <a:xfrm>
            <a:off x="1049400" y="1386000"/>
            <a:ext cx="7122960" cy="5138640"/>
            <a:chOff x="1049400" y="1386000"/>
            <a:chExt cx="7122960" cy="5138640"/>
          </a:xfrm>
        </p:grpSpPr>
        <p:sp>
          <p:nvSpPr>
            <p:cNvPr id="358" name="AutoShape 105"/>
            <p:cNvSpPr/>
            <p:nvPr/>
          </p:nvSpPr>
          <p:spPr>
            <a:xfrm>
              <a:off x="1067760" y="5817600"/>
              <a:ext cx="2199240" cy="70704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9" name="AutoShape 106"/>
            <p:cNvSpPr/>
            <p:nvPr/>
          </p:nvSpPr>
          <p:spPr>
            <a:xfrm>
              <a:off x="3432600" y="5817600"/>
              <a:ext cx="2200680" cy="70704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0" name="AutoShape 107"/>
            <p:cNvSpPr/>
            <p:nvPr/>
          </p:nvSpPr>
          <p:spPr>
            <a:xfrm>
              <a:off x="5798880" y="5817600"/>
              <a:ext cx="2199240" cy="70704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1" name="Line 108"/>
            <p:cNvSpPr/>
            <p:nvPr/>
          </p:nvSpPr>
          <p:spPr>
            <a:xfrm>
              <a:off x="4516560" y="2026440"/>
              <a:ext cx="0" cy="1196640"/>
            </a:xfrm>
            <a:prstGeom prst="line">
              <a:avLst/>
            </a:prstGeom>
            <a:ln w="19080">
              <a:solidFill>
                <a:srgbClr val="10362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362" name="Freeform 109"/>
            <p:cNvSpPr/>
            <p:nvPr/>
          </p:nvSpPr>
          <p:spPr>
            <a:xfrm>
              <a:off x="2184480" y="2259360"/>
              <a:ext cx="4696920" cy="963360"/>
            </a:xfrm>
            <a:custGeom>
              <a:avLst/>
              <a:gdLst>
                <a:gd name="textAreaLeft" fmla="*/ 0 w 4696920"/>
                <a:gd name="textAreaRight" fmla="*/ 4697280 w 4696920"/>
                <a:gd name="textAreaTop" fmla="*/ 0 h 963360"/>
                <a:gd name="textAreaBottom" fmla="*/ 963720 h 963360"/>
              </a:gdLst>
              <a:ahLst/>
              <a:rect l="textAreaLeft" t="textAreaTop" r="textAreaRight" b="textAreaBottom"/>
              <a:pathLst>
                <a:path w="3289" h="113">
                  <a:moveTo>
                    <a:pt x="0" y="113"/>
                  </a:moveTo>
                  <a:lnTo>
                    <a:pt x="0" y="0"/>
                  </a:lnTo>
                  <a:lnTo>
                    <a:pt x="3289" y="0"/>
                  </a:lnTo>
                  <a:lnTo>
                    <a:pt x="3289" y="113"/>
                  </a:lnTo>
                </a:path>
              </a:pathLst>
            </a:custGeom>
            <a:noFill/>
            <a:ln w="19080">
              <a:solidFill>
                <a:srgbClr val="10362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63" name="AutoShape 110"/>
            <p:cNvSpPr/>
            <p:nvPr/>
          </p:nvSpPr>
          <p:spPr>
            <a:xfrm>
              <a:off x="1067760" y="3223080"/>
              <a:ext cx="2199960" cy="2594520"/>
            </a:xfrm>
            <a:custGeom>
              <a:avLst/>
              <a:gdLst>
                <a:gd name="textAreaLeft" fmla="*/ 35280 w 2199960"/>
                <a:gd name="textAreaRight" fmla="*/ 2164680 w 2199960"/>
                <a:gd name="textAreaTop" fmla="*/ 35280 h 2594520"/>
                <a:gd name="textAreaBottom" fmla="*/ 2559240 h 2594520"/>
              </a:gdLst>
              <a:ahLst/>
              <a:rect l="textAreaLeft" t="textAreaTop" r="textAreaRight" b="textAreaBottom"/>
              <a:pathLst>
                <a:path w="21600" h="25473">
                  <a:moveTo>
                    <a:pt x="1194" y="0"/>
                  </a:moveTo>
                  <a:arcTo wR="1194" hR="1194" stAng="16200000" swAng="-5400000"/>
                  <a:lnTo>
                    <a:pt x="0" y="24279"/>
                  </a:lnTo>
                  <a:arcTo wR="1194" hR="1194" stAng="10800000" swAng="-5400000"/>
                  <a:lnTo>
                    <a:pt x="20406" y="25473"/>
                  </a:lnTo>
                  <a:arcTo wR="1194" hR="1194" stAng="5400000" swAng="-5400000"/>
                  <a:lnTo>
                    <a:pt x="21600" y="1194"/>
                  </a:lnTo>
                  <a:arcTo wR="1194" hR="1194" stAng="0" swAng="-5400000"/>
                  <a:close/>
                </a:path>
              </a:pathLst>
            </a:custGeom>
            <a:gradFill rotWithShape="0">
              <a:gsLst>
                <a:gs pos="0">
                  <a:srgbClr val="875818">
                    <a:alpha val="36078"/>
                  </a:srgbClr>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4" name="AutoShape 111"/>
            <p:cNvGrpSpPr/>
            <p:nvPr/>
          </p:nvGrpSpPr>
          <p:grpSpPr>
            <a:xfrm>
              <a:off x="3350520" y="1386000"/>
              <a:ext cx="2526480" cy="955080"/>
              <a:chOff x="3350520" y="1386000"/>
              <a:chExt cx="2526480" cy="955080"/>
            </a:xfrm>
          </p:grpSpPr>
          <p:pic>
            <p:nvPicPr>
              <p:cNvPr id="365" name="AutoShape 111" descr=""/>
              <p:cNvPicPr/>
              <p:nvPr/>
            </p:nvPicPr>
            <p:blipFill>
              <a:blip r:embed="rId2"/>
              <a:stretch/>
            </p:blipFill>
            <p:spPr>
              <a:xfrm>
                <a:off x="3350520" y="1386000"/>
                <a:ext cx="2526480" cy="955080"/>
              </a:xfrm>
              <a:prstGeom prst="rect">
                <a:avLst/>
              </a:prstGeom>
              <a:ln w="0">
                <a:noFill/>
              </a:ln>
            </p:spPr>
          </p:pic>
          <p:sp>
            <p:nvSpPr>
              <p:cNvPr id="366" name=""/>
              <p:cNvSpPr/>
              <p:nvPr/>
            </p:nvSpPr>
            <p:spPr>
              <a:xfrm>
                <a:off x="3464640" y="1490760"/>
                <a:ext cx="213768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67" name="AutoShape 112"/>
            <p:cNvSpPr/>
            <p:nvPr/>
          </p:nvSpPr>
          <p:spPr>
            <a:xfrm>
              <a:off x="3465000" y="1494360"/>
              <a:ext cx="21344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8" name="Text Box 113"/>
            <p:cNvSpPr/>
            <p:nvPr/>
          </p:nvSpPr>
          <p:spPr>
            <a:xfrm>
              <a:off x="3465000" y="1592280"/>
              <a:ext cx="2102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tylish Design</a:t>
              </a:r>
              <a:endParaRPr b="0" lang="en-US" sz="2000" spc="-1" strike="noStrike">
                <a:solidFill>
                  <a:srgbClr val="000000"/>
                </a:solidFill>
                <a:latin typeface="Gulim"/>
              </a:endParaRPr>
            </a:p>
          </p:txBody>
        </p:sp>
        <p:grpSp>
          <p:nvGrpSpPr>
            <p:cNvPr id="369" name="AutoShape 114"/>
            <p:cNvGrpSpPr/>
            <p:nvPr/>
          </p:nvGrpSpPr>
          <p:grpSpPr>
            <a:xfrm>
              <a:off x="1049400" y="3218400"/>
              <a:ext cx="2396160" cy="955080"/>
              <a:chOff x="1049400" y="3218400"/>
              <a:chExt cx="2396160" cy="955080"/>
            </a:xfrm>
          </p:grpSpPr>
          <p:pic>
            <p:nvPicPr>
              <p:cNvPr id="370" name="AutoShape 114" descr=""/>
              <p:cNvPicPr/>
              <p:nvPr/>
            </p:nvPicPr>
            <p:blipFill>
              <a:blip r:embed="rId3"/>
              <a:stretch/>
            </p:blipFill>
            <p:spPr>
              <a:xfrm>
                <a:off x="1049400" y="3218400"/>
                <a:ext cx="2396160" cy="955080"/>
              </a:xfrm>
              <a:prstGeom prst="rect">
                <a:avLst/>
              </a:prstGeom>
              <a:ln w="0">
                <a:noFill/>
              </a:ln>
            </p:spPr>
          </p:pic>
          <p:sp>
            <p:nvSpPr>
              <p:cNvPr id="371" name=""/>
              <p:cNvSpPr/>
              <p:nvPr/>
            </p:nvSpPr>
            <p:spPr>
              <a:xfrm>
                <a:off x="1161360" y="3321360"/>
                <a:ext cx="200808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72" name="AutoShape 115"/>
            <p:cNvSpPr/>
            <p:nvPr/>
          </p:nvSpPr>
          <p:spPr>
            <a:xfrm>
              <a:off x="1166760" y="3323520"/>
              <a:ext cx="2003040" cy="29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3" name="Text Box 116"/>
            <p:cNvSpPr/>
            <p:nvPr/>
          </p:nvSpPr>
          <p:spPr>
            <a:xfrm>
              <a:off x="1099800" y="3981600"/>
              <a:ext cx="21348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bout giving you the variety you need to meet the design on your mi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reate powerpoint templates based on new visual trends that’s fresh, relevant and always on the cutting edge.</a:t>
              </a:r>
              <a:endParaRPr b="0" lang="en-US" sz="1200" spc="-1" strike="noStrike">
                <a:solidFill>
                  <a:srgbClr val="000000"/>
                </a:solidFill>
                <a:latin typeface="Gulim"/>
              </a:endParaRPr>
            </a:p>
          </p:txBody>
        </p:sp>
        <p:sp>
          <p:nvSpPr>
            <p:cNvPr id="374" name="Text Box 117"/>
            <p:cNvSpPr/>
            <p:nvPr/>
          </p:nvSpPr>
          <p:spPr>
            <a:xfrm>
              <a:off x="1132920" y="3377160"/>
              <a:ext cx="2036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trends</a:t>
              </a:r>
              <a:endParaRPr b="0" lang="en-US" sz="1400" spc="-1" strike="noStrike">
                <a:solidFill>
                  <a:srgbClr val="000000"/>
                </a:solidFill>
                <a:latin typeface="Gulim"/>
              </a:endParaRPr>
            </a:p>
          </p:txBody>
        </p:sp>
        <p:sp>
          <p:nvSpPr>
            <p:cNvPr id="375" name="AutoShape 118"/>
            <p:cNvSpPr/>
            <p:nvPr/>
          </p:nvSpPr>
          <p:spPr>
            <a:xfrm>
              <a:off x="3432960" y="3223080"/>
              <a:ext cx="2199960" cy="2594520"/>
            </a:xfrm>
            <a:custGeom>
              <a:avLst/>
              <a:gdLst>
                <a:gd name="textAreaLeft" fmla="*/ 32760 w 2199960"/>
                <a:gd name="textAreaRight" fmla="*/ 2167200 w 2199960"/>
                <a:gd name="textAreaTop" fmla="*/ 32760 h 2594520"/>
                <a:gd name="textAreaBottom" fmla="*/ 2561760 h 2594520"/>
              </a:gdLst>
              <a:ahLst/>
              <a:rect l="textAreaLeft" t="textAreaTop" r="textAreaRight" b="textAreaBottom"/>
              <a:pathLst>
                <a:path w="21600" h="25473">
                  <a:moveTo>
                    <a:pt x="1109" y="0"/>
                  </a:moveTo>
                  <a:arcTo wR="1109" hR="1109" stAng="16200000" swAng="-5400000"/>
                  <a:lnTo>
                    <a:pt x="0" y="24364"/>
                  </a:lnTo>
                  <a:arcTo wR="1109" hR="1109" stAng="10800000" swAng="-5400000"/>
                  <a:lnTo>
                    <a:pt x="20491" y="25473"/>
                  </a:lnTo>
                  <a:arcTo wR="1109" hR="1109" stAng="5400000" swAng="-5400000"/>
                  <a:lnTo>
                    <a:pt x="21600" y="1109"/>
                  </a:lnTo>
                  <a:arcTo wR="1109" hR="1109" stAng="0" swAng="-5400000"/>
                  <a:close/>
                </a:path>
              </a:pathLst>
            </a:custGeom>
            <a:gradFill rotWithShape="0">
              <a:gsLst>
                <a:gs pos="0">
                  <a:srgbClr val="875818">
                    <a:alpha val="36078"/>
                  </a:srgbClr>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6" name="AutoShape 119"/>
            <p:cNvGrpSpPr/>
            <p:nvPr/>
          </p:nvGrpSpPr>
          <p:grpSpPr>
            <a:xfrm>
              <a:off x="3415680" y="3218400"/>
              <a:ext cx="2396160" cy="955080"/>
              <a:chOff x="3415680" y="3218400"/>
              <a:chExt cx="2396160" cy="955080"/>
            </a:xfrm>
          </p:grpSpPr>
          <p:pic>
            <p:nvPicPr>
              <p:cNvPr id="377" name="AutoShape 119" descr=""/>
              <p:cNvPicPr/>
              <p:nvPr/>
            </p:nvPicPr>
            <p:blipFill>
              <a:blip r:embed="rId4"/>
              <a:stretch/>
            </p:blipFill>
            <p:spPr>
              <a:xfrm>
                <a:off x="3415680" y="3218400"/>
                <a:ext cx="2396160" cy="955080"/>
              </a:xfrm>
              <a:prstGeom prst="rect">
                <a:avLst/>
              </a:prstGeom>
              <a:ln w="0">
                <a:noFill/>
              </a:ln>
            </p:spPr>
          </p:pic>
          <p:sp>
            <p:nvSpPr>
              <p:cNvPr id="378" name=""/>
              <p:cNvSpPr/>
              <p:nvPr/>
            </p:nvSpPr>
            <p:spPr>
              <a:xfrm>
                <a:off x="3528000" y="3319560"/>
                <a:ext cx="200808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79" name="AutoShape 120"/>
            <p:cNvSpPr/>
            <p:nvPr/>
          </p:nvSpPr>
          <p:spPr>
            <a:xfrm>
              <a:off x="3531240" y="3323520"/>
              <a:ext cx="2003040" cy="29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0" name="Text Box 121"/>
            <p:cNvSpPr/>
            <p:nvPr/>
          </p:nvSpPr>
          <p:spPr>
            <a:xfrm>
              <a:off x="3465000" y="3981600"/>
              <a:ext cx="213480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sp>
          <p:nvSpPr>
            <p:cNvPr id="381" name="Text Box 122"/>
            <p:cNvSpPr/>
            <p:nvPr/>
          </p:nvSpPr>
          <p:spPr>
            <a:xfrm>
              <a:off x="3498120" y="3377160"/>
              <a:ext cx="2036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 wide range of subjects</a:t>
              </a:r>
              <a:endParaRPr b="0" lang="en-US" sz="1400" spc="-1" strike="noStrike">
                <a:solidFill>
                  <a:srgbClr val="000000"/>
                </a:solidFill>
                <a:latin typeface="Gulim"/>
              </a:endParaRPr>
            </a:p>
          </p:txBody>
        </p:sp>
        <p:sp>
          <p:nvSpPr>
            <p:cNvPr id="382" name="AutoShape 123"/>
            <p:cNvSpPr/>
            <p:nvPr/>
          </p:nvSpPr>
          <p:spPr>
            <a:xfrm>
              <a:off x="5798160" y="3223080"/>
              <a:ext cx="2199960" cy="2594520"/>
            </a:xfrm>
            <a:custGeom>
              <a:avLst/>
              <a:gdLst>
                <a:gd name="textAreaLeft" fmla="*/ 32760 w 2199960"/>
                <a:gd name="textAreaRight" fmla="*/ 2167200 w 2199960"/>
                <a:gd name="textAreaTop" fmla="*/ 32760 h 2594520"/>
                <a:gd name="textAreaBottom" fmla="*/ 2561760 h 2594520"/>
              </a:gdLst>
              <a:ahLst/>
              <a:rect l="textAreaLeft" t="textAreaTop" r="textAreaRight" b="textAreaBottom"/>
              <a:pathLst>
                <a:path w="21600" h="25473">
                  <a:moveTo>
                    <a:pt x="1109" y="0"/>
                  </a:moveTo>
                  <a:arcTo wR="1109" hR="1109" stAng="16200000" swAng="-5400000"/>
                  <a:lnTo>
                    <a:pt x="0" y="24364"/>
                  </a:lnTo>
                  <a:arcTo wR="1109" hR="1109" stAng="10800000" swAng="-5400000"/>
                  <a:lnTo>
                    <a:pt x="20491" y="25473"/>
                  </a:lnTo>
                  <a:arcTo wR="1109" hR="1109" stAng="5400000" swAng="-5400000"/>
                  <a:lnTo>
                    <a:pt x="21600" y="1109"/>
                  </a:lnTo>
                  <a:arcTo wR="1109" hR="1109" stAng="0" swAng="-5400000"/>
                  <a:close/>
                </a:path>
              </a:pathLst>
            </a:custGeom>
            <a:gradFill rotWithShape="0">
              <a:gsLst>
                <a:gs pos="0">
                  <a:srgbClr val="875818">
                    <a:alpha val="36078"/>
                  </a:srgbClr>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83" name="AutoShape 124"/>
            <p:cNvGrpSpPr/>
            <p:nvPr/>
          </p:nvGrpSpPr>
          <p:grpSpPr>
            <a:xfrm>
              <a:off x="5782320" y="3218400"/>
              <a:ext cx="2390040" cy="955080"/>
              <a:chOff x="5782320" y="3218400"/>
              <a:chExt cx="2390040" cy="955080"/>
            </a:xfrm>
          </p:grpSpPr>
          <p:pic>
            <p:nvPicPr>
              <p:cNvPr id="384" name="AutoShape 124" descr=""/>
              <p:cNvPicPr/>
              <p:nvPr/>
            </p:nvPicPr>
            <p:blipFill>
              <a:blip r:embed="rId5"/>
              <a:stretch/>
            </p:blipFill>
            <p:spPr>
              <a:xfrm>
                <a:off x="5782320" y="3218400"/>
                <a:ext cx="2390040" cy="955080"/>
              </a:xfrm>
              <a:prstGeom prst="rect">
                <a:avLst/>
              </a:prstGeom>
              <a:ln w="0">
                <a:noFill/>
              </a:ln>
            </p:spPr>
          </p:pic>
          <p:sp>
            <p:nvSpPr>
              <p:cNvPr id="385" name=""/>
              <p:cNvSpPr/>
              <p:nvPr/>
            </p:nvSpPr>
            <p:spPr>
              <a:xfrm>
                <a:off x="5893200" y="3319560"/>
                <a:ext cx="200772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86" name="AutoShape 125"/>
            <p:cNvSpPr/>
            <p:nvPr/>
          </p:nvSpPr>
          <p:spPr>
            <a:xfrm>
              <a:off x="5896080" y="3323520"/>
              <a:ext cx="2003040" cy="29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7" name="Text Box 126"/>
            <p:cNvSpPr/>
            <p:nvPr/>
          </p:nvSpPr>
          <p:spPr>
            <a:xfrm>
              <a:off x="5830200" y="3981600"/>
              <a:ext cx="21348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388" name="Text Box 127"/>
            <p:cNvSpPr/>
            <p:nvPr/>
          </p:nvSpPr>
          <p:spPr>
            <a:xfrm>
              <a:off x="5863320" y="3377160"/>
              <a:ext cx="2036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owerPoint Presentation</a:t>
              </a:r>
              <a:endParaRPr b="0" lang="en-US" sz="1400" spc="-1" strike="noStrike">
                <a:solidFill>
                  <a:srgbClr val="000000"/>
                </a:solidFill>
                <a:latin typeface="Gulim"/>
              </a:endParaRPr>
            </a:p>
          </p:txBody>
        </p:sp>
        <p:sp>
          <p:nvSpPr>
            <p:cNvPr id="389" name="AutoShape 128"/>
            <p:cNvSpPr/>
            <p:nvPr/>
          </p:nvSpPr>
          <p:spPr>
            <a:xfrm>
              <a:off x="3434040" y="2423880"/>
              <a:ext cx="2199240" cy="6318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0" name="AutoShape 129"/>
            <p:cNvSpPr/>
            <p:nvPr/>
          </p:nvSpPr>
          <p:spPr>
            <a:xfrm>
              <a:off x="3465000" y="2458080"/>
              <a:ext cx="21344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1" name="Text Box 130"/>
            <p:cNvSpPr/>
            <p:nvPr/>
          </p:nvSpPr>
          <p:spPr>
            <a:xfrm>
              <a:off x="3465000" y="2511720"/>
              <a:ext cx="2102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ye-Catch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p:txBody>
        </p:sp>
        <p:sp>
          <p:nvSpPr>
            <p:cNvPr id="392" name="AutoShape 131"/>
            <p:cNvSpPr/>
            <p:nvPr/>
          </p:nvSpPr>
          <p:spPr>
            <a:xfrm>
              <a:off x="1067760" y="2423880"/>
              <a:ext cx="2197800" cy="6318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3" name="AutoShape 132"/>
            <p:cNvSpPr/>
            <p:nvPr/>
          </p:nvSpPr>
          <p:spPr>
            <a:xfrm>
              <a:off x="1098720" y="2458080"/>
              <a:ext cx="21344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4" name="Text Box 133"/>
            <p:cNvSpPr/>
            <p:nvPr/>
          </p:nvSpPr>
          <p:spPr>
            <a:xfrm>
              <a:off x="1098360" y="2511720"/>
              <a:ext cx="2102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mmense Visual Appeal</a:t>
              </a:r>
              <a:endParaRPr b="0" lang="en-US" sz="1400" spc="-1" strike="noStrike">
                <a:solidFill>
                  <a:srgbClr val="000000"/>
                </a:solidFill>
                <a:latin typeface="Gulim"/>
              </a:endParaRPr>
            </a:p>
          </p:txBody>
        </p:sp>
        <p:sp>
          <p:nvSpPr>
            <p:cNvPr id="395" name="AutoShape 134"/>
            <p:cNvSpPr/>
            <p:nvPr/>
          </p:nvSpPr>
          <p:spPr>
            <a:xfrm>
              <a:off x="5800320" y="2423880"/>
              <a:ext cx="2197800" cy="6318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6" name="AutoShape 135"/>
            <p:cNvSpPr/>
            <p:nvPr/>
          </p:nvSpPr>
          <p:spPr>
            <a:xfrm>
              <a:off x="5829840" y="2458080"/>
              <a:ext cx="21344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7" name="Text Box 136"/>
            <p:cNvSpPr/>
            <p:nvPr/>
          </p:nvSpPr>
          <p:spPr>
            <a:xfrm>
              <a:off x="5830200" y="2511720"/>
              <a:ext cx="2102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leek Diagram &amp; Chart</a:t>
              </a:r>
              <a:endParaRPr b="0" lang="en-US" sz="14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33:57Z</dcterms:created>
  <dc:creator>幻灯片之家：www.eeppt.com</dc:creator>
  <dc:description>幻灯片之家：www.eeppt.com</dc:description>
  <cp:keywords>幻灯片之家：www.eeppt.com</cp:keywords>
  <dc:language>en-US</dc:language>
  <cp:lastModifiedBy/>
  <dcterms:modified xsi:type="dcterms:W3CDTF">2015-09-18T13:20:10Z</dcterms:modified>
  <cp:revision>0</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