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3EBD-A4A6-4728-8841-C6549B327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1A6E-3AF7-4C82-8557-42B8A565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7480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7480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A709-A5CE-4FFD-8197-D4DA90C63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5972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068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5972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068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671F-9DCF-4336-9545-3F94C3F39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76E0-0931-4F9C-86D9-766E98E5D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cf7e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C3B6E-A5C0-44B3-A777-133E418A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E774E-62CE-4A25-92F3-E80D4D17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7480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31B8-BE87-47FD-9B7D-74D2F7AD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8B3D-01EE-486F-BA0B-5652775A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7543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fcf7e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F268-B076-43B4-AD55-01FDF613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7480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1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0DF7-1CD0-4F6D-8E37-8CDEF19F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cf7e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A53B-00B2-489B-AA62-3160F2F1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7480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7480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B8E1E-5F80-4FF0-B126-A3C11C47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7480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12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5DEE-BBDA-4DAA-8483-D285951D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12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A2B0-C421-4AEA-BC8B-AF6866D9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7480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1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7480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61A6-1A0A-4B3F-8494-63553C1DC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5972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068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12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5972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068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5E39-EADC-47BE-A2DC-AA048C97D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1747-6123-49B9-A045-ACFDB54C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7480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C2FC-514C-4CF1-B0E8-F434A053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1C89-2D07-4EC1-9DDD-E6035F16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7543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fcf7e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6C90-BA58-4DDE-8F59-1BAAF46B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7480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7086-C626-425C-B33B-57C704A9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7480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7480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5545-6DC6-41F2-9C61-29D0A5A6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7480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2406-8BEE-4062-8324-F2AAAF73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240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924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24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924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24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924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24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924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24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9240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24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24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24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B8DA-C13F-40B2-B3F8-A9B44E902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18288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e7c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6e7c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3068-35CF-494F-9CC0-B6F1B7902E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f7ec"/>
                </a:solidFill>
                <a:latin typeface="Arial"/>
              </a:rPr>
              <a:t>Click to edit the outline text format</a:t>
            </a:r>
            <a:endParaRPr b="0" i="1" lang="en-US" sz="2000" spc="-1" strike="noStrike">
              <a:solidFill>
                <a:srgbClr val="fcf7ec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240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9240e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19240e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9240e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19240e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19240e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9240e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9240e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19240e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9240e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19240e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9240e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19240e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9240e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19240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18288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e7c0"/>
                </a:solidFill>
                <a:latin typeface="Arial"/>
              </a:rPr>
              <a:t>CHECKERED HARMONY</a:t>
            </a:r>
            <a:endParaRPr b="1" lang="en-US" sz="3600" spc="-1" strike="noStrike">
              <a:solidFill>
                <a:srgbClr val="f6e7c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1920" y="28954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f7ec"/>
                </a:solidFill>
                <a:latin typeface="Arial"/>
              </a:rPr>
              <a:t>Your Subtitle Goes Here</a:t>
            </a:r>
            <a:endParaRPr b="0" i="1" lang="en-US" sz="2000" spc="-1" strike="noStrike">
              <a:solidFill>
                <a:srgbClr val="fcf7e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89080" y="60948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国际象棋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会议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240e"/>
                </a:solidFill>
                <a:latin typeface="Arial"/>
              </a:rPr>
              <a:t>Your Topic Goes Here</a:t>
            </a:r>
            <a:endParaRPr b="1" lang="en-US" sz="36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924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240e"/>
                </a:solidFill>
                <a:latin typeface="Arial"/>
              </a:rPr>
              <a:t>Your Subtopics Go Here</a:t>
            </a: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240e"/>
                </a:solidFill>
                <a:latin typeface="Arial"/>
              </a:rPr>
              <a:t>Your Topic Goes Here</a:t>
            </a:r>
            <a:endParaRPr b="1" lang="en-US" sz="36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Subtopics Go Here</a:t>
            </a: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2492280"/>
            <a:ext cx="5925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3123720"/>
            <a:ext cx="3581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e7c0"/>
                </a:solidFill>
                <a:latin typeface="Arial"/>
              </a:rPr>
              <a:t>Transitional</a:t>
            </a:r>
            <a:br>
              <a:rPr sz="3600"/>
            </a:br>
            <a:r>
              <a:rPr b="1" lang="en-US" sz="3600" spc="-1" strike="noStrike">
                <a:solidFill>
                  <a:srgbClr val="f6e7c0"/>
                </a:solidFill>
                <a:latin typeface="Arial"/>
              </a:rPr>
              <a:t>Page</a:t>
            </a:r>
            <a:endParaRPr b="1" lang="en-US" sz="3600" spc="-1" strike="noStrike">
              <a:solidFill>
                <a:srgbClr val="f6e7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9240e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19240e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240e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19240e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240e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9240e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19240e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9240e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19240e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9240e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9240e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9240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19240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19240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19240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19240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19240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19240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19240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19240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19240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19240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19240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19240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9240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9240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9240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9240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9240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D2B8-6D9C-414C-9C73-7EA89E1389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ero"/>
              </a:rPr>
              <a:t>elements</a:t>
            </a:r>
            <a:endParaRPr b="1" lang="en-US" sz="4800" spc="-1" strike="noStrike">
              <a:solidFill>
                <a:srgbClr val="19240e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240e"/>
                </a:solidFill>
                <a:latin typeface="Arial"/>
              </a:rPr>
              <a:t>www.animationfactory.com</a:t>
            </a:r>
            <a:endParaRPr b="0" lang="en-US" sz="2400" spc="-1" strike="noStrike">
              <a:solidFill>
                <a:srgbClr val="19240e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8120" y="4419720"/>
            <a:ext cx="2514600" cy="1885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048120" y="2000160"/>
            <a:ext cx="2514600" cy="1886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172200" y="4419720"/>
            <a:ext cx="2514600" cy="1885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6172200" y="2000160"/>
            <a:ext cx="2514600" cy="1886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274680" y="2514600"/>
            <a:ext cx="25448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6T22:58:36Z</dcterms:created>
  <dc:creator>幻灯片之家：www.eeppt.com</dc:creator>
  <dc:description/>
  <cp:keywords>幻灯片之家：www.eeppt.com</cp:keywords>
  <dc:language>en-US</dc:language>
  <cp:lastModifiedBy/>
  <dcterms:modified xsi:type="dcterms:W3CDTF">2015-09-18T13:18:56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