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632-7FCA-421E-9263-6A10023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503-E7D5-4B22-ACB9-019597C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FAA-F5CA-4188-A86F-FC74FF23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2B8-FACB-432F-B856-F907C54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8ECA-E2C9-495F-90B5-CC3F8078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5CF-C72A-4D08-853E-9F2B9D41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33B-646E-422B-AD1F-631AE8B9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47B-9577-49BA-AD6A-2EF5ECDE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492-6F62-4FC0-B674-F56CF1F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675-5853-40EB-AB30-5B0E234C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7A0-31D2-4E7B-9E48-00980BA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52B-30C8-4619-AFBB-D5457C3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F4F-0178-4975-98D7-5B94643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584-CF61-4205-A0CD-5023F22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645-BAF6-42DA-80E5-AFDF605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9640-7ECB-4CAA-8089-5607209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7EFC-8511-42DD-B943-1195AD03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401-1C09-4EAF-ACD9-FAE2D5DB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D79-E496-444C-A94C-C12C44C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670-1E55-4EBE-90DA-76F5174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830-73CC-459E-AA72-541D509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CC-4F38-49F6-BE7B-B0D95E9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DCD-9DAB-401D-9503-7D6645D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58C-8E60-41BB-8FA7-FB38C1B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C2B6-4A44-4477-AA47-C9787F735A19}" type="slidenum"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" y="4914720"/>
            <a:ext cx="62276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2C05-2EA1-4BA8-BA91-42BB6BC8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66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66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00" y="4914720"/>
            <a:ext cx="76564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高清棒球图片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模板打包下载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0" y="4365720"/>
            <a:ext cx="62276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70B-E51B-4C9A-A02A-7EFC2C40E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54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